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BC5-FB4D-466A-BE59-F948B17A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C2A-3A2A-45A9-9846-6BE58EE1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30E-B6E6-400B-92A3-4A604347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972C-E7C4-46C6-88C2-B7D8ED13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7661-4073-4D7D-8193-93ECFF51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FC8D-B040-46AA-91DA-07A93E7B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3F84-A146-4431-848B-045935B0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9F4A-71A4-4117-A771-BD435126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6CC6-9BC5-42AE-8055-60DBA909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0CB6-20E4-492D-AA60-5BA9C98E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8B26-12A8-4B2E-8AFA-FBDEF57E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E15-DEAC-443A-9F07-AB6C8F13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6A87-EACE-45D1-BAC3-74C5A97E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37D0-8F4F-48C1-AA74-694F2649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057E-05E2-4A78-8ECA-D8411564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0A0E-E3B2-4407-BD24-874C378C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D421-10AB-4A5B-B1C2-2FB49096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6AE2-72D2-4C6D-993B-F11CBD6A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C650-D669-4A5E-943E-617C8F78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00CA8-C5B2-499D-9CA9-2D1A87CD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29C1B-4237-481E-B513-40DAD218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9B557-B161-45C7-916A-45FDC191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E66-F14E-43FC-A147-DE1A63C2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1A19-CAA5-4E92-A546-7F33E154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DA85-2DB6-47CC-9947-C58E21B1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00C0-85BE-4E27-A90C-2ADE59B7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40C7-D20F-4CB6-87A7-E0E36A03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DD80-2AC0-46A2-A0F5-20102436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2305-1432-4CA3-A3A1-7BA1D729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FD883-27C7-41D0-88C9-EED2DFA3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80B-B396-49C0-BC59-BFCA2996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F80-E782-46AB-ACB3-ECD90253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451-80D3-4516-989F-AB0A972B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ADA-50E3-4261-AF56-3E9C30C9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D32-238C-424C-AC72-0D9AF56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C93-1062-400F-A7E3-DC28A87D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AAC7-5DAC-4A33-BF4D-C7E42446F6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DEDB-5C5E-4132-B7AA-05705FC83E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4286-B152-4DF4-9559-5489914885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2916360" y="234936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835280" y="47628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128000" y="2852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Содержимое 4" descr="0002-001-Sodruzhestvo-polusharij.jpg"/>
          <p:cNvPicPr/>
          <p:nvPr/>
        </p:nvPicPr>
        <p:blipFill>
          <a:blip r:embed="rId2"/>
          <a:stretch/>
        </p:blipFill>
        <p:spPr>
          <a:xfrm>
            <a:off x="971640" y="1844640"/>
            <a:ext cx="2592360" cy="3176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8"/>
          <p:cNvSpPr/>
          <p:nvPr/>
        </p:nvSpPr>
        <p:spPr>
          <a:xfrm>
            <a:off x="4140360" y="1603080"/>
            <a:ext cx="43192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Развитие межполушарного  взаимодейств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основы  интеллектуаль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змож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рших дошкольников с ОН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методом кинезиологи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Arial"/>
              </a:rPr>
              <a:t>)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17"/>
          <p:cNvSpPr/>
          <p:nvPr/>
        </p:nvSpPr>
        <p:spPr>
          <a:xfrm>
            <a:off x="3403080" y="5516640"/>
            <a:ext cx="255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учитель-логопе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Суродеева О.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"/>
          <p:cNvPicPr/>
          <p:nvPr/>
        </p:nvPicPr>
        <p:blipFill>
          <a:blip r:embed="rId2"/>
          <a:stretch/>
        </p:blipFill>
        <p:spPr>
          <a:xfrm>
            <a:off x="771480" y="552600"/>
            <a:ext cx="3516480" cy="2636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"/>
          <p:cNvPicPr/>
          <p:nvPr/>
        </p:nvPicPr>
        <p:blipFill>
          <a:blip r:embed="rId3"/>
          <a:stretch/>
        </p:blipFill>
        <p:spPr>
          <a:xfrm>
            <a:off x="757080" y="3789360"/>
            <a:ext cx="3516480" cy="2637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8" descr=""/>
          <p:cNvPicPr/>
          <p:nvPr/>
        </p:nvPicPr>
        <p:blipFill>
          <a:blip r:embed="rId4"/>
          <a:stretch/>
        </p:blipFill>
        <p:spPr>
          <a:xfrm>
            <a:off x="5365800" y="600120"/>
            <a:ext cx="3516120" cy="26366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9" descr=""/>
          <p:cNvPicPr/>
          <p:nvPr/>
        </p:nvPicPr>
        <p:blipFill>
          <a:blip r:embed="rId5"/>
          <a:stretch/>
        </p:blipFill>
        <p:spPr>
          <a:xfrm>
            <a:off x="5030640" y="3789360"/>
            <a:ext cx="3718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16120" cy="26370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3" descr=""/>
          <p:cNvPicPr/>
          <p:nvPr/>
        </p:nvPicPr>
        <p:blipFill>
          <a:blip r:embed="rId3"/>
          <a:stretch/>
        </p:blipFill>
        <p:spPr>
          <a:xfrm>
            <a:off x="1585800" y="316080"/>
            <a:ext cx="1976400" cy="26366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5" descr=""/>
          <p:cNvPicPr/>
          <p:nvPr/>
        </p:nvPicPr>
        <p:blipFill>
          <a:blip r:embed="rId4"/>
          <a:stretch/>
        </p:blipFill>
        <p:spPr>
          <a:xfrm>
            <a:off x="2916360" y="3611520"/>
            <a:ext cx="35146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55640" y="549360"/>
            <a:ext cx="4762440" cy="5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еркальное рисов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17492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7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1408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01408"/>
                </a:solidFill>
                <a:latin typeface="Times New Roman"/>
                <a:ea typeface="Times New Roman"/>
              </a:rPr>
              <a:t>Положите на стол чистый лист бумаги. Начните рисовать одновременно обеими руками зеркально-симметричные рисунки, буквы. Пи выполнении этого упражнения почувствуете, как расслабляются глаза и руки. Когда деятельность обоих полушарий синхронизируется, заметно увеличится эффективность работы всего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психолог 007"/>
          <p:cNvPicPr/>
          <p:nvPr/>
        </p:nvPicPr>
        <p:blipFill>
          <a:blip r:embed="rId2"/>
          <a:stretch/>
        </p:blipFill>
        <p:spPr>
          <a:xfrm>
            <a:off x="5748480" y="1401840"/>
            <a:ext cx="29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сихолог 006"/>
          <p:cNvPicPr/>
          <p:nvPr/>
        </p:nvPicPr>
        <p:blipFill>
          <a:blip r:embed="rId3"/>
          <a:stretch/>
        </p:blipFill>
        <p:spPr>
          <a:xfrm>
            <a:off x="5205240" y="3633840"/>
            <a:ext cx="31276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060640"/>
            <a:ext cx="68407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кинезиолог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32126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незиология – наука о развитии головного мозга через движение. Также ,это методика сохранения здоровья  путём физической актив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1835280" y="54936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«Из всех наслаждений, отпущенных человеку, самое изысканное – шевелить мозгами»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               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Б. Аку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"/>
          <p:cNvSpPr/>
          <p:nvPr/>
        </p:nvSpPr>
        <p:spPr>
          <a:xfrm>
            <a:off x="1619280" y="981000"/>
            <a:ext cx="72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01408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является развитие межполушарной связи и межполушарного взаимодействия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ей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:</a:t>
            </a:r>
            <a:br>
              <a:rPr sz="2800"/>
            </a:b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- развитие межполушарного взаимодействия;</a:t>
            </a:r>
            <a:br>
              <a:rPr sz="2800"/>
            </a:b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- синхронизация работы полушарий;</a:t>
            </a:r>
            <a:br>
              <a:rPr sz="2800"/>
            </a:b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- развитие мелкой моторики;</a:t>
            </a:r>
            <a:br>
              <a:rPr sz="2800"/>
            </a:b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- развитие способностей;</a:t>
            </a:r>
            <a:br>
              <a:rPr sz="2800"/>
            </a:b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- развитие памяти, внимания, речи;</a:t>
            </a:r>
            <a:br>
              <a:rPr sz="2800"/>
            </a:br>
            <a:r>
              <a:rPr b="0" lang="ru-RU" sz="2800" spc="-1" strike="noStrike">
                <a:solidFill>
                  <a:srgbClr val="101408"/>
                </a:solidFill>
                <a:latin typeface="Times New Roman"/>
              </a:rPr>
              <a:t>- развитие мышлени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незиологический мето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аправлен на активизацию различных отделов коры больших полушарий мозга, что позволяет развивать способности человека или корректировать проблемы в различных областях.</a:t>
            </a:r>
            <a:br>
              <a:rPr sz="2500"/>
            </a:br>
            <a:br>
              <a:rPr sz="2900"/>
            </a:br>
            <a:br>
              <a:rPr sz="2900"/>
            </a:br>
            <a:br>
              <a:rPr sz="2200"/>
            </a:br>
            <a:br>
              <a:rPr sz="25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трелка влево 3"/>
          <p:cNvSpPr/>
          <p:nvPr/>
        </p:nvSpPr>
        <p:spPr>
          <a:xfrm>
            <a:off x="2411280" y="3141720"/>
            <a:ext cx="2089440" cy="187164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евое полушар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Стрелка вправо 4"/>
          <p:cNvSpPr/>
          <p:nvPr/>
        </p:nvSpPr>
        <p:spPr>
          <a:xfrm>
            <a:off x="4572000" y="3213000"/>
            <a:ext cx="1871640" cy="1800360"/>
          </a:xfrm>
          <a:prstGeom prst="rightArrow">
            <a:avLst>
              <a:gd name="adj1" fmla="val 50000"/>
              <a:gd name="adj2" fmla="val 464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авое полушар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324000" y="2997360"/>
            <a:ext cx="2016000" cy="35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темат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нако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че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налит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ховая информ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становка целей и програм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6659640" y="3068640"/>
            <a:ext cx="2233440" cy="345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уманитар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вор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ординация движ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странственное зр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инестическкое восприя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незиологические упраж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469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408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01408"/>
                </a:solidFill>
                <a:latin typeface="Times New Roman"/>
                <a:ea typeface="Times New Roman"/>
              </a:rPr>
              <a:t>Это комплекс движений, позволяющий активизировать межполушарное взаимодействие, развивать нервные волокна, осуществляющие взаимодействие между полушариями ,через которые полушария обмениваются информацией, происходит синхронизация работы полушар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Объект 2" descr=""/>
          <p:cNvPicPr/>
          <p:nvPr/>
        </p:nvPicPr>
        <p:blipFill>
          <a:blip r:embed="rId2"/>
          <a:stretch/>
        </p:blipFill>
        <p:spPr>
          <a:xfrm>
            <a:off x="4648320" y="2290680"/>
            <a:ext cx="35956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2"/>
          <p:cNvSpPr/>
          <p:nvPr/>
        </p:nvSpPr>
        <p:spPr>
          <a:xfrm>
            <a:off x="1294560" y="2205000"/>
            <a:ext cx="68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Комплек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</a:rPr>
              <a:t>кинезеологических упражн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9"/>
          <p:cNvSpPr/>
          <p:nvPr/>
        </p:nvSpPr>
        <p:spPr>
          <a:xfrm>
            <a:off x="1627920" y="189000"/>
            <a:ext cx="22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«Кулак-ребро-ладонь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1806480" y="655560"/>
            <a:ext cx="4997520" cy="122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408"/>
                </a:solidFill>
                <a:latin typeface="Times New Roman"/>
                <a:ea typeface="Times New Roman"/>
              </a:rPr>
              <a:t>Три положения руки на плоскости стола, последовательно сменяют друг друга.</a:t>
            </a:r>
            <a:r>
              <a:rPr b="0" lang="en-US" sz="1400" spc="-1" strike="noStrike">
                <a:solidFill>
                  <a:srgbClr val="10140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101408"/>
                </a:solidFill>
                <a:latin typeface="Times New Roman"/>
                <a:ea typeface="Times New Roman"/>
              </a:rPr>
              <a:t>Ладонь на плоскости, сжатая в кулак ладонь, ладонь ребром на плоскости стола, распрямленная ладонь на плоскости стола. Выполняется сначала правой рукой, потом –левой, затем двумя руками вместе по 8-10 раз</a:t>
            </a:r>
            <a:r>
              <a:rPr b="0" lang="ru-RU" sz="1800" spc="-1" strike="noStrike">
                <a:solidFill>
                  <a:srgbClr val="101408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C:\Documents and Settings\Яна\Рабочий стол\ММО дисграфии\0005-003-Kineziologicheskie-fizminutki.jpg"/>
          <p:cNvPicPr/>
          <p:nvPr/>
        </p:nvPicPr>
        <p:blipFill>
          <a:blip r:embed="rId2"/>
          <a:stretch/>
        </p:blipFill>
        <p:spPr>
          <a:xfrm>
            <a:off x="6991200" y="655560"/>
            <a:ext cx="1152720" cy="565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Яна\Рабочий стол\ММО дисграфии\0005-004-Kineziologicheskie-fizminutki.jpg"/>
          <p:cNvPicPr/>
          <p:nvPr/>
        </p:nvPicPr>
        <p:blipFill>
          <a:blip r:embed="rId3"/>
          <a:stretch/>
        </p:blipFill>
        <p:spPr>
          <a:xfrm>
            <a:off x="6943680" y="1798560"/>
            <a:ext cx="1158840" cy="50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Яна\Рабочий стол\ММО дисграфии\0005-002-Kineziologicheskie-fizminutki.jpg"/>
          <p:cNvPicPr/>
          <p:nvPr/>
        </p:nvPicPr>
        <p:blipFill>
          <a:blip r:embed="rId4"/>
          <a:stretch/>
        </p:blipFill>
        <p:spPr>
          <a:xfrm>
            <a:off x="7986600" y="1222200"/>
            <a:ext cx="1152720" cy="576360"/>
          </a:xfrm>
          <a:prstGeom prst="rect">
            <a:avLst/>
          </a:prstGeom>
          <a:ln w="0">
            <a:noFill/>
          </a:ln>
        </p:spPr>
      </p:pic>
      <p:grpSp>
        <p:nvGrpSpPr>
          <p:cNvPr id="154" name="Прямоугольник 1"/>
          <p:cNvGrpSpPr/>
          <p:nvPr/>
        </p:nvGrpSpPr>
        <p:grpSpPr>
          <a:xfrm>
            <a:off x="2614680" y="2408400"/>
            <a:ext cx="6132240" cy="957240"/>
            <a:chOff x="2614680" y="2408400"/>
            <a:chExt cx="6132240" cy="957240"/>
          </a:xfrm>
        </p:grpSpPr>
        <p:pic>
          <p:nvPicPr>
            <p:cNvPr id="155" name="Прямоугольник 1" descr=""/>
            <p:cNvPicPr/>
            <p:nvPr/>
          </p:nvPicPr>
          <p:blipFill>
            <a:blip r:embed="rId5"/>
            <a:stretch/>
          </p:blipFill>
          <p:spPr>
            <a:xfrm>
              <a:off x="2614680" y="2408400"/>
              <a:ext cx="61311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617560" y="2409840"/>
              <a:ext cx="612936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408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1400" spc="-1" strike="noStrike">
                  <a:solidFill>
                    <a:srgbClr val="101408"/>
                  </a:solidFill>
                  <a:latin typeface="Times New Roman"/>
                  <a:ea typeface="Times New Roman"/>
                </a:rPr>
                <a:t>Левая рука сложена в кулак, большой палец отставлен в сторону, кулак развернут пальцами к себе. Правая рука прямой ладонью в горизонтальном положении прикасается к мизинцу левой. После этого одновременно меняется смена правой и левой рук в течение 6-8 смен позиций. Добиваться высокой скорости смены положений</a:t>
              </a:r>
              <a:r>
                <a:rPr b="0" i="1" lang="ru-RU" sz="1400" spc="-1" strike="noStrike">
                  <a:solidFill>
                    <a:srgbClr val="6600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Picture 4" descr=""/>
          <p:cNvPicPr/>
          <p:nvPr/>
        </p:nvPicPr>
        <p:blipFill>
          <a:blip r:embed="rId6"/>
          <a:srcRect l="0" t="24839" r="0" b="11702"/>
          <a:stretch/>
        </p:blipFill>
        <p:spPr>
          <a:xfrm>
            <a:off x="324000" y="2498760"/>
            <a:ext cx="2022480" cy="7905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2624040" y="20509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езгин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Rectangle 2" descr=""/>
          <p:cNvPicPr/>
          <p:nvPr/>
        </p:nvPicPr>
        <p:blipFill>
          <a:blip r:embed="rId7"/>
          <a:stretch/>
        </p:blipFill>
        <p:spPr>
          <a:xfrm>
            <a:off x="487440" y="3481560"/>
            <a:ext cx="5290920" cy="688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Documents and Settings\Яна\Рабочий стол\ММО дисграфии\0006-007-Kineziologicheskie-fizminutki.png"/>
          <p:cNvPicPr/>
          <p:nvPr/>
        </p:nvPicPr>
        <p:blipFill>
          <a:blip r:embed="rId8"/>
          <a:stretch/>
        </p:blipFill>
        <p:spPr>
          <a:xfrm>
            <a:off x="324000" y="3951360"/>
            <a:ext cx="895320" cy="803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9"/>
          <a:stretch/>
        </p:blipFill>
        <p:spPr>
          <a:xfrm>
            <a:off x="1376280" y="3951360"/>
            <a:ext cx="920880" cy="8078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3"/>
          <p:cNvSpPr/>
          <p:nvPr/>
        </p:nvSpPr>
        <p:spPr>
          <a:xfrm>
            <a:off x="2340000" y="3976560"/>
            <a:ext cx="64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двух руках одновременно большой палец соприкасается последовательно с остальными пальцами. Движения выполняются от указательного пальца к мизинцу и обратно</a:t>
            </a: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0"/>
          <a:stretch/>
        </p:blipFill>
        <p:spPr>
          <a:xfrm>
            <a:off x="768240" y="4834080"/>
            <a:ext cx="1011240" cy="15429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4"/>
          <p:cNvSpPr/>
          <p:nvPr/>
        </p:nvSpPr>
        <p:spPr>
          <a:xfrm>
            <a:off x="2556360" y="4959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СОВ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2232000" y="5157720"/>
            <a:ext cx="61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ожи левую руку на противоположное плечо и крепко прижми его. Поверни голову и посмотри назад через одно плечо, затем через другое. Потом опусти подбородок к груди, сделай глубокий вдох и расслабься. Сделай так по три раза с каждой рукой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Надежда\Downloads\для кинезологии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2052720" y="3006720"/>
            <a:ext cx="676908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408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101408"/>
                </a:solidFill>
                <a:latin typeface="Calibri"/>
              </a:rPr>
              <a:t>Левой рукой возьмитесь за кончик носа, а правой рукой – за противоположное ухо. Одновременно отпустите ухо и нос, хлопните в ладоши, поменяйте положение рук «с точностью до наоборот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00240" y="261000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хо-нос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10"/>
          <p:cNvSpPr/>
          <p:nvPr/>
        </p:nvSpPr>
        <p:spPr>
          <a:xfrm>
            <a:off x="4462920" y="56664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«Перекрестные движен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12"/>
          <p:cNvSpPr/>
          <p:nvPr/>
        </p:nvSpPr>
        <p:spPr>
          <a:xfrm>
            <a:off x="395280" y="1487520"/>
            <a:ext cx="6784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408"/>
                </a:solidFill>
                <a:latin typeface="Calibri"/>
              </a:rPr>
              <a:t>Выполнить перекрестные координированные движения одновременно правой рукой и левой ногой (вперед, в сторону, назад). Затем сделать то же левой рукой и правой ног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6438600" y="41608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«КОЗА – ЗАЙ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441360" y="4854600"/>
            <a:ext cx="80182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408"/>
                </a:solidFill>
                <a:latin typeface="Calibri"/>
              </a:rPr>
              <a:t>Пальцами  одной руки показать зайчика (Пальцы в кулаке, выставлены вверх указательный и средний пальц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408"/>
                </a:solidFill>
                <a:latin typeface="Calibri"/>
              </a:rPr>
              <a:t>Пальцами другой руки показать козу (Указательный и мизинец выставлены вперед. Средний и безымянный прижаты к ладони и обхвачены большим). Одновременно, координировано меняем ру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Надежда\Downloads\для кинезологии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258920" y="170028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050920" y="191628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403280" y="1916280"/>
            <a:ext cx="68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imes New Roman"/>
                <a:ea typeface="Arial"/>
              </a:rPr>
              <a:t>Из опыта моей работ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7:13:40Z</dcterms:created>
  <dc:creator>Аня</dc:creator>
  <dc:description/>
  <dc:language>en-US</dc:language>
  <cp:lastModifiedBy>Ольга</cp:lastModifiedBy>
  <dcterms:modified xsi:type="dcterms:W3CDTF">2020-11-22T12:27:31Z</dcterms:modified>
  <cp:revision>35</cp:revision>
  <dc:subject/>
  <dc:title>Слайд 1</dc:title>
</cp:coreProperties>
</file>