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6F4-5D4D-49D0-A369-E69D228F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F6B-AFB1-43AA-9912-0D9C64BB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701-D84D-45AE-B825-00E8A21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5BE-79C5-4249-B4A2-99DE7FF4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6C89-DC3A-4334-9A35-C1C01D71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3E26-5BED-4BEB-98F6-15F4F7F4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8877-12CE-4A75-BB7A-CA7E256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36E-E7E2-45E8-8C79-D1A0E25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D6EF-60E8-4508-BEE0-BC7376DB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346-A968-40EE-9447-047FDF5E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1722-AED4-4D0E-A4B3-FB55A18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093-4410-493D-8186-EC8E2B71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D060-AFD5-4C76-9F1B-9216298A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206-0EE5-4422-8F56-D11B8E74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DE8E-BDF5-44E1-B919-562D3387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60E-FB6D-4F9C-B546-32769D7C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0703-1B12-4BDE-AAA1-23759B61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D5D-D263-4806-888C-44F1610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141-58A3-4DC1-85E2-107CBCB9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823-34A4-40E5-8D0A-25F5B2AC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9F5-E322-4F1A-9B1E-006EE6A6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5F6-0F6B-42F8-A5C5-A99A633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69D-C46B-4911-BD20-DB23FAB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7CB-C923-4C0A-9B03-6F1A1C5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E3D0-76A5-42CC-9309-D80F96FEF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DE3-E335-4543-A083-69E0505FD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Левитан Исаак Ильич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860-190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443px-Isaac_Levitan_selfportrait1880%5B1%5D" descr=""/>
          <p:cNvPicPr/>
          <p:nvPr/>
        </p:nvPicPr>
        <p:blipFill>
          <a:blip r:embed="rId1"/>
          <a:stretch/>
        </p:blipFill>
        <p:spPr>
          <a:xfrm>
            <a:off x="3540240" y="1981080"/>
            <a:ext cx="303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«Портрет Левитана» В.Серов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levitan%5B1%5D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00px-Isaak_Ilitsch_Lewitan_002%5B1%5D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4040280" cy="2585880"/>
          </a:xfrm>
          <a:prstGeom prst="rect">
            <a:avLst/>
          </a:prstGeom>
          <a:ln w="0">
            <a:noFill/>
          </a:ln>
        </p:spPr>
      </p:pic>
      <p:pic>
        <p:nvPicPr>
          <p:cNvPr id="132" name="732px-Mart_levitan%5B1%5D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657600" cy="2998800"/>
          </a:xfrm>
          <a:prstGeom prst="rect">
            <a:avLst/>
          </a:prstGeom>
          <a:ln w="0">
            <a:noFill/>
          </a:ln>
        </p:spPr>
      </p:pic>
      <p:pic>
        <p:nvPicPr>
          <p:cNvPr id="133" name="Levitan_Sokolniki_Autumn_1879%5B1%5D" descr=""/>
          <p:cNvPicPr/>
          <p:nvPr/>
        </p:nvPicPr>
        <p:blipFill>
          <a:blip r:embed="rId3"/>
          <a:stretch/>
        </p:blipFill>
        <p:spPr>
          <a:xfrm>
            <a:off x="1066680" y="914400"/>
            <a:ext cx="3562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«Мастер русского пейзажа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73240" y="2382840"/>
          <a:ext cx="7772400" cy="33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2382840"/>
                    <a:ext cx="777240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Золотая Осень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800px-Levitan_Zolotaya_Osen%5B1%5D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78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90720" y="1523880"/>
          <a:ext cx="7772400" cy="37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7724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Основы перспективы в пейзаж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0_1b460_cea39105_XL%5B1%5D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143" name="0_a3c9_991a2823_XL%5B1%5D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1866960" cy="3124440"/>
          </a:xfrm>
          <a:prstGeom prst="rect">
            <a:avLst/>
          </a:prstGeom>
          <a:ln w="0">
            <a:noFill/>
          </a:ln>
        </p:spPr>
      </p:pic>
      <p:pic>
        <p:nvPicPr>
          <p:cNvPr id="144" name="70%5B1%5D" descr=""/>
          <p:cNvPicPr/>
          <p:nvPr/>
        </p:nvPicPr>
        <p:blipFill>
          <a:blip r:embed="rId3"/>
          <a:stretch/>
        </p:blipFill>
        <p:spPr>
          <a:xfrm>
            <a:off x="1295280" y="16765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Колорит картин: теплые и холодные цвета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800px-Levitan_nad_vech_pok28%5B1%5D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800px-Levitan_Zolotaya_Osen%5B1%5D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398680" cy="1676520"/>
          </a:xfrm>
          <a:prstGeom prst="rect">
            <a:avLst/>
          </a:prstGeom>
          <a:ln w="0">
            <a:noFill/>
          </a:ln>
        </p:spPr>
      </p:pic>
      <p:pic>
        <p:nvPicPr>
          <p:cNvPr id="148" name="image012%5B1%5D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30477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5:48:33Z</dcterms:created>
  <dc:creator>igor</dc:creator>
  <dc:description/>
  <dc:language>en-US</dc:language>
  <cp:lastModifiedBy>igor</cp:lastModifiedBy>
  <dcterms:modified xsi:type="dcterms:W3CDTF">2010-11-07T17:30:54Z</dcterms:modified>
  <cp:revision>3</cp:revision>
  <dc:subject/>
  <dc:title>Левитан Исаак Ильич   1860-1900</dc:title>
</cp:coreProperties>
</file>