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8.wmf" ContentType="image/x-wmf"/>
  <Override PartName="/ppt/media/image9.jpeg" ContentType="image/jpeg"/>
  <Override PartName="/ppt/media/image11.jpeg" ContentType="image/jpeg"/>
  <Override PartName="/ppt/media/image13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C5DC-7461-40B3-9649-851F042E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109F-EE89-4BC6-96A1-DD3B72CD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39B2-2F3D-48BB-96F4-19E52DBA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9CBB-B6E7-4787-9093-3DD154A5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9D17-778F-4E9F-8215-1AE85C07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BFBF-3BC2-455B-AFD1-6077FEBE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12F2-BDB9-4195-B651-5E9A327B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52BC-546C-4D1B-8101-9D27A30F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9404-FFE4-480F-8CDD-8B5C02D4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9BAA-B780-4F7C-ABD6-CC867DA7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572E-39A1-479D-A79C-608AB96E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C6E7-B875-42A1-8FFA-60BC4492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7B93-5DAC-4DA0-BA20-B1B0F636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789F-7477-46C1-8CA5-AC27E647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40DE-BE42-4823-BEF9-1EC6B450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3238-1FEE-4658-8285-21185EEC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FFEF-D1BD-4C39-BB1D-F00CC759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62ED-11FC-4145-B053-AC9B8C94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27D0-D0EA-4D9E-8651-CDC29A8A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326D-BFB2-4DB7-9001-8559367B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5F62-1759-499C-8413-2C05337A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5135-0D0B-4E47-9F44-539AFC27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D55F-FA87-4734-8B27-ECA36C19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92FE-B61C-45AC-8133-F1FE9C7B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AF58-75A8-48D4-A6DE-29245BCFE8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829C-5737-4A3A-AD8C-5409C936C0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Левитан Исаак Ильич</a:t>
            </a: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  </a:t>
            </a:r>
            <a:br>
              <a:rPr sz="4400"/>
            </a:b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1860-1900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8" name="443px-Isaac_Levitan_selfportrait1880%5B1%5D" descr=""/>
          <p:cNvPicPr/>
          <p:nvPr/>
        </p:nvPicPr>
        <p:blipFill>
          <a:blip r:embed="rId1"/>
          <a:stretch/>
        </p:blipFill>
        <p:spPr>
          <a:xfrm>
            <a:off x="3540240" y="1981080"/>
            <a:ext cx="3036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«Портрет Левитана» В.Серов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levitan%5B1%5D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70572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800px-Isaak_Ilitsch_Lewitan_002%5B1%5D" descr=""/>
          <p:cNvPicPr/>
          <p:nvPr/>
        </p:nvPicPr>
        <p:blipFill>
          <a:blip r:embed="rId1"/>
          <a:stretch/>
        </p:blipFill>
        <p:spPr>
          <a:xfrm>
            <a:off x="4800600" y="457200"/>
            <a:ext cx="4040280" cy="2585880"/>
          </a:xfrm>
          <a:prstGeom prst="rect">
            <a:avLst/>
          </a:prstGeom>
          <a:ln w="0">
            <a:noFill/>
          </a:ln>
        </p:spPr>
      </p:pic>
      <p:pic>
        <p:nvPicPr>
          <p:cNvPr id="132" name="732px-Mart_levitan%5B1%5D" descr=""/>
          <p:cNvPicPr/>
          <p:nvPr/>
        </p:nvPicPr>
        <p:blipFill>
          <a:blip r:embed="rId2"/>
          <a:stretch/>
        </p:blipFill>
        <p:spPr>
          <a:xfrm>
            <a:off x="4952880" y="3352680"/>
            <a:ext cx="3657600" cy="2998800"/>
          </a:xfrm>
          <a:prstGeom prst="rect">
            <a:avLst/>
          </a:prstGeom>
          <a:ln w="0">
            <a:noFill/>
          </a:ln>
        </p:spPr>
      </p:pic>
      <p:pic>
        <p:nvPicPr>
          <p:cNvPr id="133" name="Levitan_Sokolniki_Autumn_1879%5B1%5D" descr=""/>
          <p:cNvPicPr/>
          <p:nvPr/>
        </p:nvPicPr>
        <p:blipFill>
          <a:blip r:embed="rId3"/>
          <a:stretch/>
        </p:blipFill>
        <p:spPr>
          <a:xfrm>
            <a:off x="1066680" y="914400"/>
            <a:ext cx="35625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«Мастер русского пейзажа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173240" y="2382840"/>
          <a:ext cx="7772400" cy="330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240" y="2382840"/>
                    <a:ext cx="777240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Золотая Осень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8" name="800px-Levitan_Zolotaya_Osen%5B1%5D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67816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990720" y="1523880"/>
          <a:ext cx="7772400" cy="37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23880"/>
                    <a:ext cx="777240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Основы перспективы в пейзаже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0_1b460_cea39105_XL%5B1%5D" descr=""/>
          <p:cNvPicPr/>
          <p:nvPr/>
        </p:nvPicPr>
        <p:blipFill>
          <a:blip r:embed="rId1"/>
          <a:stretch/>
        </p:blipFill>
        <p:spPr>
          <a:xfrm>
            <a:off x="5715000" y="3657600"/>
            <a:ext cx="3200400" cy="2124000"/>
          </a:xfrm>
          <a:prstGeom prst="rect">
            <a:avLst/>
          </a:prstGeom>
          <a:ln w="0">
            <a:noFill/>
          </a:ln>
        </p:spPr>
      </p:pic>
      <p:pic>
        <p:nvPicPr>
          <p:cNvPr id="143" name="0_a3c9_991a2823_XL%5B1%5D" descr=""/>
          <p:cNvPicPr/>
          <p:nvPr/>
        </p:nvPicPr>
        <p:blipFill>
          <a:blip r:embed="rId2"/>
          <a:stretch/>
        </p:blipFill>
        <p:spPr>
          <a:xfrm>
            <a:off x="3657600" y="2666880"/>
            <a:ext cx="1866960" cy="3124440"/>
          </a:xfrm>
          <a:prstGeom prst="rect">
            <a:avLst/>
          </a:prstGeom>
          <a:ln w="0">
            <a:noFill/>
          </a:ln>
        </p:spPr>
      </p:pic>
      <p:pic>
        <p:nvPicPr>
          <p:cNvPr id="144" name="70%5B1%5D" descr=""/>
          <p:cNvPicPr/>
          <p:nvPr/>
        </p:nvPicPr>
        <p:blipFill>
          <a:blip r:embed="rId3"/>
          <a:stretch/>
        </p:blipFill>
        <p:spPr>
          <a:xfrm>
            <a:off x="1295280" y="1676520"/>
            <a:ext cx="2133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Колорит картин: теплые и холодные цвета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6" name="800px-Levitan_nad_vech_pok28%5B1%5D" descr=""/>
          <p:cNvPicPr/>
          <p:nvPr/>
        </p:nvPicPr>
        <p:blipFill>
          <a:blip r:embed="rId1"/>
          <a:stretch/>
        </p:blipFill>
        <p:spPr>
          <a:xfrm>
            <a:off x="914400" y="464832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147" name="800px-Levitan_Zolotaya_Osen%5B1%5D" descr=""/>
          <p:cNvPicPr/>
          <p:nvPr/>
        </p:nvPicPr>
        <p:blipFill>
          <a:blip r:embed="rId2"/>
          <a:stretch/>
        </p:blipFill>
        <p:spPr>
          <a:xfrm>
            <a:off x="6553080" y="1752480"/>
            <a:ext cx="2398680" cy="1676520"/>
          </a:xfrm>
          <a:prstGeom prst="rect">
            <a:avLst/>
          </a:prstGeom>
          <a:ln w="0">
            <a:noFill/>
          </a:ln>
        </p:spPr>
      </p:pic>
      <p:pic>
        <p:nvPicPr>
          <p:cNvPr id="148" name="image012%5B1%5D" descr=""/>
          <p:cNvPicPr/>
          <p:nvPr/>
        </p:nvPicPr>
        <p:blipFill>
          <a:blip r:embed="rId3"/>
          <a:stretch/>
        </p:blipFill>
        <p:spPr>
          <a:xfrm>
            <a:off x="3505320" y="2362320"/>
            <a:ext cx="304776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5:48:33Z</dcterms:created>
  <dc:creator>igor</dc:creator>
  <dc:description/>
  <dc:language>en-US</dc:language>
  <cp:lastModifiedBy>igor</cp:lastModifiedBy>
  <dcterms:modified xsi:type="dcterms:W3CDTF">2010-11-07T17:30:54Z</dcterms:modified>
  <cp:revision>3</cp:revision>
  <dc:subject/>
  <dc:title>Левитан Исаак Ильич   1860-1900</dc:title>
</cp:coreProperties>
</file>