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gif" ContentType="image/gif"/>
  <Override PartName="/ppt/media/image3.jpeg" ContentType="image/jpeg"/>
  <Override PartName="/ppt/media/image2.png" ContentType="image/png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5050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4BFD-3E6E-4C63-9B0E-B283DB27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7328-9CC8-411A-B9A1-BFCD2A74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3165-1598-49A5-9560-06CDBF83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B5DA-AF57-4387-B468-DDA79F5C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46DE-9FD0-4829-89C7-F925D1CA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3485-57BC-4D96-982E-1732F051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0333-A08B-48EC-A1B9-8D5D6575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C02D-01CE-4A13-851A-D9780E92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7460-DBB9-4003-B113-617605AE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A8BF-5050-493B-B4DF-3C030AD2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3776-9EE9-4066-8D08-D3D5342B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8F73-1871-402C-8859-21B31760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9B1F-CC88-4FC7-A037-35C770B5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B44B-A8AF-4482-97D6-5A6AE801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40BC-396C-46EE-8DF4-2236A618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44EB-0124-455D-AD00-8E5E0260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1095-0173-4D45-81A5-8C4492C0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C6FC-1E18-4824-A066-4D9B8161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635B-59B3-4409-8B20-F50FF984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7AE3-AD3A-44F5-A742-EF322095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DEB8-75C3-4A69-961F-68C20699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10D9-E98C-42BD-9FC6-824ACA67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411D9-688B-44F1-A96A-56CB294E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3E39-CC53-4734-8E2C-F1EF07FD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6A2E-BDC0-4D34-97AF-C186AD13A1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14F3-A33A-433D-B15C-DB26ED3F18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2340000" y="981000"/>
            <a:ext cx="6105600" cy="20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Математика 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1 класс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724360" y="551664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онова Светлана Михайловна СОШ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Белояр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489960" y="1258200"/>
            <a:ext cx="2518200" cy="3237480"/>
            <a:chOff x="489960" y="1258200"/>
            <a:chExt cx="2518200" cy="3237480"/>
          </a:xfrm>
        </p:grpSpPr>
        <p:sp>
          <p:nvSpPr>
            <p:cNvPr id="109" name="WordArt 6"/>
            <p:cNvSpPr txBox="1"/>
            <p:nvPr/>
          </p:nvSpPr>
          <p:spPr>
            <a:xfrm rot="20337000">
              <a:off x="755280" y="1413000"/>
              <a:ext cx="1081080" cy="118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2526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+</a:t>
              </a:r>
              <a:endPara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52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0" name="WordArt 7"/>
            <p:cNvSpPr txBox="1"/>
            <p:nvPr/>
          </p:nvSpPr>
          <p:spPr>
            <a:xfrm>
              <a:off x="539640" y="2781360"/>
              <a:ext cx="52416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</a:rPr>
                <a:t>&lt;</a:t>
              </a:r>
              <a:endParaRPr b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1" name="WordArt 8"/>
            <p:cNvSpPr txBox="1"/>
            <p:nvPr/>
          </p:nvSpPr>
          <p:spPr>
            <a:xfrm>
              <a:off x="2484360" y="2421000"/>
              <a:ext cx="52380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</a:rPr>
                <a:t>&gt;</a:t>
              </a:r>
              <a:endParaRPr b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2" name="WordArt 9"/>
            <p:cNvSpPr txBox="1"/>
            <p:nvPr/>
          </p:nvSpPr>
          <p:spPr>
            <a:xfrm rot="1043400">
              <a:off x="1258560" y="2781000"/>
              <a:ext cx="115092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3" name="WordArt 10"/>
            <p:cNvSpPr txBox="1"/>
            <p:nvPr/>
          </p:nvSpPr>
          <p:spPr>
            <a:xfrm rot="15243000">
              <a:off x="923760" y="3419280"/>
              <a:ext cx="520560" cy="12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0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-</a:t>
              </a:r>
              <a:endParaRPr b="1" lang="en-US" sz="7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14" name="WordArt 13"/>
          <p:cNvSpPr txBox="1"/>
          <p:nvPr/>
        </p:nvSpPr>
        <p:spPr>
          <a:xfrm>
            <a:off x="3348000" y="3860640"/>
            <a:ext cx="461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остав чисел 3, 4,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15" name="Picture 14" descr="walking_4_hc"/>
          <p:cNvPicPr/>
          <p:nvPr/>
        </p:nvPicPr>
        <p:blipFill>
          <a:blip r:embed="rId9"/>
          <a:stretch/>
        </p:blipFill>
        <p:spPr>
          <a:xfrm>
            <a:off x="1042920" y="4581360"/>
            <a:ext cx="1260720" cy="1762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walking_3_hc"/>
          <p:cNvPicPr/>
          <p:nvPr/>
        </p:nvPicPr>
        <p:blipFill>
          <a:blip r:embed="rId10"/>
          <a:stretch/>
        </p:blipFill>
        <p:spPr>
          <a:xfrm>
            <a:off x="7380360" y="2276640"/>
            <a:ext cx="1133280" cy="115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alking_5_hc"/>
          <p:cNvPicPr/>
          <p:nvPr/>
        </p:nvPicPr>
        <p:blipFill>
          <a:blip r:embed="rId11"/>
          <a:stretch/>
        </p:blipFill>
        <p:spPr>
          <a:xfrm>
            <a:off x="3203640" y="4941720"/>
            <a:ext cx="148428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619280" y="549360"/>
            <a:ext cx="75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Организационный мом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8-21"/>
          <p:cNvPicPr/>
          <p:nvPr/>
        </p:nvPicPr>
        <p:blipFill>
          <a:blip r:embed="rId1"/>
          <a:stretch/>
        </p:blipFill>
        <p:spPr>
          <a:xfrm>
            <a:off x="324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276720" y="1268280"/>
            <a:ext cx="54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Monotype Corsiva"/>
              </a:rPr>
              <a:t>Долгожданный дан звонок – Начинается урок.                            Он пойдет ребятам впрок.                    Постарайтесь всё понять –         И внимательно с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3708360" y="4437000"/>
            <a:ext cx="50328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6372360" y="5013360"/>
            <a:ext cx="4316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5292720" y="551664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5292720" y="4437000"/>
            <a:ext cx="503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4427640" y="5013360"/>
            <a:ext cx="576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Georgia"/>
              <a:ea typeface="Georgia"/>
            </a:endParaRPr>
          </a:p>
        </p:txBody>
      </p:sp>
      <p:sp>
        <p:nvSpPr>
          <p:cNvPr id="126" name="WordArt 10"/>
          <p:cNvSpPr txBox="1"/>
          <p:nvPr/>
        </p:nvSpPr>
        <p:spPr>
          <a:xfrm>
            <a:off x="7451640" y="4653000"/>
            <a:ext cx="50328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6804000" y="407664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Georgia"/>
              <a:ea typeface="Georgia"/>
            </a:endParaRPr>
          </a:p>
        </p:txBody>
      </p:sp>
      <p:sp>
        <p:nvSpPr>
          <p:cNvPr id="128" name="WordArt 12"/>
          <p:cNvSpPr txBox="1"/>
          <p:nvPr/>
        </p:nvSpPr>
        <p:spPr>
          <a:xfrm>
            <a:off x="4572000" y="4005360"/>
            <a:ext cx="4316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9" name="WordArt 13"/>
          <p:cNvSpPr txBox="1"/>
          <p:nvPr/>
        </p:nvSpPr>
        <p:spPr>
          <a:xfrm>
            <a:off x="8388360" y="5589720"/>
            <a:ext cx="503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0" name="WordArt 14"/>
          <p:cNvSpPr txBox="1"/>
          <p:nvPr/>
        </p:nvSpPr>
        <p:spPr>
          <a:xfrm>
            <a:off x="7308720" y="573408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Минутка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чист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258920" y="2421000"/>
            <a:ext cx="1873080" cy="1512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64000" y="2457360"/>
            <a:ext cx="144000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17"/>
          <p:cNvGrpSpPr/>
          <p:nvPr/>
        </p:nvGrpSpPr>
        <p:grpSpPr>
          <a:xfrm>
            <a:off x="1619280" y="4653000"/>
            <a:ext cx="6479640" cy="1303200"/>
            <a:chOff x="1619280" y="4653000"/>
            <a:chExt cx="6479640" cy="1303200"/>
          </a:xfrm>
        </p:grpSpPr>
        <p:sp>
          <p:nvSpPr>
            <p:cNvPr id="135" name="Text Box 55"/>
            <p:cNvSpPr/>
            <p:nvPr/>
          </p:nvSpPr>
          <p:spPr>
            <a:xfrm>
              <a:off x="2771640" y="5589720"/>
              <a:ext cx="7203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97"/>
            <p:cNvSpPr/>
            <p:nvPr/>
          </p:nvSpPr>
          <p:spPr>
            <a:xfrm>
              <a:off x="161928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6"/>
            <p:cNvSpPr/>
            <p:nvPr/>
          </p:nvSpPr>
          <p:spPr>
            <a:xfrm>
              <a:off x="2914560" y="4653000"/>
              <a:ext cx="129492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8"/>
            <p:cNvSpPr/>
            <p:nvPr/>
          </p:nvSpPr>
          <p:spPr>
            <a:xfrm>
              <a:off x="680364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9"/>
            <p:cNvSpPr/>
            <p:nvPr/>
          </p:nvSpPr>
          <p:spPr>
            <a:xfrm>
              <a:off x="5506920" y="4653000"/>
              <a:ext cx="129492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0"/>
            <p:cNvSpPr/>
            <p:nvPr/>
          </p:nvSpPr>
          <p:spPr>
            <a:xfrm>
              <a:off x="421128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1" name="AutoShape 118"/>
          <p:cNvCxnSpPr>
            <a:stCxn id="136" idx="0"/>
            <a:endCxn id="136" idx="0"/>
          </p:cNvCxnSpPr>
          <p:nvPr/>
        </p:nvCxnSpPr>
        <p:spPr>
          <a:xfrm>
            <a:off x="2266560" y="4624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Line 121"/>
          <p:cNvSpPr/>
          <p:nvPr/>
        </p:nvSpPr>
        <p:spPr>
          <a:xfrm flipH="1">
            <a:off x="4787640" y="4653000"/>
            <a:ext cx="14436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2"/>
          <p:cNvSpPr/>
          <p:nvPr/>
        </p:nvSpPr>
        <p:spPr>
          <a:xfrm flipH="1">
            <a:off x="5148360" y="4653000"/>
            <a:ext cx="287280" cy="122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3"/>
          <p:cNvSpPr/>
          <p:nvPr/>
        </p:nvSpPr>
        <p:spPr>
          <a:xfrm>
            <a:off x="4788000" y="522936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140"/>
          <p:cNvSpPr/>
          <p:nvPr/>
        </p:nvSpPr>
        <p:spPr>
          <a:xfrm flipH="1" flipV="1" rot="6695400">
            <a:off x="2234520" y="5261760"/>
            <a:ext cx="701640" cy="492120"/>
          </a:xfrm>
          <a:custGeom>
            <a:avLst/>
            <a:gdLst>
              <a:gd name="textAreaLeft" fmla="*/ -360 w 701640"/>
              <a:gd name="textAreaRight" fmla="*/ 701640 w 70164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fill="none" w="42974" h="40136">
                <a:moveTo>
                  <a:pt x="42974" y="21651"/>
                </a:moveTo>
                <a:cubicBezTo>
                  <a:pt x="41427" y="32265"/>
                  <a:pt x="32326" y="40135"/>
                  <a:pt x="21600" y="40136"/>
                </a:cubicBezTo>
                <a:cubicBezTo>
                  <a:pt x="9670" y="40136"/>
                  <a:pt x="0" y="30465"/>
                  <a:pt x="0" y="18536"/>
                </a:cubicBezTo>
                <a:cubicBezTo>
                  <a:pt x="-1" y="10939"/>
                  <a:pt x="3990" y="3900"/>
                  <a:pt x="10510" y="0"/>
                </a:cubicBezTo>
              </a:path>
              <a:path stroke="0" w="42974" h="40136">
                <a:moveTo>
                  <a:pt x="42974" y="21651"/>
                </a:moveTo>
                <a:cubicBezTo>
                  <a:pt x="41427" y="32265"/>
                  <a:pt x="32326" y="40135"/>
                  <a:pt x="21600" y="40136"/>
                </a:cubicBezTo>
                <a:cubicBezTo>
                  <a:pt x="9670" y="40136"/>
                  <a:pt x="0" y="30465"/>
                  <a:pt x="0" y="18536"/>
                </a:cubicBezTo>
                <a:cubicBezTo>
                  <a:pt x="-1" y="10939"/>
                  <a:pt x="3990" y="3900"/>
                  <a:pt x="10510" y="0"/>
                </a:cubicBezTo>
                <a:lnTo>
                  <a:pt x="21600" y="18536"/>
                </a:lnTo>
                <a:lnTo>
                  <a:pt x="42974" y="2165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144"/>
          <p:cNvSpPr/>
          <p:nvPr/>
        </p:nvSpPr>
        <p:spPr>
          <a:xfrm flipH="1" flipV="1" rot="6513600">
            <a:off x="2372760" y="4690080"/>
            <a:ext cx="503280" cy="427320"/>
          </a:xfrm>
          <a:custGeom>
            <a:avLst/>
            <a:gdLst>
              <a:gd name="textAreaLeft" fmla="*/ 360 w 503280"/>
              <a:gd name="textAreaRight" fmla="*/ 504000 w 503280"/>
              <a:gd name="textAreaTop" fmla="*/ -360 h 427320"/>
              <a:gd name="textAreaBottom" fmla="*/ 427320 h 427320"/>
            </a:gdLst>
            <a:ahLst/>
            <a:rect l="textAreaLeft" t="textAreaTop" r="textAreaRight" b="textAreaBottom"/>
            <a:pathLst>
              <a:path fill="none" w="38682" h="43095">
                <a:moveTo>
                  <a:pt x="19205" y="-1"/>
                </a:moveTo>
                <a:cubicBezTo>
                  <a:pt x="30258" y="1091"/>
                  <a:pt x="38682" y="10387"/>
                  <a:pt x="38682" y="21495"/>
                </a:cubicBezTo>
                <a:cubicBezTo>
                  <a:pt x="38682" y="33424"/>
                  <a:pt x="29011" y="43095"/>
                  <a:pt x="17082" y="43095"/>
                </a:cubicBezTo>
                <a:cubicBezTo>
                  <a:pt x="10398" y="43095"/>
                  <a:pt x="4090" y="40000"/>
                  <a:pt x="0" y="34714"/>
                </a:cubicBezTo>
              </a:path>
              <a:path stroke="0" w="38682" h="43095">
                <a:moveTo>
                  <a:pt x="19205" y="-1"/>
                </a:moveTo>
                <a:cubicBezTo>
                  <a:pt x="30258" y="1091"/>
                  <a:pt x="38682" y="10387"/>
                  <a:pt x="38682" y="21495"/>
                </a:cubicBezTo>
                <a:cubicBezTo>
                  <a:pt x="38682" y="33424"/>
                  <a:pt x="29011" y="43095"/>
                  <a:pt x="17082" y="43095"/>
                </a:cubicBezTo>
                <a:cubicBezTo>
                  <a:pt x="10398" y="43095"/>
                  <a:pt x="4090" y="40000"/>
                  <a:pt x="0" y="34714"/>
                </a:cubicBezTo>
                <a:lnTo>
                  <a:pt x="17082" y="21495"/>
                </a:lnTo>
                <a:lnTo>
                  <a:pt x="19205" y="-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145"/>
          <p:cNvSpPr/>
          <p:nvPr/>
        </p:nvSpPr>
        <p:spPr>
          <a:xfrm flipH="1" flipV="1" rot="6695400">
            <a:off x="7439760" y="5250960"/>
            <a:ext cx="792360" cy="497160"/>
          </a:xfrm>
          <a:custGeom>
            <a:avLst/>
            <a:gdLst>
              <a:gd name="textAreaLeft" fmla="*/ -360 w 792360"/>
              <a:gd name="textAreaRight" fmla="*/ 792360 w 79236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fill="none" w="43200" h="40600">
                <a:moveTo>
                  <a:pt x="31874" y="-1"/>
                </a:moveTo>
                <a:cubicBezTo>
                  <a:pt x="38851" y="3773"/>
                  <a:pt x="43200" y="11067"/>
                  <a:pt x="43200" y="19000"/>
                </a:cubicBezTo>
                <a:cubicBezTo>
                  <a:pt x="43200" y="30929"/>
                  <a:pt x="33529" y="40600"/>
                  <a:pt x="21600" y="40600"/>
                </a:cubicBezTo>
                <a:cubicBezTo>
                  <a:pt x="9670" y="40600"/>
                  <a:pt x="0" y="30929"/>
                  <a:pt x="0" y="19000"/>
                </a:cubicBezTo>
                <a:cubicBezTo>
                  <a:pt x="-1" y="11818"/>
                  <a:pt x="3569" y="5106"/>
                  <a:pt x="9523" y="1091"/>
                </a:cubicBezTo>
              </a:path>
              <a:path stroke="0" w="43200" h="40600">
                <a:moveTo>
                  <a:pt x="31874" y="-1"/>
                </a:moveTo>
                <a:cubicBezTo>
                  <a:pt x="38851" y="3773"/>
                  <a:pt x="43200" y="11067"/>
                  <a:pt x="43200" y="19000"/>
                </a:cubicBezTo>
                <a:cubicBezTo>
                  <a:pt x="43200" y="30929"/>
                  <a:pt x="33529" y="40600"/>
                  <a:pt x="21600" y="40600"/>
                </a:cubicBezTo>
                <a:cubicBezTo>
                  <a:pt x="9670" y="40600"/>
                  <a:pt x="0" y="30929"/>
                  <a:pt x="0" y="19000"/>
                </a:cubicBezTo>
                <a:cubicBezTo>
                  <a:pt x="-1" y="11818"/>
                  <a:pt x="3569" y="5106"/>
                  <a:pt x="9523" y="1091"/>
                </a:cubicBezTo>
                <a:lnTo>
                  <a:pt x="21600" y="19000"/>
                </a:lnTo>
                <a:lnTo>
                  <a:pt x="31874" y="-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6"/>
          <p:cNvSpPr/>
          <p:nvPr/>
        </p:nvSpPr>
        <p:spPr>
          <a:xfrm flipH="1">
            <a:off x="7667280" y="4653000"/>
            <a:ext cx="7308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147"/>
          <p:cNvSpPr/>
          <p:nvPr/>
        </p:nvSpPr>
        <p:spPr>
          <a:xfrm flipV="1">
            <a:off x="7740720" y="4507920"/>
            <a:ext cx="372960" cy="285480"/>
          </a:xfrm>
          <a:custGeom>
            <a:avLst/>
            <a:gdLst>
              <a:gd name="textAreaLeft" fmla="*/ 0 w 372960"/>
              <a:gd name="textAreaRight" fmla="*/ 373320 w 372960"/>
              <a:gd name="textAreaTop" fmla="*/ -360 h 285480"/>
              <a:gd name="textAreaBottom" fmla="*/ 285480 h 285480"/>
            </a:gdLst>
            <a:ahLst/>
            <a:rect l="textAreaLeft" t="textAreaTop" r="textAreaRight" b="textAreaBottom"/>
            <a:pathLst>
              <a:path fill="none" w="18534" h="21600">
                <a:moveTo>
                  <a:pt x="0" y="2715"/>
                </a:moveTo>
                <a:cubicBezTo>
                  <a:pt x="3207" y="934"/>
                  <a:pt x="6816" y="-1"/>
                  <a:pt x="10485" y="0"/>
                </a:cubicBezTo>
                <a:cubicBezTo>
                  <a:pt x="13242" y="0"/>
                  <a:pt x="15974" y="528"/>
                  <a:pt x="18534" y="1555"/>
                </a:cubicBezTo>
              </a:path>
              <a:path stroke="0" w="18534" h="21600">
                <a:moveTo>
                  <a:pt x="0" y="2715"/>
                </a:moveTo>
                <a:cubicBezTo>
                  <a:pt x="3207" y="934"/>
                  <a:pt x="6816" y="-1"/>
                  <a:pt x="10485" y="0"/>
                </a:cubicBezTo>
                <a:cubicBezTo>
                  <a:pt x="13242" y="0"/>
                  <a:pt x="15974" y="528"/>
                  <a:pt x="18534" y="1555"/>
                </a:cubicBezTo>
                <a:lnTo>
                  <a:pt x="10485" y="21600"/>
                </a:lnTo>
                <a:lnTo>
                  <a:pt x="0" y="2715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Догадайся, как нужно расставить числа в домик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 rot="10800000">
            <a:off x="684360" y="3141720"/>
            <a:ext cx="1584000" cy="914400"/>
          </a:xfrm>
          <a:custGeom>
            <a:avLst/>
            <a:gdLst>
              <a:gd name="textAreaLeft" fmla="*/ 329760 w 1584000"/>
              <a:gd name="textAreaRight" fmla="*/ 1254240 w 158400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2"/>
          <p:cNvGrpSpPr/>
          <p:nvPr/>
        </p:nvGrpSpPr>
        <p:grpSpPr>
          <a:xfrm>
            <a:off x="900000" y="4076640"/>
            <a:ext cx="1224000" cy="1513080"/>
            <a:chOff x="900000" y="4076640"/>
            <a:chExt cx="1224000" cy="1513080"/>
          </a:xfrm>
        </p:grpSpPr>
        <p:sp>
          <p:nvSpPr>
            <p:cNvPr id="153" name="Rectangle 4"/>
            <p:cNvSpPr/>
            <p:nvPr/>
          </p:nvSpPr>
          <p:spPr>
            <a:xfrm>
              <a:off x="900000" y="4076640"/>
              <a:ext cx="1224000" cy="151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971640" y="429264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3"/>
            <p:cNvSpPr/>
            <p:nvPr/>
          </p:nvSpPr>
          <p:spPr>
            <a:xfrm>
              <a:off x="1619280" y="429264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6"/>
            <p:cNvSpPr/>
            <p:nvPr/>
          </p:nvSpPr>
          <p:spPr>
            <a:xfrm>
              <a:off x="971640" y="486900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7"/>
            <p:cNvSpPr/>
            <p:nvPr/>
          </p:nvSpPr>
          <p:spPr>
            <a:xfrm>
              <a:off x="1619280" y="486900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10"/>
          <p:cNvSpPr/>
          <p:nvPr/>
        </p:nvSpPr>
        <p:spPr>
          <a:xfrm rot="10800000">
            <a:off x="2771280" y="1700280"/>
            <a:ext cx="1584360" cy="936720"/>
          </a:xfrm>
          <a:custGeom>
            <a:avLst/>
            <a:gdLst>
              <a:gd name="textAreaLeft" fmla="*/ 330120 w 1584360"/>
              <a:gd name="textAreaRight" fmla="*/ 1254240 w 158436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4"/>
          <p:cNvGrpSpPr/>
          <p:nvPr/>
        </p:nvGrpSpPr>
        <p:grpSpPr>
          <a:xfrm>
            <a:off x="4642920" y="3429000"/>
            <a:ext cx="1584360" cy="2087640"/>
            <a:chOff x="4642920" y="3429000"/>
            <a:chExt cx="1584360" cy="2087640"/>
          </a:xfrm>
        </p:grpSpPr>
        <p:grpSp>
          <p:nvGrpSpPr>
            <p:cNvPr id="160" name="Group 93"/>
            <p:cNvGrpSpPr/>
            <p:nvPr/>
          </p:nvGrpSpPr>
          <p:grpSpPr>
            <a:xfrm>
              <a:off x="4642920" y="3429000"/>
              <a:ext cx="1584360" cy="2087640"/>
              <a:chOff x="4642920" y="3429000"/>
              <a:chExt cx="1584360" cy="208764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4859280" y="4365720"/>
                <a:ext cx="1224000" cy="1150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11"/>
              <p:cNvSpPr/>
              <p:nvPr/>
            </p:nvSpPr>
            <p:spPr>
              <a:xfrm rot="10800000">
                <a:off x="4642920" y="3429000"/>
                <a:ext cx="1584360" cy="914400"/>
              </a:xfrm>
              <a:custGeom>
                <a:avLst/>
                <a:gdLst>
                  <a:gd name="textAreaLeft" fmla="*/ 330120 w 1584360"/>
                  <a:gd name="textAreaRight" fmla="*/ 1254240 w 1584360"/>
                  <a:gd name="textAreaTop" fmla="*/ 190440 h 914400"/>
                  <a:gd name="textAreaBottom" fmla="*/ 72396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4"/>
              <p:cNvSpPr/>
              <p:nvPr/>
            </p:nvSpPr>
            <p:spPr>
              <a:xfrm>
                <a:off x="5508720" y="472428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5"/>
              <p:cNvSpPr/>
              <p:nvPr/>
            </p:nvSpPr>
            <p:spPr>
              <a:xfrm>
                <a:off x="4932360" y="472428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35"/>
              <p:cNvSpPr/>
              <p:nvPr/>
            </p:nvSpPr>
            <p:spPr>
              <a:xfrm>
                <a:off x="5219640" y="3716280"/>
                <a:ext cx="432000" cy="4320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48"/>
            <p:cNvSpPr/>
            <p:nvPr/>
          </p:nvSpPr>
          <p:spPr>
            <a:xfrm>
              <a:off x="5292720" y="371628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9"/>
            <p:cNvSpPr/>
            <p:nvPr/>
          </p:nvSpPr>
          <p:spPr>
            <a:xfrm>
              <a:off x="5005800" y="479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89"/>
          <p:cNvGrpSpPr/>
          <p:nvPr/>
        </p:nvGrpSpPr>
        <p:grpSpPr>
          <a:xfrm>
            <a:off x="1042920" y="3429000"/>
            <a:ext cx="833400" cy="1806480"/>
            <a:chOff x="1042920" y="3429000"/>
            <a:chExt cx="833400" cy="1806480"/>
          </a:xfrm>
        </p:grpSpPr>
        <p:sp>
          <p:nvSpPr>
            <p:cNvPr id="169" name="Oval 33"/>
            <p:cNvSpPr/>
            <p:nvPr/>
          </p:nvSpPr>
          <p:spPr>
            <a:xfrm>
              <a:off x="1258920" y="3429000"/>
              <a:ext cx="431640" cy="4316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41"/>
            <p:cNvSpPr/>
            <p:nvPr/>
          </p:nvSpPr>
          <p:spPr>
            <a:xfrm>
              <a:off x="1258920" y="350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2"/>
            <p:cNvSpPr/>
            <p:nvPr/>
          </p:nvSpPr>
          <p:spPr>
            <a:xfrm>
              <a:off x="1042920" y="4365720"/>
              <a:ext cx="289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9"/>
            <p:cNvSpPr/>
            <p:nvPr/>
          </p:nvSpPr>
          <p:spPr>
            <a:xfrm>
              <a:off x="1692360" y="48690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90"/>
          <p:cNvGrpSpPr/>
          <p:nvPr/>
        </p:nvGrpSpPr>
        <p:grpSpPr>
          <a:xfrm>
            <a:off x="2987640" y="2060640"/>
            <a:ext cx="1224000" cy="3265560"/>
            <a:chOff x="2987640" y="2060640"/>
            <a:chExt cx="1224000" cy="3265560"/>
          </a:xfrm>
        </p:grpSpPr>
        <p:sp>
          <p:nvSpPr>
            <p:cNvPr id="174" name="Rectangle 5"/>
            <p:cNvSpPr/>
            <p:nvPr/>
          </p:nvSpPr>
          <p:spPr>
            <a:xfrm>
              <a:off x="2987640" y="2637000"/>
              <a:ext cx="1224000" cy="268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3635280" y="350028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3059280" y="350028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8"/>
            <p:cNvSpPr/>
            <p:nvPr/>
          </p:nvSpPr>
          <p:spPr>
            <a:xfrm>
              <a:off x="3635280" y="285264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9"/>
            <p:cNvSpPr/>
            <p:nvPr/>
          </p:nvSpPr>
          <p:spPr>
            <a:xfrm>
              <a:off x="3059280" y="285264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3635280" y="407664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3059280" y="407664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4"/>
            <p:cNvSpPr/>
            <p:nvPr/>
          </p:nvSpPr>
          <p:spPr>
            <a:xfrm>
              <a:off x="3348000" y="2060640"/>
              <a:ext cx="432000" cy="423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5"/>
            <p:cNvSpPr/>
            <p:nvPr/>
          </p:nvSpPr>
          <p:spPr>
            <a:xfrm>
              <a:off x="3134160" y="285264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46"/>
            <p:cNvSpPr/>
            <p:nvPr/>
          </p:nvSpPr>
          <p:spPr>
            <a:xfrm>
              <a:off x="3689640" y="352116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47"/>
            <p:cNvSpPr/>
            <p:nvPr/>
          </p:nvSpPr>
          <p:spPr>
            <a:xfrm>
              <a:off x="3134160" y="407664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5"/>
            <p:cNvSpPr/>
            <p:nvPr/>
          </p:nvSpPr>
          <p:spPr>
            <a:xfrm>
              <a:off x="3635280" y="4653000"/>
              <a:ext cx="432000" cy="423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6"/>
            <p:cNvSpPr/>
            <p:nvPr/>
          </p:nvSpPr>
          <p:spPr>
            <a:xfrm>
              <a:off x="3059280" y="4653000"/>
              <a:ext cx="431640" cy="423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8"/>
            <p:cNvSpPr/>
            <p:nvPr/>
          </p:nvSpPr>
          <p:spPr>
            <a:xfrm>
              <a:off x="3708360" y="4653000"/>
              <a:ext cx="35892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87"/>
            <p:cNvSpPr/>
            <p:nvPr/>
          </p:nvSpPr>
          <p:spPr>
            <a:xfrm>
              <a:off x="3419640" y="20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92"/>
          <p:cNvGrpSpPr/>
          <p:nvPr/>
        </p:nvGrpSpPr>
        <p:grpSpPr>
          <a:xfrm>
            <a:off x="6948000" y="1773360"/>
            <a:ext cx="1584360" cy="2808000"/>
            <a:chOff x="6948000" y="1773360"/>
            <a:chExt cx="1584360" cy="2808000"/>
          </a:xfrm>
        </p:grpSpPr>
        <p:grpSp>
          <p:nvGrpSpPr>
            <p:cNvPr id="190" name="Group 40"/>
            <p:cNvGrpSpPr/>
            <p:nvPr/>
          </p:nvGrpSpPr>
          <p:grpSpPr>
            <a:xfrm>
              <a:off x="6948000" y="1773360"/>
              <a:ext cx="1584360" cy="2808000"/>
              <a:chOff x="6948000" y="1773360"/>
              <a:chExt cx="1584360" cy="2808000"/>
            </a:xfrm>
          </p:grpSpPr>
          <p:sp>
            <p:nvSpPr>
              <p:cNvPr id="191" name="Rectangle 7"/>
              <p:cNvSpPr/>
              <p:nvPr/>
            </p:nvSpPr>
            <p:spPr>
              <a:xfrm>
                <a:off x="7093080" y="2708280"/>
                <a:ext cx="1224000" cy="18730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12"/>
              <p:cNvSpPr/>
              <p:nvPr/>
            </p:nvSpPr>
            <p:spPr>
              <a:xfrm rot="10800000">
                <a:off x="6948000" y="1773360"/>
                <a:ext cx="1584360" cy="914400"/>
              </a:xfrm>
              <a:custGeom>
                <a:avLst/>
                <a:gdLst>
                  <a:gd name="textAreaLeft" fmla="*/ 330120 w 1584360"/>
                  <a:gd name="textAreaRight" fmla="*/ 1254240 w 1584360"/>
                  <a:gd name="textAreaTop" fmla="*/ 190440 h 914400"/>
                  <a:gd name="textAreaBottom" fmla="*/ 72396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20"/>
              <p:cNvSpPr/>
              <p:nvPr/>
            </p:nvSpPr>
            <p:spPr>
              <a:xfrm>
                <a:off x="7740720" y="2781360"/>
                <a:ext cx="43164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21"/>
              <p:cNvSpPr/>
              <p:nvPr/>
            </p:nvSpPr>
            <p:spPr>
              <a:xfrm>
                <a:off x="7164360" y="2781360"/>
                <a:ext cx="43200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28"/>
              <p:cNvSpPr/>
              <p:nvPr/>
            </p:nvSpPr>
            <p:spPr>
              <a:xfrm>
                <a:off x="7740720" y="393372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9"/>
              <p:cNvSpPr/>
              <p:nvPr/>
            </p:nvSpPr>
            <p:spPr>
              <a:xfrm>
                <a:off x="7164360" y="3933720"/>
                <a:ext cx="43200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30"/>
              <p:cNvSpPr/>
              <p:nvPr/>
            </p:nvSpPr>
            <p:spPr>
              <a:xfrm>
                <a:off x="7740720" y="3357720"/>
                <a:ext cx="43164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31"/>
              <p:cNvSpPr/>
              <p:nvPr/>
            </p:nvSpPr>
            <p:spPr>
              <a:xfrm>
                <a:off x="7164360" y="3357720"/>
                <a:ext cx="43200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6"/>
              <p:cNvSpPr/>
              <p:nvPr/>
            </p:nvSpPr>
            <p:spPr>
              <a:xfrm>
                <a:off x="7524720" y="2060640"/>
                <a:ext cx="432000" cy="431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52"/>
            <p:cNvSpPr/>
            <p:nvPr/>
          </p:nvSpPr>
          <p:spPr>
            <a:xfrm>
              <a:off x="7237800" y="27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3"/>
            <p:cNvSpPr/>
            <p:nvPr/>
          </p:nvSpPr>
          <p:spPr>
            <a:xfrm>
              <a:off x="7814160" y="335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4"/>
            <p:cNvSpPr/>
            <p:nvPr/>
          </p:nvSpPr>
          <p:spPr>
            <a:xfrm>
              <a:off x="7237800" y="39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8"/>
            <p:cNvSpPr/>
            <p:nvPr/>
          </p:nvSpPr>
          <p:spPr>
            <a:xfrm>
              <a:off x="7596360" y="2060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5"/>
          <p:cNvSpPr/>
          <p:nvPr/>
        </p:nvSpPr>
        <p:spPr>
          <a:xfrm>
            <a:off x="1763640" y="494172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6"/>
          <p:cNvSpPr/>
          <p:nvPr/>
        </p:nvSpPr>
        <p:spPr>
          <a:xfrm>
            <a:off x="169416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7"/>
          <p:cNvSpPr/>
          <p:nvPr/>
        </p:nvSpPr>
        <p:spPr>
          <a:xfrm>
            <a:off x="161928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8"/>
          <p:cNvSpPr/>
          <p:nvPr/>
        </p:nvSpPr>
        <p:spPr>
          <a:xfrm>
            <a:off x="3132000" y="465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9"/>
          <p:cNvSpPr/>
          <p:nvPr/>
        </p:nvSpPr>
        <p:spPr>
          <a:xfrm>
            <a:off x="370836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0"/>
          <p:cNvSpPr/>
          <p:nvPr/>
        </p:nvSpPr>
        <p:spPr>
          <a:xfrm>
            <a:off x="3132000" y="3500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1"/>
          <p:cNvSpPr/>
          <p:nvPr/>
        </p:nvSpPr>
        <p:spPr>
          <a:xfrm>
            <a:off x="3708360" y="28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2"/>
          <p:cNvSpPr/>
          <p:nvPr/>
        </p:nvSpPr>
        <p:spPr>
          <a:xfrm>
            <a:off x="5508720" y="47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3"/>
          <p:cNvSpPr/>
          <p:nvPr/>
        </p:nvSpPr>
        <p:spPr>
          <a:xfrm>
            <a:off x="781200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"/>
          <p:cNvSpPr/>
          <p:nvPr/>
        </p:nvSpPr>
        <p:spPr>
          <a:xfrm>
            <a:off x="723600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812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d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2615400" y="204840"/>
            <a:ext cx="283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Физминут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979640" y="836640"/>
            <a:ext cx="532908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На болоте две подруж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Две зелёные лягу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Утром рано умы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олотенцем растиралис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Ножками топа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учками хло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право, влево наклоня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И обратно возвраща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от здоровья в чём секр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сем друзьям физкульт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7236000" y="4941720"/>
            <a:ext cx="165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Соедини выражение с числом, которому оно равно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+1        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1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3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+3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+2                   4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0" y="2746440"/>
            <a:ext cx="403848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/>
          <p:cNvSpPr/>
          <p:nvPr/>
        </p:nvSpPr>
        <p:spPr>
          <a:xfrm>
            <a:off x="1332000" y="206064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"/>
          <p:cNvSpPr/>
          <p:nvPr/>
        </p:nvSpPr>
        <p:spPr>
          <a:xfrm>
            <a:off x="1332000" y="292428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8"/>
          <p:cNvSpPr/>
          <p:nvPr/>
        </p:nvSpPr>
        <p:spPr>
          <a:xfrm>
            <a:off x="1332000" y="3860640"/>
            <a:ext cx="28872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9"/>
          <p:cNvSpPr/>
          <p:nvPr/>
        </p:nvSpPr>
        <p:spPr>
          <a:xfrm>
            <a:off x="1332000" y="486900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1332000" y="587700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2627280" y="1989000"/>
            <a:ext cx="28908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"/>
          <p:cNvSpPr/>
          <p:nvPr/>
        </p:nvSpPr>
        <p:spPr>
          <a:xfrm>
            <a:off x="2627280" y="292428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3"/>
          <p:cNvSpPr/>
          <p:nvPr/>
        </p:nvSpPr>
        <p:spPr>
          <a:xfrm>
            <a:off x="2700360" y="3860640"/>
            <a:ext cx="28908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4"/>
          <p:cNvSpPr/>
          <p:nvPr/>
        </p:nvSpPr>
        <p:spPr>
          <a:xfrm>
            <a:off x="2700360" y="486900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5"/>
          <p:cNvSpPr/>
          <p:nvPr/>
        </p:nvSpPr>
        <p:spPr>
          <a:xfrm>
            <a:off x="2700360" y="587700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1619280" y="220500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 flipV="1">
            <a:off x="1619280" y="227664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1619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0"/>
          <p:cNvSpPr/>
          <p:nvPr/>
        </p:nvSpPr>
        <p:spPr>
          <a:xfrm>
            <a:off x="1692360" y="501336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 flipV="1">
            <a:off x="1619280" y="4149360"/>
            <a:ext cx="1081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7215120" y="270828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5"/>
          <p:cNvSpPr/>
          <p:nvPr/>
        </p:nvSpPr>
        <p:spPr>
          <a:xfrm>
            <a:off x="6372360" y="558972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5940360" y="1916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+1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6012000" y="2708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1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5867280" y="3645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3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0"/>
          <p:cNvSpPr/>
          <p:nvPr/>
        </p:nvSpPr>
        <p:spPr>
          <a:xfrm>
            <a:off x="5796000" y="450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+3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1"/>
          <p:cNvSpPr/>
          <p:nvPr/>
        </p:nvSpPr>
        <p:spPr>
          <a:xfrm>
            <a:off x="6084720" y="551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+2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2" descr="ть"/>
          <p:cNvPicPr/>
          <p:nvPr/>
        </p:nvPicPr>
        <p:blipFill>
          <a:blip r:embed="rId1"/>
          <a:stretch/>
        </p:blipFill>
        <p:spPr>
          <a:xfrm>
            <a:off x="4140360" y="2637000"/>
            <a:ext cx="1663560" cy="2303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3" descr="лд"/>
          <p:cNvPicPr/>
          <p:nvPr/>
        </p:nvPicPr>
        <p:blipFill>
          <a:blip r:embed="rId2"/>
          <a:stretch/>
        </p:blipFill>
        <p:spPr>
          <a:xfrm>
            <a:off x="4140360" y="2637000"/>
            <a:ext cx="1655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109486505"/>
          <p:cNvPicPr/>
          <p:nvPr/>
        </p:nvPicPr>
        <p:blipFill>
          <a:blip r:embed="rId1"/>
          <a:stretch/>
        </p:blipFill>
        <p:spPr>
          <a:xfrm>
            <a:off x="971640" y="735120"/>
            <a:ext cx="734544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7:43:22Z</dcterms:created>
  <dc:creator>Илья</dc:creator>
  <dc:description/>
  <dc:language>en-US</dc:language>
  <cp:lastModifiedBy>Учитель</cp:lastModifiedBy>
  <dcterms:modified xsi:type="dcterms:W3CDTF">2020-11-23T07:03:07Z</dcterms:modified>
  <cp:revision>25</cp:revision>
  <dc:subject/>
  <dc:title>Назови сосед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70000000000010243100207f6000400038000</vt:lpwstr>
  </property>
</Properties>
</file>