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wind.wav" ContentType="audio/x-wav"/>
  <Override PartName="/ppt/media/image16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applause.wav" ContentType="audio/x-wav"/>
  <Override PartName="/ppt/media/image10.png" ContentType="image/png"/>
  <Override PartName="/ppt/media/image18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44F4-52CB-45E4-B9ED-3E0DE825C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95DE-73E0-4B08-A69E-9E3C51F905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81FB-68FE-4AF6-A09E-64A43E55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93EF-CF28-4F33-B25A-26DD5533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F1D8-BBF1-4A5F-89F7-D13AC6ED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684E-FCA1-4316-B951-E5BA9C04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19FB-FEE8-4F7A-A6A9-FCC97CDC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0B95-C6B6-4A03-94CE-1354F96D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85BB-D776-4A19-8AF2-DE26E9C9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C6E2-B123-4579-908F-CC09AD58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D54E-EAF5-447C-9149-85B4BD23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9C60-5FB3-482E-8FF9-950DDB69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1BA0-8BB1-4521-86E7-5FFDBD47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6747-DE38-492E-8E22-4AC058EA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068E-D32E-4447-B40B-D6CE3488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836A-4BAE-4D5D-A5F1-6E25749C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F2AB-3417-42A7-89FE-E2D9405D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DF48-F889-44A0-A0A9-538564F2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C454-E6E3-4FCD-8AD8-D0E68D8C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4A0D-95EA-4119-81F7-2AA35678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280E-8525-418D-A85D-85F3C1ED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5B94-82C0-4CA3-A61E-AA191530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D58C-05DA-4698-84D2-836328DC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CC97-94DA-4553-A8F2-CF3ED75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DF75-38BC-4AFE-A1CF-5708FCAA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4F7E-7291-40BB-ABEF-35BB3AE7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A7E5-DD63-4ED0-833B-03A910F26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8329-233C-4362-A70E-16ACB7F20F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AA57-A897-47A3-91B1-51F8604AFF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16" descr="57258"/>
          <p:cNvPicPr/>
          <p:nvPr/>
        </p:nvPicPr>
        <p:blipFill>
          <a:blip r:embed="rId1"/>
          <a:stretch/>
        </p:blipFill>
        <p:spPr>
          <a:xfrm>
            <a:off x="838080" y="838080"/>
            <a:ext cx="3505320" cy="2138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45"/>
          <p:cNvPicPr/>
          <p:nvPr/>
        </p:nvPicPr>
        <p:blipFill>
          <a:blip r:embed="rId2"/>
          <a:stretch/>
        </p:blipFill>
        <p:spPr>
          <a:xfrm>
            <a:off x="3962520" y="1066680"/>
            <a:ext cx="3504960" cy="2632320"/>
          </a:xfrm>
          <a:prstGeom prst="rect">
            <a:avLst/>
          </a:prstGeom>
          <a:ln w="0">
            <a:noFill/>
          </a:ln>
        </p:spPr>
      </p:pic>
      <p:grpSp>
        <p:nvGrpSpPr>
          <p:cNvPr id="110" name="Rectangle 23"/>
          <p:cNvGrpSpPr/>
          <p:nvPr/>
        </p:nvGrpSpPr>
        <p:grpSpPr>
          <a:xfrm>
            <a:off x="1365120" y="4035600"/>
            <a:ext cx="7255080" cy="469800"/>
            <a:chOff x="1365120" y="4035600"/>
            <a:chExt cx="7255080" cy="469800"/>
          </a:xfrm>
        </p:grpSpPr>
        <p:pic>
          <p:nvPicPr>
            <p:cNvPr id="111" name="Rectangle 23" descr=""/>
            <p:cNvPicPr/>
            <p:nvPr/>
          </p:nvPicPr>
          <p:blipFill>
            <a:blip r:embed="rId3"/>
            <a:stretch/>
          </p:blipFill>
          <p:spPr>
            <a:xfrm>
              <a:off x="1365120" y="4035600"/>
              <a:ext cx="72550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371600" y="4038480"/>
              <a:ext cx="723888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3" name="WordArt 20"/>
          <p:cNvSpPr txBox="1"/>
          <p:nvPr/>
        </p:nvSpPr>
        <p:spPr>
          <a:xfrm>
            <a:off x="2438280" y="5486400"/>
            <a:ext cx="54104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00ff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йкал - уникальное озеро.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00ff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D1AE-34C1-4E63-BBDF-80A7555351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Как ещё называют Байкал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"Океан-морем большим" называли бескрайнее озеро впервые увидевшие его русские казаки-землепроходцы XVII ве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57200" y="5670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533520" y="2895480"/>
            <a:ext cx="39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 прихода русских здесь уже много веков жили разные народы. И все они давали огромному водоему величественные имена. Китайцы в древних хрониках именовали его "Тенгис", "Тенгис-далай", бурят-монголы - "Байгаал-далай" - "большой водоем". Монголы, называли его Далайнор - "Великое озеро", а эвенки - Лама, что значит "Море"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13" descr="09"/>
          <p:cNvPicPr/>
          <p:nvPr/>
        </p:nvPicPr>
        <p:blipFill>
          <a:blip r:embed="rId1"/>
          <a:stretch/>
        </p:blipFill>
        <p:spPr>
          <a:xfrm>
            <a:off x="5334120" y="1600200"/>
            <a:ext cx="35812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A0C4-02B3-498B-B5C4-82AA2FF2EF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Возраст Байкала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айкал - одно из древнейших озер планеты, его возраст ученые определяют в 25 - 30 млн. лет. Большинство озер, особенно ледникового и старичного происхождения, живут 10-15 тыс. лет, а затем заполняются осадками и исчезают с лица Земли. На Байкале нет никаких признаков старения, как у многих озер мира. Наоборот, исследования последних лет позволили геофизикам высказать гипотезу о том, что Байкал является зарождающимся океан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9" descr="6930"/>
          <p:cNvPicPr/>
          <p:nvPr/>
        </p:nvPicPr>
        <p:blipFill>
          <a:blip r:embed="rId1"/>
          <a:stretch/>
        </p:blipFill>
        <p:spPr>
          <a:xfrm>
            <a:off x="5486400" y="1371600"/>
            <a:ext cx="3429000" cy="492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3D83-8C2F-4F78-B258-D3947DFCCA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Глубина Байкала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реди озер земного шара озеро Байкал занимает первое место по глубине (1637 м). На Земле только 6 озер имеют глубину более 500 м. Впадина озера Байкал в морфологическом отношении представляет три самостоятельных котловины - Южную с наибольшей отметкой глубины 1430 м, Среднюю (1637 м) и Северную (920 м). Впадина Байкала асимметрична. Западная ее сторона отличается крутым подводным склоном (40-50( крутизны), восточная - более полог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7" descr="ng1"/>
          <p:cNvPicPr/>
          <p:nvPr/>
        </p:nvPicPr>
        <p:blipFill>
          <a:blip r:embed="rId1"/>
          <a:stretch/>
        </p:blipFill>
        <p:spPr>
          <a:xfrm>
            <a:off x="5105520" y="1447920"/>
            <a:ext cx="373356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1C33-6206-4DF8-8687-7C1F09DC60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e3aa"/>
                </a:solidFill>
                <a:latin typeface="Garamond"/>
              </a:rPr>
              <a:t>Запасы пресной воды в Байкале.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айкал - самое крупное хранилище пресной воды на планете (23 тыс. км3), что превышает объем воды, содержащийся в пяти Великих озерах Северной Америки - Верхнее, Мичиган, Гурон, Эри, Онтарио вместе взятых, или в 2 раза больше, чем в озере Танганьика. В котловине Байкала сосредоточено около 20% мировых запасов пресных озерных вод планеты (исключая ледники, снежники и льды, где вода находится в твердом состоянии)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7" descr="ng"/>
          <p:cNvPicPr/>
          <p:nvPr/>
        </p:nvPicPr>
        <p:blipFill>
          <a:blip r:embed="rId1"/>
          <a:stretch/>
        </p:blipFill>
        <p:spPr>
          <a:xfrm>
            <a:off x="4952880" y="1295280"/>
            <a:ext cx="3581640" cy="4830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5CE6-0683-4F4C-8E46-A819F9917F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Фауна Байкала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озере насчитывается 58 видов рыб. Наиболее известные - омуль, сиг, хариус, таймень, байкальский осетр, голомянка, ленок. Знаменитый омуль - уникальная и чисто байкальская рыба. Трудно найти в рыбной гастрономии блюдо вкуснее, чем свежезасоленный, тающий во рту байкальский омул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9" descr="955410490"/>
          <p:cNvPicPr/>
          <p:nvPr/>
        </p:nvPicPr>
        <p:blipFill>
          <a:blip r:embed="rId1"/>
          <a:stretch/>
        </p:blipFill>
        <p:spPr>
          <a:xfrm>
            <a:off x="5257800" y="1905120"/>
            <a:ext cx="331488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107-C2F7-4AC8-92D6-72156E681B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Фауна Байкала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Байкале встречается уникальное, типично морское млекопитающее - байкальская нерпа. Нерпа - это символ Байкала, единственный в мире тюлень, который живет в пресной воде. Распространена нерпа по всему Байкалу, но особенно широко в северной и центральной его частях. Нерпа любопытна и иногда подплывает к дрейфующим судам с заглушенным двигателем и длительное время находится рядом, постоянно выныривая из вод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10" descr="007-d182d18ed0bbd0b5d0bdd18c"/>
          <p:cNvPicPr/>
          <p:nvPr/>
        </p:nvPicPr>
        <p:blipFill>
          <a:blip r:embed="rId1"/>
          <a:stretch/>
        </p:blipFill>
        <p:spPr>
          <a:xfrm>
            <a:off x="5029200" y="2133720"/>
            <a:ext cx="3352680" cy="2368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Спасибо всем за внимание!</a:t>
            </a:r>
            <a:br>
              <a:rPr sz="4400"/>
            </a:b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A043-752B-415C-804E-4816F3DA43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9" descr="C:\Users\ВЛАД\Desktop\baykal2.jpg"/>
          <p:cNvPicPr/>
          <p:nvPr/>
        </p:nvPicPr>
        <p:blipFill>
          <a:blip r:embed="rId1"/>
          <a:stretch/>
        </p:blipFill>
        <p:spPr>
          <a:xfrm rot="20899200">
            <a:off x="1009440" y="4405320"/>
            <a:ext cx="307656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C:\Users\ВЛАД\Desktop\9e104f4bd782afb02f7e32f6bb4.jpg"/>
          <p:cNvPicPr/>
          <p:nvPr/>
        </p:nvPicPr>
        <p:blipFill>
          <a:blip r:embed="rId2"/>
          <a:stretch/>
        </p:blipFill>
        <p:spPr>
          <a:xfrm>
            <a:off x="5486400" y="4419720"/>
            <a:ext cx="3279600" cy="2120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C:\Users\ВЛАД\Desktop\baykal_4.jpg"/>
          <p:cNvPicPr/>
          <p:nvPr/>
        </p:nvPicPr>
        <p:blipFill>
          <a:blip r:embed="rId3"/>
          <a:stretch/>
        </p:blipFill>
        <p:spPr>
          <a:xfrm>
            <a:off x="5105520" y="1600200"/>
            <a:ext cx="3617640" cy="2303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C:\Users\ВЛАД\Desktop\1281571126_21.jpg"/>
          <p:cNvPicPr/>
          <p:nvPr/>
        </p:nvPicPr>
        <p:blipFill>
          <a:blip r:embed="rId4"/>
          <a:stretch/>
        </p:blipFill>
        <p:spPr>
          <a:xfrm>
            <a:off x="609480" y="990720"/>
            <a:ext cx="3137040" cy="2365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B66A-17C5-4700-A399-F704AB2FB5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Неповторимый и сказочный Байкал!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т в мире другого столь прославленного озера, как озеро Байкал. Он неповторим и сказочен. Громадная величина и глубина этого озера, удивительная чистота и прозрачность его изумрудно-зеленоватых вод, суровая красота берегов производят неизгладимое впечатле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9" descr="0_21f28_d7a9aa93_XL"/>
          <p:cNvPicPr/>
          <p:nvPr/>
        </p:nvPicPr>
        <p:blipFill>
          <a:blip r:embed="rId1"/>
          <a:stretch/>
        </p:blipFill>
        <p:spPr>
          <a:xfrm>
            <a:off x="4648320" y="1447920"/>
            <a:ext cx="3959280" cy="4695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018C-AA01-4F92-833C-BC5E948F08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айкалу нет равных в мире по возрасту, глубине, запасам и свойствам пресной воды, многообразию и эндемизму органической жизни. С древних времен его называют священным морем, славным, седым и грозны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9" descr="60728064-5d53-49cd-9197-5815ea22c7cd"/>
          <p:cNvPicPr/>
          <p:nvPr/>
        </p:nvPicPr>
        <p:blipFill>
          <a:blip r:embed="rId1"/>
          <a:stretch/>
        </p:blipFill>
        <p:spPr>
          <a:xfrm>
            <a:off x="5105520" y="762120"/>
            <a:ext cx="340020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14C8-D802-4470-8FF4-5A6635D9CD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Местоположения Байкал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зеро Байкал находится на юге Восточной Сибири на границе Иркутской области и Бурятии, оно расположено среди бескрайних снежных просторов, где сохранилась первозданная природа, уникальная вода и животный мир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olkhon"/>
          <p:cNvPicPr/>
          <p:nvPr/>
        </p:nvPicPr>
        <p:blipFill>
          <a:blip r:embed="rId1"/>
          <a:stretch/>
        </p:blipFill>
        <p:spPr>
          <a:xfrm>
            <a:off x="4800600" y="1600200"/>
            <a:ext cx="4038480" cy="4073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FAB2-22A0-4BF0-B68A-FB96E027D7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 всех сторон Байкал окружен горами, большая часть которых в первой половине лета покрыта снегом. Окружающие Байкал горы расчленены глубоко врезанными долинами. Горы то круто обрываются к водной поверхности, то отступают от нее на небольшое расстоя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7" descr="Байкал4"/>
          <p:cNvPicPr/>
          <p:nvPr/>
        </p:nvPicPr>
        <p:blipFill>
          <a:blip r:embed="rId1"/>
          <a:stretch/>
        </p:blipFill>
        <p:spPr>
          <a:xfrm>
            <a:off x="4952880" y="1600200"/>
            <a:ext cx="32529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1C4B-1243-43E3-A1BE-FAE27595E2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Сколько в Байкале воды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айкал вмещает в себя в 4 раза больше воды, чем Балтийское море, и хранит 20% мировых запасов пресной воды. Это самое глубокое в мире озеро, обладающее уникальными особенностями, и самое крупное водохранилище пресной воды на планет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9" descr="0_c96_cf240f7f_XL"/>
          <p:cNvPicPr/>
          <p:nvPr/>
        </p:nvPicPr>
        <p:blipFill>
          <a:blip r:embed="rId1"/>
          <a:stretch/>
        </p:blipFill>
        <p:spPr>
          <a:xfrm>
            <a:off x="4952880" y="1828800"/>
            <a:ext cx="3733920" cy="3473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FEB8-2147-40D2-A848-57B82768C4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4" descr="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7"/>
          <p:cNvSpPr txBox="1"/>
          <p:nvPr/>
        </p:nvSpPr>
        <p:spPr>
          <a:xfrm>
            <a:off x="0" y="457200"/>
            <a:ext cx="80773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тория происхождения - Байк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0A68-ECEA-4793-91EC-5776ED692F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ервая карта Байкала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7" name="img_2" descr="64933901"/>
          <p:cNvPicPr/>
          <p:nvPr/>
        </p:nvPicPr>
        <p:blipFill>
          <a:blip r:embed="rId1"/>
          <a:stretch/>
        </p:blipFill>
        <p:spPr>
          <a:xfrm>
            <a:off x="2190600" y="2100240"/>
            <a:ext cx="4762800" cy="352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E452-1A71-4133-BCF0-29C0DFAFE3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роисхождение названия оз.Байкал!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исхождение названия "Байкал" точно не установлено. Наиболее распространена версия, что "Байкал" - слово тюркоязычное, происходит от "бай" - богатый, "куль" - озеро, что значит "богатое озеро"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147"/>
          <p:cNvPicPr/>
          <p:nvPr/>
        </p:nvPicPr>
        <p:blipFill>
          <a:blip r:embed="rId1"/>
          <a:stretch/>
        </p:blipFill>
        <p:spPr>
          <a:xfrm>
            <a:off x="4952880" y="1523880"/>
            <a:ext cx="3733920" cy="431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</cp:lastModifiedBy>
  <dcterms:modified xsi:type="dcterms:W3CDTF">2012-03-04T16:01:5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