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wind.wav" ContentType="audio/x-wav"/>
  <Override PartName="/ppt/media/image16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applause.wav" ContentType="audio/x-wav"/>
  <Override PartName="/ppt/media/image10.png" ContentType="image/png"/>
  <Override PartName="/ppt/media/image18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B771-4474-40BF-BB76-21C38A227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B43A-FA4F-422A-ABE5-EED2887ECC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3EA6-BA0E-47A9-B3F1-546E7174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1899-CC8F-4828-83AD-F4EB5342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C066-E893-41FC-A89F-014F7B4A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BA44-C3AC-42BE-AD54-1752C077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4870-4083-4B6B-8916-0F206743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65D3-932C-4C87-8CE7-0C88CE29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32D6-D3B9-4DD0-9A7D-639DD7D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E9E0-FDE4-4EF6-B9EF-F3CBA152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66E8-2CB6-401B-9CB0-F651C969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C054-88E6-4028-92F5-4E25D84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7762-0CE5-4091-851F-AA18DF3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ED5FB-F297-41B7-A15F-AF10AEAC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4311-5D75-4ACD-8330-12C2759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94B5-50D1-4259-9E82-EE0B105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6EFA-1408-43F6-A18E-4FA6CD8A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7894-C2E6-44C0-BB2E-FEF2D40C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82B4-20CE-49C6-95B4-8EC0D1A2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88A2-4774-4577-A597-5BBA0C16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910C-E719-411F-AC49-8C1F1070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8C71-570F-45CC-B4B8-950DFD3E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4875-535C-47CE-AD63-46EE4EDA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9866-374E-4B20-9FAC-7690041D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06DC-E2EA-48DA-A2D8-A3759428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9213-28C6-4F2C-9251-C6F68ED1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C552-F1A8-418B-8781-BBAB0787A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C4A9-25B4-4111-9924-2DBF72D598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74E-206C-4D61-B84C-A985CD1AF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16" descr="57258"/>
          <p:cNvPicPr/>
          <p:nvPr/>
        </p:nvPicPr>
        <p:blipFill>
          <a:blip r:embed="rId1"/>
          <a:stretch/>
        </p:blipFill>
        <p:spPr>
          <a:xfrm>
            <a:off x="838080" y="838080"/>
            <a:ext cx="3505320" cy="2138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45"/>
          <p:cNvPicPr/>
          <p:nvPr/>
        </p:nvPicPr>
        <p:blipFill>
          <a:blip r:embed="rId2"/>
          <a:stretch/>
        </p:blipFill>
        <p:spPr>
          <a:xfrm>
            <a:off x="3962520" y="1066680"/>
            <a:ext cx="3504960" cy="2632320"/>
          </a:xfrm>
          <a:prstGeom prst="rect">
            <a:avLst/>
          </a:prstGeom>
          <a:ln w="0">
            <a:noFill/>
          </a:ln>
        </p:spPr>
      </p:pic>
      <p:grpSp>
        <p:nvGrpSpPr>
          <p:cNvPr id="110" name="Rectangle 23"/>
          <p:cNvGrpSpPr/>
          <p:nvPr/>
        </p:nvGrpSpPr>
        <p:grpSpPr>
          <a:xfrm>
            <a:off x="1365120" y="4035600"/>
            <a:ext cx="7255080" cy="469800"/>
            <a:chOff x="1365120" y="4035600"/>
            <a:chExt cx="7255080" cy="469800"/>
          </a:xfrm>
        </p:grpSpPr>
        <p:pic>
          <p:nvPicPr>
            <p:cNvPr id="111" name="Rectangle 23" descr=""/>
            <p:cNvPicPr/>
            <p:nvPr/>
          </p:nvPicPr>
          <p:blipFill>
            <a:blip r:embed="rId3"/>
            <a:stretch/>
          </p:blipFill>
          <p:spPr>
            <a:xfrm>
              <a:off x="1365120" y="4035600"/>
              <a:ext cx="72550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71600" y="4038480"/>
              <a:ext cx="723888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3" name="WordArt 20"/>
          <p:cNvSpPr txBox="1"/>
          <p:nvPr/>
        </p:nvSpPr>
        <p:spPr>
          <a:xfrm>
            <a:off x="2438280" y="5486400"/>
            <a:ext cx="5410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00ff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йкал - уникальное озеро.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00ff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75B5-EE34-44B3-B8AB-1A455F8C42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ак ещё называют Байкал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"Океан-морем большим" называли бескрайнее озеро впервые увидевшие его русские казаки-землепроходцы XVII ве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57200" y="5670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33520" y="289548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 прихода русских здесь уже много веков жили разные народы. И все они давали огромному водоему величественные имена. Китайцы в древних хрониках именовали его "Тенгис", "Тенгис-далай", бурят-монголы - "Байгаал-далай" - "большой водоем". Монголы, называли его Далайнор - "Великое озеро", а эвенки - Лама, что значит "Море"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13" descr="09"/>
          <p:cNvPicPr/>
          <p:nvPr/>
        </p:nvPicPr>
        <p:blipFill>
          <a:blip r:embed="rId1"/>
          <a:stretch/>
        </p:blipFill>
        <p:spPr>
          <a:xfrm>
            <a:off x="5334120" y="1600200"/>
            <a:ext cx="35812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A208-3146-4E2A-B306-E68B2CEEA8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Возраст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йкал - одно из древнейших озер планеты, его возраст ученые определяют в 25 - 30 млн. лет. Большинство озер, особенно ледникового и старичного происхождения, живут 10-15 тыс. лет, а затем заполняются осадками и исчезают с лица Земли. На Байкале нет никаких признаков старения, как у многих озер мира. Наоборот, исследования последних лет позволили геофизикам высказать гипотезу о том, что Байкал является зарождающимся океан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9" descr="6930"/>
          <p:cNvPicPr/>
          <p:nvPr/>
        </p:nvPicPr>
        <p:blipFill>
          <a:blip r:embed="rId1"/>
          <a:stretch/>
        </p:blipFill>
        <p:spPr>
          <a:xfrm>
            <a:off x="5486400" y="1371600"/>
            <a:ext cx="3429000" cy="492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5002-F010-427F-A78A-4639459015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Глубин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реди озер земного шара озеро Байкал занимает первое место по глубине (1637 м). На Земле только 6 озер имеют глубину более 500 м. Впадина озера Байкал в морфологическом отношении представляет три самостоятельных котловины - Южную с наибольшей отметкой глубины 1430 м, Среднюю (1637 м) и Северную (920 м). Впадина Байкала асимметрична. Западная ее сторона отличается крутым подводным склоном (40-50( крутизны), восточная - более полог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7" descr="ng1"/>
          <p:cNvPicPr/>
          <p:nvPr/>
        </p:nvPicPr>
        <p:blipFill>
          <a:blip r:embed="rId1"/>
          <a:stretch/>
        </p:blipFill>
        <p:spPr>
          <a:xfrm>
            <a:off x="5105520" y="1447920"/>
            <a:ext cx="373356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EC9-657B-4F91-885E-2B24536241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Запасы пресной воды в Байкале.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кал - самое крупное хранилище пресной воды на планете (23 тыс. км3), что превышает объем воды, содержащийся в пяти Великих озерах Северной Америки - Верхнее, Мичиган, Гурон, Эри, Онтарио вместе взятых, или в 2 раза больше, чем в озере Танганьика. В котловине Байкала сосредоточено около 20% мировых запасов пресных озерных вод планеты (исключая ледники, снежники и льды, где вода находится в твердом состоянии)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7" descr="ng"/>
          <p:cNvPicPr/>
          <p:nvPr/>
        </p:nvPicPr>
        <p:blipFill>
          <a:blip r:embed="rId1"/>
          <a:stretch/>
        </p:blipFill>
        <p:spPr>
          <a:xfrm>
            <a:off x="4952880" y="1295280"/>
            <a:ext cx="3581640" cy="4830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A81D-0670-4968-BFD0-2F36128950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Фаун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озере насчитывается 58 видов рыб. Наиболее известные - омуль, сиг, хариус, таймень, байкальский осетр, голомянка, ленок. Знаменитый омуль - уникальная и чисто байкальская рыба. Трудно найти в рыбной гастрономии блюдо вкуснее, чем свежезасоленный, тающий во рту байкальский омул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9" descr="955410490"/>
          <p:cNvPicPr/>
          <p:nvPr/>
        </p:nvPicPr>
        <p:blipFill>
          <a:blip r:embed="rId1"/>
          <a:stretch/>
        </p:blipFill>
        <p:spPr>
          <a:xfrm>
            <a:off x="5257800" y="1905120"/>
            <a:ext cx="331488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785C-BFD3-452A-A9F1-3872678291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Фаун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Байкале встречается уникальное, типично морское млекопитающее - байкальская нерпа. Нерпа - это символ Байкала, единственный в мире тюлень, который живет в пресной воде. Распространена нерпа по всему Байкалу, но особенно широко в северной и центральной его частях. Нерпа любопытна и иногда подплывает к дрейфующим судам с заглушенным двигателем и длительное время находится рядом, постоянно выныривая из вод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10" descr="007-d182d18ed0bbd0b5d0bdd18c"/>
          <p:cNvPicPr/>
          <p:nvPr/>
        </p:nvPicPr>
        <p:blipFill>
          <a:blip r:embed="rId1"/>
          <a:stretch/>
        </p:blipFill>
        <p:spPr>
          <a:xfrm>
            <a:off x="5029200" y="2133720"/>
            <a:ext cx="3352680" cy="236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Спасибо всем за внимание!</a:t>
            </a:r>
            <a:br>
              <a:rPr sz="4400"/>
            </a:b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7532-1A98-4EE6-B0F4-76C6DBE786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9" descr="C:\Users\ВЛАД\Desktop\baykal2.jpg"/>
          <p:cNvPicPr/>
          <p:nvPr/>
        </p:nvPicPr>
        <p:blipFill>
          <a:blip r:embed="rId1"/>
          <a:stretch/>
        </p:blipFill>
        <p:spPr>
          <a:xfrm rot="20899200">
            <a:off x="1009440" y="4405320"/>
            <a:ext cx="307656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C:\Users\ВЛАД\Desktop\9e104f4bd782afb02f7e32f6bb4.jpg"/>
          <p:cNvPicPr/>
          <p:nvPr/>
        </p:nvPicPr>
        <p:blipFill>
          <a:blip r:embed="rId2"/>
          <a:stretch/>
        </p:blipFill>
        <p:spPr>
          <a:xfrm>
            <a:off x="5486400" y="4419720"/>
            <a:ext cx="3279600" cy="2120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C:\Users\ВЛАД\Desktop\baykal_4.jpg"/>
          <p:cNvPicPr/>
          <p:nvPr/>
        </p:nvPicPr>
        <p:blipFill>
          <a:blip r:embed="rId3"/>
          <a:stretch/>
        </p:blipFill>
        <p:spPr>
          <a:xfrm>
            <a:off x="5105520" y="1600200"/>
            <a:ext cx="3617640" cy="2303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Users\ВЛАД\Desktop\1281571126_21.jpg"/>
          <p:cNvPicPr/>
          <p:nvPr/>
        </p:nvPicPr>
        <p:blipFill>
          <a:blip r:embed="rId4"/>
          <a:stretch/>
        </p:blipFill>
        <p:spPr>
          <a:xfrm>
            <a:off x="609480" y="990720"/>
            <a:ext cx="3137040" cy="2365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B556-1E9A-487B-BF4B-1FA3CAE439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Неповторимый и сказочный Байкал!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т в мире другого столь прославленного озера, как озеро Байкал. Он неповторим и сказочен. Громадная величина и глубина этого озера, удивительная чистота и прозрачность его изумрудно-зеленоватых вод, суровая красота берегов производят неизгладимое впечатле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9" descr="0_21f28_d7a9aa93_XL"/>
          <p:cNvPicPr/>
          <p:nvPr/>
        </p:nvPicPr>
        <p:blipFill>
          <a:blip r:embed="rId1"/>
          <a:stretch/>
        </p:blipFill>
        <p:spPr>
          <a:xfrm>
            <a:off x="4648320" y="1447920"/>
            <a:ext cx="3959280" cy="46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402-BC64-4205-AF87-22E3B6359A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айкалу нет равных в мире по возрасту, глубине, запасам и свойствам пресной воды, многообразию и эндемизму органической жизни. С древних времен его называют священным морем, славным, седым и грозны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9" descr="60728064-5d53-49cd-9197-5815ea22c7cd"/>
          <p:cNvPicPr/>
          <p:nvPr/>
        </p:nvPicPr>
        <p:blipFill>
          <a:blip r:embed="rId1"/>
          <a:stretch/>
        </p:blipFill>
        <p:spPr>
          <a:xfrm>
            <a:off x="5105520" y="762120"/>
            <a:ext cx="340020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718F-DE47-4F72-9C55-B4B2B16C7A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Местоположения Байкал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зеро Байкал находится на юге Восточной Сибири на границе Иркутской области и Бурятии, оно расположено среди бескрайних снежных просторов, где сохранилась первозданная природа, уникальная вода и животный мир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olkhon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4073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C0F7-71CD-4031-B74E-D99E811387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 всех сторон Байкал окружен горами, большая часть которых в первой половине лета покрыта снегом. Окружающие Байкал горы расчленены глубоко врезанными долинами. Горы то круто обрываются к водной поверхности, то отступают от нее на небольшое расстоя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Байкал4"/>
          <p:cNvPicPr/>
          <p:nvPr/>
        </p:nvPicPr>
        <p:blipFill>
          <a:blip r:embed="rId1"/>
          <a:stretch/>
        </p:blipFill>
        <p:spPr>
          <a:xfrm>
            <a:off x="4952880" y="1600200"/>
            <a:ext cx="32529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C097-1E4B-4170-B7F9-9AAB6E3B94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Сколько в Байкале воды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йкал вмещает в себя в 4 раза больше воды, чем Балтийское море, и хранит 20% мировых запасов пресной воды. Это самое глубокое в мире озеро, обладающее уникальными особенностями, и самое крупное водохранилище пресной воды на планет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0_c96_cf240f7f_XL"/>
          <p:cNvPicPr/>
          <p:nvPr/>
        </p:nvPicPr>
        <p:blipFill>
          <a:blip r:embed="rId1"/>
          <a:stretch/>
        </p:blipFill>
        <p:spPr>
          <a:xfrm>
            <a:off x="4952880" y="1828800"/>
            <a:ext cx="3733920" cy="3473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854-AAEA-4749-8D5B-E56F050BBD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4" descr="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7"/>
          <p:cNvSpPr txBox="1"/>
          <p:nvPr/>
        </p:nvSpPr>
        <p:spPr>
          <a:xfrm>
            <a:off x="0" y="457200"/>
            <a:ext cx="80773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я происхождения - Байк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A259-F2CC-4638-9893-B3616275A5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ервая карт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7" name="img_2" descr="64933901"/>
          <p:cNvPicPr/>
          <p:nvPr/>
        </p:nvPicPr>
        <p:blipFill>
          <a:blip r:embed="rId1"/>
          <a:stretch/>
        </p:blipFill>
        <p:spPr>
          <a:xfrm>
            <a:off x="2190600" y="2100240"/>
            <a:ext cx="476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E6B4-51EE-412C-BF22-BFFCF3AA03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оисхождение названия оз.Байкал!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исхождение названия "Байкал" точно не установлено. Наиболее распространена версия, что "Байкал" - слово тюркоязычное, происходит от "бай" - богатый, "куль" - озеро, что значит "богатое озеро"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147"/>
          <p:cNvPicPr/>
          <p:nvPr/>
        </p:nvPicPr>
        <p:blipFill>
          <a:blip r:embed="rId1"/>
          <a:stretch/>
        </p:blipFill>
        <p:spPr>
          <a:xfrm>
            <a:off x="4952880" y="1523880"/>
            <a:ext cx="3733920" cy="431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</cp:lastModifiedBy>
  <dcterms:modified xsi:type="dcterms:W3CDTF">2012-03-04T16:01:5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