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40A-D164-4142-BC03-86AFDC14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915-3D16-46DC-ABAE-DEB396B9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3EC-D332-407F-9F23-0C8162CC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F25-7B7C-49AE-9C89-AF290710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78B-D2B7-4C64-8D81-F8C693D6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DD0-D767-42FF-985C-021A5E1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60F-7F67-430F-B4B4-3AFB4144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FBF-558D-45A1-A5EF-3917AD18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CB1-8532-4BA9-8267-E96A3C6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C2F-CADC-4B21-81AE-77B286B8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1CB-40C4-451E-8603-40BBFE1D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970-C256-43CA-BED4-C0D1E3F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E72-0CAD-4AB1-9586-BDCB7B8295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Toys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 -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игруш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0" t="6822" r="0" b="0"/>
          <a:stretch/>
        </p:blipFill>
        <p:spPr>
          <a:xfrm>
            <a:off x="285840" y="3857760"/>
            <a:ext cx="2428920" cy="22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rcRect l="23685" t="0" r="21052" b="0"/>
          <a:stretch/>
        </p:blipFill>
        <p:spPr>
          <a:xfrm>
            <a:off x="7215120" y="357120"/>
            <a:ext cx="150012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rcRect l="20000" t="36680" r="0" b="10005"/>
          <a:stretch/>
        </p:blipFill>
        <p:spPr>
          <a:xfrm>
            <a:off x="3571920" y="1571760"/>
            <a:ext cx="257184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5265" t="0" r="5207" b="5207"/>
          <a:stretch/>
        </p:blipFill>
        <p:spPr>
          <a:xfrm>
            <a:off x="3500280" y="3429000"/>
            <a:ext cx="242892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5"/>
          <a:srcRect l="19453" t="0" r="16622" b="0"/>
          <a:stretch/>
        </p:blipFill>
        <p:spPr>
          <a:xfrm>
            <a:off x="571680" y="928800"/>
            <a:ext cx="1643040" cy="192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6"/>
          <a:srcRect l="27668" t="0" r="31595" b="0"/>
          <a:stretch/>
        </p:blipFill>
        <p:spPr>
          <a:xfrm>
            <a:off x="7072200" y="3500280"/>
            <a:ext cx="1500480" cy="2762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357120" y="2786040"/>
            <a:ext cx="235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ddy 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edi  beə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57120" y="60008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ip [ʃɪp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500280" y="264312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in [treɪn]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3214800" y="592920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l [bɔ:l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6643800" y="264312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ll [dɒl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5857920" y="621180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reshka 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642760"/>
            <a:ext cx="285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3440160" y="114300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eddy b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649320" y="2071800"/>
            <a:ext cx="11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720240" y="292896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do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791520" y="3929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ba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3720600" y="492912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43720" y="2000160"/>
            <a:ext cx="40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5786280" y="3286080"/>
            <a:ext cx="36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1"/>
          <p:cNvCxnSpPr/>
          <p:nvPr/>
        </p:nvCxnSpPr>
        <p:spPr>
          <a:xfrm flipV="1">
            <a:off x="3143160" y="1642320"/>
            <a:ext cx="357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 flipV="1">
            <a:off x="3286080" y="2428200"/>
            <a:ext cx="35784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5"/>
          <p:cNvCxnSpPr/>
          <p:nvPr/>
        </p:nvCxnSpPr>
        <p:spPr>
          <a:xfrm>
            <a:off x="32860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17"/>
          <p:cNvCxnSpPr/>
          <p:nvPr/>
        </p:nvCxnSpPr>
        <p:spPr>
          <a:xfrm>
            <a:off x="3285000" y="3429000"/>
            <a:ext cx="4294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19"/>
          <p:cNvCxnSpPr/>
          <p:nvPr/>
        </p:nvCxnSpPr>
        <p:spPr>
          <a:xfrm>
            <a:off x="3214800" y="3714480"/>
            <a:ext cx="4291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авая фигурная скобка 23"/>
          <p:cNvSpPr/>
          <p:nvPr/>
        </p:nvSpPr>
        <p:spPr>
          <a:xfrm>
            <a:off x="5429160" y="1214280"/>
            <a:ext cx="357120" cy="450072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4500720"/>
              <a:gd name="textAreaBottom" fmla="*/ 4491720 h 45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2"/>
                  <a:pt x="10800" y="143"/>
                </a:cubicBezTo>
                <a:lnTo>
                  <a:pt x="10800" y="10657"/>
                </a:lnTo>
                <a:cubicBezTo>
                  <a:pt x="10800" y="10729"/>
                  <a:pt x="16200" y="10800"/>
                  <a:pt x="21600" y="10800"/>
                </a:cubicBezTo>
                <a:cubicBezTo>
                  <a:pt x="16200" y="10800"/>
                  <a:pt x="10800" y="10872"/>
                  <a:pt x="10800" y="10943"/>
                </a:cubicBezTo>
                <a:lnTo>
                  <a:pt x="10800" y="21457"/>
                </a:lnTo>
                <a:cubicBezTo>
                  <a:pt x="10800" y="215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2628720" cy="1619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929120" y="1428840"/>
            <a:ext cx="2648160" cy="1619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28800" y="3143160"/>
            <a:ext cx="27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r [kɑ:]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429080" y="3143160"/>
            <a:ext cx="39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lane [plein]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57120" y="35712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 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’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le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286080" y="7858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л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500120" y="4071960"/>
            <a:ext cx="650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t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ego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Это л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it is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, it is not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гнутая влево стрелка 9"/>
          <p:cNvSpPr/>
          <p:nvPr/>
        </p:nvSpPr>
        <p:spPr>
          <a:xfrm rot="5400000">
            <a:off x="1918080" y="3439080"/>
            <a:ext cx="442800" cy="993960"/>
          </a:xfrm>
          <a:custGeom>
            <a:avLst/>
            <a:gdLst>
              <a:gd name="textAreaLeft" fmla="*/ 59040 w 442800"/>
              <a:gd name="textAreaRight" fmla="*/ 383760 w 442800"/>
              <a:gd name="textAreaTop" fmla="*/ 207000 h 993960"/>
              <a:gd name="textAreaBottom" fmla="*/ 731880 h 9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95" stAng="-5400000" swAng="-5400000"/>
                <a:lnTo>
                  <a:pt x="0" y="11402"/>
                </a:lnTo>
                <a:arcTo wR="21600" hR="8995" stAng="10800000" swAng="-3492011"/>
                <a:lnTo>
                  <a:pt x="16200" y="21314"/>
                </a:lnTo>
                <a:lnTo>
                  <a:pt x="21600" y="19194"/>
                </a:lnTo>
                <a:lnTo>
                  <a:pt x="16200" y="16501"/>
                </a:lnTo>
                <a:lnTo>
                  <a:pt x="16200" y="17704"/>
                </a:lnTo>
                <a:arcTo wR="21600" hR="8995" stAng="7307989" swAng="3298934"/>
                <a:lnTo>
                  <a:pt x="194" y="10198"/>
                </a:lnTo>
                <a:arcTo wR="21600" hR="8995" stAng="-10606922" swAng="5206922"/>
                <a:close/>
              </a:path>
              <a:path fill="darkenLess" w="21600" h="21600">
                <a:moveTo>
                  <a:pt x="21600" y="0"/>
                </a:moveTo>
                <a:arcTo wR="21600" hR="8995" stAng="-5400000" swAng="-5400000"/>
                <a:lnTo>
                  <a:pt x="0" y="8995"/>
                </a:lnTo>
                <a:arcTo wR="21600" hR="8995" stAng="10800000" swAng="-193078"/>
                <a:lnTo>
                  <a:pt x="194" y="10198"/>
                </a:lnTo>
                <a:arcTo wR="21600" hR="8995" stAng="-10606922" swAng="520692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14200" y="200016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 is no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lego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t’s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le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3571920" y="2286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www.pro-razvitie.ru/upload/video/thumbs/medium/2012/08/06/unit-53-i-me-he-him-ukazatelnye-obektnye-mestoimenija1344229075-501f4ed310878.jpg"/>
          <p:cNvPicPr/>
          <p:nvPr/>
        </p:nvPicPr>
        <p:blipFill>
          <a:blip r:embed="rId1"/>
          <a:srcRect l="15630" t="10415" r="18748" b="16672"/>
          <a:stretch/>
        </p:blipFill>
        <p:spPr>
          <a:xfrm>
            <a:off x="6143760" y="428760"/>
            <a:ext cx="30002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Let’s play!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pla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run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Let’s jump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’s f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03:43:37Z</dcterms:created>
  <dc:creator>Учитель</dc:creator>
  <dc:description/>
  <dc:language>en-US</dc:language>
  <cp:lastModifiedBy>Пользователь Windows</cp:lastModifiedBy>
  <dcterms:modified xsi:type="dcterms:W3CDTF">2018-10-19T17:44:14Z</dcterms:modified>
  <cp:revision>129</cp:revision>
  <dc:subject/>
  <dc:title>-How old are you? Сколько тебе лет? I am 8</dc:title>
</cp:coreProperties>
</file>