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4F7-3B22-4D87-B6AF-4BB5E488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076-5458-423D-BC6D-D444460F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E7A-C735-47DD-8BFE-BA7DDC6B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9F7-303E-4484-BC4A-EEE8F9E8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FF6-FDC3-4403-9C9E-62D0A18B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766-0470-481E-AF6F-4C38C0B9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C5C-8D33-4654-B247-DAB13A08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E8C-B073-493D-AE37-BE152FEE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97D-FC02-4F48-A2DB-9E5990E4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CAE-B192-431C-BB0B-5802B4E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A3C-557A-4BA1-96F2-3E5E481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22C-BE8D-426A-A095-6265D6F4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792-7EED-475F-A516-3D49DF85DB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Toys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 -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игруш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0" t="6822" r="0" b="0"/>
          <a:stretch/>
        </p:blipFill>
        <p:spPr>
          <a:xfrm>
            <a:off x="285840" y="3857760"/>
            <a:ext cx="2428920" cy="22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rcRect l="23685" t="0" r="21052" b="0"/>
          <a:stretch/>
        </p:blipFill>
        <p:spPr>
          <a:xfrm>
            <a:off x="7215120" y="357120"/>
            <a:ext cx="1500120" cy="271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rcRect l="20000" t="36680" r="0" b="10005"/>
          <a:stretch/>
        </p:blipFill>
        <p:spPr>
          <a:xfrm>
            <a:off x="3571920" y="1571760"/>
            <a:ext cx="257184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5265" t="0" r="5207" b="5207"/>
          <a:stretch/>
        </p:blipFill>
        <p:spPr>
          <a:xfrm>
            <a:off x="3500280" y="3429000"/>
            <a:ext cx="242892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5"/>
          <a:srcRect l="19453" t="0" r="16622" b="0"/>
          <a:stretch/>
        </p:blipFill>
        <p:spPr>
          <a:xfrm>
            <a:off x="571680" y="928800"/>
            <a:ext cx="1643040" cy="192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6"/>
          <a:srcRect l="27668" t="0" r="31595" b="0"/>
          <a:stretch/>
        </p:blipFill>
        <p:spPr>
          <a:xfrm>
            <a:off x="7072200" y="3500280"/>
            <a:ext cx="1500480" cy="2762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357120" y="2786040"/>
            <a:ext cx="235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ddy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edi  beə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57120" y="60008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 [ʃɪp]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500280" y="26431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in [treɪn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214800" y="592920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l [bɔ:l]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6643800" y="264312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ll [dɒl]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5857920" y="62118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reshka 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2642760"/>
            <a:ext cx="285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440160" y="114300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teddy b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3649320" y="207180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tr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720240" y="29289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do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791520" y="39290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ba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3720600" y="492912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643720" y="2000160"/>
            <a:ext cx="400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5786280" y="3286080"/>
            <a:ext cx="364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1"/>
          <p:cNvCxnSpPr/>
          <p:nvPr/>
        </p:nvCxnSpPr>
        <p:spPr>
          <a:xfrm flipV="1">
            <a:off x="3143160" y="1642320"/>
            <a:ext cx="3578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 flipV="1">
            <a:off x="3286080" y="2428200"/>
            <a:ext cx="35784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5"/>
          <p:cNvCxnSpPr/>
          <p:nvPr/>
        </p:nvCxnSpPr>
        <p:spPr>
          <a:xfrm>
            <a:off x="32860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17"/>
          <p:cNvCxnSpPr/>
          <p:nvPr/>
        </p:nvCxnSpPr>
        <p:spPr>
          <a:xfrm>
            <a:off x="3285000" y="3429000"/>
            <a:ext cx="4294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19"/>
          <p:cNvCxnSpPr/>
          <p:nvPr/>
        </p:nvCxnSpPr>
        <p:spPr>
          <a:xfrm>
            <a:off x="3214800" y="3714480"/>
            <a:ext cx="4291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равая фигурная скобка 23"/>
          <p:cNvSpPr/>
          <p:nvPr/>
        </p:nvSpPr>
        <p:spPr>
          <a:xfrm>
            <a:off x="5429160" y="1214280"/>
            <a:ext cx="357120" cy="450072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4500720"/>
              <a:gd name="textAreaBottom" fmla="*/ 44917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3"/>
                </a:cubicBezTo>
                <a:lnTo>
                  <a:pt x="10800" y="10657"/>
                </a:lnTo>
                <a:cubicBezTo>
                  <a:pt x="10800" y="10729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3"/>
                </a:cubicBezTo>
                <a:lnTo>
                  <a:pt x="10800" y="21457"/>
                </a:lnTo>
                <a:cubicBezTo>
                  <a:pt x="10800" y="215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2628720" cy="16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929120" y="1428840"/>
            <a:ext cx="264816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928800" y="3143160"/>
            <a:ext cx="27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ar [kɑ:]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429080" y="314316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lane [plein]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57120" y="35712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t i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ego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t’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le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286080" y="7858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л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500120" y="4071960"/>
            <a:ext cx="650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t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ego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о л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, it is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it is not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гнутая влево стрелка 9"/>
          <p:cNvSpPr/>
          <p:nvPr/>
        </p:nvSpPr>
        <p:spPr>
          <a:xfrm rot="5400000">
            <a:off x="1918080" y="3439080"/>
            <a:ext cx="442800" cy="993960"/>
          </a:xfrm>
          <a:custGeom>
            <a:avLst/>
            <a:gdLst>
              <a:gd name="textAreaLeft" fmla="*/ 59040 w 442800"/>
              <a:gd name="textAreaRight" fmla="*/ 383760 w 442800"/>
              <a:gd name="textAreaTop" fmla="*/ 207000 h 993960"/>
              <a:gd name="textAreaBottom" fmla="*/ 731880 h 9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95" stAng="-5400000" swAng="-5400000"/>
                <a:lnTo>
                  <a:pt x="0" y="11402"/>
                </a:lnTo>
                <a:arcTo wR="21600" hR="8995" stAng="10800000" swAng="-3492011"/>
                <a:lnTo>
                  <a:pt x="16200" y="21314"/>
                </a:lnTo>
                <a:lnTo>
                  <a:pt x="21600" y="19194"/>
                </a:lnTo>
                <a:lnTo>
                  <a:pt x="16200" y="16501"/>
                </a:lnTo>
                <a:lnTo>
                  <a:pt x="16200" y="17704"/>
                </a:lnTo>
                <a:arcTo wR="21600" hR="8995" stAng="7307989" swAng="3298934"/>
                <a:lnTo>
                  <a:pt x="194" y="10198"/>
                </a:lnTo>
                <a:arcTo wR="21600" hR="8995" stAng="-10606922" swAng="5206922"/>
                <a:close/>
              </a:path>
              <a:path fill="darkenLess" w="21600" h="21600">
                <a:moveTo>
                  <a:pt x="21600" y="0"/>
                </a:moveTo>
                <a:arcTo wR="21600" hR="8995" stAng="-5400000" swAng="-5400000"/>
                <a:lnTo>
                  <a:pt x="0" y="8995"/>
                </a:lnTo>
                <a:arcTo wR="21600" hR="8995" stAng="10800000" swAng="-193078"/>
                <a:lnTo>
                  <a:pt x="194" y="10198"/>
                </a:lnTo>
                <a:arcTo wR="21600" hR="8995" stAng="-10606922" swAng="520692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14200" y="200016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t is no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ego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t’s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le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3571920" y="2286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://www.pro-razvitie.ru/upload/video/thumbs/medium/2012/08/06/unit-53-i-me-he-him-ukazatelnye-obektnye-mestoimenija1344229075-501f4ed310878.jpg"/>
          <p:cNvPicPr/>
          <p:nvPr/>
        </p:nvPicPr>
        <p:blipFill>
          <a:blip r:embed="rId1"/>
          <a:srcRect l="15630" t="10415" r="18748" b="16672"/>
          <a:stretch/>
        </p:blipFill>
        <p:spPr>
          <a:xfrm>
            <a:off x="6143760" y="428760"/>
            <a:ext cx="300024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Let’s play!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Let’s pl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Let’s ru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Let’s jum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t’s f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8T03:43:37Z</dcterms:created>
  <dc:creator>Учитель</dc:creator>
  <dc:description/>
  <dc:language>en-US</dc:language>
  <cp:lastModifiedBy>Пользователь Windows</cp:lastModifiedBy>
  <dcterms:modified xsi:type="dcterms:W3CDTF">2018-10-19T17:44:14Z</dcterms:modified>
  <cp:revision>129</cp:revision>
  <dc:subject/>
  <dc:title>-How old are you? Сколько тебе лет? I am 8</dc:title>
</cp:coreProperties>
</file>