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EDE6-5396-4E4B-B1E8-AC9D7E59FD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FB66-2DBD-4871-8663-0ADA0E1CF6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C9B4-193C-496C-912F-9DF27ABC00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6664-B32E-4E10-8A3B-E40BAECB61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7789-E99F-4A3F-B926-C5E599F71E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8013-FAF1-43F8-A392-57427D7F39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6574-5B7D-47BD-BEB7-8CC0759E12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4863-B0E3-4997-91CA-3578ABC933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E609-B389-43CB-B2DD-366FC8206F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68AD-BEC0-48FB-888E-331383128F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D76E-42E1-4E4C-A502-1572358DC9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25B5-918B-4117-A0B2-C02F72013C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65A1-6F9E-400B-93E4-4EC92F2155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B00C-58C3-49D5-8C89-5667FF95D3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B623-B3DB-41DB-9A66-B518E9F846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F9E2-25A2-411E-9C89-740D054771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7AEF-38FE-4006-8582-080665616A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1A09-3952-4B4D-93F6-373CC0595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35D4-67CE-4C72-80E9-0DE8A482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CD85-F64E-4C31-BA9B-485A21AE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E15C-2366-4055-BA85-57B865ABD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A376-CDC4-418B-B663-3E3EB33F1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9315-05C4-45F9-A633-2B449CC6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EAAE-0055-4FD2-9503-3C68BC85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70C1-A2C1-4DB3-855A-C2BA4390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B62B-4990-4D0A-940D-E1893127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B65A-6263-43C5-9C6E-604A6FC6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B4AC-2693-440F-AF53-9E65A2F7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D108-BD5E-4A43-8CBA-669F0162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F8EE-A1E7-4248-8C31-F469A187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0752-20DF-4BDC-814D-1E5C0E84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97B0-C016-47BB-8AED-1F1E4D08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A668-E7FB-4E7D-A8A5-E0044221F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A2D1-CD6D-4380-8935-2AF80C563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8F4EE-7C9E-4AA8-B27A-96DC6E210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21BD9-0DCD-4B9F-9605-F9BE90EE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31254-BBBB-43F7-92C2-99046059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91A22-92A3-44A8-B666-C4F2D6F3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563B7-736A-40C9-A96C-27254128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DF7D-4A41-4A21-9196-FB24E3A6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0EFB5-C11B-45F9-8E35-B93C0B10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279DF-9251-4094-94D5-346CFB2B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69B0F-25D7-4B9F-89E8-BB0FCC26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8EA1C-D049-4618-B16F-52F85579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35372-2E26-4A5B-94C7-5C38ECA9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955CF-1FE1-49B6-BCB1-DF4C743D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04FEA-C9B8-4730-B500-79E40CF2A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FD0DE-ED2F-4591-A71F-981DCD651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B2B25-ED54-4A4C-85EC-7AD6059A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52022-C6A4-4235-AA33-C985C837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B21D-3C8D-40E9-9E25-A5446E66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DC6ED-0AFF-4F7D-ADF4-D41F1791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59985-0AB0-4820-8E54-F5BB88C2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AB27D-BB27-4FD5-9945-190D7892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56146-A95F-4619-A875-7A80B687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D519E-2606-4AC1-9AF3-56758F8E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17E24-206C-4C59-B85C-E2F27E93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D58DE-D21A-4B92-AA64-1A99D70A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0C321-0061-4498-A9B1-8521A40A7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79CB7-03D7-4684-82FF-D1896626E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394DE-79EF-436C-88D9-AA339B04F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350D-83DE-45AC-ADE7-0703D281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96C15-0454-46B0-A37F-3EF20D22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90A73-BBCE-4BF4-997E-A174547D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A7C41-77AB-4B6C-9C7D-369C0AB0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7F743-B298-4F90-9E7C-1800871E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855AD-9008-450D-B2A8-C13ECE44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88CEF-4BD8-4FEA-B2D1-BA32DCEB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16341-CE71-4A5E-9D05-B3BD7838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95AAD-48D9-45A2-9F07-0CD17498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03E44-B5EE-4605-A30B-41E4C10C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45A46-F501-41DD-A122-2F716C30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9224-04E5-48F2-9DC3-58B2E4D0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0520C-6AA7-4D95-975C-EE4699927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DBF22-E70F-4D9C-A14D-DD6387724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0209C-442D-473D-B14F-5E9175E0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AB310-1EC9-408D-B5A9-743D8879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3EA8F-B48D-4B1D-A7BA-55BEA359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18945-8F8A-4ADA-8B94-7CA01083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E4667-9DED-4559-A7D7-F5CD6197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E3C01-6E05-4AF2-B463-70F78A1B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5C063-1A15-4A46-A037-1F8B6215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A2446-47E1-4768-98B3-687CDC51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B9F4-8125-41F4-B4DD-42BF51FA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C9F27-536A-4D26-9406-2AF52C0E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C7C6F-5076-4B46-BDA7-CEC9DB5F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F0521-B349-4A04-AA5E-9464F9797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3BCFA-C821-4815-BE0E-CE1B10C70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BC9C0-E183-44DB-ADE9-4DE737EA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050EC-1F60-4C67-A457-09B37BC7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175DC-98BF-4630-B55D-A660FE68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F83ED-CDA4-46A0-B4BE-22B46664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21442-91F3-481C-864C-1B1DC379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D7E56-3D24-4661-BC0D-DE3D71A5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5249-1537-49F8-B085-34716F85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67D63-88A1-4811-A262-EF633CC4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B324F-4CFA-420E-AF14-91F76296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B9783-381D-42DE-A01C-C85014C8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97934-6E31-4808-80DC-4B38A7E5F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D3B52-D7AA-4F1B-A22E-AD6C5D8D1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A050-FA33-4F69-95CE-9E5F2D20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BEE8-3A48-4096-B408-B7B9B7B8F92F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B6A5-E70D-40A1-9D0F-C7CCE2E140DB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A84B-94ED-4CB3-AB96-AA7B8119E13B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A90E-F95F-43F3-9A8B-73E52058B336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9308-6B60-4FE6-981D-77063AB6EA08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2503-4047-4E70-9CE6-845978E9BE0C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22F1-2582-4544-AFCA-2A77C98A66EF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73e87"/>
                </a:solidFill>
                <a:latin typeface="Arial Black"/>
              </a:rPr>
              <a:t>«Быть готовым к школе – не значит уметь читать, писать и считать. Быть готовым к школе – значит быть готовым всему этому научиться».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Arial Black"/>
              </a:rPr>
              <a:t>                               </a:t>
            </a:r>
            <a:r>
              <a:rPr b="1" i="1" lang="ru-RU" sz="2400" spc="-1" strike="noStrike">
                <a:solidFill>
                  <a:srgbClr val="06436b"/>
                </a:solidFill>
                <a:latin typeface="Times New Roman"/>
                <a:ea typeface="Times New Roman"/>
              </a:rPr>
              <a:t>Доктор психологических наук</a:t>
            </a:r>
            <a:br>
              <a:rPr sz="2400"/>
            </a:br>
            <a:r>
              <a:rPr b="1" i="1" lang="ru-RU" sz="2400" spc="-1" strike="noStrike">
                <a:solidFill>
                  <a:srgbClr val="06436b"/>
                </a:solidFill>
                <a:latin typeface="Times New Roman"/>
                <a:ea typeface="Times New Roman"/>
              </a:rPr>
              <a:t>                                         Леонид Абрамович Венгер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Рисунок 2" descr=""/>
          <p:cNvPicPr/>
          <p:nvPr/>
        </p:nvPicPr>
        <p:blipFill>
          <a:blip r:embed="rId1"/>
          <a:stretch/>
        </p:blipFill>
        <p:spPr>
          <a:xfrm>
            <a:off x="826920" y="2104920"/>
            <a:ext cx="3240360" cy="338472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4" descr=""/>
          <p:cNvPicPr/>
          <p:nvPr/>
        </p:nvPicPr>
        <p:blipFill>
          <a:blip r:embed="rId2"/>
          <a:stretch/>
        </p:blipFill>
        <p:spPr>
          <a:xfrm>
            <a:off x="4795920" y="2176560"/>
            <a:ext cx="3600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  <a:ea typeface="Arial"/>
              </a:rPr>
              <a:t>Упражнения на работу со звуками</a:t>
            </a:r>
            <a:r>
              <a:rPr b="1" lang="ru-RU" sz="2800" spc="-1" strike="noStrike">
                <a:solidFill>
                  <a:srgbClr val="0033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9" name="Picture 4" descr="C:\Users\rsa\Desktop\фото багаж\100_2665.JPG"/>
          <p:cNvPicPr/>
          <p:nvPr/>
        </p:nvPicPr>
        <p:blipFill>
          <a:blip r:embed="rId1"/>
          <a:stretch/>
        </p:blipFill>
        <p:spPr>
          <a:xfrm>
            <a:off x="539640" y="1844640"/>
            <a:ext cx="3600720" cy="31226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" descr=""/>
          <p:cNvPicPr/>
          <p:nvPr/>
        </p:nvPicPr>
        <p:blipFill>
          <a:blip r:embed="rId2"/>
          <a:stretch/>
        </p:blipFill>
        <p:spPr>
          <a:xfrm>
            <a:off x="4500720" y="1844640"/>
            <a:ext cx="395892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73080" y="404640"/>
            <a:ext cx="815832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Заголовок 2"/>
          <p:cNvSpPr/>
          <p:nvPr/>
        </p:nvSpPr>
        <p:spPr>
          <a:xfrm>
            <a:off x="968400" y="404640"/>
            <a:ext cx="81579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Заголовок 2"/>
          <p:cNvSpPr/>
          <p:nvPr/>
        </p:nvSpPr>
        <p:spPr>
          <a:xfrm>
            <a:off x="611280" y="404640"/>
            <a:ext cx="81579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84360" y="549000"/>
            <a:ext cx="74088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52e65"/>
                </a:solidFill>
                <a:latin typeface="Arial"/>
                <a:ea typeface="Arial"/>
              </a:rPr>
              <a:t>Дидактическая игра «Договорись глазами» </a:t>
            </a:r>
            <a:r>
              <a:rPr b="0" i="1" lang="ru-RU" sz="2400" spc="-1" strike="noStrike">
                <a:solidFill>
                  <a:srgbClr val="052e65"/>
                </a:solidFill>
                <a:latin typeface="Arial"/>
                <a:ea typeface="Arial"/>
              </a:rPr>
              <a:t>на развитие зрительного восприятия ,внимания, быстроты реакци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5" name="Picture 6" descr="C:\Users\rsa\Desktop\фото багаж\100_2649.JPG"/>
          <p:cNvPicPr/>
          <p:nvPr/>
        </p:nvPicPr>
        <p:blipFill>
          <a:blip r:embed="rId1"/>
          <a:stretch/>
        </p:blipFill>
        <p:spPr>
          <a:xfrm>
            <a:off x="617400" y="2852640"/>
            <a:ext cx="3681720" cy="27622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C:\Users\rsa\Desktop\фото багаж\100_2650.JPG"/>
          <p:cNvPicPr/>
          <p:nvPr/>
        </p:nvPicPr>
        <p:blipFill>
          <a:blip r:embed="rId2"/>
          <a:stretch/>
        </p:blipFill>
        <p:spPr>
          <a:xfrm>
            <a:off x="4946760" y="2852640"/>
            <a:ext cx="36828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2" descr="C:\Users\rsa\Desktop\фото багаж\100_2651.JPG"/>
          <p:cNvPicPr/>
          <p:nvPr/>
        </p:nvPicPr>
        <p:blipFill>
          <a:blip r:embed="rId1"/>
          <a:stretch/>
        </p:blipFill>
        <p:spPr>
          <a:xfrm>
            <a:off x="611280" y="1844640"/>
            <a:ext cx="3875040" cy="2906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3" descr="C:\Users\rsa\Desktop\фото багаж\100_2652.JPG"/>
          <p:cNvPicPr/>
          <p:nvPr/>
        </p:nvPicPr>
        <p:blipFill>
          <a:blip r:embed="rId2"/>
          <a:stretch/>
        </p:blipFill>
        <p:spPr>
          <a:xfrm>
            <a:off x="4772160" y="1844640"/>
            <a:ext cx="377820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826920" y="981000"/>
            <a:ext cx="74534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В настоящее время использование здоровьесберегающих технологий в деятельности</a:t>
            </a:r>
            <a:br>
              <a:rPr sz="2000"/>
            </a:br>
            <a:r>
              <a:rPr b="0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ДОУ, также становятся перспективным средством развивающей работы с детьми. Эти</a:t>
            </a:r>
            <a:br>
              <a:rPr sz="2000"/>
            </a:br>
            <a:r>
              <a:rPr b="0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методы работы принадлежат к числу эффективных средств развития речи все чаще</a:t>
            </a:r>
            <a:br>
              <a:rPr sz="2000"/>
            </a:br>
            <a:r>
              <a:rPr b="0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применяемых в дошкольной педагогике и помогающих достижению максимально</a:t>
            </a:r>
            <a:br>
              <a:rPr sz="2000"/>
            </a:br>
            <a:r>
              <a:rPr b="0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возможных успехов в преодолении не только речевых трудностей, но и общего</a:t>
            </a:r>
            <a:br>
              <a:rPr sz="2000"/>
            </a:br>
            <a:r>
              <a:rPr b="0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оздоровления детей дошкольного возраста. Кроме того, альтернативные методы и</a:t>
            </a:r>
            <a:br>
              <a:rPr sz="2000"/>
            </a:br>
            <a:r>
              <a:rPr b="0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приемы помогают организовывать образовательную деятельность интереснее и разнообразнее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179280" y="115560"/>
            <a:ext cx="86407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Таким образом, возможности здоровьесберегающих технологий содействуют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созданию условий для речевого высказывания и восприятия. Использование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здоровьесберегающих технологий в процессе образовательной деятельности по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развитию речи способствует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повышению речевой активности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развитию речевых умений и навыков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снятию напряжения, восстановлению работоспособности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активизации познавательного интереса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улучшению концентрации внимания, снижению трудности переключения с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одного вида деятельности на другой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укреплению здоровья детей, как ведущего фактора позволяющего,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полноценно усваивать коммуникативные навыки, развивать и активизировать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познавательную активность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Прямоугольник 3"/>
          <p:cNvSpPr/>
          <p:nvPr/>
        </p:nvSpPr>
        <p:spPr>
          <a:xfrm>
            <a:off x="755640" y="476280"/>
            <a:ext cx="727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Для более эффективного речевого развития детей мы активно используем следующие методы и приёмы здоровьесберегающих технолог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95280" y="1708200"/>
            <a:ext cx="835344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пражнения для дыхательной гимнастики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83" name="Рисунок 6" descr=""/>
          <p:cNvPicPr/>
          <p:nvPr/>
        </p:nvPicPr>
        <p:blipFill>
          <a:blip r:embed="rId1"/>
          <a:stretch/>
        </p:blipFill>
        <p:spPr>
          <a:xfrm>
            <a:off x="900000" y="2306520"/>
            <a:ext cx="3240360" cy="352908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8" descr=""/>
          <p:cNvPicPr/>
          <p:nvPr/>
        </p:nvPicPr>
        <p:blipFill>
          <a:blip r:embed="rId2"/>
          <a:stretch/>
        </p:blipFill>
        <p:spPr>
          <a:xfrm>
            <a:off x="4572000" y="2276640"/>
            <a:ext cx="35290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20908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SimSun"/>
              </a:rPr>
              <a:t> </a:t>
            </a: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SimSun"/>
              </a:rPr>
              <a:t>Если мы хотим научить ребёнка говорить красиво и чётко, следует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SimSun"/>
              </a:rPr>
              <a:t>обучить его правильному дыханию. В своей работе мы используем упражнения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SimSun"/>
              </a:rPr>
              <a:t>дыхательной гимнастики, проводим их ежедневно в течение 5 -10 минут, мы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SimSun"/>
              </a:rPr>
              <a:t>используем их как физкультминутки в процессе образовательной деятельности или как его часть, направленную на развитие речевого дыхания, в результате чего возрастает объём и глубина дыхания, сила и выносливость дыхательных мышц, координируются и ритмизируются дыхательные движения, и в целом улучшается функциональная деятельность всех органов и систем организма.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6407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           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4920" y="617400"/>
            <a:ext cx="8302680" cy="795600"/>
          </a:xfrm>
          <a:prstGeom prst="rect">
            <a:avLst/>
          </a:prstGeom>
          <a:noFill/>
          <a:ln w="9360">
            <a:solidFill>
              <a:srgbClr val="31b6f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52e65"/>
                </a:solidFill>
                <a:latin typeface="Calibri"/>
              </a:rPr>
              <a:t>Артикуляционная гимнастика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395280" y="4797360"/>
            <a:ext cx="8302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6e7f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395280" y="5445000"/>
            <a:ext cx="830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6002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Объект 2" descr=""/>
          <p:cNvPicPr/>
          <p:nvPr/>
        </p:nvPicPr>
        <p:blipFill>
          <a:blip r:embed="rId1"/>
          <a:stretch/>
        </p:blipFill>
        <p:spPr>
          <a:xfrm>
            <a:off x="395280" y="2371680"/>
            <a:ext cx="2587680" cy="345132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3" descr=""/>
          <p:cNvPicPr/>
          <p:nvPr/>
        </p:nvPicPr>
        <p:blipFill>
          <a:blip r:embed="rId2"/>
          <a:stretch/>
        </p:blipFill>
        <p:spPr>
          <a:xfrm>
            <a:off x="3098880" y="2386080"/>
            <a:ext cx="2625480" cy="341928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4" descr=""/>
          <p:cNvPicPr/>
          <p:nvPr/>
        </p:nvPicPr>
        <p:blipFill>
          <a:blip r:embed="rId3"/>
          <a:stretch/>
        </p:blipFill>
        <p:spPr>
          <a:xfrm>
            <a:off x="5867280" y="2389320"/>
            <a:ext cx="283068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559720" cy="681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Главная мышца органов речи - это язык. И для него, как и для всякой мышцы, необходима гимнастика. Ведь язык должен быть достаточно хорошо развит, чтобы выполнять тонкие целенаправленные движения, именуемые звукопроизношением. Недостатки произношения отягощают эмоционально-психическое состояние ребенка, мешают ему развиваться и общаться со сверстниками. Чтобы эта проблема не возникла у ребенка, мы ежедневно в процессе образовательной деятельности занимаемся артикуляционной гимнастикой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Для индивидуальных занятий с детьми по артикуляционной гимнастике, так же как и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логопед используем зеркала. Ребенок должен видеть, что язык делает. Мы, взрослые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не задумываемся, где находится в данный момент язык (за верхними зубами или з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нижними)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755640" y="476280"/>
            <a:ext cx="7718400" cy="2160720"/>
          </a:xfrm>
          <a:prstGeom prst="rect">
            <a:avLst/>
          </a:prstGeom>
          <a:noFill/>
          <a:ln w="9360">
            <a:solidFill>
              <a:srgbClr val="1b4171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Тема:  Использование  здоровьесберегающих технологий в речевом развитиии-важном факторе в формировании физиологической готовности детей 6-7 лет к школе в условиях ДОУ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4" name="Рисунок 1" descr=""/>
          <p:cNvPicPr/>
          <p:nvPr/>
        </p:nvPicPr>
        <p:blipFill>
          <a:blip r:embed="rId1"/>
          <a:stretch/>
        </p:blipFill>
        <p:spPr>
          <a:xfrm>
            <a:off x="1835280" y="2846520"/>
            <a:ext cx="5340240" cy="34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Прямоугольник 1"/>
          <p:cNvSpPr/>
          <p:nvPr/>
        </p:nvSpPr>
        <p:spPr>
          <a:xfrm>
            <a:off x="250920" y="-1125360"/>
            <a:ext cx="8569080" cy="75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У нас артикуляция - автоматизированный навык, а ребенку необходи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через зрительное восприятие обрести этот автоматизм, постоянно упражняя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  </a:t>
            </a: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Как показывает опыт, дети старшего дошкольного возраста выполня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артикуляционную гимнастику с большим желанием и интересом, если д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упражнения предваряют небольшие стихотворные заставки, регулярное 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выполнение помог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1.</a:t>
            </a: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	</a:t>
            </a: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улучшить кровоснабжение артикуляционных органов и их иннервац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2.</a:t>
            </a: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	</a:t>
            </a: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улучшить подвижность артикуляционных орган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3.</a:t>
            </a: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	</a:t>
            </a: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укрепить мышечную систему языка, губ, щё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4.</a:t>
            </a: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	</a:t>
            </a:r>
            <a:r>
              <a:rPr b="1" i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уменьшить напряжённость артикуляционных орга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06472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ru-RU" sz="2600" spc="-1" strike="noStrike">
                <a:solidFill>
                  <a:srgbClr val="052e65"/>
                </a:solidFill>
                <a:latin typeface="Arial"/>
                <a:ea typeface="Arial"/>
              </a:rPr>
              <a:t>Техники самомассажа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6" name="Рисунок 1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2765520" cy="399564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2" descr=""/>
          <p:cNvPicPr/>
          <p:nvPr/>
        </p:nvPicPr>
        <p:blipFill>
          <a:blip r:embed="rId2"/>
          <a:stretch/>
        </p:blipFill>
        <p:spPr>
          <a:xfrm>
            <a:off x="3059280" y="1940040"/>
            <a:ext cx="2881080" cy="399564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4" descr=""/>
          <p:cNvPicPr/>
          <p:nvPr/>
        </p:nvPicPr>
        <p:blipFill>
          <a:blip r:embed="rId3"/>
          <a:stretch/>
        </p:blipFill>
        <p:spPr>
          <a:xfrm>
            <a:off x="6084720" y="1940040"/>
            <a:ext cx="273528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24000" y="476280"/>
            <a:ext cx="84960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SimSun"/>
              </a:rPr>
              <a:t>Самомассаж.</a:t>
            </a:r>
            <a:r>
              <a:rPr b="1" i="1" lang="en-US" sz="2000" spc="-1" strike="noStrike">
                <a:solidFill>
                  <a:srgbClr val="052e65"/>
                </a:solidFill>
                <a:latin typeface="Arial"/>
                <a:ea typeface="SimSun"/>
              </a:rPr>
              <a:t> </a:t>
            </a: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SimSun"/>
              </a:rPr>
              <a:t>Одним из эффективных направлений по подготовке дошкольников к письму является самомассаж рук. Под воздействием несложных массажных упражнений достигается нормализация мышечного тонуса, происходит стимуляция тактильных ощущений, а также под воздействием импульсов, идущих в коре головного мозга от двигательных зон к речевым, более благотворно развивается речевая функция. При проведении массажа рекомендуется обучать детей не надавливать силой на указанные точки, а массировать их мягкими движениями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SimSun"/>
              </a:rPr>
              <a:t>пальцев, слегка надавливая или легко поглаживая. Приемы самомассажа проводят в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SimSun"/>
              </a:rPr>
              <a:t>такой последовательности: поглаживание, растирание, разминание и вибрация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SimSun"/>
              </a:rPr>
              <a:t>(потряхивание). Все упражнения должны выполняться на фоне позитивных ответных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SimSun"/>
              </a:rPr>
              <a:t>реакций ребенка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рямоугольник 1"/>
          <p:cNvSpPr/>
          <p:nvPr/>
        </p:nvSpPr>
        <p:spPr>
          <a:xfrm>
            <a:off x="395280" y="620640"/>
            <a:ext cx="8353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SimSun"/>
              </a:rPr>
              <a:t>Для самомассажа используем специальные ручные массажёры(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SimSun"/>
              </a:rPr>
              <a:t>мячи с пуговицами, варежки обшитые бисером),су-джок мячи, «сухой бассейн».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SimSun"/>
              </a:rPr>
              <a:t>Массажные движения выполняются с речевым сопровождением. Главная ценность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SimSun"/>
              </a:rPr>
              <a:t>массажа заключается в том, что он, прежде всего, влияет на нервную систему малыша,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SimSun"/>
              </a:rPr>
              <a:t>помогает ребенку снять общую усталость, помогает всем органам и системам работать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SimSun"/>
              </a:rPr>
              <a:t>бесперебойно и эффектив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8000" y="404640"/>
            <a:ext cx="903600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Гимнастика для глаз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2" name="Рисунок 2" descr=""/>
          <p:cNvPicPr/>
          <p:nvPr/>
        </p:nvPicPr>
        <p:blipFill>
          <a:blip r:embed="rId1"/>
          <a:stretch/>
        </p:blipFill>
        <p:spPr>
          <a:xfrm>
            <a:off x="387360" y="1989000"/>
            <a:ext cx="3900600" cy="292428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3" descr=""/>
          <p:cNvPicPr/>
          <p:nvPr/>
        </p:nvPicPr>
        <p:blipFill>
          <a:blip r:embed="rId2"/>
          <a:stretch/>
        </p:blipFill>
        <p:spPr>
          <a:xfrm>
            <a:off x="4572000" y="1976400"/>
            <a:ext cx="410364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23640" y="259920"/>
            <a:ext cx="83516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Есть такая народная мудрость «Лучше один раз увидеть, чем сто раз услышать»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Зрение играет большую роль в развитии человека. С помощью зрения осуществляетс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90% восприятия внешнего мира. Хорошее зрение необходимо человеку для любой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деятельности, поэтому во время занятий по развитию речи, да и не только, мы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включаем гимнастику для глаз. Нарушения зрения у детей сочетаются с рядом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неврологических расстройств. Это проявляется, прежде всего, в нарушении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умственной работоспособности, произвольной деятельности и поведении детей, а также быстрой истощаемости и перенасыщенности любым видом деятельности, повышенной возбудимости, раздражительности, двигательной расторможенности, происходят изменения в мелкой моторике, а отсюда следует неполноценное развитие речи детей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оугольник 1"/>
          <p:cNvSpPr/>
          <p:nvPr/>
        </p:nvSpPr>
        <p:spPr>
          <a:xfrm>
            <a:off x="326880" y="1969920"/>
            <a:ext cx="849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В своей работе мы применяем такую гимнастику для глаз, как например: Проследи глазками по цветным дорожкам; Проследи глазками цифры от 1 до 10 (в зависимости от возраста); бег по дорожкам, тренажёр для глаз «цветной светофор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667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Times New Roman"/>
              </a:rPr>
              <a:t>Использование нами вышеперечисленных здоровьесберегающих технологий при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Times New Roman"/>
              </a:rPr>
              <a:t>проведении НОД по развитию речи, а также создание наиболее разнообразной,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Times New Roman"/>
              </a:rPr>
              <a:t>интересной для ребёнка речевой среды способствует решению задач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Times New Roman"/>
              </a:rPr>
              <a:t>гармоничного развития дошкольников более результативно и в короткие сроки,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Times New Roman"/>
              </a:rPr>
              <a:t>активизирует психические процессы и формирует личность ребёнка в целом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539640" y="1916280"/>
            <a:ext cx="81360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Прямоугольник 3"/>
          <p:cNvSpPr/>
          <p:nvPr/>
        </p:nvSpPr>
        <p:spPr>
          <a:xfrm>
            <a:off x="1741680" y="2349360"/>
            <a:ext cx="556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  <a:ea typeface="Arial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394920" y="1412640"/>
            <a:ext cx="84978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Цель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Оптимизация процесса сохранения и коррекции речи, поддержание, сохранение и укрепление здоровья детей с помощью применения здоровьесберегающих технологий. Формирование физиологической готовности детей 6-7 лет к школе в условиях ДОУ, посредством использования здоровьесберегающих технологий в речевом развити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080" y="1197000"/>
            <a:ext cx="914400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Задачи:                   1.Сохранение и укрепление физического, психологического здоровья детей.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                             2.Создание условий, обеспечивающих эмоциональное благополучие каждого ребенка.</a:t>
            </a:r>
            <a:br>
              <a:rPr sz="2000"/>
            </a:br>
            <a:r>
              <a:rPr b="1" i="1" lang="ru-RU" sz="2000" spc="-1" strike="noStrike">
                <a:solidFill>
                  <a:srgbClr val="052e65"/>
                </a:solidFill>
                <a:latin typeface="Arial"/>
                <a:ea typeface="Arial"/>
              </a:rPr>
              <a:t>                                    3. Повышение адаптивных возможностей детского организма.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Прямоугольник 3"/>
          <p:cNvSpPr/>
          <p:nvPr/>
        </p:nvSpPr>
        <p:spPr>
          <a:xfrm>
            <a:off x="5076720" y="414972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6436b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оведение цикла дидактических игр, упражнений, методов и приемов в совместной работе с учителем-логопедом , направленных на развитие речи, используя здоровьесберегающие технологии</a:t>
            </a:r>
            <a:r>
              <a:rPr b="1" i="1" lang="ru-RU" sz="2400" spc="-1" strike="noStrike">
                <a:solidFill>
                  <a:srgbClr val="002060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9" name="Picture 6" descr="C:\Users\rsa\Desktop\фото багаж\IMG-759673efc0c8956fccf636cfeb9f9bbb-V.jpg"/>
          <p:cNvPicPr/>
          <p:nvPr/>
        </p:nvPicPr>
        <p:blipFill>
          <a:blip r:embed="rId1"/>
          <a:stretch/>
        </p:blipFill>
        <p:spPr>
          <a:xfrm>
            <a:off x="1619280" y="2276640"/>
            <a:ext cx="2952720" cy="33130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7" descr="C:\Users\rsa\Desktop\фото багаж\IMG-c4278e0f40c555601b9dfcdcc779e23b-V.jpg"/>
          <p:cNvPicPr/>
          <p:nvPr/>
        </p:nvPicPr>
        <p:blipFill>
          <a:blip r:embed="rId2"/>
          <a:stretch/>
        </p:blipFill>
        <p:spPr>
          <a:xfrm>
            <a:off x="4932360" y="2276640"/>
            <a:ext cx="2952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708360" y="338040"/>
            <a:ext cx="4751280" cy="208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Дидактическая игра «Багаж»</a:t>
            </a:r>
            <a:br>
              <a:rPr sz="2000"/>
            </a:b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Цель: использование игры «Арган» на изменение силы голоса, на уточнение артикуляционных гласных звуков, на длительность выдоха.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Picture 5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3024000" cy="21175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C:\Users\rsa\Desktop\фото багаж\100_2663.JPG"/>
          <p:cNvPicPr/>
          <p:nvPr/>
        </p:nvPicPr>
        <p:blipFill>
          <a:blip r:embed="rId2"/>
          <a:stretch/>
        </p:blipFill>
        <p:spPr>
          <a:xfrm>
            <a:off x="444600" y="3195720"/>
            <a:ext cx="3024000" cy="22683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7" descr="C:\Users\rsa\Desktop\фото багаж\100_2662.JPG"/>
          <p:cNvPicPr/>
          <p:nvPr/>
        </p:nvPicPr>
        <p:blipFill>
          <a:blip r:embed="rId3"/>
          <a:stretch/>
        </p:blipFill>
        <p:spPr>
          <a:xfrm>
            <a:off x="4572000" y="2565360"/>
            <a:ext cx="38498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610920" y="1915920"/>
            <a:ext cx="410508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ndara"/>
              </a:rPr>
              <a:t>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Дидактическая игра на развитие звукоподражания «Исполни любимую песню как котенок, как поросенок, как …»</a:t>
            </a:r>
            <a:br>
              <a:rPr sz="2000"/>
            </a:b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Цель игры: </a:t>
            </a:r>
            <a:r>
              <a:rPr b="0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развитие навыков звукоподражания, слухового восприятия, силы голоса.</a:t>
            </a:r>
            <a:br>
              <a:rPr sz="2000"/>
            </a:br>
            <a:br>
              <a:rPr sz="2000"/>
            </a:b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Дидактическая игра н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7" name="Picture 4" descr="C:\Users\rsa\Desktop\фото багаж\100_2656.JPG"/>
          <p:cNvPicPr/>
          <p:nvPr/>
        </p:nvPicPr>
        <p:blipFill>
          <a:blip r:embed="rId1"/>
          <a:stretch/>
        </p:blipFill>
        <p:spPr>
          <a:xfrm>
            <a:off x="468360" y="2276640"/>
            <a:ext cx="3672000" cy="3139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5" descr="C:\Users\rsa\Desktop\фото багаж\100_2658.JPG"/>
          <p:cNvPicPr/>
          <p:nvPr/>
        </p:nvPicPr>
        <p:blipFill>
          <a:blip r:embed="rId2"/>
          <a:stretch/>
        </p:blipFill>
        <p:spPr>
          <a:xfrm>
            <a:off x="4788000" y="2276640"/>
            <a:ext cx="387648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C:\Users\rsa\Desktop\фото багаж\100_2660.JPG"/>
          <p:cNvPicPr/>
          <p:nvPr/>
        </p:nvPicPr>
        <p:blipFill>
          <a:blip r:embed="rId1"/>
          <a:stretch/>
        </p:blipFill>
        <p:spPr>
          <a:xfrm>
            <a:off x="728640" y="907920"/>
            <a:ext cx="3600360" cy="29768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6" descr="C:\Users\rsa\Desktop\фото багаж\100_2661.JPG"/>
          <p:cNvPicPr/>
          <p:nvPr/>
        </p:nvPicPr>
        <p:blipFill>
          <a:blip r:embed="rId2"/>
          <a:stretch/>
        </p:blipFill>
        <p:spPr>
          <a:xfrm>
            <a:off x="4572000" y="3284640"/>
            <a:ext cx="3873600" cy="290520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1" descr=""/>
          <p:cNvPicPr/>
          <p:nvPr/>
        </p:nvPicPr>
        <p:blipFill>
          <a:blip r:embed="rId3"/>
          <a:stretch/>
        </p:blipFill>
        <p:spPr>
          <a:xfrm>
            <a:off x="5435640" y="907920"/>
            <a:ext cx="2386080" cy="212112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2" descr=""/>
          <p:cNvPicPr/>
          <p:nvPr/>
        </p:nvPicPr>
        <p:blipFill>
          <a:blip r:embed="rId4"/>
          <a:stretch/>
        </p:blipFill>
        <p:spPr>
          <a:xfrm>
            <a:off x="1374840" y="4292640"/>
            <a:ext cx="230976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611280" y="836640"/>
            <a:ext cx="7408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Предварительная работа. Чтение  и разучивание ролей стихотворения С.Я. Маршака «Багаж»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4" name="Рисунок 1" descr=""/>
          <p:cNvPicPr/>
          <p:nvPr/>
        </p:nvPicPr>
        <p:blipFill>
          <a:blip r:embed="rId1"/>
          <a:stretch/>
        </p:blipFill>
        <p:spPr>
          <a:xfrm>
            <a:off x="1258920" y="2513160"/>
            <a:ext cx="2952720" cy="342900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2" descr=""/>
          <p:cNvPicPr/>
          <p:nvPr/>
        </p:nvPicPr>
        <p:blipFill>
          <a:blip r:embed="rId2"/>
          <a:stretch/>
        </p:blipFill>
        <p:spPr>
          <a:xfrm>
            <a:off x="5219640" y="2492280"/>
            <a:ext cx="2895840" cy="34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7:41:46Z</dcterms:created>
  <dc:creator>User</dc:creator>
  <dc:description/>
  <dc:language>en-US</dc:language>
  <cp:lastModifiedBy>Рукавицын Сергей Александрович</cp:lastModifiedBy>
  <cp:lastPrinted>2018-03-15T09:39:51Z</cp:lastPrinted>
  <dcterms:modified xsi:type="dcterms:W3CDTF">2020-11-23T06:46:32Z</dcterms:modified>
  <cp:revision>328</cp:revision>
  <dc:subject/>
  <dc:title>Начальная ступень образования: основные направления модернизации  Е.А.Лутцева, канд.пед.наук доцент АПКиППР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e1c0000000000010290110207f7000400038000</vt:lpwstr>
  </property>
</Properties>
</file>