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71D9-F9A7-458E-A09A-8DAE82F76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87F7-39AB-4F2F-B2B3-432CC85633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487B-CDE6-4C65-B476-6AA66A421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5A3F-AF9E-4C13-9248-2F5B5CF2C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F89A-EC12-46EF-8D5F-09CCB8769C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4BB0-686E-49A3-9E02-812F9D877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3938-35DF-4ED1-835D-E7AA39A86B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958E-60F5-46D4-A69A-FB0CDE6CB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7DAB-DA96-49FC-B1CA-7DBEA18B1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F248-5A32-402F-A35A-287AC6AC2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01F7-EC41-4FAA-9F1B-525A2BC64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018E-C0A4-4C9A-BD3C-39F5C22A6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425D-FB8F-448E-8A26-417C9FB24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FB2B-17F7-4087-8FEA-B3650144E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F71-9AF1-4144-9FEA-D73840CC7C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1441-A52C-4E36-AEED-F4AE5CB20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1E8A-6D80-442C-9E31-65DDC7B54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324-40B1-4335-AF29-9A9679BA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5F6-60C7-48D7-9511-26148719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312-3AB5-46C2-9216-EB1760E2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570-A7AE-4D75-B7DF-E376138D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854E-05A4-473E-A5BA-717633D0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412E-CB47-436B-8F7E-9AD65DD0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C97B-92EE-4C25-86AC-38EFB56B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3318-DE2A-4801-B84A-DA6378F7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DEC5-10D2-41B9-960C-1B147F66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D97F-7DED-40A6-9FA8-B6D7C1AF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213D-B738-4BE5-B564-1268D02A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A6A-1F70-4CE8-9F38-71BB010E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C38B-CC59-47E5-83C8-B04CE6B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0823-884E-493D-BE17-0CCD90A7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393D-1307-445A-9AFE-8AE07A76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75F7-4B3A-4F25-AFA1-FC6EDAFC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1082-675F-4D0A-B449-BC861F88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08DCE-4F66-43D7-80FE-F6C0F5DB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4A4F-F217-4541-9FD5-8E13B02F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458BA-B7C1-47CD-9BF5-7DEDF6B6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7A0C-AB77-427F-BBA3-BE0F1F99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C83B-7849-4BCB-9101-74F8139E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62A-669C-4E23-8E12-C869022B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51DA-F978-4F3B-BD15-F35BE249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9F6E-2DC2-44A5-866A-77F52D5D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5B862-4D39-4680-82B6-E8E4E8CF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99EEB-9751-43A6-AEB0-99D14EFE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136A-DC57-4CC4-AB94-0D918394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066F-159D-46A7-A82D-50D264AC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AF2A-9A43-4AD9-B4E4-D9D74A34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1AEF5-CCE0-4AE3-87B3-2B5568B3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3FC14-C335-45CD-8FE0-454E8755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C1798-3B94-4582-BAD9-F5C4AABC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357-73EF-4417-BEC7-C9602C6D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507B2-FAA0-4287-B955-230B65B6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31F41-FAB5-431E-89FF-110F59B7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8C50E-FE03-4750-B414-8AC24FE4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7C463-B63D-4F43-994E-625B75B4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32275-BA64-4107-AC85-E5F7177D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329FC-FA50-45BC-90CC-E7C10E20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72B50-26A3-4FEC-A830-75794866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DE42A-834D-49B8-AFC4-BA04A670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A995D-C64A-476D-8465-D416A306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4E259-D471-4C42-B2AB-877F6882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0EC-305B-44A8-9398-E5C002A3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5AD89-B71D-4A7A-8537-04813803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DE236-F1BB-401E-B2F6-74F774DB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CAF90-03E0-452B-A29D-1CACFA5E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1F030-DF51-436C-8A66-7DA2C72E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BAEEF-A30D-4BFA-B906-83365EBD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BC84-4194-4EF9-A99B-B0653CB7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635C5-97E7-405B-B633-4849CB23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34FD1-DE43-430F-9F3C-DF3599FE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7205D-BEC0-43ED-BE65-5257BE27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F11CE-19ED-43CF-9A94-CA410267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341-D9A1-4814-8077-CE884CFE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E48A5-8E3E-4F32-BC7A-CC745FA0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47085-84F1-4321-B907-356F41E8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43CDA-7963-43E0-B868-DBC97094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B86EE-DB6C-4042-9D30-8AFBDB26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8167A-A4D3-43FD-A1AB-5C3B2501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2FD75-407D-4B52-A966-A64F7720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90B96-1CCE-4955-A569-D9649E27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E6040-6DF6-41F9-8FE7-D60AC680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33D57-F013-4D52-A132-A41109E4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515CD-A6AA-40DE-BEE9-164C8164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3DF-5E6F-4E66-9C01-D443A05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C5F93-8461-4C07-816A-DEA8D16A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099AE-CD60-4A47-89C3-C37B258C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303B5-7B64-4B65-970F-303C13B7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97FE8-B70C-49D4-96AE-87CDA8AB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1F90A-1AD7-4852-9160-62310691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F1FC7-92EF-4BA3-AB14-B5245D1F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7B8A5-382E-480E-A766-68788BF6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95233-4457-479B-99B8-9E79E9AA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D641F-A6A2-4267-BC54-561384ED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81543-673F-4D40-BA66-D513D5CA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368-4E36-4BA3-B54F-0C97042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346DF-465D-43DC-927C-B26FD244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4DA0-7A70-4716-924B-882D5F5A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0BF3E-5815-4C6E-A39D-FAC60C45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48009-053D-4ACE-A0FF-65C23839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54F4E-366F-4481-AA69-39CB3F2D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69B-4ADA-41D2-A973-F8E649C7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8923-6567-482E-85CE-34FF0DB0CA72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BD3B-834C-4190-B2CF-49DBC88B9AF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867F-FCEB-4B43-A2E0-9A1202079A75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C924-BAE2-42CD-A140-620DCA920CA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2AA1-9EC8-4053-84F2-D8BED4F2288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BE47-A623-47FC-99C0-47D4DBD4D6D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0C40-6BC1-4523-94E8-470FBA0F21E5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Arial Black"/>
              </a:rPr>
              <a:t>«Быть готовым к школе – не значит уметь читать, писать и считать. Быть готовым к школе – значит быть готовым всему этому научиться».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Arial Black"/>
              </a:rPr>
              <a:t>                               </a:t>
            </a:r>
            <a:r>
              <a:rPr b="1" i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Доктор психологических наук</a:t>
            </a:r>
            <a:br>
              <a:rPr sz="2400"/>
            </a:br>
            <a:r>
              <a:rPr b="1" i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                                         Леонид Абрамович Венге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2" descr=""/>
          <p:cNvPicPr/>
          <p:nvPr/>
        </p:nvPicPr>
        <p:blipFill>
          <a:blip r:embed="rId1"/>
          <a:stretch/>
        </p:blipFill>
        <p:spPr>
          <a:xfrm>
            <a:off x="826920" y="2104920"/>
            <a:ext cx="3240360" cy="33847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4" descr=""/>
          <p:cNvPicPr/>
          <p:nvPr/>
        </p:nvPicPr>
        <p:blipFill>
          <a:blip r:embed="rId2"/>
          <a:stretch/>
        </p:blipFill>
        <p:spPr>
          <a:xfrm>
            <a:off x="4795920" y="2176560"/>
            <a:ext cx="360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Arial"/>
              </a:rPr>
              <a:t>Упражнения на работу со звуками</a:t>
            </a:r>
            <a:r>
              <a:rPr b="1" lang="ru-RU" sz="28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Picture 4" descr="C:\Users\rsa\Desktop\фото багаж\100_2665.JPG"/>
          <p:cNvPicPr/>
          <p:nvPr/>
        </p:nvPicPr>
        <p:blipFill>
          <a:blip r:embed="rId1"/>
          <a:stretch/>
        </p:blipFill>
        <p:spPr>
          <a:xfrm>
            <a:off x="539640" y="1844640"/>
            <a:ext cx="3600720" cy="3122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4500720" y="1844640"/>
            <a:ext cx="395892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73080" y="404640"/>
            <a:ext cx="81583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Заголовок 2"/>
          <p:cNvSpPr/>
          <p:nvPr/>
        </p:nvSpPr>
        <p:spPr>
          <a:xfrm>
            <a:off x="968400" y="404640"/>
            <a:ext cx="8157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Заголовок 2"/>
          <p:cNvSpPr/>
          <p:nvPr/>
        </p:nvSpPr>
        <p:spPr>
          <a:xfrm>
            <a:off x="611280" y="404640"/>
            <a:ext cx="8157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4360" y="549000"/>
            <a:ext cx="7408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52e65"/>
                </a:solidFill>
                <a:latin typeface="Arial"/>
                <a:ea typeface="Arial"/>
              </a:rPr>
              <a:t>Дидактическая игра «Договорись глазами» </a:t>
            </a:r>
            <a:r>
              <a:rPr b="0" i="1" lang="ru-RU" sz="2400" spc="-1" strike="noStrike">
                <a:solidFill>
                  <a:srgbClr val="052e65"/>
                </a:solidFill>
                <a:latin typeface="Arial"/>
                <a:ea typeface="Arial"/>
              </a:rPr>
              <a:t>на развитие зрительного восприятия ,внимания, быстроты реак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5" name="Picture 6" descr="C:\Users\rsa\Desktop\фото багаж\100_2649.JPG"/>
          <p:cNvPicPr/>
          <p:nvPr/>
        </p:nvPicPr>
        <p:blipFill>
          <a:blip r:embed="rId1"/>
          <a:stretch/>
        </p:blipFill>
        <p:spPr>
          <a:xfrm>
            <a:off x="617400" y="2852640"/>
            <a:ext cx="3681720" cy="2762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Users\rsa\Desktop\фото багаж\100_2650.JPG"/>
          <p:cNvPicPr/>
          <p:nvPr/>
        </p:nvPicPr>
        <p:blipFill>
          <a:blip r:embed="rId2"/>
          <a:stretch/>
        </p:blipFill>
        <p:spPr>
          <a:xfrm>
            <a:off x="4946760" y="2852640"/>
            <a:ext cx="3682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2" descr="C:\Users\rsa\Desktop\фото багаж\100_2651.JPG"/>
          <p:cNvPicPr/>
          <p:nvPr/>
        </p:nvPicPr>
        <p:blipFill>
          <a:blip r:embed="rId1"/>
          <a:stretch/>
        </p:blipFill>
        <p:spPr>
          <a:xfrm>
            <a:off x="611280" y="1844640"/>
            <a:ext cx="3875040" cy="2906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C:\Users\rsa\Desktop\фото багаж\100_2652.JPG"/>
          <p:cNvPicPr/>
          <p:nvPr/>
        </p:nvPicPr>
        <p:blipFill>
          <a:blip r:embed="rId2"/>
          <a:stretch/>
        </p:blipFill>
        <p:spPr>
          <a:xfrm>
            <a:off x="4772160" y="1844640"/>
            <a:ext cx="37782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26920" y="981000"/>
            <a:ext cx="7453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В настоящее время использование здоровьесберегающих технологий в деятельности</a:t>
            </a:r>
            <a:br>
              <a:rPr sz="2000"/>
            </a:b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ДОУ, также становятся перспективным средством развивающей работы с детьми. Эти</a:t>
            </a:r>
            <a:br>
              <a:rPr sz="2000"/>
            </a:b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методы работы принадлежат к числу эффективных средств развития речи все чаще</a:t>
            </a:r>
            <a:br>
              <a:rPr sz="2000"/>
            </a:b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применяемых в дошкольной педагогике и помогающих достижению максимально</a:t>
            </a:r>
            <a:br>
              <a:rPr sz="2000"/>
            </a:b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возможных успехов в преодолении не только речевых трудностей, но и общего</a:t>
            </a:r>
            <a:br>
              <a:rPr sz="2000"/>
            </a:b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оздоровления детей дошкольного возраста. Кроме того, альтернативные методы и</a:t>
            </a:r>
            <a:br>
              <a:rPr sz="2000"/>
            </a:b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приемы помогают организовывать образовательную деятельность интереснее и разнообразне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79280" y="115560"/>
            <a:ext cx="8640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Таким образом, возможности здоровьесберегающих технологий содействуют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созданию условий для речевого высказывания и восприятия. Использование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здоровьесберегающих технологий в процессе образовательной деятельности по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развитию речи способствует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повышению речевой активност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развитию речевых умений и навыков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снятию напряжения, восстановлению работоспособност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активизации познавательного интерес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улучшению концентрации внимания, снижению трудности переключения с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одного вида деятельности на друго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укреплению здоровья детей, как ведущего фактора позволяющего,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полноценно усваивать коммуникативные навыки, развивать и активизировать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познавательную активнос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3"/>
          <p:cNvSpPr/>
          <p:nvPr/>
        </p:nvSpPr>
        <p:spPr>
          <a:xfrm>
            <a:off x="755640" y="47628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ля более эффективного речевого развития детей мы активно используем следующие методы и приёмы здоровьесберегающи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1708200"/>
            <a:ext cx="83534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пражнения для дыхательной гимнастик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3" name="Рисунок 6" descr=""/>
          <p:cNvPicPr/>
          <p:nvPr/>
        </p:nvPicPr>
        <p:blipFill>
          <a:blip r:embed="rId1"/>
          <a:stretch/>
        </p:blipFill>
        <p:spPr>
          <a:xfrm>
            <a:off x="900000" y="2306520"/>
            <a:ext cx="3240360" cy="35290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8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3529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SimSun"/>
              </a:rPr>
              <a:t> </a:t>
            </a: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Если мы хотим научить ребёнка говорить красиво и чётко, следует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обучить его правильному дыханию. В своей работе мы используем упражнения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дыхательной гимнастики, проводим их ежедневно в течение 5 -10 минут, мы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используем их как физкультминутки в процессе образовательной деятельности или как его часть, направленную на развитие речевого дыхания, в результате чего возрастает объём и глубина дыхания, сила и выносливость дыхательных мышц, координируются и ритмизируются дыхательные движения, и в целом улучшается функциональная деятельность всех органов и систем организма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64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        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4920" y="617400"/>
            <a:ext cx="8302680" cy="7956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52e65"/>
                </a:solidFill>
                <a:latin typeface="Calibri"/>
              </a:rPr>
              <a:t>Артикуляционная гимнастика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395280" y="4797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6e7f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95280" y="5445000"/>
            <a:ext cx="830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395280" y="2371680"/>
            <a:ext cx="2587680" cy="345132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3" descr=""/>
          <p:cNvPicPr/>
          <p:nvPr/>
        </p:nvPicPr>
        <p:blipFill>
          <a:blip r:embed="rId2"/>
          <a:stretch/>
        </p:blipFill>
        <p:spPr>
          <a:xfrm>
            <a:off x="3098880" y="2386080"/>
            <a:ext cx="2625480" cy="341928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4" descr=""/>
          <p:cNvPicPr/>
          <p:nvPr/>
        </p:nvPicPr>
        <p:blipFill>
          <a:blip r:embed="rId3"/>
          <a:stretch/>
        </p:blipFill>
        <p:spPr>
          <a:xfrm>
            <a:off x="5867280" y="2389320"/>
            <a:ext cx="28306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5972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Главная мышца органов речи - это язык. И для него, как и для всякой мышцы, необходима гимнастика. Ведь язык должен быть достаточно хорошо развит, чтобы выполнять тонкие целенаправленные движения, именуемые звукопроизношением. Недостатки произношения отягощают эмоционально-психическое состояние ребенка, мешают ему развиваться и общаться со сверстниками. Чтобы эта проблема не возникла у ребенка, мы ежедневно в процессе образовательной деятельности занимаемся артикуляционной гимнастико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Для индивидуальных занятий с детьми по артикуляционной гимнастике, так же как 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логопед используем зеркала. Ребенок должен видеть, что язык делает. Мы, взрослые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не задумываемся, где находится в данный момент язык (за верхними зубами или з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нижними)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7718400" cy="2160720"/>
          </a:xfrm>
          <a:prstGeom prst="rect">
            <a:avLst/>
          </a:prstGeom>
          <a:noFill/>
          <a:ln w="9360">
            <a:solidFill>
              <a:srgbClr val="1b4171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Тема:  Использование  здоровьесберегающих технологий в речевом развитиии-важном факторе в формировании физиологической готовности детей 6-7 лет к школе в условиях ДО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Рисунок 1" descr=""/>
          <p:cNvPicPr/>
          <p:nvPr/>
        </p:nvPicPr>
        <p:blipFill>
          <a:blip r:embed="rId1"/>
          <a:stretch/>
        </p:blipFill>
        <p:spPr>
          <a:xfrm>
            <a:off x="1835280" y="2846520"/>
            <a:ext cx="534024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1"/>
          <p:cNvSpPr/>
          <p:nvPr/>
        </p:nvSpPr>
        <p:spPr>
          <a:xfrm>
            <a:off x="250920" y="-1125360"/>
            <a:ext cx="8569080" cy="75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У нас артикуляция - автоматизированный навык, а ребенку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через зрительное восприятие обрести этот автоматизм, постоянно упражняя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  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Как показывает опыт, дети старшего дошкольного возраста 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артикуляционную гимнастику с большим желанием и интересом, если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упражнения предваряют небольшие стихотворные заставки, регулярное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выполнение помог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1.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улучшить кровоснабжение артикуляционных органов и их иннерва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2.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улучшить подвижность артикуляционных орга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3.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укрепить мышечную систему языка, губ, щё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4.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уменьшить напряжённость артикуляционных орг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06472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52e65"/>
                </a:solidFill>
                <a:latin typeface="Arial"/>
                <a:ea typeface="Arial"/>
              </a:rPr>
              <a:t>Техники самомассажа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6" name="Рисунок 1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2765520" cy="399564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2" descr=""/>
          <p:cNvPicPr/>
          <p:nvPr/>
        </p:nvPicPr>
        <p:blipFill>
          <a:blip r:embed="rId2"/>
          <a:stretch/>
        </p:blipFill>
        <p:spPr>
          <a:xfrm>
            <a:off x="3059280" y="1940040"/>
            <a:ext cx="2881080" cy="399564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4" descr=""/>
          <p:cNvPicPr/>
          <p:nvPr/>
        </p:nvPicPr>
        <p:blipFill>
          <a:blip r:embed="rId3"/>
          <a:stretch/>
        </p:blipFill>
        <p:spPr>
          <a:xfrm>
            <a:off x="6084720" y="1940040"/>
            <a:ext cx="27352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24000" y="476280"/>
            <a:ext cx="8496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Самомассаж.</a:t>
            </a:r>
            <a:r>
              <a:rPr b="1" i="1" lang="en-US" sz="2000" spc="-1" strike="noStrike">
                <a:solidFill>
                  <a:srgbClr val="052e65"/>
                </a:solidFill>
                <a:latin typeface="Arial"/>
                <a:ea typeface="SimSun"/>
              </a:rPr>
              <a:t> </a:t>
            </a: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Одним из эффективных направлений по подготовке дошкольников к письму является самомассаж рук. Под воздействием несложных массажных упражнений достигается нормализация мышечного тонуса, происходит стимуляция тактильных ощущений, а также под воздействием импульсов, идущих в коре головного мозга от двигательных зон к речевым, более благотворно развивается речевая функция. При проведении массажа рекомендуется обучать детей не надавливать силой на указанные точки, а массировать их мягкими движениями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пальцев, слегка надавливая или легко поглаживая. Приемы самомассажа проводят в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такой последовательности: поглаживание, растирание, разминание и вибрация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(потряхивание). Все упражнения должны выполняться на фоне позитивных ответных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реакций ребенк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395280" y="62064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Для самомассажа используем специальные ручные массажёры(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мячи с пуговицами, варежки обшитые бисером),су-джок мячи, «сухой бассейн».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Массажные движения выполняются с речевым сопровождением. Главная ценность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массажа заключается в том, что он, прежде всего, влияет на нервную систему малыша,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помогает ребенку снять общую усталость, помогает всем органам и системам работать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бесперебойно и эффектив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90360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Гимнастика для глаз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2" descr=""/>
          <p:cNvPicPr/>
          <p:nvPr/>
        </p:nvPicPr>
        <p:blipFill>
          <a:blip r:embed="rId1"/>
          <a:stretch/>
        </p:blipFill>
        <p:spPr>
          <a:xfrm>
            <a:off x="387360" y="1989000"/>
            <a:ext cx="3900600" cy="29242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3" descr=""/>
          <p:cNvPicPr/>
          <p:nvPr/>
        </p:nvPicPr>
        <p:blipFill>
          <a:blip r:embed="rId2"/>
          <a:stretch/>
        </p:blipFill>
        <p:spPr>
          <a:xfrm>
            <a:off x="4572000" y="1976400"/>
            <a:ext cx="41036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23640" y="259920"/>
            <a:ext cx="8351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Есть такая народная мудрость «Лучше один раз увидеть, чем сто раз услышать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Зрение играет большую роль в развитии человека. С помощью зрения осуществляетс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90% восприятия внешнего мира. Хорошее зрение необходимо человеку для любо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деятельности, поэтому во время занятий по развитию речи, да и не только, м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включаем гимнастику для глаз. Нарушения зрения у детей сочетаются с рядом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неврологических расстройств. Это проявляется, прежде всего, в нарушени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умственной работоспособности, произвольной деятельности и поведении детей, а также быстрой истощаемости и перенасыщенности любым видом деятельности, повышенной возбудимости, раздражительности, двигательной расторможенности, происходят изменения в мелкой моторике, а отсюда следует неполноценное развитие речи дете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326880" y="1969920"/>
            <a:ext cx="849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В своей работе мы применяем такую гимнастику для глаз, как например: Проследи глазками по цветным дорожкам; Проследи глазками цифры от 1 до 10 (в зависимости от возраста); бег по дорожкам, тренажёр для глаз «цветной светофор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Times New Roman"/>
              </a:rPr>
              <a:t>Использование нами вышеперечисленных здоровьесберегающих технологий при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Times New Roman"/>
              </a:rPr>
              <a:t>проведении НОД по развитию речи, а также создание наиболее разнообразной,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Times New Roman"/>
              </a:rPr>
              <a:t>интересной для ребёнка речевой среды способствует решению задач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Times New Roman"/>
              </a:rPr>
              <a:t>гармоничного развития дошкольников более результативно и в короткие сроки,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Times New Roman"/>
              </a:rPr>
              <a:t>активизирует психические процессы и формирует личность ребёнка в целом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539640" y="191628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1741680" y="2349360"/>
            <a:ext cx="55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8497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Цель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Оптимизация процесса сохранения и коррекции речи, поддержание, сохранение и укрепление здоровья детей с помощью применения здоровьесберегающих технологий. Формирование физиологической готовности детей 6-7 лет к школе в условиях ДОУ, посредством использования здоровьесберегающих технологий в речевом развит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080" y="119700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Задачи:                   1.Сохранение и укрепление физического, психологического здоровья детей.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                             2.Создание условий, обеспечивающих эмоциональное благополучие каждого ребенка.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                                    3. Повышение адаптивных возможностей детского организма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3"/>
          <p:cNvSpPr/>
          <p:nvPr/>
        </p:nvSpPr>
        <p:spPr>
          <a:xfrm>
            <a:off x="5076720" y="4149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436b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цикла дидактических игр, упражнений, методов и приемов в совместной работе с учителем-логопедом , направленных на развитие речи, используя здоровьесберегающие технологии</a:t>
            </a:r>
            <a:r>
              <a:rPr b="1" i="1" lang="ru-RU" sz="2400" spc="-1" strike="noStrike">
                <a:solidFill>
                  <a:srgbClr val="00206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6" descr="C:\Users\rsa\Desktop\фото багаж\IMG-759673efc0c8956fccf636cfeb9f9bbb-V.jpg"/>
          <p:cNvPicPr/>
          <p:nvPr/>
        </p:nvPicPr>
        <p:blipFill>
          <a:blip r:embed="rId1"/>
          <a:stretch/>
        </p:blipFill>
        <p:spPr>
          <a:xfrm>
            <a:off x="1619280" y="2276640"/>
            <a:ext cx="2952720" cy="3313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Users\rsa\Desktop\фото багаж\IMG-c4278e0f40c555601b9dfcdcc779e23b-V.jpg"/>
          <p:cNvPicPr/>
          <p:nvPr/>
        </p:nvPicPr>
        <p:blipFill>
          <a:blip r:embed="rId2"/>
          <a:stretch/>
        </p:blipFill>
        <p:spPr>
          <a:xfrm>
            <a:off x="4932360" y="2276640"/>
            <a:ext cx="295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708360" y="338040"/>
            <a:ext cx="475128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идактическая игра «Багаж»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Цель: использование игры «Арган» на изменение силы голоса, на уточнение артикуляционных гласных звуков, на длительность выдоха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024000" cy="21175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C:\Users\rsa\Desktop\фото багаж\100_2663.JPG"/>
          <p:cNvPicPr/>
          <p:nvPr/>
        </p:nvPicPr>
        <p:blipFill>
          <a:blip r:embed="rId2"/>
          <a:stretch/>
        </p:blipFill>
        <p:spPr>
          <a:xfrm>
            <a:off x="444600" y="3195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C:\Users\rsa\Desktop\фото багаж\100_2662.JPG"/>
          <p:cNvPicPr/>
          <p:nvPr/>
        </p:nvPicPr>
        <p:blipFill>
          <a:blip r:embed="rId3"/>
          <a:stretch/>
        </p:blipFill>
        <p:spPr>
          <a:xfrm>
            <a:off x="4572000" y="2565360"/>
            <a:ext cx="3849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10920" y="1915920"/>
            <a:ext cx="410508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идактическая игра на развитие звукоподражания «Исполни любимую песню как котенок, как поросенок, как …»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Цель игры: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навыков звукоподражания, слухового восприятия, силы голоса.</a:t>
            </a:r>
            <a:br>
              <a:rPr sz="2000"/>
            </a:br>
            <a:br>
              <a:rPr sz="20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идактическая игра 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4" descr="C:\Users\rsa\Desktop\фото багаж\100_2656.JPG"/>
          <p:cNvPicPr/>
          <p:nvPr/>
        </p:nvPicPr>
        <p:blipFill>
          <a:blip r:embed="rId1"/>
          <a:stretch/>
        </p:blipFill>
        <p:spPr>
          <a:xfrm>
            <a:off x="468360" y="2276640"/>
            <a:ext cx="3672000" cy="3139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C:\Users\rsa\Desktop\фото багаж\100_2658.JPG"/>
          <p:cNvPicPr/>
          <p:nvPr/>
        </p:nvPicPr>
        <p:blipFill>
          <a:blip r:embed="rId2"/>
          <a:stretch/>
        </p:blipFill>
        <p:spPr>
          <a:xfrm>
            <a:off x="4788000" y="2276640"/>
            <a:ext cx="38764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C:\Users\rsa\Desktop\фото багаж\100_2660.JPG"/>
          <p:cNvPicPr/>
          <p:nvPr/>
        </p:nvPicPr>
        <p:blipFill>
          <a:blip r:embed="rId1"/>
          <a:stretch/>
        </p:blipFill>
        <p:spPr>
          <a:xfrm>
            <a:off x="728640" y="907920"/>
            <a:ext cx="3600360" cy="2976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C:\Users\rsa\Desktop\фото багаж\100_2661.JPG"/>
          <p:cNvPicPr/>
          <p:nvPr/>
        </p:nvPicPr>
        <p:blipFill>
          <a:blip r:embed="rId2"/>
          <a:stretch/>
        </p:blipFill>
        <p:spPr>
          <a:xfrm>
            <a:off x="4572000" y="3284640"/>
            <a:ext cx="3873600" cy="290520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" descr=""/>
          <p:cNvPicPr/>
          <p:nvPr/>
        </p:nvPicPr>
        <p:blipFill>
          <a:blip r:embed="rId3"/>
          <a:stretch/>
        </p:blipFill>
        <p:spPr>
          <a:xfrm>
            <a:off x="5435640" y="907920"/>
            <a:ext cx="2386080" cy="21211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2" descr=""/>
          <p:cNvPicPr/>
          <p:nvPr/>
        </p:nvPicPr>
        <p:blipFill>
          <a:blip r:embed="rId4"/>
          <a:stretch/>
        </p:blipFill>
        <p:spPr>
          <a:xfrm>
            <a:off x="1374840" y="4292640"/>
            <a:ext cx="23097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611280" y="836640"/>
            <a:ext cx="7408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Предварительная работа. Чтение  и разучивание ролей стихотворения С.Я. Маршака «Багаж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1258920" y="2513160"/>
            <a:ext cx="2952720" cy="34290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2" descr=""/>
          <p:cNvPicPr/>
          <p:nvPr/>
        </p:nvPicPr>
        <p:blipFill>
          <a:blip r:embed="rId2"/>
          <a:stretch/>
        </p:blipFill>
        <p:spPr>
          <a:xfrm>
            <a:off x="5219640" y="2492280"/>
            <a:ext cx="289584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7:41:46Z</dcterms:created>
  <dc:creator>User</dc:creator>
  <dc:description/>
  <dc:language>en-US</dc:language>
  <cp:lastModifiedBy>Рукавицын Сергей Александрович</cp:lastModifiedBy>
  <cp:lastPrinted>2018-03-15T09:39:51Z</cp:lastPrinted>
  <dcterms:modified xsi:type="dcterms:W3CDTF">2020-11-23T06:46:32Z</dcterms:modified>
  <cp:revision>328</cp:revision>
  <dc:subject/>
  <dc:title>Начальная ступень образования: основные направления модернизации  Е.А.Лутцева, канд.пед.наук доцент АПКиППР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1c0000000000010290110207f7000400038000</vt:lpwstr>
  </property>
</Properties>
</file>