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8C1-40BA-4190-A2BD-8097C0B2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BAD-91F6-4421-95B1-DBE82AFF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8E1-0AE6-43CB-AD48-AB51095B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71D-33E3-4C4A-9E16-ADBC12F8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07860-EE97-404A-B55A-3E72EDC1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387C7-4C15-486C-A39A-DAEA5A0C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B947C-E7E0-4AC1-8735-F1ED9646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BF68E-DF7E-448C-BC41-4B808804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EFFD0-440E-469F-8D37-91623D2E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FC13B-D1FD-46F8-B862-6A342E25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2DA45-9D49-4C81-9F88-700C6B15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2A4-0F9D-439B-A123-E4C9CCAE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8D990-AD33-43BF-9095-E2422FA3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A1A9D-431A-4374-9562-B5F6E40A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D440B-3E57-4FB8-B007-7646DD0B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7C685-FEA4-40CC-8E48-99F289C2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E7B96-174B-4E38-AC85-8D40A2B8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FF3-8C52-4264-9617-5C383D4D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06C-0055-452E-BDDA-29F3FBB7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8B0-A385-4030-895D-DEB8C01C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D29-6AAD-459D-80D4-B9B9111F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30E-D74D-4795-B32B-2777BCE3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03B-6F9A-47E4-8D34-62F1536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E68-41C3-4A5B-B06E-D8512199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D085-1898-44FA-B1BD-F8C5C3F6C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3177-491F-444C-A34C-DBA46AF3E8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933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Tahoma"/>
              </a:rPr>
              <a:t>Проект </a:t>
            </a:r>
            <a:br>
              <a:rPr sz="8000"/>
            </a:br>
            <a:r>
              <a:rPr b="0" lang="ru-RU" sz="8000" spc="-1" strike="noStrike">
                <a:solidFill>
                  <a:srgbClr val="0000ff"/>
                </a:solidFill>
                <a:latin typeface="Tahoma"/>
              </a:rPr>
              <a:t>«Детская морская академия</a:t>
            </a:r>
            <a:r>
              <a:rPr b="0" lang="ru-RU" sz="6000" spc="-1" strike="noStrike">
                <a:solidFill>
                  <a:srgbClr val="0000ff"/>
                </a:solidFill>
                <a:latin typeface="Tahom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MG_0114"/>
          <p:cNvPicPr/>
          <p:nvPr/>
        </p:nvPicPr>
        <p:blipFill>
          <a:blip r:embed="rId1"/>
          <a:stretch/>
        </p:blipFill>
        <p:spPr>
          <a:xfrm>
            <a:off x="736560" y="291960"/>
            <a:ext cx="7669080" cy="572796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IMG_0135"/>
          <p:cNvPicPr/>
          <p:nvPr/>
        </p:nvPicPr>
        <p:blipFill>
          <a:blip r:embed="rId1"/>
          <a:stretch/>
        </p:blipFill>
        <p:spPr>
          <a:xfrm>
            <a:off x="736560" y="291960"/>
            <a:ext cx="7669080" cy="572796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G_0150"/>
          <p:cNvPicPr/>
          <p:nvPr/>
        </p:nvPicPr>
        <p:blipFill>
          <a:blip r:embed="rId1"/>
          <a:stretch/>
        </p:blipFill>
        <p:spPr>
          <a:xfrm>
            <a:off x="324000" y="189000"/>
            <a:ext cx="860400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IMG_0153"/>
          <p:cNvPicPr/>
          <p:nvPr/>
        </p:nvPicPr>
        <p:blipFill>
          <a:blip r:embed="rId1"/>
          <a:stretch/>
        </p:blipFill>
        <p:spPr>
          <a:xfrm>
            <a:off x="250920" y="189000"/>
            <a:ext cx="86770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Детская учебная парусная флотил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Единственное 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Санкт-Петербурге учебное объединение парусных и гребных судов самостоятельной построй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IMG_051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IMG_051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IMG_1842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IMG_2039"/>
          <p:cNvPicPr/>
          <p:nvPr/>
        </p:nvPicPr>
        <p:blipFill>
          <a:blip r:embed="rId1"/>
          <a:stretch/>
        </p:blipFill>
        <p:spPr>
          <a:xfrm>
            <a:off x="179280" y="438120"/>
            <a:ext cx="8785440" cy="587376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IMG_2126"/>
          <p:cNvPicPr/>
          <p:nvPr/>
        </p:nvPicPr>
        <p:blipFill>
          <a:blip r:embed="rId1"/>
          <a:stretch/>
        </p:blipFill>
        <p:spPr>
          <a:xfrm>
            <a:off x="395280" y="260280"/>
            <a:ext cx="8501040" cy="63756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IMG_2037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G_1766"/>
          <p:cNvPicPr/>
          <p:nvPr/>
        </p:nvPicPr>
        <p:blipFill>
          <a:blip r:embed="rId1"/>
          <a:stretch/>
        </p:blipFill>
        <p:spPr>
          <a:xfrm>
            <a:off x="1708200" y="291960"/>
            <a:ext cx="5727600" cy="572796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IMG_1049"/>
          <p:cNvPicPr/>
          <p:nvPr/>
        </p:nvPicPr>
        <p:blipFill>
          <a:blip r:embed="rId1"/>
          <a:stretch/>
        </p:blipFill>
        <p:spPr>
          <a:xfrm>
            <a:off x="1258920" y="115920"/>
            <a:ext cx="6519960" cy="651996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_2117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Морская молодежная верф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Единственна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в Санкт-Петербурге подростковая судостроительная мастерск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IMG_0110"/>
          <p:cNvPicPr/>
          <p:nvPr/>
        </p:nvPicPr>
        <p:blipFill>
          <a:blip r:embed="rId1"/>
          <a:stretch/>
        </p:blipFill>
        <p:spPr>
          <a:xfrm>
            <a:off x="324000" y="260280"/>
            <a:ext cx="8605800" cy="642780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23T14:31:41Z</dcterms:modified>
  <cp:revision>3</cp:revision>
  <dc:subject/>
  <dc:title>PowerPoint Presentation</dc:title>
</cp:coreProperties>
</file>