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FF2-3522-4D7E-BAE8-96F857CB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A08-718D-4158-A8BB-0ABA5D7E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D49-C8E6-447D-9C33-BE636168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CE4-8AB4-43C8-80BF-5B47E30F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C35-CE0F-41B1-BB9A-7F4D3E5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54E-859B-4CD7-8874-B778F9D6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5BA-D240-4335-B2B6-BA1E84F5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FF0-CDEA-43D1-ADA3-5244EF66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D52-D093-46F9-BC57-89E8A76F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681-D058-4F67-9CA6-7C52335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0CA-2F4C-42C1-9433-B02F678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8CD-22B6-4A09-A70D-F3675D39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FFC7-5F5E-4014-99C1-DC538CCD9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http://glistygplus.ru/articles/wp-content/uploads/2016/10/24288187-glisty-u-10-mesyachnogo-rebenka-priznaki.jpg"/>
          <p:cNvPicPr/>
          <p:nvPr/>
        </p:nvPicPr>
        <p:blipFill>
          <a:blip r:embed="rId1"/>
          <a:srcRect l="0" t="13941" r="1448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91090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енное бюджетное дошкольное образовательное учреждение детский сад № 11 Выборгского района Санкт – Петербурга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24000" y="393336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нструктор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удряшова Виктория Вячеслав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0" y="1268280"/>
            <a:ext cx="9144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бразовательный проек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«Здоровый образ жизн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0" y="5877000"/>
            <a:ext cx="900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https://dou8.siteedu.ru/media/sub/691/uploads/img3.jpeg"/>
          <p:cNvPicPr/>
          <p:nvPr/>
        </p:nvPicPr>
        <p:blipFill>
          <a:blip r:embed="rId2"/>
          <a:stretch/>
        </p:blipFill>
        <p:spPr>
          <a:xfrm>
            <a:off x="0" y="2997360"/>
            <a:ext cx="3583080" cy="26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27320" y="1835280"/>
            <a:ext cx="2719440" cy="2554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371760" y="2620800"/>
            <a:ext cx="22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 физкуль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9360" y="324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содействовать развитию познавательных возможностей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4221000"/>
            <a:ext cx="398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физическую  актив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5533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вовлекать в деятельность по проекту всю группу, способствовать формированию сплоченности и коллективной работы над общим д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751280" y="5084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по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5254560" y="112536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подвижная игра «Волейбо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https://ds02.infourok.ru/uploads/ex/09fd/00011b6c-3504f3eb/img9.jpg"/>
          <p:cNvPicPr/>
          <p:nvPr/>
        </p:nvPicPr>
        <p:blipFill>
          <a:blip r:embed="rId2"/>
          <a:stretch/>
        </p:blipFill>
        <p:spPr>
          <a:xfrm>
            <a:off x="6084720" y="242100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https://im0-tub-ru.yandex.net/i?id=c999482dd8bd97694bbc7be04b349c8d-l&amp;n=13"/>
          <p:cNvPicPr/>
          <p:nvPr/>
        </p:nvPicPr>
        <p:blipFill>
          <a:blip r:embed="rId3"/>
          <a:stretch/>
        </p:blipFill>
        <p:spPr>
          <a:xfrm>
            <a:off x="0" y="1197000"/>
            <a:ext cx="3191040" cy="239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2934720" y="6093000"/>
            <a:ext cx="35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v.kudryashova\Desktop\волейбол\image-04-11-20-07-56-22.jpeg"/>
          <p:cNvPicPr/>
          <p:nvPr/>
        </p:nvPicPr>
        <p:blipFill>
          <a:blip r:embed="rId1"/>
          <a:stretch/>
        </p:blipFill>
        <p:spPr>
          <a:xfrm>
            <a:off x="0" y="0"/>
            <a:ext cx="4316400" cy="243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v.kudryashova\Desktop\волейбол\image-04-11-20-08-00-1.jpeg"/>
          <p:cNvPicPr/>
          <p:nvPr/>
        </p:nvPicPr>
        <p:blipFill>
          <a:blip r:embed="rId2"/>
          <a:stretch/>
        </p:blipFill>
        <p:spPr>
          <a:xfrm>
            <a:off x="250920" y="2924280"/>
            <a:ext cx="4700520" cy="264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v.kudryashova\Desktop\волейбол\7 группа.jpg"/>
          <p:cNvPicPr/>
          <p:nvPr/>
        </p:nvPicPr>
        <p:blipFill>
          <a:blip r:embed="rId3"/>
          <a:stretch/>
        </p:blipFill>
        <p:spPr>
          <a:xfrm>
            <a:off x="5118120" y="260280"/>
            <a:ext cx="4025880" cy="526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одержимое 2"/>
          <p:cNvSpPr/>
          <p:nvPr/>
        </p:nvSpPr>
        <p:spPr>
          <a:xfrm>
            <a:off x="2916360" y="5229360"/>
            <a:ext cx="331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5796000" y="5229360"/>
            <a:ext cx="334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s://ds02.infourok.ru/uploads/ex/0a05/00089584-04136620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112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Название проект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Segoe UI Light"/>
                <a:ea typeface="Times New Roman"/>
              </a:rPr>
              <a:t>«Здоровый образ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55736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ид проект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позновательный, физкультурно-оздоровит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Продолжительность проект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: 7 дней  (краткосроч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-69120" y="2708280"/>
            <a:ext cx="9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частники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оспитанники подготовительной группы(6-7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3371760"/>
            <a:ext cx="86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сновная цел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формирование у детей представлений о здоровом образе жизни, средствах укрепления здоровья и правилах заботы о 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5724360" y="5219640"/>
            <a:ext cx="3322800" cy="163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сновные сведения о проект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0" y="5246640"/>
            <a:ext cx="3333600" cy="163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3"/>
          <a:stretch/>
        </p:blipFill>
        <p:spPr>
          <a:xfrm>
            <a:off x="2484360" y="5229360"/>
            <a:ext cx="3657600" cy="163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бразовательный проект был реализован в ГБДОУ детский сад № 11 Выборгского района Санкт-петербур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сновные сведения о проек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3958920" cy="2489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3956040" cy="246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5" descr="https://ds03.infourok.ru/uploads/ex/0217/0002869e-8424e023/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s://ds05.infourok.ru/uploads/ex/0166/00101a7d-dc0457a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95280" y="18320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Бес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идео-фи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Подвиж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76200" y="3789360"/>
            <a:ext cx="87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бразовательные  продукты проектной деятельности: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Беседа о здоровом образе жизни, видео-фильм, подвижная игра турнир по «Волейб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2400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ЗАИМОДЕЙСТВИЕ С ВОСПИТАН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В РАМКАХ РЕАЛИЗ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tvolk.ru/upload/resize_cache/iblock/097/740_540_1192681a5f6cab73449ff157c114a98bd/09786e2069d99846f8d5e2edf12318c8.png"/>
          <p:cNvPicPr/>
          <p:nvPr/>
        </p:nvPicPr>
        <p:blipFill>
          <a:blip r:embed="rId1"/>
          <a:srcRect l="50003" t="0" r="0" b="39889"/>
          <a:stretch/>
        </p:blipFill>
        <p:spPr>
          <a:xfrm>
            <a:off x="7093080" y="2349360"/>
            <a:ext cx="2374920" cy="134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1753200" y="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ЭТАПЫ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4067280" y="2089080"/>
            <a:ext cx="2305080" cy="2158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33640" y="2741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-127080" y="903240"/>
            <a:ext cx="477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интересов детей, их начальных представлений о том, что такое здоровый образ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376960" y="101124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работы по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763640" y="5013360"/>
            <a:ext cx="555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детских представлений, накопление и закрепление знаний о здоровом образе жизни через разнообразные виды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"/>
          <p:cNvPicPr/>
          <p:nvPr/>
        </p:nvPicPr>
        <p:blipFill>
          <a:blip r:embed="rId1"/>
          <a:stretch/>
        </p:blipFill>
        <p:spPr>
          <a:xfrm>
            <a:off x="6875640" y="1920960"/>
            <a:ext cx="1582560" cy="330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1587240" cy="222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251160" y="1886040"/>
            <a:ext cx="2705040" cy="2539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276720" y="2637000"/>
            <a:ext cx="25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 Худож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50920" y="18900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ероприятий, способствующих накоплению знаний у дошкольников о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46240" y="4460760"/>
            <a:ext cx="300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 активность до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003640" y="4757760"/>
            <a:ext cx="365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развитию физических возможностей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572000" y="836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-фильм на тему «Здоровый образ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347920" cy="1819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 rot="1559400">
            <a:off x="936720" y="2571480"/>
            <a:ext cx="1177920" cy="17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0T20:27:48Z</dcterms:created>
  <dc:creator>Samsung</dc:creator>
  <dc:description/>
  <dc:language>en-US</dc:language>
  <cp:lastModifiedBy>v.kudryashova</cp:lastModifiedBy>
  <dcterms:modified xsi:type="dcterms:W3CDTF">2020-11-04T17:38:55Z</dcterms:modified>
  <cp:revision>69</cp:revision>
  <dc:subject/>
  <dc:title>PowerPoint Presentation</dc:title>
</cp:coreProperties>
</file>