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DC5-9076-416E-A2CB-CE165194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9D9B-9985-43FF-9167-FEC15538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E235B-C6AC-426E-8293-12965802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548D1-9C49-46CD-A6EF-BD411B54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3BADE-291E-4C0F-ADEB-8504FA7E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90210-7C23-4511-A30A-E1856090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163B9-0E69-4A39-8C84-6E93E5B3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5F6DC-55EE-4ADF-B80D-ED4D66A3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EF239-630C-432A-892F-97BD3687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4E659-72BE-4490-A9BB-AA09A126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F0854-1200-4F4D-8563-A31AEA04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7CB-330E-4F1B-9EB6-EAAAA7F4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29E0-16A7-4718-8420-F8B94053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E7F8-0CCA-4A13-9293-7A1737E3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204F-53D4-4700-915F-5F784FEF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F057-C7E8-43F9-875E-579C2641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3BDE-EF64-4B24-8F38-6EB2056D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A4FD-9470-4410-8C29-541C2587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1315-F547-4F30-9E5D-B73DCF23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A303-FABA-48BB-9BBA-9B21DD2E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DD4-4D40-4DC5-961E-B6B91665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4FE1-62B7-4C9B-9E9D-01A9D45D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C966-1308-42FB-AB11-E1DEE5A6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5DE6-E5A5-4174-9ECE-98600DEF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8CAA-290D-43D2-88A4-CDC87C55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644F-C917-4E66-B6FB-73BBA0BD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862F1-BB6E-42A0-A22B-70E6D89A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89B84-FE42-42FD-9D1B-103B188B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44C9A-3179-44D8-97AF-71F915E4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5B14A-EC57-4AD8-8606-8BAE88CE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EC49C-9129-4D91-AB77-BD0B6D5F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6DA-CA89-43AA-97B0-2AE05B29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891ED-CF31-40EE-86BB-D9808627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424BC-1473-4184-8281-E9DE09F2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4DE5A-931B-4737-8183-403EBC5E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A24C0-E22C-45CC-839A-465B3DB6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1202E-B466-453B-BA31-E22BE521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CE17C-05AE-4F95-93D0-878F8202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0CB97-2478-41FB-8587-A66ABEFA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104D8-8D48-4F3C-9E2C-4FF0694E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DC662-6197-4A3B-B105-190482DF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789FB-ED22-44B8-884E-636B2040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EEE-3A3D-4CB2-BAAF-8DE63AB9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1B49E-4555-4097-8F98-398C3158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6EBBE-B582-4FCC-A4A7-456A4986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62336-425F-405F-A24D-4E2A2978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BDB98-38A7-462C-8BBD-8DAB5849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88B8A-6879-476D-9E25-BBCE42DF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517D3-4E3E-4064-80F4-281ADAE0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32B16-0ED3-419F-9DE4-3EC36E93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203DC-8D53-449B-A680-D2DA1C9A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59461-385D-4DEA-B41A-5C122857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9BAEF-492A-4546-AF45-FD02F848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E92-6C14-48F8-B9EF-EDC58115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F032A-C982-4989-87E9-5CAB89D1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A8F2C-D162-468C-8484-2F295970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0CDB0-B6BE-4B87-9986-90C25EE0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C27F7-5A55-447E-98D6-87D3EFEB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8C795-718D-4018-A3B9-49CE486A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87E63-31A1-4615-BC49-191144A5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AAD9C-4447-4792-82B0-A5594E1D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ECDF6-002B-47B5-910D-B3247CC2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9BE90-B6BC-43E9-BA43-62558C62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6FBE6-18FC-4B9A-8A02-9D62C1BF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E10-D68B-4C2F-9C61-294046A8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FBB44-CFCD-43A1-A00E-BAE575F6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5EB65-AB8C-4564-A8B8-E934A2AF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84DEF-C4B3-49C1-AEE9-868E0F52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B7369-D241-4F90-A4A1-1BB6C29D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2329F-DA96-4974-AA9D-406BFEEA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E3137-B69E-45BA-8E54-BB2D4D06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4A9D0-B10C-4004-BE31-3D1483EB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AB34A-2CFE-4215-9819-EA3C35BB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CC92A-F0FF-4771-B56F-DF1345CB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35CEB-7993-45BD-89BA-E19EBB2B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4E6E-0D26-4360-A5F8-9F4FF9CD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AC6CC-E7DE-4F43-B513-767B5AA5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16EF2-57E7-49BE-B1A7-040D8939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6A79B-631A-4AFF-B272-CFBB9D15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6C44D-E1FD-443D-9ACD-EE716607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97D35-CA92-4504-AAF7-1594A815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3A638-B995-4878-84D3-C88AD8E4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F4F37-170B-45C3-BA38-95ECC30F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E9CD9-8096-4547-A833-7341746F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875B6-312E-4609-A2F0-A9CF8EBE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51D87-84F9-48F0-87A1-8B982604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402-2CBC-4BFC-8FF5-866164C5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5E6C8-B085-4577-8A78-15751C1C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EAEA0-91E3-47CB-B206-005410DE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EDA42-626B-4BF9-B861-9D258A79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B1912-F19A-4582-A43C-49C7E1BC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63B9B-058D-4386-8D19-3BFAC207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932D3-85D8-435C-AE69-DB20E764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90FB9-EA97-481B-9EA4-955E965B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2755D-B521-4FFC-993B-65D3E2B0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F7E65-F79C-4B10-84AF-9A9341ED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B30F2-F36D-4DC4-855A-D2E98F75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2969-3C04-452E-B155-89B8883B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74E12-C232-4B75-A98E-3AD77784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9934B-0BFB-4737-954E-93A8F772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BE2DF-53DD-4357-AA48-7F2FE99C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981AD-4480-4438-8816-493A3EBC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31B0C-58F4-4756-9BAC-055F6854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FA78A-521E-41FF-8C47-F3D98A09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7222D-ABFD-421C-8ADB-F226D71C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1EACA-1BFC-45EC-A5FF-E08DD903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1E649-EC72-4BD5-B7BF-E1B088F9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CD1B0-2575-4200-AAC6-99D73B77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C0CF-24EF-4D6B-840D-34386522E69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A8A3-61BF-46D7-8CE9-F30D091FF4B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E25C-6A40-48A1-877C-667875A1D71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44AD-BBA0-4344-A293-8276DEF6C7C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3CAD-034F-4B54-9DD4-0F687A9645F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6B8B-5B1A-4828-BFA8-D44ED9ECA31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E17F-053B-4CC2-8806-7EEC325E038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CC99-7855-44CE-A63D-740B90940E0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C433-F62C-4516-801C-B856B954455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86;&#1094;&#1080;&#1072;&#1083;&#1100;&#1085;&#1086;&#1077;_&#1087;&#1086;&#1083;&#1086;&#1078;&#1077;&#1085;&#1080;&#1077;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6" descr=""/>
          <p:cNvPicPr/>
          <p:nvPr/>
        </p:nvPicPr>
        <p:blipFill>
          <a:blip r:embed="rId1"/>
          <a:stretch/>
        </p:blipFill>
        <p:spPr>
          <a:xfrm>
            <a:off x="2066760" y="1920960"/>
            <a:ext cx="6869160" cy="2717640"/>
          </a:xfrm>
          <a:prstGeom prst="rect">
            <a:avLst/>
          </a:prstGeom>
          <a:ln w="0">
            <a:noFill/>
          </a:ln>
        </p:spPr>
      </p:pic>
      <p:sp>
        <p:nvSpPr>
          <p:cNvPr id="400" name="TextBox 2"/>
          <p:cNvSpPr/>
          <p:nvPr/>
        </p:nvSpPr>
        <p:spPr>
          <a:xfrm>
            <a:off x="1071720" y="50004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лыванская средняя общеобразовательная школа № 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5" descr="https://sun9-57.userapi.com/c845416/v845416246/25400/5s9XZE1Gyf8.jpg"/>
          <p:cNvPicPr/>
          <p:nvPr/>
        </p:nvPicPr>
        <p:blipFill>
          <a:blip r:embed="rId2"/>
          <a:stretch/>
        </p:blipFill>
        <p:spPr>
          <a:xfrm>
            <a:off x="214200" y="1143000"/>
            <a:ext cx="15717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b050"/>
                </a:solidFill>
                <a:uFillTx/>
                <a:latin typeface="Franklin Gothic Book"/>
              </a:rPr>
              <a:t>ОБРАЗ САМСОНА  ВЫРИ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- Назовите главного героя повести «Станционный смотритель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- Что вы можете сказать о его молодости, кем он был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- Каким мы видим Самсона Вырина в начале повест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ырин  в прошлом – солдат. Докажите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репкий мужчина лет 50, живущий на станции со своей дочерью Дуней. Он простодушный человек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ырин выглядел «свежим и бодрым», несмотря на нелегкую работу и грубое  обращение с ним проезжающих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Сущий мученик 14 класса, огражденный своим чином токмо от побоев, и то не всегда»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ырин – мелкий чиновник, бедный и бесправный человек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50"/>
                </a:solidFill>
                <a:latin typeface="Franklin Gothic Book"/>
              </a:rPr>
              <a:t> 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50004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Franklin Gothic Book"/>
              </a:rPr>
              <a:t>-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йдите в повести другой портрет этого геро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изменилось в этом человек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Он постарел. Седина, глубокие морщины давно небритого лица, сгорбленная спина, хилый старик».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2"/>
          <p:cNvSpPr/>
          <p:nvPr/>
        </p:nvSpPr>
        <p:spPr>
          <a:xfrm>
            <a:off x="4284720" y="5373720"/>
            <a:ext cx="46814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несчастл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179280" y="5450040"/>
            <a:ext cx="4103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частли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гордится своей дочер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4282920" y="2000160"/>
            <a:ext cx="4681800" cy="34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«как он постарел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«я смотрел на его седину, на глубокие морщины давно небритого лица, на сгорбленную спину – и не мог надивиться, как три или четыре года могли превратить бодрого мужчину в хилого стар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179280" y="2000160"/>
            <a:ext cx="4103640" cy="34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«хозяин, человек лет пятидесяти, свежий и бодр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282920" y="1482840"/>
            <a:ext cx="46818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819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179280" y="1482840"/>
            <a:ext cx="4103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ай 181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3"/>
          <p:cNvSpPr/>
          <p:nvPr/>
        </p:nvSpPr>
        <p:spPr>
          <a:xfrm>
            <a:off x="179280" y="1482840"/>
            <a:ext cx="87854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4"/>
          <p:cNvSpPr/>
          <p:nvPr/>
        </p:nvSpPr>
        <p:spPr>
          <a:xfrm>
            <a:off x="179280" y="2000160"/>
            <a:ext cx="878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5"/>
          <p:cNvSpPr/>
          <p:nvPr/>
        </p:nvSpPr>
        <p:spPr>
          <a:xfrm>
            <a:off x="179280" y="5450040"/>
            <a:ext cx="878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6"/>
          <p:cNvSpPr/>
          <p:nvPr/>
        </p:nvSpPr>
        <p:spPr>
          <a:xfrm>
            <a:off x="179280" y="6675480"/>
            <a:ext cx="87854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7"/>
          <p:cNvSpPr/>
          <p:nvPr/>
        </p:nvSpPr>
        <p:spPr>
          <a:xfrm>
            <a:off x="179280" y="1482840"/>
            <a:ext cx="0" cy="5192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8"/>
          <p:cNvSpPr/>
          <p:nvPr/>
        </p:nvSpPr>
        <p:spPr>
          <a:xfrm>
            <a:off x="4282920" y="1482840"/>
            <a:ext cx="0" cy="519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9"/>
          <p:cNvSpPr/>
          <p:nvPr/>
        </p:nvSpPr>
        <p:spPr>
          <a:xfrm>
            <a:off x="8964720" y="1482840"/>
            <a:ext cx="0" cy="5192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1"/>
          <p:cNvSpPr/>
          <p:nvPr/>
        </p:nvSpPr>
        <p:spPr>
          <a:xfrm>
            <a:off x="1357200" y="214200"/>
            <a:ext cx="576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авните два портр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сона Выр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28760" y="142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УНЯ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Найти и прочитать описание портрета Дун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Как ведет себя Дуня с проезжающими?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Что о ней говорит отец?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кие между ними сложились отношения?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</a:t>
            </a:r>
            <a:r>
              <a:rPr b="1" i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ец гордится такой дочерью, он вырастил ее без матери, всему научил сам. Она помощница, создала уют в доме. Благодаря своей красоте, отводит от отца удары, защищает от оскорблений. И пока им вместе хорошо</a:t>
            </a: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50004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сон Вырин и Минский в гостиничном номер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Какой была первая встреча Вырина с Минским в Петербурге?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Чтение сцены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ведет себя Минский?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спыхивает, извиняется, дает деньги, клянется в верности Дуне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жно ли считать данное покаяние Минского настоящим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50004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сон Вырин и Минский в гостиничном номер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чем говорят герои?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 Дуне, о ее счастье, о том, кому она должна принадлежать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ие аргументы приводит каждый, объясняя, почему Дуня должна принадлежать именно ему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Какую ошибку допускает Минский? Что, по-вашему, он должен был сделать, чтобы наладить отношения с отцом любимой женщины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713880" y="713880"/>
            <a:ext cx="4248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 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чему Вырин делает вторую попытку встретиться с дочерью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5000760" y="2286000"/>
            <a:ext cx="34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2. Как живёт его дочь в Петербург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71680" y="328608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3. Почему же Самсон Вырин не рад счастью дочер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3429000" y="4786200"/>
            <a:ext cx="51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4. Почему Дуня, увидев отца, не обрадовалась, не упала на колени и не стала просить прощения, а испугалась и упала в обмор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5"/>
          <p:cNvSpPr/>
          <p:nvPr/>
        </p:nvSpPr>
        <p:spPr>
          <a:xfrm>
            <a:off x="179280" y="241200"/>
            <a:ext cx="879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214200" y="52056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Чему учит нас повес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Повесть учит уважать и любить человека, учит умению сочувствовать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О чем эта повес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Эта повесть о глубокой отцовской любви. О дочерней неблагодарн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50004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Нравственные уроки повести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важай и чти своих родителей за то, что они дали вам жизнь и воспитали вас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ловом и делом выражай свое почтени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Будь послушный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е ропщи на наказани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овремя покайся в своих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шибках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 нужде и старости ухаживай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 корми их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9"/>
          <p:cNvSpPr/>
          <p:nvPr/>
        </p:nvSpPr>
        <p:spPr>
          <a:xfrm>
            <a:off x="395280" y="3524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5"/>
          <p:cNvSpPr/>
          <p:nvPr/>
        </p:nvSpPr>
        <p:spPr>
          <a:xfrm>
            <a:off x="214200" y="357120"/>
            <a:ext cx="850104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.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знакомить школьников с содержанием повести, понятием «маленький человек» в литерату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раскрыть идейно – художественное своеобразие пове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.обучение анализу художественного произвед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. воспитывать почитание и уважение к родителям, умение признавать свои ошибки и прощать други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6" descr=""/>
          <p:cNvPicPr/>
          <p:nvPr/>
        </p:nvPicPr>
        <p:blipFill>
          <a:blip r:embed="rId1"/>
          <a:stretch/>
        </p:blipFill>
        <p:spPr>
          <a:xfrm>
            <a:off x="1036800" y="-19080"/>
            <a:ext cx="7935840" cy="19447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714680"/>
            <a:ext cx="8686800" cy="43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о-первых, потому что он не верит в прочность случайного союза Дуни, несмотря на увиденное богатое и обеспеченное её жить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о-вторых, Вырин несчастлив, потому что перед нами трагедия обманутого доверия. Он слишком много вложил в свою любовь к дочери, которая предала его ради личного счастья, забыла того, кто ее родил, кормил и воспитал. Дуня не смогла найти в новой жизни место для отца…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C:\Documents and Settings\1\Рабочий стол\Вернисаж\Копия images (1).jpg"/>
          <p:cNvPicPr/>
          <p:nvPr/>
        </p:nvPicPr>
        <p:blipFill>
          <a:blip r:embed="rId1"/>
          <a:stretch/>
        </p:blipFill>
        <p:spPr>
          <a:xfrm>
            <a:off x="5572080" y="285840"/>
            <a:ext cx="3052800" cy="17319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http://img0.liveinternet.ru/images/attach/c/4/79/720/79720662_0_5a2f7_cb9faf16_XLjpg.png"/>
          <p:cNvPicPr/>
          <p:nvPr/>
        </p:nvPicPr>
        <p:blipFill>
          <a:blip r:embed="rId2"/>
          <a:stretch/>
        </p:blipFill>
        <p:spPr>
          <a:xfrm>
            <a:off x="357120" y="0"/>
            <a:ext cx="7858080" cy="69390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 rot="19797600">
            <a:off x="649080" y="3123720"/>
            <a:ext cx="530064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e3b30"/>
                </a:solidFill>
                <a:latin typeface="Century"/>
              </a:rPr>
              <a:t>СПАСИБО </a:t>
            </a:r>
            <a:br>
              <a:rPr sz="7200"/>
            </a:br>
            <a:r>
              <a:rPr b="0" lang="ru-RU" sz="7200" spc="-1" strike="noStrike">
                <a:solidFill>
                  <a:srgbClr val="4e3b30"/>
                </a:solidFill>
                <a:latin typeface="Century"/>
              </a:rPr>
              <a:t>ЗА УРОК!</a:t>
            </a:r>
            <a:endParaRPr b="0" lang="en-US" sz="72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5712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Служащих, кто отвечал за эту работу, называли станционными смотрителя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Wingdings"/>
                <a:ea typeface="Wingdings"/>
              </a:rPr>
              <a:t>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Смотритель</a:t>
            </a:r>
            <a:r>
              <a:rPr b="1" i="1" lang="ru-RU" sz="3200" spc="-1" strike="noStrike">
                <a:solidFill>
                  <a:srgbClr val="00b050"/>
                </a:solidFill>
                <a:latin typeface="Comic Sans MS"/>
              </a:rPr>
              <a:t> – должностное лицо по присмотру, охранению чего-нибуд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428400"/>
            <a:ext cx="8229600" cy="48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030a0"/>
                </a:solidFill>
                <a:latin typeface="Franklin Gothic Book"/>
              </a:rPr>
              <a:t>      </a:t>
            </a:r>
            <a:r>
              <a:rPr b="1" i="1" lang="ru-RU" sz="33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Историческая справка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деревне Выра Ленинградской области находится первый в нашей стране музей художественного героя «Домик станционного смотрителя». Музей открыт в 1972 году. Не менее тринадцати раз на Вырской почтовой станции бывал А.С.Пушкин, и народное предание связано с повестью «Станционный смотритель». 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85840" y="1213920"/>
            <a:ext cx="85010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      </a:t>
            </a: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Имя станционного смотрителя – Самсон Вырин – образовано от названия деревни и почтовой станции. Из архивных документов известно, что на Вырской станции действительно в течение многих лет служил смотритель с дочерью. В музее воссоздана обстановка, характерная для почтовых станций пушкинского времени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285480" y="35712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Franklin Gothic Book"/>
              </a:rPr>
              <a:t>«Повести Белкина»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«Выстрел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«Барыня- крестьянка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Станционный смотритель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«Метель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«Гробовщик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50004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Franklin Gothic Book"/>
              </a:rPr>
              <a:t>          </a:t>
            </a:r>
            <a:r>
              <a:rPr b="1" lang="ru-RU" sz="2800" spc="-1" strike="noStrike">
                <a:solidFill>
                  <a:srgbClr val="006600"/>
                </a:solidFill>
                <a:latin typeface="Franklin Gothic Book"/>
              </a:rPr>
              <a:t>Повесть «Станционный смотритель» занимает значительное место в творчестве А.С.Пушкина. В ней изображены жизненные невзгоды, боль и страдание того, кого называют «маленьким человеком»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  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«Маленький человек» </a:t>
            </a:r>
            <a:r>
              <a:rPr b="1" i="1" lang="ru-RU" sz="2800" spc="-1" strike="noStrike">
                <a:solidFill>
                  <a:srgbClr val="006600"/>
                </a:solidFill>
                <a:latin typeface="Franklin Gothic Book"/>
              </a:rPr>
              <a:t>- это человек невысокого </a:t>
            </a:r>
            <a:r>
              <a:rPr b="0" lang="ru-RU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1"/>
              </a:rPr>
              <a:t>социального положения</a:t>
            </a:r>
            <a:r>
              <a:rPr b="1" i="1" lang="ru-RU" sz="2800" spc="-1" strike="noStrike">
                <a:solidFill>
                  <a:srgbClr val="006600"/>
                </a:solidFill>
                <a:latin typeface="Franklin Gothic Book"/>
              </a:rPr>
              <a:t> и происхождения, не одаренный выдающимися способностями, не отличающийся силой характера, но при этом добрый, никому не делающий зла, безобидный.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287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аленький» человек в литературе-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это не только человек низкого чина, без высокого социального статуса, но и человек потерявшийся в жизни, испытывающий страх перед нею, утративший интерес и смысл своего существова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5"/>
          <p:cNvSpPr/>
          <p:nvPr/>
        </p:nvSpPr>
        <p:spPr>
          <a:xfrm>
            <a:off x="179280" y="241200"/>
            <a:ext cx="879804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 Black"/>
              </a:rPr>
              <a:t>Устаревшие слова и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оллежский регистратор – чиновник низшего (14)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одьячий - младший чиновник в допетровской Ру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Фельдъегерь - правительственный курь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одорожная - документ на право пользования казенными лоша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а перекладных - меняя лошадей на каждой ста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рогоны - плата за пользование лоша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7:41:20Z</dcterms:created>
  <dc:creator>Пользователь</dc:creator>
  <dc:description/>
  <dc:language>en-US</dc:language>
  <cp:lastModifiedBy>Наташа</cp:lastModifiedBy>
  <dcterms:modified xsi:type="dcterms:W3CDTF">2020-11-23T10:40:08Z</dcterms:modified>
  <cp:revision>25</cp:revision>
  <dc:subject/>
  <dc:title>Слайд 1</dc:title>
</cp:coreProperties>
</file>