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3735-FDB7-4D89-BDAF-ED75DB2C7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58EA-6532-4C42-B265-01A22B0F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97E218-0B89-4EAD-9A73-B0143D4C9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30090F-F07C-41C9-B219-046712A2B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EC3957-A554-46D3-9BEB-9F1AA8C0D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3D11B6-86C5-4411-B4B9-661DB311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725D2C-EB9F-4FE6-AB89-3C956185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F50651-D071-42F5-8C25-3F944634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A59597-36C0-471E-B0A9-869F32516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1734EE-D834-4854-B931-B6E81A350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58F86A-6EED-474D-8059-AB6CF79A6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BA74-AC4F-4AFD-A0B9-C299097B9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3D44-A828-4D07-8E2A-B2941DEA6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F3D31-3A14-483C-822C-33B4DC6BF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63524-B667-4FDA-9221-FF9D8A830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BB6C5-31EF-4A88-8395-7E44E1213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7A2F7-3DA0-4E43-B788-352040224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29893-A84C-4CAE-AA6C-517592D48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E27F1-B39C-432F-AC2E-8DFB7A90C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79079-8AA7-4AA3-936D-BD32CD7D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5AA5-4DAB-4BDA-862D-23073FC22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C3627-858D-4B68-909A-360780EF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9AD53-4C29-4198-97C2-313B68BA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9CAA4-D0CA-4674-9F96-A941EC2B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A8A6C-8FD7-49E6-925A-D0415C4F4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53F80-0886-4CFC-866B-8531632AD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53168-C0C1-407D-B2EC-CBBA9DC51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C71D9-E51A-4A66-AC86-C17A80953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057FB-293F-43D6-BC92-8156DACFC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759B8-A7B7-4FBF-9241-DEF5BB27C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E8F3A-EBF2-4F79-8E30-152B98B5A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1233-2E5C-4F79-B649-39652184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5BCE9-B230-4046-9259-7520071FA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5EE26-CCC5-4409-B2BE-21CE047B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95100-41AD-4A75-B040-B4351561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DD268-C87B-4FBF-ABE5-0C8BF3B1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F319A-6620-4B70-8B2C-0601EFF4F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1C027-9322-47CD-AD33-5132FD0A6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FB8B1-BF3C-4B58-9A75-3548BD546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91B96-36B2-4E80-9DA8-A96168E90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9DE58-9F05-4F04-ADC8-1A68C8990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E2B5C-A2F7-49CE-B58D-0453E635B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C14F-13D2-4A12-9AEB-726ED5963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FF12B-9BEF-4E9F-9AF5-A18FA5AD7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3EA1E-77B7-44EB-9604-28D5089CC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C993D-0FD0-420A-8045-17BAD371F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61EAE-1853-4697-BEAA-60FF3E8A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9C80E-B8FD-4A5B-A7B4-A7ED809C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A4246-E767-479D-BC59-8176C898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C4E36-A627-455D-B4F2-3A0F52788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C6FB3-CB1E-43FC-982E-3C7112895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6539A-8671-4F7F-BEF3-DA2CDECEA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96462-DB97-4124-B55F-9395F5DC5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6C30-3DEF-4906-A8EA-76DF1514D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EF479-48A3-47A6-A7AA-9207B24CE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A44C0-9DA9-4BBA-B66C-3245D030C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220C0-F6F1-44A7-9CAA-DA140CAFC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3B86A-8A67-42F7-A18C-189B8C99F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11A96-FC41-4CC4-8639-253549F5A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3BADF-60CC-42DF-A25F-8EB94451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FDF46-F740-466D-BCC0-12C85AD9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EAA0C-6A0C-4D08-BAE5-355C59B1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7F1B1-93A2-44A6-8050-3C70B21A4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9ED15-4B2F-4825-92C5-6B2B96F1D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2A97-E83B-48E9-B1EC-68C5D176C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658B3-82F1-4038-84D3-92A33AE2C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7A19C-761B-402F-A5C5-FC20FFCFE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A5BAC-0D6E-4655-AAE7-F6EEA2568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C7A7C3-B85B-4978-AD78-4B128AA76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5B6FE-3219-477B-82D7-EF05BBD7F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9DD8A-B094-49D6-8494-DCF2745D8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661EE1-693D-4DE8-805D-71DAD855F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2C7E6-3FB6-47DC-A38F-CD2EFF86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FDA77-4406-414B-A3DF-F4E36BCF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F4A48-1E8F-4170-93A0-13052EC8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ED56-7502-4EA2-812B-F659CC30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372D4-9FEB-43A6-8C38-B04874D9B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33499-B592-42CC-8D39-B364EF820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F3FCD2-D6C6-40B7-83D1-F442582BE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CAFDD3-C6F8-43BD-BC14-D359475EA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A4502-C0B7-44B4-80CD-3213469B4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CE668B-EAEB-4BA2-8CD7-452763E0D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51ACCC-0B3B-4819-BE40-EA0A7316E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30C77-FE8B-4C93-BA9D-FBCC37A11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148D05-EFBB-483F-93FA-E745843CC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E279DC-240F-482E-A769-04DBCF2B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62BA-5081-4146-9C6D-605AAD59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0F360-2B01-4F5E-9FD0-CCC1C0D4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07452-8B8A-4D5D-A210-7E20089F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A918E3-23F7-4826-83DA-37DA0060A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FAE04-9B4E-4FD0-A573-5362DCA31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3B69C4-D053-4C2B-8DE8-11A332E34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4985A-1309-4027-BD44-164FBE158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A89B6-D85E-4BC6-B84B-3FD06D944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DBDF9B-BDCF-4AE8-A33C-34E5B5C13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EA1AB0-A241-4DDC-AF94-970BEC5B5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917A9B-CE03-4ED2-AD07-A690232DE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4396-757B-4B6D-A8B0-5C442163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58E8C4-4AFA-42D4-B8FE-5741670E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8C5D6-07AD-44E2-9C79-A3CBF50A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BAA7AA-59F6-420A-A134-E08D999A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8DD137-9195-4569-9802-94808E59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549F19-54D6-4227-80EB-84BED72C8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EA0C6E-FBBA-408C-A412-3C80F8D2D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C12CFB-D28B-4557-961D-5A6EE6847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28ECAC-AA87-4EFC-8821-3F1DB1D6D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81719B-4C4A-4A10-A3ED-AD9DCEE94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B2E4DF-67D5-4667-907D-227EA76E0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66722-A14B-4F38-8880-28F8AB9250AA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76A6B-4BF8-410E-8386-ED1BC6AD32C6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D33C3-1E92-42C8-967A-09F6FF15292D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FA612-175C-4933-9C5E-161077ED45B1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1C9A8-5137-4F28-9D88-BECE38B7266C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A7DF2-B95D-426E-B2FC-F67E15D3E89C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D9F95-5B22-4001-B850-946470F87C8B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C87ED-233E-42AC-A204-BA354328B975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7B9D5-09B0-4072-ADE6-D4D689BAD0D4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7;&#1086;&#1094;&#1080;&#1072;&#1083;&#1100;&#1085;&#1086;&#1077;_&#1087;&#1086;&#1083;&#1086;&#1078;&#1077;&#1085;&#1080;&#1077;" TargetMode="External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6" descr=""/>
          <p:cNvPicPr/>
          <p:nvPr/>
        </p:nvPicPr>
        <p:blipFill>
          <a:blip r:embed="rId1"/>
          <a:stretch/>
        </p:blipFill>
        <p:spPr>
          <a:xfrm>
            <a:off x="2066760" y="1920960"/>
            <a:ext cx="6869160" cy="2717640"/>
          </a:xfrm>
          <a:prstGeom prst="rect">
            <a:avLst/>
          </a:prstGeom>
          <a:ln w="0">
            <a:noFill/>
          </a:ln>
        </p:spPr>
      </p:pic>
      <p:sp>
        <p:nvSpPr>
          <p:cNvPr id="400" name="TextBox 2"/>
          <p:cNvSpPr/>
          <p:nvPr/>
        </p:nvSpPr>
        <p:spPr>
          <a:xfrm>
            <a:off x="1071720" y="500040"/>
            <a:ext cx="71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ниципальное бюджетное обще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Колыванская средняя общеобразовательная школа № 1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25" descr="https://sun9-57.userapi.com/c845416/v845416246/25400/5s9XZE1Gyf8.jpg"/>
          <p:cNvPicPr/>
          <p:nvPr/>
        </p:nvPicPr>
        <p:blipFill>
          <a:blip r:embed="rId2"/>
          <a:stretch/>
        </p:blipFill>
        <p:spPr>
          <a:xfrm>
            <a:off x="214200" y="1143000"/>
            <a:ext cx="157176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b050"/>
                </a:solidFill>
                <a:uFillTx/>
                <a:latin typeface="Franklin Gothic Book"/>
              </a:rPr>
              <a:t>ОБРАЗ САМСОНА  ВЫРИН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Franklin Gothic Book"/>
              </a:rPr>
              <a:t>- Назовите главного героя повести «Станционный смотритель»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Franklin Gothic Book"/>
              </a:rPr>
              <a:t>- Что вы можете сказать о его молодости, кем он был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Franklin Gothic Book"/>
              </a:rPr>
              <a:t>- Каким мы видим Самсона Вырина в начале повести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500040" y="107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ырин  в прошлом – солдат. Докажите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репкий мужчина лет 50, живущий на станции со своей дочерью Дуней. Он простодушный человек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 </a:t>
            </a:r>
            <a:r>
              <a:rPr b="1" lang="ru-RU" sz="2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ырин выглядел «свежим и бодрым», несмотря на нелегкую работу и грубое  обращение с ним проезжающих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«Сущий мученик 14 класса, огражденный своим чином токмо от побоев, и то не всегда». 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ырин – мелкий чиновник, бедный и бесправный человек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b050"/>
                </a:solidFill>
                <a:latin typeface="Franklin Gothic Book"/>
              </a:rPr>
              <a:t> 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500040" y="500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Franklin Gothic Book"/>
              </a:rPr>
              <a:t>-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йдите в повести другой портрет этого геро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о изменилось в этом человеке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«Он постарел. Седина, глубокие морщины давно небритого лица, сгорбленная спина, хилый старик».</a:t>
            </a:r>
            <a:br>
              <a:rPr sz="3200"/>
            </a:b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12"/>
          <p:cNvSpPr/>
          <p:nvPr/>
        </p:nvSpPr>
        <p:spPr>
          <a:xfrm>
            <a:off x="4284720" y="5373720"/>
            <a:ext cx="468144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несчастли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1"/>
          <p:cNvSpPr/>
          <p:nvPr/>
        </p:nvSpPr>
        <p:spPr>
          <a:xfrm>
            <a:off x="179280" y="5450040"/>
            <a:ext cx="410364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счастли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гордится своей дочерь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0"/>
          <p:cNvSpPr/>
          <p:nvPr/>
        </p:nvSpPr>
        <p:spPr>
          <a:xfrm>
            <a:off x="4282920" y="2000160"/>
            <a:ext cx="4681800" cy="34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«как он постарел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«я смотрел на его седину, на глубокие морщины давно небритого лица, на сгорбленную спину – и не мог надивиться, как три или четыре года могли превратить бодрого мужчину в хилого стари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9"/>
          <p:cNvSpPr/>
          <p:nvPr/>
        </p:nvSpPr>
        <p:spPr>
          <a:xfrm>
            <a:off x="179280" y="2000160"/>
            <a:ext cx="4103640" cy="34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«хозяин, человек лет пятидесяти, свежий и бодры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8"/>
          <p:cNvSpPr/>
          <p:nvPr/>
        </p:nvSpPr>
        <p:spPr>
          <a:xfrm>
            <a:off x="4282920" y="1482840"/>
            <a:ext cx="46818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1819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7"/>
          <p:cNvSpPr/>
          <p:nvPr/>
        </p:nvSpPr>
        <p:spPr>
          <a:xfrm>
            <a:off x="179280" y="1482840"/>
            <a:ext cx="41036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Май 1816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13"/>
          <p:cNvSpPr/>
          <p:nvPr/>
        </p:nvSpPr>
        <p:spPr>
          <a:xfrm>
            <a:off x="179280" y="1482840"/>
            <a:ext cx="878544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14"/>
          <p:cNvSpPr/>
          <p:nvPr/>
        </p:nvSpPr>
        <p:spPr>
          <a:xfrm>
            <a:off x="179280" y="2000160"/>
            <a:ext cx="8785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15"/>
          <p:cNvSpPr/>
          <p:nvPr/>
        </p:nvSpPr>
        <p:spPr>
          <a:xfrm>
            <a:off x="179280" y="5450040"/>
            <a:ext cx="8785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6"/>
          <p:cNvSpPr/>
          <p:nvPr/>
        </p:nvSpPr>
        <p:spPr>
          <a:xfrm>
            <a:off x="179280" y="6675480"/>
            <a:ext cx="878544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17"/>
          <p:cNvSpPr/>
          <p:nvPr/>
        </p:nvSpPr>
        <p:spPr>
          <a:xfrm>
            <a:off x="179280" y="1482840"/>
            <a:ext cx="0" cy="51926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8"/>
          <p:cNvSpPr/>
          <p:nvPr/>
        </p:nvSpPr>
        <p:spPr>
          <a:xfrm>
            <a:off x="4282920" y="1482840"/>
            <a:ext cx="0" cy="519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9"/>
          <p:cNvSpPr/>
          <p:nvPr/>
        </p:nvSpPr>
        <p:spPr>
          <a:xfrm>
            <a:off x="8964720" y="1482840"/>
            <a:ext cx="0" cy="51926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21"/>
          <p:cNvSpPr/>
          <p:nvPr/>
        </p:nvSpPr>
        <p:spPr>
          <a:xfrm>
            <a:off x="1357200" y="214200"/>
            <a:ext cx="576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равните два портре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амсона Выри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500"/>
                            </p:stCondLst>
                            <p:childTnLst>
                              <p:par>
                                <p:cTn id="8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428760" y="142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ДУНЯ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- Найти и прочитать описание портрета Дуни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- Как ведет себя Дуня с проезжающими?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- Что о ней говорит отец?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Какие между ними сложились отношения?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</a:t>
            </a:r>
            <a:r>
              <a:rPr b="1" i="1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тец гордится такой дочерью, он вырастил ее без матери, всему научил сам. Она помощница, создала уют в доме. Благодаря своей красоте, отводит от отца удары, защищает от оскорблений. И пока им вместе хорошо</a:t>
            </a:r>
            <a:r>
              <a:rPr b="1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)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500040" y="285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амсон Вырин и Минский в гостиничном номере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Какой была первая встреча Вырина с Минским в Петербурге? </a:t>
            </a:r>
            <a:r>
              <a:rPr b="1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 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Чтение сцены)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 ведет себя Минский? 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</a:t>
            </a:r>
            <a:r>
              <a:rPr b="1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спыхивает, извиняется, дает деньги, клянется в верности Дуне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)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жно ли считать данное покаяние Минского настоящим?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500040" y="357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амсон Вырин и Минский в гостиничном номер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-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 чем говорят герои? 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</a:t>
            </a:r>
            <a:r>
              <a:rPr b="1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 Дуне, о ее счастье, о том, кому она должна принадлежать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-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ие аргументы приводит каждый, объясняя, почему Дуня должна принадлежать именно ему?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Какую ошибку допускает Минский? Что, по-вашему, он должен был сделать, чтобы наладить отношения с отцом любимой женщины?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713880" y="713880"/>
            <a:ext cx="4248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1. 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Почему Вырин делает вторую попытку встретиться с дочерью?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Text Box 16"/>
          <p:cNvSpPr/>
          <p:nvPr/>
        </p:nvSpPr>
        <p:spPr>
          <a:xfrm>
            <a:off x="5000760" y="2286000"/>
            <a:ext cx="341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2. Как живёт его дочь в Петербург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7"/>
          <p:cNvSpPr/>
          <p:nvPr/>
        </p:nvSpPr>
        <p:spPr>
          <a:xfrm>
            <a:off x="571680" y="3286080"/>
            <a:ext cx="37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3. Почему же Самсон Вырин не рад счастью дочер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8"/>
          <p:cNvSpPr/>
          <p:nvPr/>
        </p:nvSpPr>
        <p:spPr>
          <a:xfrm>
            <a:off x="3429000" y="4786200"/>
            <a:ext cx="51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4. Почему Дуня, увидев отца, не обрадовалась, не упала на колени и не стала просить прощения, а испугалась и упала в обморо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8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 Box 5"/>
          <p:cNvSpPr/>
          <p:nvPr/>
        </p:nvSpPr>
        <p:spPr>
          <a:xfrm>
            <a:off x="179280" y="241200"/>
            <a:ext cx="879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4"/>
          <p:cNvSpPr/>
          <p:nvPr/>
        </p:nvSpPr>
        <p:spPr>
          <a:xfrm>
            <a:off x="214200" y="520560"/>
            <a:ext cx="8643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Calibri"/>
              </a:rPr>
              <a:t>Чему учит нас повесть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Calibri"/>
              </a:rPr>
              <a:t>Повесть учит уважать и любить человека, учит умению сочувствовать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Calibri"/>
              </a:rPr>
              <a:t>О чем эта повесть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Calibri"/>
              </a:rPr>
              <a:t>Эта повесть о глубокой отцовской любви. О дочерней неблагодарност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500040" y="285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Нравственные уроки повести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Уважай и чти своих родителей за то, что они дали вам жизнь и воспитали вас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Словом и делом выражай свое почтение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Будь послушный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Не ропщи на наказание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Вовремя покайся в своих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ошибках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В нужде и старости ухаживай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и корми их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9"/>
          <p:cNvSpPr/>
          <p:nvPr/>
        </p:nvSpPr>
        <p:spPr>
          <a:xfrm>
            <a:off x="395280" y="352440"/>
            <a:ext cx="82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omic Sans MS"/>
              </a:rPr>
              <a:t>Це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5"/>
          <p:cNvSpPr/>
          <p:nvPr/>
        </p:nvSpPr>
        <p:spPr>
          <a:xfrm>
            <a:off x="214200" y="357120"/>
            <a:ext cx="850104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1.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ознакомить школьников с содержанием повести, понятием «маленький человек» в литератур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2.раскрыть идейно – художественное своеобразие пове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3.обучение анализу художественного произведен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4. воспитывать почитание и уважение к родителям, умение признавать свои ошибки и прощать других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Rectangle 6" descr=""/>
          <p:cNvPicPr/>
          <p:nvPr/>
        </p:nvPicPr>
        <p:blipFill>
          <a:blip r:embed="rId1"/>
          <a:stretch/>
        </p:blipFill>
        <p:spPr>
          <a:xfrm>
            <a:off x="1036800" y="-19080"/>
            <a:ext cx="7935840" cy="194472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 txBox="1"/>
          <p:nvPr/>
        </p:nvSpPr>
        <p:spPr>
          <a:xfrm>
            <a:off x="304920" y="1714680"/>
            <a:ext cx="8686800" cy="43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Во-первых, потому что он не верит в прочность случайного союза Дуни, несмотря на увиденное богатое и обеспеченное её житье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Во-вторых, Вырин несчастлив, потому что перед нами трагедия обманутого доверия. Он слишком много вложил в свою любовь к дочери, которая предала его ради личного счастья, забыла того, кто ее родил, кормил и воспитал. Дуня не смогла найти в новой жизни место для отца…</a:t>
            </a:r>
            <a:r>
              <a:rPr b="0" lang="ru-RU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2" descr="C:\Documents and Settings\1\Рабочий стол\Вернисаж\Копия images (1).jpg"/>
          <p:cNvPicPr/>
          <p:nvPr/>
        </p:nvPicPr>
        <p:blipFill>
          <a:blip r:embed="rId1"/>
          <a:stretch/>
        </p:blipFill>
        <p:spPr>
          <a:xfrm>
            <a:off x="5572080" y="285840"/>
            <a:ext cx="3052800" cy="17319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4" descr="http://img0.liveinternet.ru/images/attach/c/4/79/720/79720662_0_5a2f7_cb9faf16_XLjpg.png"/>
          <p:cNvPicPr/>
          <p:nvPr/>
        </p:nvPicPr>
        <p:blipFill>
          <a:blip r:embed="rId2"/>
          <a:stretch/>
        </p:blipFill>
        <p:spPr>
          <a:xfrm>
            <a:off x="357120" y="0"/>
            <a:ext cx="7858080" cy="693900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 rot="19797600">
            <a:off x="649080" y="3123720"/>
            <a:ext cx="530064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4e3b30"/>
                </a:solidFill>
                <a:latin typeface="Century"/>
              </a:rPr>
              <a:t>СПАСИБО </a:t>
            </a:r>
            <a:br>
              <a:rPr sz="7200"/>
            </a:br>
            <a:r>
              <a:rPr b="0" lang="ru-RU" sz="7200" spc="-1" strike="noStrike">
                <a:solidFill>
                  <a:srgbClr val="4e3b30"/>
                </a:solidFill>
                <a:latin typeface="Century"/>
              </a:rPr>
              <a:t>ЗА УРОК!</a:t>
            </a:r>
            <a:endParaRPr b="0" lang="en-US" sz="72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57120" y="85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Служащих, кто отвечал за эту работу, называли станционными смотрителям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Wingdings"/>
                <a:ea typeface="Wingdings"/>
              </a:rPr>
              <a:t></a:t>
            </a: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Смотритель</a:t>
            </a:r>
            <a:r>
              <a:rPr b="1" i="1" lang="ru-RU" sz="3200" spc="-1" strike="noStrike">
                <a:solidFill>
                  <a:srgbClr val="00b050"/>
                </a:solidFill>
                <a:latin typeface="Comic Sans MS"/>
              </a:rPr>
              <a:t> – должностное лицо по присмотру, охранению чего-нибудь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500040" y="428400"/>
            <a:ext cx="8229600" cy="48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7030a0"/>
                </a:solidFill>
                <a:latin typeface="Franklin Gothic Book"/>
              </a:rPr>
              <a:t>      </a:t>
            </a:r>
            <a:r>
              <a:rPr b="1" i="1" lang="ru-RU" sz="33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Историческая справка</a:t>
            </a:r>
            <a:endParaRPr b="0" lang="en-US" sz="33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31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 деревне Выра Ленинградской области находится первый в нашей стране музей художественного героя «Домик станционного смотрителя». Музей открыт в 1972 году. Не менее тринадцати раз на Вырской почтовой станции бывал А.С.Пушкин, и народное предание связано с повестью «Станционный смотритель». </a:t>
            </a:r>
            <a:endParaRPr b="0" lang="en-US" sz="3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285840" y="1213920"/>
            <a:ext cx="85010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      </a:t>
            </a: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Имя станционного смотрителя – Самсон Вырин – образовано от названия деревни и почтовой станции. Из архивных документов известно, что на Вырской станции действительно в течение многих лет служил смотритель с дочерью. В музее воссоздана обстановка, характерная для почтовых станций пушкинского времени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285480" y="35712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Franklin Gothic Book"/>
              </a:rPr>
              <a:t>«Повести Белкина»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«Выстрел»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«Барыня- крестьянка»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Станционный смотритель»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«Метель»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«Гробовщик»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500040" y="714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Franklin Gothic Book"/>
              </a:rPr>
              <a:t>          </a:t>
            </a:r>
            <a:r>
              <a:rPr b="1" lang="ru-RU" sz="2800" spc="-1" strike="noStrike">
                <a:solidFill>
                  <a:srgbClr val="006600"/>
                </a:solidFill>
                <a:latin typeface="Franklin Gothic Book"/>
              </a:rPr>
              <a:t>Повесть «Станционный смотритель» занимает значительное место в творчестве А.С.Пушкина. В ней изображены жизненные невзгоды, боль и страдание того, кого называют «маленьким человеком»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Franklin Gothic Book"/>
              </a:rPr>
              <a:t>   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Franklin Gothic Book"/>
              </a:rPr>
              <a:t>«Маленький человек» </a:t>
            </a:r>
            <a:r>
              <a:rPr b="1" i="1" lang="ru-RU" sz="2800" spc="-1" strike="noStrike">
                <a:solidFill>
                  <a:srgbClr val="006600"/>
                </a:solidFill>
                <a:latin typeface="Franklin Gothic Book"/>
              </a:rPr>
              <a:t>- это человек невысокого </a:t>
            </a:r>
            <a:r>
              <a:rPr b="0" lang="ru-RU" sz="2800" spc="-1" strike="noStrike" u="sng">
                <a:solidFill>
                  <a:srgbClr val="ad1f1f"/>
                </a:solidFill>
                <a:uFillTx/>
                <a:latin typeface="Franklin Gothic Book"/>
                <a:hlinkClick r:id="rId1"/>
              </a:rPr>
              <a:t>социального положения</a:t>
            </a:r>
            <a:r>
              <a:rPr b="1" i="1" lang="ru-RU" sz="2800" spc="-1" strike="noStrike">
                <a:solidFill>
                  <a:srgbClr val="006600"/>
                </a:solidFill>
                <a:latin typeface="Franklin Gothic Book"/>
              </a:rPr>
              <a:t> и происхождения, не одаренный выдающимися способностями, не отличающийся силой характера, но при этом добрый, никому не делающий зла, безобидный.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28760" y="285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</a:t>
            </a: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Маленький» человек в литературе-</a:t>
            </a:r>
            <a:r>
              <a:rPr b="0" i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это не только человек низкого чина, без высокого социального статуса, но и человек потерявшийся в жизни, испытывающий страх перед нею, утративший интерес и смысл своего существовани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5"/>
          <p:cNvSpPr/>
          <p:nvPr/>
        </p:nvSpPr>
        <p:spPr>
          <a:xfrm>
            <a:off x="179280" y="241200"/>
            <a:ext cx="8798040" cy="61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 Black"/>
              </a:rPr>
              <a:t>Устаревшие слова и вы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Коллежский регистратор – чиновник низшего (14) клас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Подьячий - младший чиновник в допетровской Рус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Фельдъегерь - правительственный курь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Подорожная - документ на право пользования казенными лошадь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На перекладных - меняя лошадей на каждой стан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Прогоны - плата за пользование лошадь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4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4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4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2T17:41:20Z</dcterms:created>
  <dc:creator>Пользователь</dc:creator>
  <dc:description/>
  <dc:language>en-US</dc:language>
  <cp:lastModifiedBy>Наташа</cp:lastModifiedBy>
  <dcterms:modified xsi:type="dcterms:W3CDTF">2020-11-23T10:40:08Z</dcterms:modified>
  <cp:revision>25</cp:revision>
  <dc:subject/>
  <dc:title>Слайд 1</dc:title>
</cp:coreProperties>
</file>