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6E2-7BA8-42F6-84F8-6CC12409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D7D-6AD4-4076-99A4-CFE5ABAC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63C-0F01-45F4-B1F0-4970B8A4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E0C-9696-4142-99A4-EF0F805E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1DE79-9080-4E22-9CA4-496C599B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13B0F-E052-42E2-AC67-A3609E36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528A3-D94A-4EA0-9679-1A05AC9B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2AD39-CDA2-4F8D-9224-8F889F9A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510B7-A545-44AC-A4E9-F6E4FFE7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796A3-8901-44D9-B96A-9FC2A649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CE0CB-6531-4769-918B-F3C29BA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B98-EC20-42AD-9410-D7ED31E8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04C5B-69B9-4568-BF28-8925C541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F3726-1802-4A9C-A106-6B0F2E9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BB38C-8CD3-4C77-838B-0E640A65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A22FF-924F-4804-84CF-591B7E2D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F4A17-7F2C-4EBB-8B96-F07CFA3C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60E-85F5-4B3F-9FC9-B9D4B043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E64-8C8A-496A-BD9D-748FC901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9F2-E1BC-4390-A617-57903CF0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0AB-9B75-482F-8AC0-A5786D1C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FBA-6DCF-4F23-B6C0-AD54F116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724-959D-4E0E-8D2B-47F11BAC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460-702B-40F1-B7E1-8DE16C7E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CFF5-6F14-4D5F-96A6-C47E0FD609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0E39-749D-4707-A96F-73B0BBE033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лександр Сергеевич Пушк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76440" y="1413000"/>
            <a:ext cx="3586320" cy="4849560"/>
          </a:xfrm>
          <a:prstGeom prst="rect">
            <a:avLst/>
          </a:prstGeom>
          <a:ln w="44280">
            <a:solidFill>
              <a:srgbClr val="003366"/>
            </a:solidFill>
            <a:miter/>
          </a:ln>
          <a:effectLst>
            <a:outerShdw dist="327762" dir="3268617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979640" y="1052640"/>
            <a:ext cx="4897440" cy="4464000"/>
          </a:xfrm>
          <a:prstGeom prst="rect">
            <a:avLst/>
          </a:prstGeom>
          <a:ln w="57240">
            <a:solidFill>
              <a:srgbClr val="ff9900"/>
            </a:solidFill>
            <a:miter/>
          </a:ln>
          <a:effectLst>
            <a:outerShdw dist="242757" dir="2826198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971640" y="765000"/>
            <a:ext cx="7272360" cy="54723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38520" y="571680"/>
            <a:ext cx="3666960" cy="5715000"/>
          </a:xfrm>
          <a:prstGeom prst="rect">
            <a:avLst/>
          </a:prstGeom>
          <a:ln w="25560">
            <a:solidFill>
              <a:srgbClr val="003366"/>
            </a:solidFill>
            <a:miter/>
          </a:ln>
          <a:effectLst>
            <a:outerShdw dist="197537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83628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 Где истинное счастье человека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 В чём оно заключаетс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58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юбовь – это главная сила в мире, она  может победить всё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гоизм и зависть – это испепеляющие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увства, которые могут погубить челове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373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 Возлюби Господа Бога твоего всем сердцем твоим и ближнего своего, как самого себя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итайте Пушкина, друзья! Читайте сказки!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будет жизнь тогда полна тепла и ласки!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итайте Пушкина всегда, - вот вам подсказка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пронесёте сквозь года вы радость сказ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казка о царе Салтане, о сыне его славном и могучем богатыре князе Гвидоне Салтановиче и о прекрасной царевне Лебед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казка – повествовательное, обычно народно-поэтическое произведение о вымышленных лицах и событиях, преимущественно с участием волшебных, фантастических си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-81144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44880" y="189000"/>
            <a:ext cx="4800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5183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Не желай ничего, что у    ближнего твоего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964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 Не говорю тебе до семи, но до седмижды семидесяти раз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256360" cy="63057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8:39:22Z</dcterms:created>
  <dc:creator>user</dc:creator>
  <dc:description/>
  <dc:language>en-US</dc:language>
  <cp:lastModifiedBy>Компьютерный класс 11</cp:lastModifiedBy>
  <dcterms:modified xsi:type="dcterms:W3CDTF">2008-12-16T13:22:38Z</dcterms:modified>
  <cp:revision>11</cp:revision>
  <dc:subject/>
  <dc:title>Слайд 1</dc:title>
</cp:coreProperties>
</file>