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209-04BC-48B7-8AB3-D009E835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9FF-DD42-4DEC-9723-8C3E011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A62-E409-4878-9A50-5AE4FB13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157-7A3F-4483-803F-F989E8C5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C527-5FAB-4F41-B52C-3BE3E66F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97CAF-4D1F-4D47-B3DA-EA38981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9C698-AD74-4787-BDB7-DDC85E1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38EFB-C993-449E-8B87-FE71CB8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3D36A-7DBB-425E-9674-6A27C9F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E574D-DA2C-4583-891B-1D14974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FB31E-0D0C-4CF9-BD53-195C753E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91A-63DB-4C99-A8D8-60F081E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B1988-DAA0-4FDC-8FB6-972DEEE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90933-371F-489A-8E97-BE940AE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92D4D-EDDD-4B15-829B-292A890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14C1C-E2F9-4DEE-919F-843C29F1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1E283-F64E-4397-95CE-17B8F22C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078-7D4F-4655-A9D1-3F5F487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5AD-F8C4-4B54-B852-E4CA30E7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700-BA6A-4C94-A5B5-4134D76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874-9210-4A6F-8F77-DF01C0C7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DB1-9054-49A5-A27F-53E3E58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C12-F837-445B-A737-0A0B746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E14-84F7-4132-8123-4381318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93C-C63F-4A45-AA3C-02DE9052D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EEE-E2B0-4D93-94D7-722AFFC4E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лександр Сергеевич Пушк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76440" y="1413000"/>
            <a:ext cx="3586320" cy="4849560"/>
          </a:xfrm>
          <a:prstGeom prst="rect">
            <a:avLst/>
          </a:prstGeom>
          <a:ln w="44280">
            <a:solidFill>
              <a:srgbClr val="003366"/>
            </a:solidFill>
            <a:miter/>
          </a:ln>
          <a:effectLst>
            <a:outerShdw dist="327762" dir="3268617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979640" y="1052640"/>
            <a:ext cx="4897440" cy="4464000"/>
          </a:xfrm>
          <a:prstGeom prst="rect">
            <a:avLst/>
          </a:prstGeom>
          <a:ln w="57240">
            <a:solidFill>
              <a:srgbClr val="ff9900"/>
            </a:solidFill>
            <a:miter/>
          </a:ln>
          <a:effectLst>
            <a:outerShdw dist="242757" dir="2826198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71640" y="765000"/>
            <a:ext cx="7272360" cy="5472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38520" y="571680"/>
            <a:ext cx="3666960" cy="5715000"/>
          </a:xfrm>
          <a:prstGeom prst="rect">
            <a:avLst/>
          </a:prstGeom>
          <a:ln w="25560">
            <a:solidFill>
              <a:srgbClr val="003366"/>
            </a:solidFill>
            <a:miter/>
          </a:ln>
          <a:effectLst>
            <a:outerShdw dist="197537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3628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 Где истинное счастье человек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В чём оно заключае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58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юбовь – это главная сила в мире, она  может победить всё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гоизм и зависть – это испепеляющ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увства, которые могут погубить челове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373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 Возлюби Господа Бога твоего всем сердцем твоим и ближнего своего, как самого себя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итайте Пушкина, друзья! Читайте сказки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будет жизнь тогда полна тепла и ласки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итайте Пушкина всегда, - вот вам подсказка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пронесёте сквозь года вы радость сказ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азка – повествовательное, обычно народно-поэтическое произведение о вымышленных лицах и событиях, преимущественно с участием волшебных, фантастических си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811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44880" y="189000"/>
            <a:ext cx="4800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518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Не желай ничего, что у    ближнего твоего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964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 Не говорю тебе до семи, но до седмижды семидесяти раз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256360" cy="63057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39:22Z</dcterms:created>
  <dc:creator>user</dc:creator>
  <dc:description/>
  <dc:language>en-US</dc:language>
  <cp:lastModifiedBy>Компьютерный класс 11</cp:lastModifiedBy>
  <dcterms:modified xsi:type="dcterms:W3CDTF">2008-12-16T13:22:38Z</dcterms:modified>
  <cp:revision>11</cp:revision>
  <dc:subject/>
  <dc:title>Слайд 1</dc:title>
</cp:coreProperties>
</file>