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BEC-1378-44AF-9A14-A56C6338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FD6-C206-4F47-9BE7-7AE1A54B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69B-9A6E-433B-85B9-CD917189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76D-731B-4DFF-8AC6-F770F5D8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5DD5-A7A6-4AE9-854E-F5DC6023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37F0-9B99-46CF-9F5A-4C7DBD2E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A48A-40DC-4B8F-9DE0-4FAB144E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184C-AF2B-4A5C-BDEC-AD4AAA82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B8B5-E8DA-4180-85AF-443A7BA4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DE9B-6F29-42CD-BF05-ACCED27A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23A6-FD80-492A-A3AE-25CDD8BD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5E4-5E3C-4155-BA7F-FA6CBCC3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8BBF-7165-4F4E-A39B-0BD756E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61F0-6138-4D58-A1A0-D27A0FD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6014-18F5-4F20-9799-8D11E7F5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9D20-1F1D-40B6-860B-12179443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1D7A-6F09-413A-B95B-0DD526D8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62D-0D7C-4296-8DC1-205E68A3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099-4103-4754-972A-608A63D8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BAE-8DFC-443D-A010-998D3B63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13A-5E48-4DE7-A89D-500A8FE4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FD0-9D48-48D6-ACEF-117710B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570-BA15-4DC4-9A52-AAD15958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937-FA7B-4FF6-ACB1-9BD36887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2731-FA6A-4C25-825E-746C69BA96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57D-5F67-4A4A-B51E-EDD90F0017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Родительское собрание в 1 класс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ДАП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ШКО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Cj04234770000[1]"/>
          <p:cNvPicPr/>
          <p:nvPr/>
        </p:nvPicPr>
        <p:blipFill>
          <a:blip r:embed="rId1"/>
          <a:stretch/>
        </p:blipFill>
        <p:spPr>
          <a:xfrm>
            <a:off x="611280" y="2276640"/>
            <a:ext cx="424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Памятка родителям первокласс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динаково не правы как те родители, которые предоставляют  полную самостоятельность, так и те, которые устанавливают тотальный контроль за всей его деятельностью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За уроки нужно садиться через час-полтора после возвращения из шко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гда ребенок уже слегка отдохнул, но еще не успел перевозбудиться от домашних игр и развлечений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Между выполнением уроков следует делать перерывы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5-20 минут занятий – 5 минут отдых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Чередуйте устные и письменные задани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чинайте приготовление уроков с самых трудоемких или тех, что даются ученику тяжелее остальны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Cj04136380000[1]"/>
          <p:cNvPicPr/>
          <p:nvPr/>
        </p:nvPicPr>
        <p:blipFill>
          <a:blip r:embed="rId1"/>
          <a:stretch/>
        </p:blipFill>
        <p:spPr>
          <a:xfrm>
            <a:off x="7380360" y="0"/>
            <a:ext cx="15811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амятка родителям первокласс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чень важно приучить ребенка к самоконтролю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Ошибки ребенка не должны вас раздражать, они должны удивлят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Встречая ребенка из школы, постарайтесь усилить в нем положительные впечатления и не акцентировать внимание на негативных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После выполнения уроков похвалите ребен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«Ты сегодня так быстро и хорошо все сделал!»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9. Ключ к успеху –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нимание трудностей ребенка и спокойная родительская уверенность в его возможностях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Перед сном шепните ребенку на ушко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Я так счастлива, что ты у меня есть!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4136380000[1]"/>
          <p:cNvPicPr/>
          <p:nvPr/>
        </p:nvPicPr>
        <p:blipFill>
          <a:blip r:embed="rId1"/>
          <a:stretch/>
        </p:blipFill>
        <p:spPr>
          <a:xfrm>
            <a:off x="7236000" y="189000"/>
            <a:ext cx="15811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Calibri"/>
              </a:rPr>
              <a:t>ВНИМАНИЕ</a:t>
            </a:r>
            <a:r>
              <a:rPr b="1" lang="ru-RU" sz="2400" spc="-1" strike="noStrike">
                <a:solidFill>
                  <a:srgbClr val="330033"/>
                </a:solidFill>
                <a:latin typeface="Calibri"/>
              </a:rPr>
              <a:t> – ЭТО СПОСОБНОСТЬ ЧЕЛОВЕКА СОСРЕДОТОЧИТЬСЯ НА ОПРЕДЕЛЁННОМ ОБЪЕКТЕ И ЯВЛЕНИЯХ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85920" y="1285560"/>
            <a:ext cx="720864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свойства:  концентрация, объём, устойчивость, распределение, и переключ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d0000"/>
                </a:solidFill>
                <a:latin typeface="Calibri"/>
              </a:rPr>
              <a:t>Внимание – это не раз и навсегда данное качеств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1214280" y="1785960"/>
            <a:ext cx="7715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 можно и нужно разви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лавным помощниками ребёнку могут стать 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70000"/>
                </a:solidFill>
                <a:latin typeface="Calibri"/>
              </a:rPr>
              <a:t>Рекомендации родителя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500040" y="1643040"/>
            <a:ext cx="81439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огите вашим детям стать вним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айте, читайте и используйте книги, в которых  можно найт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пражнения и иг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пособствующие развитию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нове внимания лежи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е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грайте вместе с детьми  в различные игры, развивающие все свойства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есь играть в шахматы и шашки, ведь эти игры называют «Школой вним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забывайте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ртивных и подвижных игр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благодаря которым можно развивать не только силу и ловкость, но и внимание, воображение, быстроту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 детей бы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блюдательны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330033"/>
                </a:solidFill>
                <a:latin typeface="Calibri"/>
              </a:rPr>
              <a:t>Спасибо!</a:t>
            </a:r>
            <a:br>
              <a:rPr sz="6900"/>
            </a:br>
            <a:r>
              <a:rPr b="0" i="1" lang="ru-RU" sz="6900" spc="-1" strike="noStrike">
                <a:solidFill>
                  <a:srgbClr val="330033"/>
                </a:solidFill>
                <a:latin typeface="Calibri"/>
              </a:rPr>
              <a:t>До новой встречи!</a:t>
            </a:r>
            <a:endParaRPr b="0" lang="en-US" sz="6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Возрастные 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первоклассник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2600" y="1356840"/>
            <a:ext cx="7986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ход из дошкольного, в младший школьный возраст нередко сопровождается кризисом 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ризиса 7 лет характерны: манерничанье, капризы, паяснич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ы и правила школьной жизни порой идут вразрез с желаниями ребенка. К этим нормам нужно адаптиро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и наряду с радостью, восторгом или удивлением по поводу происходящего в школе, испытывают тревогу, растерянность нап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е новое положение ребенок не всегда осознает, но обязательно переживает его: он гордиться тем, что стал взрослым, ему приятно его новое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MCj04234790000[1]"/>
          <p:cNvPicPr/>
          <p:nvPr/>
        </p:nvPicPr>
        <p:blipFill>
          <a:blip r:embed="rId1"/>
          <a:stretch/>
        </p:blipFill>
        <p:spPr>
          <a:xfrm>
            <a:off x="7236000" y="0"/>
            <a:ext cx="16524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714240" y="428760"/>
            <a:ext cx="8143920" cy="60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уется самооценка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классник уже понимает, что оценка его поступков определяется прежде всего тем, как его поступки выглядят в глазах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и возбудимы, легко отвлекаются, т.к. лобные доли больших полушарий не сформированы, они сформируются к 13 г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бую роль в жизни школьника играет учитель, который выступает как центр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иод приспособления к требованиям шко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меся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четвер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-ый учебн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Calibri"/>
              </a:rPr>
              <a:t>Особенности современного первоклассника 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8800" y="164268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детей большие различия паспортного и физиологическ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детей обширная информированность практически по любым вопросам. Но она совершенно бессис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современных детей сильнее ощущение своего «Я» и более свободное независимое поведение. Высокий уровень самооц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ичие недоверчивости к словам и поступкам взрослых. Нет веры во всё сказанное 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современных детей более слабо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и в большинстве своём перестали играть в коллективные «дворовые» игры. Их заменили телевизоры, компьют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Трудности, которые могут возникнуть у первоклассник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вые дни, недели посещения школы снижается сопротивляемость организма, могут нарушаться сон, аппетит, повышается темпер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классники отвлекаются быстро утомляются, возбудимы, эмоциональны, впечатлит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нередко отличается неорганизованностью, несобранностью, недисциплинирова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етей характерна высо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омля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Когда уместна тревога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ное отсутствие интереса к учёб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ает уроки только «из-под пал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желание ходить в школу и вообще учиться выражается  постоянно и открыто в формах активного протеста, либо симптомами болезней (кашель, насморк, рвота, понос), которые  кончаются сразу после того, как разрешат остаться дома, либо, что гораздо реже, простой симуляцией этих симпто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не любит или боится учителя, испытывает по отношению к нему страх, бессилие или агресс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чего не интересно, безразличен ко всему, даже играм, если они требуют хоть какого-то напря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ялость и безынициативность, когда дело касается школы и уроко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покоиться нужно тогда, когда нежелание учиться является устойчивым, выражается активно, отражает основное отношение ребёнка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Уровни адаптаци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тималь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ысокие адаптационные результаты при адекватны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збыточный уровень; высокие результаты адаптации, достигнутые благодаря значительному психическому и моральному напря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зк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бусловлен недостаточной требовательностью к себ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задаптацион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лохое эмоциональное самочувствие; невротические реакции (неумение приспосабливаться к школьной жиз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PPLGP132"/>
          <p:cNvPicPr/>
          <p:nvPr/>
        </p:nvPicPr>
        <p:blipFill>
          <a:blip r:embed="rId1"/>
          <a:stretch/>
        </p:blipFill>
        <p:spPr>
          <a:xfrm>
            <a:off x="3995640" y="5587920"/>
            <a:ext cx="432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Показатели адаптационных затрудне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очная реализация личностного потенц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абая интегрированность ребёнка в детском коллективе – низкий статус в группе, отсутствие авторитета, неполное принятие рол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ности в общ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ое переживание неу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адекватная самооц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амостоя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 причин во 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di_01"/>
          <p:cNvPicPr/>
          <p:nvPr/>
        </p:nvPicPr>
        <p:blipFill>
          <a:blip r:embed="rId1"/>
          <a:stretch/>
        </p:blipFill>
        <p:spPr>
          <a:xfrm>
            <a:off x="6012000" y="3500280"/>
            <a:ext cx="21826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веты родителям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стараться, чтобы ребёнок дольше оставался «почемучкой». «Любознательность создаёт учёных». Родители должны провоцировать задавание вопросов и ни в коем случае не отмахиваться от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я должны формировать культ интеллекта – в создании домашней библиотеки, в интересных беседах, сп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ставить ребёнка в ситуацию размышления. Умение размышлять сформирует у него представление о последствиях каждого действия. Задача взрослого не столько в том, чтобы отвечать на вопрос ребёнка, сколько в том, чтобы побудить его думать, предлагать, выбира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научить ребёнка анализировать свою раб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бходимо развивать внимание и память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агоприятно действует на него ситуация успеха. Она удовлетворяет потребность ребёнка в самоуважении и повышении прести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ивая результаты деятельности ребёнка, не переносить их на личность самого ребёнка. Он как личность всегда хороший и желанный для своих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Cj0413638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079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0:15:45Z</dcterms:created>
  <dc:creator>100-810-103</dc:creator>
  <dc:description/>
  <dc:language>en-US</dc:language>
  <cp:lastModifiedBy>Александр</cp:lastModifiedBy>
  <dcterms:modified xsi:type="dcterms:W3CDTF">2018-09-17T15:03:48Z</dcterms:modified>
  <cp:revision>102</cp:revision>
  <dc:subject/>
  <dc:title>Родительское собрание в 1 классе</dc:title>
</cp:coreProperties>
</file>