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8B6-1516-4805-B499-A1A7FA07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8CA-215C-4D99-BC2A-207FAE47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376-9E34-4F87-9A3F-E1CAE22E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BB7-5FF0-4717-AC22-C319A790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57EE-82CE-409E-96DB-715E3460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3F93-4A0C-47B8-BD5C-73740A73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B29-2061-47B6-869E-6BEE4337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1A57-E86C-4855-B05D-8E9F7B2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4C54-8915-4637-8795-E3CFD2D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CAB8-D25A-4B44-A1E1-45B74E98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2BAC-C789-4244-9770-A4AD9CAD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824-9BFF-4B2A-8DC0-E6ADF82E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C475-3B67-42BD-A35B-2386621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C46E-33D5-41B2-94C6-95EBC020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7C9B-207D-4C6F-BF9F-92D711C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1137-987A-4164-8F44-FCFF18A1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6719-31E3-4C6A-AC19-71525750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638-41AA-4B61-AC62-784C4DF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455-2A3D-47D7-A305-3D1CCD1D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6EA-BD99-4051-AE42-556D1799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20E-5C8F-468C-99A3-32FD707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B4C-2522-4DD3-9674-7D22829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BA5-8918-480C-A3F5-4AEBD9F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1CF-AFA1-40E7-9D31-BEAA0D1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466-27B3-44F9-AC81-E5AC6FD340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DF6B-3212-4B25-BB2A-D860CB7044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Родительское собрание в 1 класс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ДАП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ШКО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Cj04234770000[1]"/>
          <p:cNvPicPr/>
          <p:nvPr/>
        </p:nvPicPr>
        <p:blipFill>
          <a:blip r:embed="rId1"/>
          <a:stretch/>
        </p:blipFill>
        <p:spPr>
          <a:xfrm>
            <a:off x="611280" y="2276640"/>
            <a:ext cx="424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Памятка родителям первокласс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динаково не правы как те родители, которые предоставляют  полную самостоятельность, так и те, которые устанавливают тотальный контроль за всей его деятельностью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За уроки нужно садиться через час-полтора после возвращения из шко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гда ребенок уже слегка отдохнул, но еще не успел перевозбудиться от домашних игр и развлечений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Между выполнением уроков следует делать перерывы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5-20 минут занятий – 5 минут отдых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Чередуйте устные и письменные зад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чинайте приготовление уроков с самых трудоемких или тех, что даются ученику тяжелее остальны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Cj04136380000[1]"/>
          <p:cNvPicPr/>
          <p:nvPr/>
        </p:nvPicPr>
        <p:blipFill>
          <a:blip r:embed="rId1"/>
          <a:stretch/>
        </p:blipFill>
        <p:spPr>
          <a:xfrm>
            <a:off x="7380360" y="0"/>
            <a:ext cx="15811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амятка родителям первокласс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чень важно приучить ребенка к самоконтролю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Ошибки ребенка не должны вас раздражать, они должны удивлят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Встречая ребенка из школы, постарайтесь усилить в нем положительные впечатления и не акцентировать внимание на негативных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осле выполнения уроков похвалите ребен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«Ты сегодня так быстро и хорошо все сделал!»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9. Ключ к успеху –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нимание трудностей ребенка и спокойная родительская уверенность в его возможностях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Перед сном шепните ребенку на ушко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Я так счастлива, что ты у меня есть!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4136380000[1]"/>
          <p:cNvPicPr/>
          <p:nvPr/>
        </p:nvPicPr>
        <p:blipFill>
          <a:blip r:embed="rId1"/>
          <a:stretch/>
        </p:blipFill>
        <p:spPr>
          <a:xfrm>
            <a:off x="7236000" y="189000"/>
            <a:ext cx="15811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alibri"/>
              </a:rPr>
              <a:t>ВНИМАНИЕ</a:t>
            </a:r>
            <a:r>
              <a:rPr b="1" lang="ru-RU" sz="2400" spc="-1" strike="noStrike">
                <a:solidFill>
                  <a:srgbClr val="330033"/>
                </a:solidFill>
                <a:latin typeface="Calibri"/>
              </a:rPr>
              <a:t> – ЭТО СПОСОБНОСТЬ ЧЕЛОВЕКА СОСРЕДОТОЧИТЬСЯ НА ОПРЕДЕЛЁННОМ ОБЪЕКТЕ И ЯВЛЕНИЯХ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920" y="1285560"/>
            <a:ext cx="720864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свойства:  концентрация, объём, устойчивость, распределение, и переключ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d0000"/>
                </a:solidFill>
                <a:latin typeface="Calibri"/>
              </a:rPr>
              <a:t>Внимание – это не раз и навсегда данное качеств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1214280" y="1785960"/>
            <a:ext cx="7715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можно и нужно разви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лавным помощниками ребёнку могут стать 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70000"/>
                </a:solidFill>
                <a:latin typeface="Calibri"/>
              </a:rPr>
              <a:t>Рекомендации родителя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00040" y="1643040"/>
            <a:ext cx="81439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огите вашим детям стать вним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айте, читайте и используйте книги, в которых  можно найт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пражнения и иг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пособствующие развитию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внимания лежи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грайте вместе с детьми  в различные игры, развивающие все свойства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есь играть в шахматы и шашки, ведь эти игры называют «Школой вним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забывайте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ртивных и подвижных игр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благодаря которым можно развивать не только силу и ловкость, но и внимание, воображение, быстроту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 детей бы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блюдательны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330033"/>
                </a:solidFill>
                <a:latin typeface="Calibri"/>
              </a:rPr>
              <a:t>Спасибо!</a:t>
            </a:r>
            <a:br>
              <a:rPr sz="6900"/>
            </a:br>
            <a:r>
              <a:rPr b="0" i="1" lang="ru-RU" sz="6900" spc="-1" strike="noStrike">
                <a:solidFill>
                  <a:srgbClr val="330033"/>
                </a:solidFill>
                <a:latin typeface="Calibri"/>
              </a:rPr>
              <a:t>До новой встречи!</a:t>
            </a:r>
            <a:endParaRPr b="0" lang="en-US" sz="6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Возрастные 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первоклассник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600" y="1356840"/>
            <a:ext cx="7986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из дошкольного, в младший школьный возраст нередко сопровождается кризисом 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ризиса 7 лет характерны: манерничанье, капризы, паяснич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ы и правила школьной жизни порой идут вразрез с желаниями ребенка. К этим нормам нужно адаптиро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и наряду с радостью, восторгом или удивлением по поводу происходящего в школе, испытывают тревогу, растерянность на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е новое положение ребенок не всегда осознает, но обязательно переживает его: он гордиться тем, что стал взрослым, ему приятно его нов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MCj04234790000[1]"/>
          <p:cNvPicPr/>
          <p:nvPr/>
        </p:nvPicPr>
        <p:blipFill>
          <a:blip r:embed="rId1"/>
          <a:stretch/>
        </p:blipFill>
        <p:spPr>
          <a:xfrm>
            <a:off x="7236000" y="0"/>
            <a:ext cx="16524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714240" y="428760"/>
            <a:ext cx="8143920" cy="60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уется самооценка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и возбудимы, легко отвлекаются, т.к. лобные доли больших полушарий не сформированы, они сформируются к 13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од приспособления к требованиям шк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меся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четвер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ый учебн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Calibri"/>
              </a:rPr>
              <a:t>Особенности современного первоклассника 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детей большие различия паспортного и физиологическ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детей обширная информированность 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сильнее ощущение своего «Я» и более свободное независимое поведение. Высокий уровень самооц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ичие недоверчивости к словам и поступкам взрослых. Нет веры во всё сказанное 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более слаб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и в большинстве своём перестали играть в коллективные «дворовые» игры. Их заменили телевизоры, компьют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Трудности, которые могут возникнуть у первоклассник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ые дни, недели посещения школы снижается сопротивляемость организма, могут нарушаться сон, аппетит, повышается темп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классники отвлекаются быстро утомляются, возбудимы, эмоциональны, впечатлит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нередко отличается неорганизованностью, несобранностью, недисциплинирова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етей характерна высо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Когда уместна тревог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ое отсутствие интереса к учёб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ает уроки только «из-под пал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желание ходить в школу и вообще учиться выражается  постоянно и открыто в формах активного протеста, либо симптомами болезней (кашель, насморк, рвота, понос), которые  кончаются сразу после того, как разрешат остаться дома, либо, что гораздо реже, простой симуляцией этих симпто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не любит или боится учителя, испытывает по отношению к нему страх, бессилие или агресс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чего не интересно, безразличен ко всему, даже играм, если они требуют хоть какого-то напр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ялость и безынициативность, когда дело касается школы и уроко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покоиться нужно тогда, когда нежелание учиться является устойчивым, выражается активно, отражает основное отношение ребё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Уровни адаптаци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тималь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ысокие адаптационные результаты при адекватн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збыточный уровень; высокие результаты адаптации, достигнутые благодаря значительному психическому и моральному напря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бусловлен недостаточной требовательностью к себ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задаптацион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лохое эмоциональное самочувствие; невротические реакции (неумение приспосабливаться к школьной жиз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PLGP132"/>
          <p:cNvPicPr/>
          <p:nvPr/>
        </p:nvPicPr>
        <p:blipFill>
          <a:blip r:embed="rId1"/>
          <a:stretch/>
        </p:blipFill>
        <p:spPr>
          <a:xfrm>
            <a:off x="3995640" y="5587920"/>
            <a:ext cx="432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Calibri"/>
              </a:rPr>
              <a:t>Показатели адаптационных затрудне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ая реализация личностного потенц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абая интегрированность ребёнка в детском коллективе – низкий статус в группе, отсутствие авторитета, неполное принятие рол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сти в общ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ое переживание неу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адекватная самооц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амостоятель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причин во 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di_01"/>
          <p:cNvPicPr/>
          <p:nvPr/>
        </p:nvPicPr>
        <p:blipFill>
          <a:blip r:embed="rId1"/>
          <a:stretch/>
        </p:blipFill>
        <p:spPr>
          <a:xfrm>
            <a:off x="6012000" y="3500280"/>
            <a:ext cx="21826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стараться, чтобы ребёнок дольше оставался «почемучкой». «Любознательность создаёт учёных». Родители должны провоцировать задавание вопросов и ни в коем случае не отмахиваться от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я должны формировать культ интеллекта – в создании домашней библиотеки, в интересных беседах, сп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ставить ребёнка в ситуацию размышления. Умение размышлять сформирует у него представление о последствиях каждого действия. Задача взрослого не столько в том, чтобы отвечать на вопрос ребёнка, сколько в том, чтобы побудить его думать, предлагать, выбир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научить ребёнка анализировать свою раб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о развивать внимание и память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гоприятно действует на него ситуация успеха. Она удовлетворяет потребность ребёнка в самоуважении и повышении прести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ивая результаты деятельности ребёнка, не переносить их на личность самого ребёнка. Он как личность всегда хороший и желанный для своих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Cj0413638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079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0:15:45Z</dcterms:created>
  <dc:creator>100-810-103</dc:creator>
  <dc:description/>
  <dc:language>en-US</dc:language>
  <cp:lastModifiedBy>Александр</cp:lastModifiedBy>
  <dcterms:modified xsi:type="dcterms:W3CDTF">2018-09-17T15:03:48Z</dcterms:modified>
  <cp:revision>102</cp:revision>
  <dc:subject/>
  <dc:title>Родительское собрание в 1 классе</dc:title>
</cp:coreProperties>
</file>