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74D2-9A65-4287-9B3C-1D21690F40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A7EB-153E-430D-92B7-0DBA32737F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BB2-B04C-4D2F-A498-D8A79DC7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0C3-20A5-4F25-BAF8-C4A570B6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D4D-541E-4F1F-8EAE-AF45F0D0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A2E-8674-4626-BAE3-015157E7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320-261B-489A-B912-AC78EA8B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143-D5A9-432C-85CE-5924A4E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20F-116D-4444-8FA1-8CB2201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7DD1-3C59-49E5-B743-8DA1AB3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96D-886F-4DEF-8D7C-F0D6C1E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9C3E-A1B4-4555-84E4-9F4E150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12D-AD1A-41DE-8A7A-3BF3D95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375-49A0-4779-A71B-0320A91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31F-BAE7-460D-B996-C0A5755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3B05-08C6-4DFD-98BC-9F4223B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CA4-1453-4669-9F2A-673E763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A7E-4DE7-452B-9204-37FCB32C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0F7-3E68-4C1F-A8C7-572587D4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F452-21DF-4F0B-82AB-1408B809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2781-B438-4ACB-9D45-8E1E9C24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488C-29B8-4DB6-8811-17C38E94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14F4-B01C-4CFE-91D4-5AFF1EE2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FDDA-DB3E-48A8-B533-17CD6501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2D0-1894-4EBA-8B98-75C1222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2E1A-F231-4038-A355-F6A90E5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EC32-268B-4D6D-8270-739567BE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0E5F-3414-41B8-A91B-77383BA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8018-0630-4C6C-81C2-CFCF57B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15AD-A5AB-406F-944E-AF076D8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989F-14CB-4297-9024-C5F29510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DF29-177C-4627-8680-8AA44068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FC31-8978-4FEA-8934-30D862C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FDBF-3819-486F-8C82-76A3B08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E71F-45AB-49E6-9ED7-87D4D7A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B11-6C4E-4972-91F3-E79AA549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4CF0-E71F-46F9-A245-7A2371C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6050-C518-4A4E-AD6F-2AC8F4E1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E743-A8BA-4205-A8FA-8D3DB80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A765-DCF2-48C8-9EB6-7E60DFA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490F-5312-404C-853D-4A43DDC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7ECA-AE15-4D1C-90C7-A8C3DDE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08B8-C40C-42C0-94D9-8061431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A75E-E49F-4104-BB87-52C337E0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6921-9509-4727-83BD-A37370C2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E9C0-30A8-4C9E-98FE-86DAC57F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819-5D46-4DF0-AF7A-153D66E8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75E6E-8F0D-440F-8ECC-7516AB1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C525-3B4F-4776-85E9-53CF6B3F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69CBF-1637-46DC-A45B-E0FFC2B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57D3-80B3-4A43-8FED-6B28AFD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5BEAB-8BA2-42E3-BEE8-A626C95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683F9-5CFF-4496-80FE-A6DC903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319F-9BA6-4944-8709-37D1888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7EC6-4862-4518-ABC3-650E95A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2C3A-2A9E-45A1-A21F-353B0D3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B508-3097-4E3B-B5B5-0D9BA8EA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5BC-FB3C-401D-9D9F-FDD11D5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F85A-C31D-46D0-99D1-B69A44E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CE52-70B1-4AF5-A371-C7E4885F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B9CC4-1140-49AF-B330-FE6EEA03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0795-3D20-4205-8CB4-1521ABEF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EB7D-C986-4AE7-8D68-FE2679D9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CC98-8C92-48D9-B735-18F9250F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8694-C1CD-4E41-849A-6FD9D69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B497-A248-486C-B960-F6811AE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EBD8-E662-4041-A48B-4C5E9AB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62A9-053D-45FA-954A-643BAB4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80A-373D-4CCB-883A-05C2C82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A9BC-3C5D-4BBB-A147-FB571D74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7D8A-40E3-45BB-A513-5CABE74F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46A2-0552-41AD-83B0-82FB093D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D638-0CDD-4FD0-ACDB-2871B9D1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E3F9E-6603-4E47-BFFC-31938CE0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3F6C-20F8-47CD-8D41-882BD17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901F-6CA7-4F94-9397-4BADF5B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56BB-48C4-4B0F-A95F-F0E0617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C47C-31BB-4A36-83DA-7ADAD7A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ED54-EB40-46CD-B688-EF91239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05C-A5F1-41D0-AF6E-522F64B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E101-4E3E-4C55-B0D1-E509C07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9643-7525-4DEE-8156-291D0E8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607A-C0D3-4C03-8B9C-E738A727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7AB4-BFC1-41C3-ABFC-B59E4378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4BAB-6420-4B95-83AE-5AA85AE0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6AD-8400-4354-8BD2-742686F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A1F1-BBE8-46D2-B0D0-437C88EE440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9F3-D8CE-4995-B81B-9A883676274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A2F-0E71-4BEE-9EB9-30D9A88E16D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1154-A20D-4B5D-9C30-F94C8787709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0CAB-430E-49A7-9798-DE4FE805E85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B3C8-CDE7-40B9-B534-96B4927F347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4ACA-36CC-4DCE-9DCE-BBC8D063CED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89000"/>
            <a:ext cx="7407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2314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707920"/>
            <a:ext cx="7407000" cy="352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Bookman Old Style"/>
              </a:rPr>
              <a:t>Концепция организации волонтерского движения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9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ТО ОРГАНИЗОВЫВАЕТ РАБОТУ МОЛОДЕЖ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 ВОЛОНТЕРСКОМ ДВИЖЕНИИ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2637000"/>
            <a:ext cx="7499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се те, кто заинтересован в расширении и улучшении работы с подростками и молодеж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АК ПРИВЛЕЧЬ ВОЛОНТЕРОВ?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71280" y="1267920"/>
            <a:ext cx="7962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бъявления, стенды, листовки в местах скопления молодежи (клубы, школы и др.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аборы из групп клиентов или участников тренинг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аборы в других организациях, вовлечение в работу из других сфер 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роведение всевозможных акц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риглашения через друзей и близки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«Вкусные наживки» для молодеж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836640"/>
            <a:ext cx="7921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Значимость предлага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бщение и времяпрепрово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вышение социального стату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Слава и известно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Юмо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ух свободы: приходи, не понравится — уйдешь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пыт предыдущих: показать, как здорово все сделали до них и как можно сделать еще круч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севозможные незначительные материальные блага (например, сувениры, пока ничем не обоснованные), то есть халя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недренная мысль о том, что если ты не волонтер — с тобой что-то не та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4762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КОЛЬКО ВРЕМЕНИ РАБОТАЮТ ВОЛОНТЕРЫ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2276640"/>
            <a:ext cx="74995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т 1 дня до 5 ле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Главное, чтобы уходя, волонтеры чувствовали, что им будут всегда ра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АК УДЕРЖАТЬ ВОЛОНТЕР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84280"/>
            <a:ext cx="7499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овери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нимание значимости и сути рабо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Карьерный рос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овая деятельно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ерспектива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ощр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60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ПОСОБЫ ПООЩРЕНИЯ ВОЛОНТЕРОВ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060280"/>
            <a:ext cx="78915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хвал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оска почета на видном мест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ручение грамо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Благодарственное письмо на место учебы или родител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Личная благодарность от известного человека (представителя администрации города или звезды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64448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рисвоение очередного звания, долж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Знак отличия или фирменная нашивка, означающая повыш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редставительство на конференции, выставк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оручение ответственных рабо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убличное признание заслуг с привлечением прессы или ТВ, друзей, или вручение чего-либо при большом стечении наро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5" descr=""/>
          <p:cNvPicPr/>
          <p:nvPr/>
        </p:nvPicPr>
        <p:blipFill>
          <a:blip r:embed="rId2"/>
          <a:stretch/>
        </p:blipFill>
        <p:spPr>
          <a:xfrm>
            <a:off x="1322280" y="324000"/>
            <a:ext cx="782172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ИДЫ ВОЛОНТЕРСКОЙ ДЕЯТЕЛЬНОСТ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офессиональное волонтёрств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бщественное волонтёр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иртуальное волонтёр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емейно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писок литературы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по тем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16000" y="126792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арадачев И. Волонтерское движение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rusal.ru/volonters.aspx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Фонд «Достоинство»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do</a:t>
            </a:r>
            <a:r>
              <a:rPr b="0" lang="en-US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stoin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.</a:t>
            </a:r>
            <a:r>
              <a:rPr b="0" lang="en-US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ru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лаготворительный фонд Вдохновение, История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vdohnovenie.org/blago/history/dobrovol.php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удущее в твоих руках, Развитие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youth.crno.ru/pro/volunteer/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Виртуальное сообщество волонтеров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community.livejournal.com/volonterstvo/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Волонтерское движение в Карелии, Развитие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volunteer.karelia.ru/dobrovol.htm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 основе волонтерского движения лежит старый как мир принцип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2924280"/>
            <a:ext cx="74995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Bookman Old Style"/>
              </a:rPr>
              <a:t>ХОЧЕШЬ ПОЧУВСТВОВАТЬ СЕБЯ </a:t>
            </a: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ЧЕЛОВЕКОМ</a:t>
            </a:r>
            <a:r>
              <a:rPr b="0" lang="en-US" sz="4000" spc="-1" strike="noStrike">
                <a:solidFill>
                  <a:srgbClr val="7030a0"/>
                </a:solidFill>
                <a:latin typeface="Bookman Old Style"/>
              </a:rPr>
              <a:t> — ПОМОГИ ДРУГОМУ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ТАТИСТИКА </a:t>
            </a: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16000" y="907920"/>
            <a:ext cx="7920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Около 70% добровольцев участвуют в волонтерских программах с целью получить новый взгляд на жизнь, людей, работ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19% взрослого населения Франции хотя бы раз в жизни участвовали в волонтерских акция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Каждый третий немец (34 % населения) является волонтером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26% японцев имеют опыт волонтерства в прошлом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Около 33% </a:t>
            </a:r>
            <a:r>
              <a:rPr b="0" lang="ru-RU" sz="2600" spc="-1" strike="noStrike">
                <a:solidFill>
                  <a:srgbClr val="7030a0"/>
                </a:solidFill>
                <a:latin typeface="Californian FB"/>
              </a:rPr>
              <a:t>от</a:t>
            </a:r>
            <a:r>
              <a:rPr b="0" lang="ru-RU" sz="2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аселения Ирландии явля</a:t>
            </a:r>
            <a:r>
              <a:rPr b="0" lang="ru-RU" sz="2600" spc="-1" strike="noStrike">
                <a:solidFill>
                  <a:srgbClr val="7030a0"/>
                </a:solidFill>
                <a:latin typeface="Californian FB"/>
              </a:rPr>
              <a:t>ю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тся волонтерам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755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ПОЧЕМУ СТАНОВЯТСЯ ВОЛОНТЕРАМ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71280" y="1773000"/>
            <a:ext cx="7962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требность быть нужны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требность в общени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Интерес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Антураж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Финансовые соображ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Карьера, авторитет и самореализац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Творческие возможнос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Решение своих пробле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Досу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дтверждение своей самостоятельности и взрослос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 ЧЕГО НАЧИНАЕТСЯ ВОЛОНТЕРСКОЕ ДВИЖЕНИЕ?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Объект 3" descr=""/>
          <p:cNvPicPr/>
          <p:nvPr/>
        </p:nvPicPr>
        <p:blipFill>
          <a:blip r:embed="rId2"/>
          <a:stretch/>
        </p:blipFill>
        <p:spPr>
          <a:xfrm>
            <a:off x="1042920" y="1116000"/>
            <a:ext cx="78199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КАК ОРГАНИЗОВАНО ВОЛОНТЕРСКОЕ ДВИЖЕНИЕ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Объект 6" descr=""/>
          <p:cNvPicPr/>
          <p:nvPr/>
        </p:nvPicPr>
        <p:blipFill>
          <a:blip r:embed="rId2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47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ФУНКЦИИ ВОЛОНТЕРОВ В  ПРОФИЛАКТИЧЕСКОЙ РАБОТЕ 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С МОЛОДЕЖЬЮ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5640" y="2060640"/>
            <a:ext cx="7559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роведение профилактических занятий или тренин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роведение массовых акций, выставок, соревнований, иг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Распространение информации (через раздачу полиграфии, расклейку плакатов, работу в своей социальной сред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Первичное консультирование и сопровождение (ког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29528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Подготовка других волонтерских команд и участник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Творческая деятельность. Разработка станционных игр, массовых акций, создание плакатов, брошюр, видеоролик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Сбор (анкетирование, тестирование, опросы) и обработка данных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Экспертная деятельность по оценке качества услуг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476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ТО МОЖЕТ СТАТЬ ВОЛОНТЕРОМ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341000"/>
            <a:ext cx="8101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Старшеклассник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учащиеся колледжей (профтехучилищ)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Студенты вуз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Медицинские работники, </a:t>
            </a: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психолог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</a:t>
            </a: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педагог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социальные работники, социолог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Сотрудники общественных организаци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Родственники, знакомые, друзья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Друзья родственников, друзей и знакомых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Участники проведенных тренинг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Молодежь, приглашенная в рамках информационной кампани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Посетители подростковых и молодежных клуб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6:27:01Z</dcterms:created>
  <dc:creator>Пользователь</dc:creator>
  <dc:description/>
  <dc:language>en-US</dc:language>
  <cp:lastModifiedBy>Подсеваткины</cp:lastModifiedBy>
  <dcterms:modified xsi:type="dcterms:W3CDTF">2020-11-23T14:31:07Z</dcterms:modified>
  <cp:revision>28</cp:revision>
  <dc:subject/>
  <dc:title>Организация волонтерского движения</dc:title>
</cp:coreProperties>
</file>