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8.xml.rels" ContentType="application/vnd.openxmlformats-package.relationships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80DEC-DE90-4606-A596-791409408DC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982C1-A808-4DFC-8FBC-2F508F884B8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657C9-222A-427B-A63A-685468694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B73F8-56D2-4467-B8F2-70E39E803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0AD33-8ADE-44D4-B0BB-9075A6AB3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0CD14-4FE2-420E-8498-04D3946D6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B5C4F-04AE-4D2B-A689-F0970F9C1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7B7E2-2A10-4DCB-A409-5C6B43943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67D64-26C7-4F25-80FC-95085C8ED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960A2-647B-4B28-B7C7-C95B1DE65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D90EB-C33C-4F27-9128-13B967C4C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55DAC-057D-4263-9B6C-AB167780A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4AF17-15BF-4A1E-981E-BCB501D4F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C0BC4-9901-4381-A2DD-EDDAFA70C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FCB66-B1E7-40C6-BE0E-ECBAE426D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7B5F3-77AB-43F1-8DE5-B036F7CEA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15839-49BA-4730-BEC9-FC1BDAEF2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3B936-364F-426A-AC4E-635E326B4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52E26-4403-4245-8161-9A5182AB5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58E109-98F0-4AAD-B716-BFC121FA0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6B2629-D5FC-4968-AAA7-ADE39BE86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751CE2-41B6-4C98-92B2-10ECF9F1F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102C7C-E762-484E-9027-F5E2EA82F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DB414C-9F4E-46CC-A443-7405C0841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24229-5B6E-4939-A07B-65E7294D1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ED9BD0-7133-4CEE-8FA2-9B540A521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182F52-FDEE-490E-B31D-1B2084308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D097D7-072A-4FAD-8A60-D7B4B11B8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E1F077-506D-4029-9776-DC6C16B50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F1FDE9-E37B-4686-B61C-D172AE24E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502519-44D8-43E6-8C0B-1733C9EED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EB44A4-A7FA-41E5-8347-2DF010804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FDCE52-CB0E-4DBA-BCDD-E5996D64C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2430EC-8478-4E75-B399-B607F7404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182417-5ECE-407F-BA82-F8BFAD22A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B960E-3DF0-4472-B1FB-5DFDFA467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0FE591-39E4-479A-9A01-266A975FD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4781A9-310D-48DF-9A3C-D714190F7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80D9FE-6CF0-4912-BDC2-301D0653D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08E17D-FFFD-4756-B3E0-24AE97F71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FF0567-FC48-40D9-9D78-FD9B94085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79362B-E28B-4DE4-893A-01C0DEA36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C27C4A-3FCD-433F-9F99-CEC4D4E51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528301-01F8-4B61-A158-A58071AED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75DF7C-3BA7-41FC-B5A0-81BC89E68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8AE290-A4E3-4D68-BC38-1EB09E8DE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66F53-AA5D-4025-9341-9D1601B5A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E6A3C2-7496-4540-8863-87B5A994E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9FCDE3-EC58-4865-AD05-ACD062066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D175DB-D0AE-4330-939B-295A6EDE4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C11BDB-B86D-475D-B3AC-7DA45EAF9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AE1798-CE86-4DF1-98A3-996B1181A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D377FA-6E76-40F1-A52E-AA392C7D8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25297A-AB04-447C-B1F0-078C9E932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425969-4D5F-4D0D-82C8-4E97A7D0D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8ACBE4-0C47-4E80-8DBA-F3E4DC7F8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A36AFC-1268-4C23-BF7C-58D26ABF7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1E9FA-E663-4E69-9752-DE8EA4150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15A95A-1520-488E-AA74-DA3406F6C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5A97A5-8E56-4523-9001-641464340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C24916-4CC5-40F0-9E33-E376F3C0A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CB889B-1C03-44AB-95A7-46F3811B4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079F11-6F80-4785-91F0-923F71E1D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C3889E-9403-4C2E-BAEE-B21525CC2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8B6290-701E-406E-A22B-615295C46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5BE4B1-9C8B-4661-9011-D3A7B9FF9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F57D4C-E4E3-433B-9053-B92FC4EDD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6EEC4B-872E-4A73-A3B5-EA933262F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F3FE6-FD8F-4046-99A2-0FFE9FDF4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3CFD16-E37B-40F0-9632-9442B65E5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CFB322-695E-412C-B229-0A85DDCE3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65AE68-88E2-4445-9B29-9698EC919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BC50D7-11CB-4CDF-B8EC-07D819E7D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FC7543-EB15-4A35-8249-54FF8CB35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3C0782-5795-4F40-9956-BA83B33FA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A19551-4933-4481-8B3F-7599760CD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3122F8-C2F5-4B0B-9F93-BDAD3559F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6C2B0B-26DF-431D-9601-C35273923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3939C7-E67E-4C2E-9866-0BA5D7ED6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FF9FE-3776-4741-9762-847827A31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57B106-4452-49AE-8057-27ADE21E8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1EA43F-D7E3-4937-8E1B-BF64CA4C1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ED62B4-7D0F-43F6-95FD-ADB21B003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E12E77-367B-4FCA-8111-F71BEC311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D3FD74-BA88-42B6-90D4-9C2EABCB3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422F3-2546-432B-9706-1AB30C964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15848-25F4-4428-B78F-F53DE52035CE}" type="slidenum">
              <a:rPr b="0" lang="en-US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7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Овал 7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8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C663B-93D1-455B-813C-9D1C50D550F5}" type="slidenum">
              <a:rPr b="0" lang="en-US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6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9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7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Овал 7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8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BC6A4-3BB6-4DB0-A9A9-B72DF76276F2}" type="slidenum">
              <a:rPr b="0" lang="en-US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D57E2-6170-4CBA-88F5-E66E5D136B6F}" type="slidenum">
              <a:rPr b="0" lang="en-US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4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5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7041C-83EE-4266-940E-BA4D9A0546D3}" type="slidenum">
              <a:rPr b="0" lang="en-US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9F7A7-38E5-4EF3-802D-B6BF17CDC904}" type="slidenum">
              <a:rPr b="0" lang="en-US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7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8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9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884BC-5B91-48DA-87F1-8F64F211DEB4}" type="slidenum">
              <a:rPr b="0" lang="en-US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1720" y="189000"/>
            <a:ext cx="74070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72314"/>
              </a:solidFill>
              <a:latin typeface="Bookman Old Style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1431720" y="2707920"/>
            <a:ext cx="7407000" cy="352908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270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Bookman Old Style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270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0a0"/>
                </a:solidFill>
                <a:latin typeface="Bookman Old Style"/>
              </a:rPr>
              <a:t>Концепция организации волонтерского движения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402920" y="259920"/>
            <a:ext cx="74898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Bookman Old Style"/>
              </a:rPr>
              <a:t>КТО ОРГАНИЗОВЫВАЕТ РАБОТУ МОЛОДЕЖИ </a:t>
            </a:r>
            <a:br>
              <a:rPr sz="3600"/>
            </a:br>
            <a:r>
              <a:rPr b="0" lang="en-US" sz="3600" spc="-1" strike="noStrike">
                <a:solidFill>
                  <a:srgbClr val="002060"/>
                </a:solidFill>
                <a:latin typeface="Bookman Old Style"/>
              </a:rPr>
              <a:t>В ВОЛОНТЕРСКОМ ДВИЖЕНИИ?</a:t>
            </a:r>
            <a:br>
              <a:rPr sz="3600"/>
            </a:b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1434960" y="2637000"/>
            <a:ext cx="7499520" cy="36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000"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Bookman Old Style"/>
              </a:rPr>
              <a:t>Все те, кто заинтересован в расширении и улучшении работы с подростками и молодежью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Bookman Old Style"/>
              </a:rPr>
              <a:t>КАК ПРИВЛЕЧЬ ВОЛОНТЕРОВ? 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971280" y="1267920"/>
            <a:ext cx="79628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Bookman Old Style"/>
              </a:rPr>
              <a:t>Объявления, стенды, листовки в местах скопления молодежи (клубы, школы и др.)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Bookman Old Style"/>
              </a:rPr>
              <a:t>Наборы из групп клиентов или участников тренингов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Bookman Old Style"/>
              </a:rPr>
              <a:t>Наборы в других организациях, вовлечение в работу из других сфер деятельности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Bookman Old Style"/>
              </a:rPr>
              <a:t>Проведение всевозможных акций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Bookman Old Style"/>
              </a:rPr>
              <a:t>Приглашения через друзей и близких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434960" y="0"/>
            <a:ext cx="74995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Bookman Old Style"/>
              </a:rPr>
              <a:t>«Вкусные наживки» для молодежи: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1042560" y="836640"/>
            <a:ext cx="792180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682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Bookman Old Style"/>
              </a:rPr>
              <a:t>Значимость предлагаемого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Bookman Old Style"/>
              </a:rPr>
              <a:t>Общение и времяпрепровождение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Bookman Old Style"/>
              </a:rPr>
              <a:t>Повышение социального статуса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Bookman Old Style"/>
              </a:rPr>
              <a:t>Слава и известность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Bookman Old Style"/>
              </a:rPr>
              <a:t>Юмор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Bookman Old Style"/>
              </a:rPr>
              <a:t>Дух свободы: приходи, не понравится — уйдешь!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Bookman Old Style"/>
              </a:rPr>
              <a:t>Опыт предыдущих: показать, как здорово все сделали до них и как можно сделать еще круче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Bookman Old Style"/>
              </a:rPr>
              <a:t>Всевозможные незначительные материальные блага (например, сувениры, пока ничем не обоснованные), то есть халява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Bookman Old Style"/>
              </a:rPr>
              <a:t>Внедренная мысль о том, что если ты не волонтер — с тобой что-то не так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434960" y="476280"/>
            <a:ext cx="749952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Bookman Old Style"/>
              </a:rPr>
              <a:t>СКОЛЬКО ВРЕМЕНИ РАБОТАЮТ ВОЛОНТЕРЫ?</a:t>
            </a:r>
            <a:br>
              <a:rPr sz="3900"/>
            </a:b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1434960" y="2276640"/>
            <a:ext cx="7499520" cy="35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0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Bookman Old Style"/>
              </a:rPr>
              <a:t>От 1 дня до 5 лет.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810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810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Bookman Old Style"/>
              </a:rPr>
              <a:t>Главное, чтобы уходя, волонтеры чувствовали, что им будут всегда рады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810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Bookman Old Style"/>
              </a:rPr>
              <a:t>КАК УДЕРЖАТЬ ВОЛОНТЕРОВ?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1434960" y="1484280"/>
            <a:ext cx="749952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5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Bookman Old Style"/>
              </a:rPr>
              <a:t>Доверие.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5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Bookman Old Style"/>
              </a:rPr>
              <a:t>Понимание значимости и сути работы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5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Bookman Old Style"/>
              </a:rPr>
              <a:t> </a:t>
            </a:r>
            <a:r>
              <a:rPr b="0" lang="en-US" sz="2800" spc="-1" strike="noStrike">
                <a:solidFill>
                  <a:srgbClr val="7030a0"/>
                </a:solidFill>
                <a:latin typeface="Bookman Old Style"/>
              </a:rPr>
              <a:t>Карьерный рост.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5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Bookman Old Style"/>
              </a:rPr>
              <a:t>Новая деятельность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5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Bookman Old Style"/>
              </a:rPr>
              <a:t> </a:t>
            </a:r>
            <a:r>
              <a:rPr b="0" lang="en-US" sz="2800" spc="-1" strike="noStrike">
                <a:solidFill>
                  <a:srgbClr val="7030a0"/>
                </a:solidFill>
                <a:latin typeface="Bookman Old Style"/>
              </a:rPr>
              <a:t>Перспектива. 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5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Bookman Old Style"/>
              </a:rPr>
              <a:t>Поощрения.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434960" y="260280"/>
            <a:ext cx="749952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Bookman Old Style"/>
              </a:rPr>
              <a:t>СПОСОБЫ ПООЩРЕНИЯ ВОЛОНТЕРОВ.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1042560" y="2060280"/>
            <a:ext cx="789156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Bookman Old Style"/>
              </a:rPr>
              <a:t>Похвала.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Bookman Old Style"/>
              </a:rPr>
              <a:t>Доска почета на видном месте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Bookman Old Style"/>
              </a:rPr>
              <a:t>Вручение грамоты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Bookman Old Style"/>
              </a:rPr>
              <a:t>Благодарственное письмо на место учебы или родителям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Bookman Old Style"/>
              </a:rPr>
              <a:t>Личная благодарность от известного человека (представителя администрации города или звезды)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 txBox="1"/>
          <p:nvPr/>
        </p:nvSpPr>
        <p:spPr>
          <a:xfrm>
            <a:off x="1644480" y="692280"/>
            <a:ext cx="7499520" cy="555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030a0"/>
                </a:solidFill>
                <a:latin typeface="Bookman Old Style"/>
              </a:rPr>
              <a:t>Присвоение очередного звания, должности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030a0"/>
                </a:solidFill>
                <a:latin typeface="Bookman Old Style"/>
              </a:rPr>
              <a:t>Знак отличия или фирменная нашивка, означающая повышение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030a0"/>
                </a:solidFill>
                <a:latin typeface="Bookman Old Style"/>
              </a:rPr>
              <a:t>Представительство на конференции, выставке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030a0"/>
                </a:solidFill>
                <a:latin typeface="Bookman Old Style"/>
              </a:rPr>
              <a:t>Поручение ответственных работ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030a0"/>
                </a:solidFill>
                <a:latin typeface="Bookman Old Style"/>
              </a:rPr>
              <a:t>Публичное признание заслуг с привлечением прессы или ТВ, друзей, или вручение чего-либо при большом стечении народа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Объект 5" descr=""/>
          <p:cNvPicPr/>
          <p:nvPr/>
        </p:nvPicPr>
        <p:blipFill>
          <a:blip r:embed="rId2"/>
          <a:stretch/>
        </p:blipFill>
        <p:spPr>
          <a:xfrm>
            <a:off x="1322280" y="324000"/>
            <a:ext cx="7821720" cy="643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3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Bookman Old Style"/>
              </a:rPr>
              <a:t>ВИДЫ ВОЛОНТЕРСКОЙ ДЕЯТЕЛЬНОСТИ: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1434960" y="1989000"/>
            <a:ext cx="7499520" cy="425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5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Bookman Old Style"/>
              </a:rPr>
              <a:t>	</a:t>
            </a:r>
            <a:r>
              <a:rPr b="0" lang="ru-RU" sz="2800" spc="-1" strike="noStrike">
                <a:solidFill>
                  <a:srgbClr val="7030a0"/>
                </a:solidFill>
                <a:latin typeface="Bookman Old Style"/>
              </a:rPr>
              <a:t>Профессиональное волонтёрство.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5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Bookman Old Style"/>
              </a:rPr>
              <a:t>	</a:t>
            </a:r>
            <a:r>
              <a:rPr b="0" lang="ru-RU" sz="2800" spc="-1" strike="noStrike">
                <a:solidFill>
                  <a:srgbClr val="7030a0"/>
                </a:solidFill>
                <a:latin typeface="Bookman Old Style"/>
              </a:rPr>
              <a:t>Общественное волонтёрство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5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Bookman Old Style"/>
              </a:rPr>
              <a:t>	</a:t>
            </a:r>
            <a:r>
              <a:rPr b="0" lang="ru-RU" sz="2800" spc="-1" strike="noStrike">
                <a:solidFill>
                  <a:srgbClr val="7030a0"/>
                </a:solidFill>
                <a:latin typeface="Bookman Old Style"/>
              </a:rPr>
              <a:t>Виртуальное волонтёрство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5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Bookman Old Style"/>
              </a:rPr>
              <a:t>	</a:t>
            </a:r>
            <a:r>
              <a:rPr b="0" lang="ru-RU" sz="2800" spc="-1" strike="noStrike">
                <a:solidFill>
                  <a:srgbClr val="7030a0"/>
                </a:solidFill>
                <a:latin typeface="Bookman Old Style"/>
              </a:rPr>
              <a:t>Семейное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434960" y="115560"/>
            <a:ext cx="749952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Bookman Old Style"/>
              </a:rPr>
              <a:t>Список литературы </a:t>
            </a:r>
            <a:br>
              <a:rPr sz="3600"/>
            </a:br>
            <a:r>
              <a:rPr b="0" lang="en-US" sz="3600" spc="-1" strike="noStrike">
                <a:solidFill>
                  <a:srgbClr val="002060"/>
                </a:solidFill>
                <a:latin typeface="Bookman Old Style"/>
              </a:rPr>
              <a:t>по теме: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1116000" y="1267920"/>
            <a:ext cx="78184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633240" indent="-23400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7030a0"/>
                </a:solidFill>
                <a:latin typeface="Bookman Old Style"/>
              </a:rPr>
              <a:t>Барадачев И. Волонтерское движение [Электронный ресурс] // </a:t>
            </a:r>
            <a:r>
              <a:rPr b="0" lang="ru-RU" sz="2200" spc="-1" strike="noStrike" u="sng">
                <a:solidFill>
                  <a:srgbClr val="7030a0"/>
                </a:solidFill>
                <a:uFillTx/>
                <a:latin typeface="Bookman Old Style"/>
              </a:rPr>
              <a:t>http://www.rusal.ru/volonters.aspx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1" marL="633240" indent="-23400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7030a0"/>
                </a:solidFill>
                <a:latin typeface="Bookman Old Style"/>
              </a:rPr>
              <a:t>Фонд «Достоинство» [Электронный ресурс] // </a:t>
            </a:r>
            <a:r>
              <a:rPr b="0" lang="ru-RU" sz="2200" spc="-1" strike="noStrike" u="sng">
                <a:solidFill>
                  <a:srgbClr val="7030a0"/>
                </a:solidFill>
                <a:uFillTx/>
                <a:latin typeface="Bookman Old Style"/>
              </a:rPr>
              <a:t>http://www.do</a:t>
            </a:r>
            <a:r>
              <a:rPr b="0" lang="en-US" sz="2200" spc="-1" strike="noStrike" u="sng">
                <a:solidFill>
                  <a:srgbClr val="7030a0"/>
                </a:solidFill>
                <a:uFillTx/>
                <a:latin typeface="Bookman Old Style"/>
              </a:rPr>
              <a:t>stoin</a:t>
            </a:r>
            <a:r>
              <a:rPr b="0" lang="ru-RU" sz="2200" spc="-1" strike="noStrike" u="sng">
                <a:solidFill>
                  <a:srgbClr val="7030a0"/>
                </a:solidFill>
                <a:uFillTx/>
                <a:latin typeface="Bookman Old Style"/>
              </a:rPr>
              <a:t>.</a:t>
            </a:r>
            <a:r>
              <a:rPr b="0" lang="en-US" sz="2200" spc="-1" strike="noStrike" u="sng">
                <a:solidFill>
                  <a:srgbClr val="7030a0"/>
                </a:solidFill>
                <a:uFillTx/>
                <a:latin typeface="Bookman Old Style"/>
              </a:rPr>
              <a:t>ru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1" marL="633240" indent="-23400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7030a0"/>
                </a:solidFill>
                <a:latin typeface="Bookman Old Style"/>
              </a:rPr>
              <a:t>Благотворительный фонд Вдохновение, История добровольчества [Электронный ресурс] // </a:t>
            </a:r>
            <a:r>
              <a:rPr b="0" lang="ru-RU" sz="2200" spc="-1" strike="noStrike" u="sng">
                <a:solidFill>
                  <a:srgbClr val="7030a0"/>
                </a:solidFill>
                <a:uFillTx/>
                <a:latin typeface="Bookman Old Style"/>
              </a:rPr>
              <a:t>http://www.vdohnovenie.org/blago/history/dobrovol.php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1" marL="633240" indent="-23400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7030a0"/>
                </a:solidFill>
                <a:latin typeface="Bookman Old Style"/>
              </a:rPr>
              <a:t>Будущее в твоих руках, Развитие добровольчества [Электронный ресурс] // </a:t>
            </a:r>
            <a:r>
              <a:rPr b="0" lang="ru-RU" sz="2200" spc="-1" strike="noStrike" u="sng">
                <a:solidFill>
                  <a:srgbClr val="7030a0"/>
                </a:solidFill>
                <a:uFillTx/>
                <a:latin typeface="Bookman Old Style"/>
              </a:rPr>
              <a:t>http://youth.crno.ru/pro/volunteer/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1" marL="633240" indent="-23400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7030a0"/>
                </a:solidFill>
                <a:latin typeface="Bookman Old Style"/>
              </a:rPr>
              <a:t>Виртуальное сообщество волонтеров [Электронный ресурс] // </a:t>
            </a:r>
            <a:r>
              <a:rPr b="0" lang="ru-RU" sz="2200" spc="-1" strike="noStrike" u="sng">
                <a:solidFill>
                  <a:srgbClr val="7030a0"/>
                </a:solidFill>
                <a:uFillTx/>
                <a:latin typeface="Bookman Old Style"/>
              </a:rPr>
              <a:t>http://community.livejournal.com/volonterstvo/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1" marL="633240" indent="-23400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7030a0"/>
                </a:solidFill>
                <a:latin typeface="Bookman Old Style"/>
              </a:rPr>
              <a:t>Волонтерское движение в Карелии, Развитие добровольчества [Электронный ресурс] // </a:t>
            </a:r>
            <a:r>
              <a:rPr b="0" lang="ru-RU" sz="2200" spc="-1" strike="noStrike" u="sng">
                <a:solidFill>
                  <a:srgbClr val="7030a0"/>
                </a:solidFill>
                <a:uFillTx/>
                <a:latin typeface="Bookman Old Style"/>
              </a:rPr>
              <a:t>http://volunteer.karelia.ru/dobrovol.html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1" marL="633240" indent="-2340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042560" y="274680"/>
            <a:ext cx="7891560" cy="21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Bookman Old Style"/>
              </a:rPr>
              <a:t>В основе волонтерского движения лежит старый как мир принцип: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1434960" y="2924280"/>
            <a:ext cx="7499520" cy="33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0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0a0"/>
                </a:solidFill>
                <a:latin typeface="Bookman Old Style"/>
              </a:rPr>
              <a:t>ХОЧЕШЬ ПОЧУВСТВОВАТЬ СЕБЯ </a:t>
            </a:r>
            <a:r>
              <a:rPr b="1" lang="en-US" sz="4000" spc="-1" strike="noStrike">
                <a:solidFill>
                  <a:srgbClr val="7030a0"/>
                </a:solidFill>
                <a:latin typeface="Bookman Old Style"/>
              </a:rPr>
              <a:t>ЧЕЛОВЕКОМ</a:t>
            </a:r>
            <a:r>
              <a:rPr b="0" lang="en-US" sz="4000" spc="-1" strike="noStrike">
                <a:solidFill>
                  <a:srgbClr val="7030a0"/>
                </a:solidFill>
                <a:latin typeface="Bookman Old Style"/>
              </a:rPr>
              <a:t> — ПОМОГИ ДРУГОМУ!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434960" y="115560"/>
            <a:ext cx="749952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Bookman Old Style"/>
                <a:ea typeface="Times New Roman"/>
              </a:rPr>
              <a:t>СТАТИСТИКА </a:t>
            </a:r>
            <a:br>
              <a:rPr sz="2900"/>
            </a:b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1116000" y="907920"/>
            <a:ext cx="7920000" cy="583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0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7030a0"/>
                </a:solidFill>
                <a:latin typeface="Bookman Old Style"/>
              </a:rPr>
              <a:t>Около 70% добровольцев участвуют в волонтерских программах с целью получить новый взгляд на жизнь, людей, работу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810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7030a0"/>
                </a:solidFill>
                <a:latin typeface="Bookman Old Style"/>
              </a:rPr>
              <a:t>	</a:t>
            </a:r>
            <a:r>
              <a:rPr b="0" lang="ru-RU" sz="2600" spc="-1" strike="noStrike">
                <a:solidFill>
                  <a:srgbClr val="7030a0"/>
                </a:solidFill>
                <a:latin typeface="Bookman Old Style"/>
              </a:rPr>
              <a:t>19% взрослого населения Франции хотя бы раз в жизни участвовали в волонтерских акциях. 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810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7030a0"/>
                </a:solidFill>
                <a:latin typeface="Bookman Old Style"/>
              </a:rPr>
              <a:t>	</a:t>
            </a:r>
            <a:r>
              <a:rPr b="0" lang="ru-RU" sz="2600" spc="-1" strike="noStrike">
                <a:solidFill>
                  <a:srgbClr val="7030a0"/>
                </a:solidFill>
                <a:latin typeface="Bookman Old Style"/>
              </a:rPr>
              <a:t>Каждый третий немец (34 % населения) является волонтером. 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810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7030a0"/>
                </a:solidFill>
                <a:latin typeface="Bookman Old Style"/>
              </a:rPr>
              <a:t>	</a:t>
            </a:r>
            <a:r>
              <a:rPr b="0" lang="ru-RU" sz="2600" spc="-1" strike="noStrike">
                <a:solidFill>
                  <a:srgbClr val="7030a0"/>
                </a:solidFill>
                <a:latin typeface="Bookman Old Style"/>
              </a:rPr>
              <a:t>26% японцев имеют опыт волонтерства в прошлом. 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810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7030a0"/>
                </a:solidFill>
                <a:latin typeface="Bookman Old Style"/>
              </a:rPr>
              <a:t>	</a:t>
            </a:r>
            <a:r>
              <a:rPr b="0" lang="ru-RU" sz="2600" spc="-1" strike="noStrike">
                <a:solidFill>
                  <a:srgbClr val="7030a0"/>
                </a:solidFill>
                <a:latin typeface="Bookman Old Style"/>
              </a:rPr>
              <a:t>Около 33% </a:t>
            </a:r>
            <a:r>
              <a:rPr b="0" lang="ru-RU" sz="2600" spc="-1" strike="noStrike">
                <a:solidFill>
                  <a:srgbClr val="7030a0"/>
                </a:solidFill>
                <a:latin typeface="Californian FB"/>
              </a:rPr>
              <a:t>от</a:t>
            </a:r>
            <a:r>
              <a:rPr b="0" lang="ru-RU" sz="2600" spc="-1" strike="noStrike">
                <a:solidFill>
                  <a:srgbClr val="7030a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7030a0"/>
                </a:solidFill>
                <a:latin typeface="Bookman Old Style"/>
              </a:rPr>
              <a:t>населения Ирландии явля</a:t>
            </a:r>
            <a:r>
              <a:rPr b="0" lang="ru-RU" sz="2600" spc="-1" strike="noStrike">
                <a:solidFill>
                  <a:srgbClr val="7030a0"/>
                </a:solidFill>
                <a:latin typeface="Californian FB"/>
              </a:rPr>
              <a:t>ю</a:t>
            </a:r>
            <a:r>
              <a:rPr b="0" lang="ru-RU" sz="2600" spc="-1" strike="noStrike">
                <a:solidFill>
                  <a:srgbClr val="7030a0"/>
                </a:solidFill>
                <a:latin typeface="Bookman Old Style"/>
              </a:rPr>
              <a:t>тся волонтерами. 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258560" y="260280"/>
            <a:ext cx="767556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Bookman Old Style"/>
              </a:rPr>
              <a:t>ПОЧЕМУ СТАНОВЯТСЯ ВОЛОНТЕРАМИ?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971280" y="1773000"/>
            <a:ext cx="796284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Bookman Old Style"/>
                <a:ea typeface="Times New Roman"/>
              </a:rPr>
              <a:t>Потребность быть нужным.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Bookman Old Style"/>
                <a:ea typeface="Times New Roman"/>
              </a:rPr>
              <a:t>Потребность в общении.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Bookman Old Style"/>
                <a:ea typeface="Times New Roman"/>
              </a:rPr>
              <a:t>Интерес.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Bookman Old Style"/>
                <a:ea typeface="Times New Roman"/>
              </a:rPr>
              <a:t>Антураж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Bookman Old Style"/>
                <a:ea typeface="Times New Roman"/>
              </a:rPr>
              <a:t>Финансовые соображения.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Bookman Old Style"/>
                <a:ea typeface="Times New Roman"/>
              </a:rPr>
              <a:t>Карьера, авторитет и самореализация.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Bookman Old Style"/>
                <a:ea typeface="Times New Roman"/>
              </a:rPr>
              <a:t>Творческие возможности.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Bookman Old Style"/>
                <a:ea typeface="Times New Roman"/>
              </a:rPr>
              <a:t>Решение своих проблем.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Bookman Old Style"/>
                <a:ea typeface="Times New Roman"/>
              </a:rPr>
              <a:t>Досуг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Bookman Old Style"/>
                <a:ea typeface="Times New Roman"/>
              </a:rPr>
              <a:t>Подтверждение своей самостоятельности и взрослости.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52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2060"/>
                </a:solidFill>
                <a:latin typeface="Bookman Old Style"/>
                <a:ea typeface="Times New Roman"/>
              </a:rPr>
              <a:t>С ЧЕГО НАЧИНАЕТСЯ ВОЛОНТЕРСКОЕ ДВИЖЕНИЕ?</a:t>
            </a:r>
            <a:endParaRPr b="0" lang="en-US" sz="29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34" name="Объект 3" descr=""/>
          <p:cNvPicPr/>
          <p:nvPr/>
        </p:nvPicPr>
        <p:blipFill>
          <a:blip r:embed="rId2"/>
          <a:stretch/>
        </p:blipFill>
        <p:spPr>
          <a:xfrm>
            <a:off x="1042920" y="1116000"/>
            <a:ext cx="7819920" cy="549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Bookman Old Style"/>
                <a:ea typeface="Times New Roman"/>
              </a:rPr>
              <a:t>КАК ОРГАНИЗОВАНО ВОЛОНТЕРСКОЕ ДВИЖЕНИЕ?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36" name="Объект 6" descr=""/>
          <p:cNvPicPr/>
          <p:nvPr/>
        </p:nvPicPr>
        <p:blipFill>
          <a:blip r:embed="rId2"/>
          <a:stretch/>
        </p:blipFill>
        <p:spPr>
          <a:xfrm>
            <a:off x="1432080" y="1450800"/>
            <a:ext cx="7503840" cy="47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187280" y="620640"/>
            <a:ext cx="774720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Bookman Old Style"/>
              </a:rPr>
              <a:t>ФУНКЦИИ ВОЛОНТЕРОВ В  ПРОФИЛАКТИЧЕСКОЙ РАБОТЕ </a:t>
            </a:r>
            <a:br>
              <a:rPr sz="3200"/>
            </a:br>
            <a:r>
              <a:rPr b="0" lang="en-US" sz="3200" spc="-1" strike="noStrike">
                <a:solidFill>
                  <a:srgbClr val="002060"/>
                </a:solidFill>
                <a:latin typeface="Bookman Old Style"/>
              </a:rPr>
              <a:t>С МОЛОДЕЖЬЮ</a:t>
            </a:r>
            <a:br>
              <a:rPr sz="3900"/>
            </a:b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1115640" y="2060640"/>
            <a:ext cx="755964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5000"/>
              </a:lnSpc>
              <a:spcBef>
                <a:spcPts val="601"/>
              </a:spcBef>
              <a:spcAft>
                <a:spcPts val="1001"/>
              </a:spcAft>
              <a:buClr>
                <a:srgbClr val="3891a7"/>
              </a:buClr>
              <a:buSzPct val="41000"/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Bookman Old Style"/>
                <a:ea typeface="Times New Roman"/>
              </a:rPr>
              <a:t>Проведение профилактических занятий или тренингов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spcAft>
                <a:spcPts val="1001"/>
              </a:spcAft>
              <a:buClr>
                <a:srgbClr val="3891a7"/>
              </a:buClr>
              <a:buSzPct val="41000"/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Bookman Old Style"/>
                <a:ea typeface="Times New Roman"/>
              </a:rPr>
              <a:t>Проведение массовых акций, выставок, соревнований, игр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spcAft>
                <a:spcPts val="1001"/>
              </a:spcAft>
              <a:buClr>
                <a:srgbClr val="3891a7"/>
              </a:buClr>
              <a:buSzPct val="41000"/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Bookman Old Style"/>
                <a:ea typeface="Times New Roman"/>
              </a:rPr>
              <a:t>Распространение информации (через раздачу полиграфии, расклейку плакатов, работу в своей социальной среде)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spcAft>
                <a:spcPts val="1001"/>
              </a:spcAft>
              <a:buClr>
                <a:srgbClr val="3891a7"/>
              </a:buClr>
              <a:buSzPct val="41000"/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Times New Roman"/>
              </a:rPr>
              <a:t>Первичное консультирование и сопровождение (кого)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 algn="just">
              <a:lnSpc>
                <a:spcPct val="105000"/>
              </a:lnSpc>
              <a:spcBef>
                <a:spcPts val="601"/>
              </a:spcBef>
              <a:spcAft>
                <a:spcPts val="1001"/>
              </a:spcAft>
              <a:buClr>
                <a:srgbClr val="3891a7"/>
              </a:buClr>
              <a:buSzPct val="41000"/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1295280" y="1197000"/>
            <a:ext cx="7848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030a0"/>
                </a:solidFill>
                <a:latin typeface="Bookman Old Style"/>
              </a:rPr>
              <a:t>Подготовка других волонтерских команд и участников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030a0"/>
                </a:solidFill>
                <a:latin typeface="Bookman Old Style"/>
              </a:rPr>
              <a:t>Творческая деятельность. Разработка станционных игр, массовых акций, создание плакатов, брошюр, видеороликов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030a0"/>
                </a:solidFill>
                <a:latin typeface="Bookman Old Style"/>
              </a:rPr>
              <a:t>Сбор (анкетирование, тестирование, опросы) и обработка данных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030a0"/>
                </a:solidFill>
                <a:latin typeface="Bookman Old Style"/>
              </a:rPr>
              <a:t>Экспертная деятельность по оценке качества услуг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434960" y="476280"/>
            <a:ext cx="749952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Bookman Old Style"/>
              </a:rPr>
              <a:t>КТО МОЖЕТ СТАТЬ ВОЛОНТЕРОМ?</a:t>
            </a:r>
            <a:br>
              <a:rPr sz="3900"/>
            </a:b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1042560" y="1341000"/>
            <a:ext cx="810108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9480" indent="-2628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7030a0"/>
                </a:solidFill>
                <a:latin typeface="Bookman Old Style"/>
              </a:rPr>
              <a:t>Старшеклассники</a:t>
            </a:r>
            <a:r>
              <a:rPr b="0" lang="en-US" sz="2900" spc="-1" strike="noStrike">
                <a:solidFill>
                  <a:srgbClr val="7030a0"/>
                </a:solidFill>
                <a:latin typeface="Bookman Old Style"/>
              </a:rPr>
              <a:t>, учащиеся колледжей (профтехучилищ).</a:t>
            </a:r>
            <a:endParaRPr b="0" lang="en-US" sz="29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030a0"/>
                </a:solidFill>
                <a:latin typeface="Bookman Old Style"/>
              </a:rPr>
              <a:t>Студенты вузов.</a:t>
            </a:r>
            <a:endParaRPr b="0" lang="en-US" sz="29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030a0"/>
                </a:solidFill>
                <a:latin typeface="Bookman Old Style"/>
              </a:rPr>
              <a:t>Медицинские работники, </a:t>
            </a:r>
            <a:r>
              <a:rPr b="1" lang="en-US" sz="2900" spc="-1" strike="noStrike">
                <a:solidFill>
                  <a:srgbClr val="7030a0"/>
                </a:solidFill>
                <a:latin typeface="Bookman Old Style"/>
              </a:rPr>
              <a:t>психологи</a:t>
            </a:r>
            <a:r>
              <a:rPr b="0" lang="en-US" sz="2900" spc="-1" strike="noStrike">
                <a:solidFill>
                  <a:srgbClr val="7030a0"/>
                </a:solidFill>
                <a:latin typeface="Bookman Old Style"/>
              </a:rPr>
              <a:t>, </a:t>
            </a:r>
            <a:r>
              <a:rPr b="1" lang="en-US" sz="2900" spc="-1" strike="noStrike">
                <a:solidFill>
                  <a:srgbClr val="7030a0"/>
                </a:solidFill>
                <a:latin typeface="Bookman Old Style"/>
              </a:rPr>
              <a:t>педагоги</a:t>
            </a:r>
            <a:r>
              <a:rPr b="0" lang="en-US" sz="2900" spc="-1" strike="noStrike">
                <a:solidFill>
                  <a:srgbClr val="7030a0"/>
                </a:solidFill>
                <a:latin typeface="Bookman Old Style"/>
              </a:rPr>
              <a:t>, социальные работники, социологи.</a:t>
            </a:r>
            <a:endParaRPr b="0" lang="en-US" sz="29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030a0"/>
                </a:solidFill>
                <a:latin typeface="Bookman Old Style"/>
              </a:rPr>
              <a:t>Сотрудники общественных организаций.</a:t>
            </a:r>
            <a:endParaRPr b="0" lang="en-US" sz="29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030a0"/>
                </a:solidFill>
                <a:latin typeface="Bookman Old Style"/>
              </a:rPr>
              <a:t>Родственники, знакомые, друзья.</a:t>
            </a:r>
            <a:endParaRPr b="0" lang="en-US" sz="29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030a0"/>
                </a:solidFill>
                <a:latin typeface="Bookman Old Style"/>
              </a:rPr>
              <a:t>Друзья родственников, друзей и знакомых.</a:t>
            </a:r>
            <a:endParaRPr b="0" lang="en-US" sz="29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030a0"/>
                </a:solidFill>
                <a:latin typeface="Bookman Old Style"/>
              </a:rPr>
              <a:t>Участники проведенных тренингов.</a:t>
            </a:r>
            <a:endParaRPr b="0" lang="en-US" sz="29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030a0"/>
                </a:solidFill>
                <a:latin typeface="Bookman Old Style"/>
              </a:rPr>
              <a:t>Молодежь, приглашенная в рамках информационной кампании.</a:t>
            </a:r>
            <a:endParaRPr b="0" lang="en-US" sz="29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030a0"/>
                </a:solidFill>
                <a:latin typeface="Bookman Old Style"/>
              </a:rPr>
              <a:t>Посетители подростковых и молодежных клубов.</a:t>
            </a:r>
            <a:endParaRPr b="0" lang="en-US" sz="29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30T06:27:01Z</dcterms:created>
  <dc:creator>Пользователь</dc:creator>
  <dc:description/>
  <dc:language>en-US</dc:language>
  <cp:lastModifiedBy>Подсеваткины</cp:lastModifiedBy>
  <dcterms:modified xsi:type="dcterms:W3CDTF">2020-11-23T14:31:07Z</dcterms:modified>
  <cp:revision>28</cp:revision>
  <dc:subject/>
  <dc:title>Организация волонтерского движения</dc:title>
</cp:coreProperties>
</file>