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EC78-ADD5-4801-9349-DB7F7A57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029A-AF9D-4633-BBA3-6B7298E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6687-DB57-4809-B50B-77E461AD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5BBC-02A0-4F2B-8684-DE7BBB61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BD7-6046-48C8-BAE2-451D643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CE8-FD91-49AD-945E-4C5DFC8D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92D9-3DB9-4F9C-8F91-AFDB929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DC7-D11C-4D10-B9AE-DA8C3F7C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DA5-DA6D-46FA-80F6-03AF031A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2808-D001-4970-B35E-7750F2B0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F71D-78B3-4E0B-BB58-EEB5D22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9EF3-B515-4A32-89C7-EAB4339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E455-C1CF-4AEC-B964-2294D75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CAF-07EF-4B20-86A0-7035700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7920-BA74-497B-8788-9DB8024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CBED-2310-4134-85B5-8CA09150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DF5-4076-4711-9556-C5DAF993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841D-2D23-47D8-96F2-CA23DC0D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AD0F-2ED2-4EC4-9978-A870159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0278-6011-4037-92B2-ECC45C6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B417-2A27-401E-87AA-5E03169E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80BB-77C8-4440-A269-6BF02FB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673A-4D58-4A39-90D8-E0BB19D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DF3A-B05F-4DD7-A1CC-83A9EE5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360-7C2B-412E-A5D7-92E629AAD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E8B-9A13-4902-8F0E-7554ECEB7B90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8"/>
          <p:cNvSpPr/>
          <p:nvPr/>
        </p:nvSpPr>
        <p:spPr>
          <a:xfrm>
            <a:off x="571680" y="3429000"/>
            <a:ext cx="8424720" cy="25718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 Black"/>
              </a:rPr>
              <a:t>3 класс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1" name="Picture 49" descr=""/>
          <p:cNvPicPr/>
          <p:nvPr/>
        </p:nvPicPr>
        <p:blipFill>
          <a:blip r:embed="rId1"/>
          <a:stretch/>
        </p:blipFill>
        <p:spPr>
          <a:xfrm>
            <a:off x="1500120" y="142920"/>
            <a:ext cx="6624720" cy="35431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2000160" y="2786040"/>
            <a:ext cx="5473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22147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Arial Black"/>
              </a:rPr>
              <a:t>THE ENGLISH YEAR</a:t>
            </a:r>
            <a:br>
              <a:rPr sz="3600"/>
            </a:br>
            <a:r>
              <a:rPr b="0" lang="ru-RU" sz="3600" spc="-1" strike="noStrike">
                <a:solidFill>
                  <a:srgbClr val="4b2500"/>
                </a:solidFill>
                <a:latin typeface="Arial Black"/>
              </a:rPr>
              <a:t>Английский год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Вспомним еще раз как месяца идут по порядку, какой месяц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до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before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… 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,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а какой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после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fter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(в тетрадь не пишем, мы это уже записывали) 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</a:t>
            </a: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Jan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(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январь)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 Febr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(февра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3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rch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(мар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4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April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(апре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y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  (май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June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н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July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August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(авгус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9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 Sept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(сен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10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Octo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   (ок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11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Nov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(но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2)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 December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(дека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Содержимое 3" descr=""/>
          <p:cNvPicPr/>
          <p:nvPr/>
        </p:nvPicPr>
        <p:blipFill>
          <a:blip r:embed="rId1">
            <a:lum contrast="10000"/>
          </a:blip>
          <a:srcRect l="19522" t="69285" r="24723" b="14824"/>
          <a:stretch/>
        </p:blipFill>
        <p:spPr>
          <a:xfrm>
            <a:off x="714240" y="4714920"/>
            <a:ext cx="771552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357120" y="207180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Учебник стр.8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 упр.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4 (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письменно)</a:t>
            </a:r>
            <a:br>
              <a:rPr sz="1800"/>
            </a:b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1)Запишите в тетрадь через запятую месяца, которые идут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): November=…………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cember=………..,May=……….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rch=…………, June=…………, Februar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) :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anuary=…………, April=…….., February=………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uly=…………, March=……….., Ma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8"/>
          <p:cNvSpPr/>
          <p:nvPr/>
        </p:nvSpPr>
        <p:spPr>
          <a:xfrm>
            <a:off x="719280" y="142920"/>
            <a:ext cx="8424720" cy="201600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Thank you</a:t>
            </a:r>
            <a:r>
              <a:rPr b="0" lang="ru-RU" sz="6600" spc="-1" strike="noStrike">
                <a:solidFill>
                  <a:srgbClr val="4b2500"/>
                </a:solidFill>
                <a:latin typeface="Arial Black"/>
              </a:rPr>
              <a:t>!</a:t>
            </a: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3" name="Picture 49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6624720" cy="35434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928880" y="271476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2500"/>
                </a:solidFill>
                <a:latin typeface="Arial Black"/>
              </a:rPr>
              <a:t>Спасибо!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Закрепление правила: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There is / There are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Есть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Имеетс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Чтение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Reading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правила чтения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(после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о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Months-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Месяц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49" descr=""/>
          <p:cNvPicPr/>
          <p:nvPr/>
        </p:nvPicPr>
        <p:blipFill>
          <a:blip r:embed="rId1"/>
          <a:stretch/>
        </p:blipFill>
        <p:spPr>
          <a:xfrm>
            <a:off x="6000840" y="4786200"/>
            <a:ext cx="300024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8"/>
          <p:cNvSpPr/>
          <p:nvPr/>
        </p:nvSpPr>
        <p:spPr>
          <a:xfrm>
            <a:off x="214200" y="2214720"/>
            <a:ext cx="8425080" cy="43574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авило</a:t>
            </a:r>
            <a:r>
              <a:rPr b="1" lang="en-US" sz="4000" spc="-1" strike="noStrike">
                <a:solidFill>
                  <a:srgbClr val="00b050"/>
                </a:solidFill>
                <a:latin typeface="Garamond"/>
              </a:rPr>
              <a:t> (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овторение)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ничего не записываем в тетрадь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is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…..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Имеется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Есть 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(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is a banana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(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are  ……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 Имеется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сть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are 2 bananas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1071720" y="21420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21</a:t>
            </a:r>
            <a:r>
              <a:rPr b="1" lang="en-US" sz="2000" spc="-1" strike="noStrike" baseline="30000">
                <a:solidFill>
                  <a:srgbClr val="4b25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of April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Classwork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 English year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Английский год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запишите в тетрадь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только число и тему урока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ese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two oranges, juice, milk , four apples, six sweets, a book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s, a lemon.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3643200"/>
          <a:ext cx="8229600" cy="29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57120" y="35712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Распределите  правильно по   столбикам  следующие слова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(пишем в тетрад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67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hees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wo orang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juic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four appl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milk 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six swee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book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a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lemon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5" name="WordArt 50"/>
          <p:cNvSpPr txBox="1"/>
          <p:nvPr/>
        </p:nvSpPr>
        <p:spPr>
          <a:xfrm>
            <a:off x="7000200" y="4714920"/>
            <a:ext cx="14288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a69564"/>
                </a:solidFill>
                <a:latin typeface="Arial"/>
              </a:rPr>
              <a:t>Let’s read!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Arial"/>
              </a:rPr>
              <a:t>Давайте почитаем вместе!</a:t>
            </a:r>
            <a:br>
              <a:rPr sz="2400"/>
            </a:br>
            <a:r>
              <a:rPr b="1" lang="ru-RU" sz="2400" spc="-1" strike="noStrike">
                <a:solidFill>
                  <a:srgbClr val="ffff6a"/>
                </a:solidFill>
                <a:latin typeface="Arial"/>
              </a:rPr>
              <a:t> Учебник стр.84 упр.№4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= a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ay=ei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 эй)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e/ea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(и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lum contrast="10000"/>
          </a:blip>
          <a:srcRect l="25014" t="30608" r="23032" b="14135"/>
          <a:stretch/>
        </p:blipFill>
        <p:spPr>
          <a:xfrm>
            <a:off x="785880" y="1714680"/>
            <a:ext cx="757224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0"/>
          <p:cNvSpPr txBox="1"/>
          <p:nvPr/>
        </p:nvSpPr>
        <p:spPr>
          <a:xfrm>
            <a:off x="8000280" y="5786280"/>
            <a:ext cx="85716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оверим перевод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омашнего задания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March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- мар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b) April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апрель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c) gras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трава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d) a leaf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e) leave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ь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6500160" y="4000680"/>
            <a:ext cx="22143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исываем в тетрадь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после ноября) =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December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ека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до ноября)=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Octo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октя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050"/>
                </a:solidFill>
                <a:uFillTx/>
                <a:latin typeface="Arial"/>
              </a:rPr>
              <a:t>Попробуйте сами!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 : May =………..           after : April =……….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: June=………           before: May=………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after : May =June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after : April =May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before: June=May         </a:t>
            </a:r>
            <a:r>
              <a:rPr b="0" lang="en-US" sz="5400" spc="-1" strike="noStrike">
                <a:solidFill>
                  <a:srgbClr val="0070c0"/>
                </a:solidFill>
                <a:latin typeface="Garamond"/>
              </a:rPr>
              <a:t>before: May =April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WordArt 50"/>
          <p:cNvSpPr txBox="1"/>
          <p:nvPr/>
        </p:nvSpPr>
        <p:spPr>
          <a:xfrm>
            <a:off x="7000920" y="4429080"/>
            <a:ext cx="17892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26:15Z</dcterms:created>
  <dc:creator>Admin</dc:creator>
  <dc:description/>
  <dc:language>en-US</dc:language>
  <cp:lastModifiedBy>Пользователь Windows</cp:lastModifiedBy>
  <dcterms:modified xsi:type="dcterms:W3CDTF">2020-11-23T17:05:28Z</dcterms:modified>
  <cp:revision>62</cp:revision>
  <dc:subject/>
  <dc:title>Слайд 1</dc:title>
</cp:coreProperties>
</file>