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A0DED-BB09-427A-AB40-5DFA483F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D532-CDA5-4BFF-A97E-B7D309D4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98D1-5674-40E2-9D6E-35C1747D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E2DD-B773-4300-9A6C-F46D06BB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B0A9-6E90-4330-AB9C-0BE7C42C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7796-56B6-4CF5-810F-3878429D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3EF5-FBAD-4E67-A605-4C788170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A700-0163-4040-B8D2-11A4751A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762E-D64D-4F15-B77A-72E68C36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BCAB-FA85-45E1-BA56-67CF3EF0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312E-0B51-40EC-9A80-69965661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B0AF-5A6B-471A-8B26-E22F7759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7085-8B8F-4133-887A-87CFC24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3AA9-9F59-4823-8E90-92319528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85B7-6732-4B9A-BC50-565EBE43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A129-CEA2-478A-B5BE-99F06C3B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539D-3B27-4E90-B1E7-CCD43829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AB16-AE57-4BAB-969B-D803B58B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7D9E-747A-4362-A759-77233F70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0546-801B-4B70-AB6C-EC94E756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F418-9518-4CC4-8BFB-8A1B36F2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00AE-E2BA-4908-8859-44A2FC26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4CA7C-BDA2-4C85-8C57-D29EA73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57FA-422D-4E29-9FB8-DF9D07E0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673D-C1C7-4051-9FA9-F514AE20D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6F63-612C-476B-BDB7-EEE1A2F67E55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8"/>
          <p:cNvSpPr/>
          <p:nvPr/>
        </p:nvSpPr>
        <p:spPr>
          <a:xfrm>
            <a:off x="571680" y="3429000"/>
            <a:ext cx="8424720" cy="257184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 Black"/>
              </a:rPr>
              <a:t>3 класс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1" name="Picture 49" descr=""/>
          <p:cNvPicPr/>
          <p:nvPr/>
        </p:nvPicPr>
        <p:blipFill>
          <a:blip r:embed="rId1"/>
          <a:stretch/>
        </p:blipFill>
        <p:spPr>
          <a:xfrm>
            <a:off x="1500120" y="142920"/>
            <a:ext cx="6624720" cy="35431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0"/>
          <p:cNvSpPr txBox="1"/>
          <p:nvPr/>
        </p:nvSpPr>
        <p:spPr>
          <a:xfrm>
            <a:off x="8100360" y="5805360"/>
            <a:ext cx="7189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Garamond"/>
              </a:rPr>
              <a:t> 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Garamond"/>
              <a:ea typeface="Garamond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2000160" y="2786040"/>
            <a:ext cx="5473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2214720" y="785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Arial Black"/>
              </a:rPr>
              <a:t>THE ENGLISH YEAR</a:t>
            </a:r>
            <a:br>
              <a:rPr sz="3600"/>
            </a:br>
            <a:r>
              <a:rPr b="0" lang="ru-RU" sz="3600" spc="-1" strike="noStrike">
                <a:solidFill>
                  <a:srgbClr val="4b2500"/>
                </a:solidFill>
                <a:latin typeface="Arial Black"/>
              </a:rPr>
              <a:t>Английский год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Вспомним еще раз как месяца идут по порядку, какой месяц </a:t>
            </a:r>
            <a:r>
              <a:rPr b="1" lang="ru-RU" sz="2800" spc="-1" strike="noStrike">
                <a:solidFill>
                  <a:srgbClr val="6600cc"/>
                </a:solidFill>
                <a:latin typeface="Garamond"/>
              </a:rPr>
              <a:t>до</a:t>
            </a:r>
            <a:r>
              <a:rPr b="1" lang="en-US" sz="28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before 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… </a:t>
            </a:r>
            <a:r>
              <a:rPr b="1" lang="en-US" sz="2800" spc="-1" strike="noStrike">
                <a:solidFill>
                  <a:srgbClr val="a69564"/>
                </a:solidFill>
                <a:latin typeface="Garamond"/>
              </a:rPr>
              <a:t>,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а какой </a:t>
            </a:r>
            <a:r>
              <a:rPr b="1" lang="ru-RU" sz="2800" spc="-1" strike="noStrike">
                <a:solidFill>
                  <a:srgbClr val="6600cc"/>
                </a:solidFill>
                <a:latin typeface="Garamond"/>
              </a:rPr>
              <a:t>после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fter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(в тетрадь не пишем, мы это уже записывали) 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)</a:t>
            </a: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January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(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январь)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) February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(февра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3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March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(март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4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April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   (апре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5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May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     (май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June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(июн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7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 July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(ию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 August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(август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c000"/>
                </a:solidFill>
                <a:latin typeface="Arial Black"/>
              </a:rPr>
              <a:t>9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 Septem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(сент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c000"/>
                </a:solidFill>
                <a:latin typeface="Arial Black"/>
              </a:rPr>
              <a:t>10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Octo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    (окт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11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Novem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 (но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2)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 December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(дека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0" name="Содержимое 3" descr=""/>
          <p:cNvPicPr/>
          <p:nvPr/>
        </p:nvPicPr>
        <p:blipFill>
          <a:blip r:embed="rId1">
            <a:lum contrast="10000"/>
          </a:blip>
          <a:srcRect l="19522" t="69285" r="24723" b="14824"/>
          <a:stretch/>
        </p:blipFill>
        <p:spPr>
          <a:xfrm>
            <a:off x="714240" y="4714920"/>
            <a:ext cx="7715520" cy="1857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357120" y="2071800"/>
            <a:ext cx="77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Учебник стр.8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 упр.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4 (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письменно)</a:t>
            </a:r>
            <a:br>
              <a:rPr sz="1800"/>
            </a:b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1)Запишите в тетрадь через запятую месяца, которые идут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сле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): November=…………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ecember=………..,May=……….,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March=…………, June=…………, February=……………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) :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January=…………, April=…….., February=………,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July=…………, March=……….., May=……………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48"/>
          <p:cNvSpPr/>
          <p:nvPr/>
        </p:nvSpPr>
        <p:spPr>
          <a:xfrm>
            <a:off x="719280" y="142920"/>
            <a:ext cx="8424720" cy="201600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Arial Black"/>
              </a:rPr>
              <a:t>Thank you</a:t>
            </a:r>
            <a:r>
              <a:rPr b="0" lang="ru-RU" sz="6600" spc="-1" strike="noStrike">
                <a:solidFill>
                  <a:srgbClr val="4b2500"/>
                </a:solidFill>
                <a:latin typeface="Arial Black"/>
              </a:rPr>
              <a:t>!</a:t>
            </a:r>
            <a:r>
              <a:rPr b="0" lang="en-US" sz="6600" spc="-1" strike="noStrike">
                <a:solidFill>
                  <a:srgbClr val="4b2500"/>
                </a:solidFill>
                <a:latin typeface="Arial Black"/>
              </a:rPr>
              <a:t> 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3" name="Picture 49" descr=""/>
          <p:cNvPicPr/>
          <p:nvPr/>
        </p:nvPicPr>
        <p:blipFill>
          <a:blip r:embed="rId1"/>
          <a:stretch/>
        </p:blipFill>
        <p:spPr>
          <a:xfrm>
            <a:off x="1428840" y="3643200"/>
            <a:ext cx="6624720" cy="3543480"/>
          </a:xfrm>
          <a:prstGeom prst="rect">
            <a:avLst/>
          </a:prstGeom>
          <a:ln w="0">
            <a:noFill/>
          </a:ln>
        </p:spPr>
      </p:pic>
      <p:sp>
        <p:nvSpPr>
          <p:cNvPr id="134" name="WordArt 50"/>
          <p:cNvSpPr txBox="1"/>
          <p:nvPr/>
        </p:nvSpPr>
        <p:spPr>
          <a:xfrm>
            <a:off x="8100360" y="5805360"/>
            <a:ext cx="7189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Garamond"/>
              </a:rPr>
              <a:t> 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Garamond"/>
              <a:ea typeface="Garamond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1928880" y="271476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2500"/>
                </a:solidFill>
                <a:latin typeface="Arial Black"/>
              </a:rPr>
              <a:t>Спасибо!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) Закрепление правила: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There is / There are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Есть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Имеетс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) Чтение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Reading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правила чтения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After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(после)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Before (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до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Months-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Месяц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7" name="Picture 49" descr=""/>
          <p:cNvPicPr/>
          <p:nvPr/>
        </p:nvPicPr>
        <p:blipFill>
          <a:blip r:embed="rId1"/>
          <a:stretch/>
        </p:blipFill>
        <p:spPr>
          <a:xfrm>
            <a:off x="6000840" y="4786200"/>
            <a:ext cx="3000240" cy="171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8"/>
          <p:cNvSpPr/>
          <p:nvPr/>
        </p:nvSpPr>
        <p:spPr>
          <a:xfrm>
            <a:off x="214200" y="2214720"/>
            <a:ext cx="8425080" cy="435744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равило</a:t>
            </a:r>
            <a:r>
              <a:rPr b="1" lang="en-US" sz="4000" spc="-1" strike="noStrike">
                <a:solidFill>
                  <a:srgbClr val="00b050"/>
                </a:solidFill>
                <a:latin typeface="Garamond"/>
              </a:rPr>
              <a:t> (</a:t>
            </a: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овторение)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(ничего не записываем в тетрадь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There is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…..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1" lang="ru-RU" sz="2400" spc="-1" strike="noStrike" u="sng">
                <a:solidFill>
                  <a:srgbClr val="4b2500"/>
                </a:solidFill>
                <a:uFillTx/>
                <a:latin typeface="Garamond"/>
              </a:rPr>
              <a:t>Имеется</a:t>
            </a:r>
            <a:r>
              <a:rPr b="1" lang="en-US" sz="2400" spc="-1" strike="noStrike" u="sng">
                <a:solidFill>
                  <a:srgbClr val="4b2500"/>
                </a:solidFill>
                <a:uFillTx/>
                <a:latin typeface="Garamond"/>
              </a:rPr>
              <a:t>/ </a:t>
            </a:r>
            <a:r>
              <a:rPr b="1" lang="ru-RU" sz="2400" spc="-1" strike="noStrike" u="sng">
                <a:solidFill>
                  <a:srgbClr val="4b2500"/>
                </a:solidFill>
                <a:uFillTx/>
                <a:latin typeface="Garamond"/>
              </a:rPr>
              <a:t>Есть </a:t>
            </a:r>
            <a:r>
              <a:rPr b="1" lang="en-US" sz="24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(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ед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There is a banana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(ед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There are  ……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 Имеется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/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Есть (мн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There are 2 bananas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(мн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1071720" y="214200"/>
            <a:ext cx="678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21</a:t>
            </a:r>
            <a:r>
              <a:rPr b="1" lang="en-US" sz="2000" spc="-1" strike="noStrike" baseline="30000">
                <a:solidFill>
                  <a:srgbClr val="4b25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of April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Classwork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The  English year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Английский год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запишите в тетрадь</a:t>
            </a: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только число и тему урока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1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7146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eese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two oranges, juice, milk , four apples, six sweets, a book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ts, a lemon.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760" y="3643200"/>
          <a:ext cx="8229600" cy="290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is….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are ……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4"/>
          <p:cNvSpPr/>
          <p:nvPr/>
        </p:nvSpPr>
        <p:spPr>
          <a:xfrm>
            <a:off x="357120" y="35712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Распределите  правильно по   столбикам  следующие слова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(пишем в тетрад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авайте проверим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670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5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is….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are ……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cheese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wo orange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juice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four apple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milk 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six sweet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a book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cat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a lemon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</a:tbl>
          </a:graphicData>
        </a:graphic>
      </p:graphicFrame>
      <p:sp>
        <p:nvSpPr>
          <p:cNvPr id="115" name="WordArt 50"/>
          <p:cNvSpPr txBox="1"/>
          <p:nvPr/>
        </p:nvSpPr>
        <p:spPr>
          <a:xfrm>
            <a:off x="7000200" y="4714920"/>
            <a:ext cx="142884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400" spc="-1" strike="noStrike">
                <a:solidFill>
                  <a:srgbClr val="a69564"/>
                </a:solidFill>
                <a:latin typeface="Arial"/>
              </a:rPr>
              <a:t>Let’s read!</a:t>
            </a:r>
            <a:br>
              <a:rPr sz="2400"/>
            </a:br>
            <a:r>
              <a:rPr b="1" lang="ru-RU" sz="2400" spc="-1" strike="noStrike">
                <a:solidFill>
                  <a:srgbClr val="a69564"/>
                </a:solidFill>
                <a:latin typeface="Arial"/>
              </a:rPr>
              <a:t>Давайте почитаем вместе!</a:t>
            </a:r>
            <a:br>
              <a:rPr sz="2400"/>
            </a:br>
            <a:r>
              <a:rPr b="1" lang="ru-RU" sz="2400" spc="-1" strike="noStrike">
                <a:solidFill>
                  <a:srgbClr val="ffff6a"/>
                </a:solidFill>
                <a:latin typeface="Arial"/>
              </a:rPr>
              <a:t> Учебник стр.84 упр.№4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= a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:)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 ay=ei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( эй)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e/ea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=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: (и:)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>
            <a:lum contrast="10000"/>
          </a:blip>
          <a:srcRect l="25014" t="30608" r="23032" b="14135"/>
          <a:stretch/>
        </p:blipFill>
        <p:spPr>
          <a:xfrm>
            <a:off x="785880" y="1714680"/>
            <a:ext cx="7572240" cy="45003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0"/>
          <p:cNvSpPr txBox="1"/>
          <p:nvPr/>
        </p:nvSpPr>
        <p:spPr>
          <a:xfrm>
            <a:off x="8000280" y="5786280"/>
            <a:ext cx="85716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роверим перевод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омашнего задания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March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- мар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b) April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апрель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c) grass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трава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d) a leaf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лис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e) leaves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листья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WordArt 50"/>
          <p:cNvSpPr txBox="1"/>
          <p:nvPr/>
        </p:nvSpPr>
        <p:spPr>
          <a:xfrm>
            <a:off x="6500160" y="4000680"/>
            <a:ext cx="221436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писываем в тетрадь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fter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Novem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после ноября) =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December (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декабрь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fore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Novem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до ноября)=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Octo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октябрь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b050"/>
                </a:solidFill>
                <a:uFillTx/>
                <a:latin typeface="Arial"/>
              </a:rPr>
              <a:t>Попробуйте сами!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after : May =………..           after : April =……….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before: June=………           before: May=………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авайте проверим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after : May =June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00b050"/>
                </a:solidFill>
                <a:latin typeface="Garamond"/>
              </a:rPr>
              <a:t>after : April =May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ffc000"/>
                </a:solidFill>
                <a:latin typeface="Garamond"/>
              </a:rPr>
              <a:t>before: June=May         </a:t>
            </a:r>
            <a:r>
              <a:rPr b="0" lang="en-US" sz="5400" spc="-1" strike="noStrike">
                <a:solidFill>
                  <a:srgbClr val="0070c0"/>
                </a:solidFill>
                <a:latin typeface="Garamond"/>
              </a:rPr>
              <a:t>before: May =April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WordArt 50"/>
          <p:cNvSpPr txBox="1"/>
          <p:nvPr/>
        </p:nvSpPr>
        <p:spPr>
          <a:xfrm>
            <a:off x="7000920" y="4429080"/>
            <a:ext cx="178920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3:26:15Z</dcterms:created>
  <dc:creator>Admin</dc:creator>
  <dc:description/>
  <dc:language>en-US</dc:language>
  <cp:lastModifiedBy>Пользователь Windows</cp:lastModifiedBy>
  <dcterms:modified xsi:type="dcterms:W3CDTF">2020-11-23T17:05:28Z</dcterms:modified>
  <cp:revision>62</cp:revision>
  <dc:subject/>
  <dc:title>Слайд 1</dc:title>
</cp:coreProperties>
</file>