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3F2-BE00-4200-AB57-D1261DC5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78D-2511-4C84-9BC1-D73B39C6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8298B-13C6-48BB-99CD-F25CB5A0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3096D-CB76-430A-8D19-3F102F58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F93F8-04F1-432A-ABBB-590A964E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08370-D250-4D4E-8A83-8DE2BD9A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3397-027F-4C33-8CE9-BCDA1439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51FC5-3AF8-4D12-A33C-292E9887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1BC7E-466C-4E30-8ABD-B99AD53E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991E8-A0A9-4AB8-90F3-050BB822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42299-8845-4385-B22D-2249B54B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A8D8C-C8D5-4FC5-A570-8EF1453D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7FA-0C6C-4FE8-99E5-CA6A8739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CFB59-5489-4EE1-8265-FF769A35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965B1-D8D3-4CF1-B3B6-46333415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A4C70-1F5E-48CF-8B91-8DFD7FCA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6B16F-22A8-45D7-8BC7-78A2390E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27ECD-04A4-4A9C-9189-40277F36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2718D-0FEB-4EA1-98A1-D45E43E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4F5C5-A43F-472D-89F1-B997701D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18C86-D5F5-486A-B508-A4D71669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2E025-8932-49B1-A1C0-A8BF1361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4176E-7B3F-48EE-A93B-1DEF8685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7FB-24B5-4DE5-925E-93A7FF1F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D1E76-1944-4491-8BB7-C8071E58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3612B-EA02-4861-8CB5-38234148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4ADE8-C051-4F12-98B4-5C7163E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CB97C-5C07-4BCA-9D50-CEFF8780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73D06-2C04-464E-913E-06546809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9E116-BCF7-4C16-9B1C-FC4F4A65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62B44-117D-4415-B968-5F28C64B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A98B1-04D1-4EF6-8BF2-F317FE9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BA820-150B-4475-A9B5-7966BBD3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EF71E-2931-4446-940B-CA135822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930E-5E2E-420C-A1A9-04AC2196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FB6BD-214D-423F-8A79-054505E7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25364-3D86-4BC5-8E74-47F143A1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3BF1C-0A4D-4629-9F39-D3EAD0AD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EC424-8B90-4F66-B9B0-B5720268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FEF84-00EA-457A-839F-D94847AC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B8773-FDA8-425E-AF55-D4101800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9D288-96B9-4616-AF95-E6A2E6C2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1A037-A8A9-4920-91FE-621A2308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F1CDB-535F-40A8-AB65-06F06140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D7D1C-6203-4E7B-8B36-4F5C1928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02E3-3A88-4B05-85F9-ACEF2558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124F4-45CC-47DE-B1E3-EA4E3835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7AD4F-CBA3-4A0E-BCA3-81BFDB17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F6B81-602B-450F-9D7F-6C057B5A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5278D-08D8-4155-8B74-FF802667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7E4E9-BD4D-4767-B0B3-BF82154F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78643-5DA9-4404-8506-EDD136F2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34E56-9711-4287-9609-89A5933B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3D059-DDF8-4E14-AEC1-D3FBF5AE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8F98D-B742-45AF-A647-25D88AE5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A58EB-8C1C-4355-936A-0131D530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E423-56CE-4B84-BEF4-02673796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C3F8E-A6D3-4732-BDD9-9657C52D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DD773-BA84-4A68-8396-1C57C949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10773-98E4-407B-BA54-0065607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5146D-E740-474E-86C3-51737BEF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67549-1E09-468C-985C-5E18B0BA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9BB06-71CD-4F64-8D3B-169A5DE7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45233-484B-4A53-B0D7-BBFDB43D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02FDC-9B37-4B3F-9754-C9B8B7F4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96B92-841E-4DAD-B4C3-217D01F9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7E6C4-DE02-42D1-8EA5-6C242065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E645-8829-4622-A082-BEA8A701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2F04A-37EC-406B-B3F5-6F17B31E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A0D61-B4D5-47FB-84AA-FE582AFA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3271D-140C-413B-891A-3476848C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D0ACC-D80E-4C8B-9996-A0261F1C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A8F2A-42D1-458E-B020-946E222A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6214B-6529-44A2-92EC-BBBF068D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B8AEB-F3F3-4C9C-A208-7BEC987A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206D6-182C-43A0-AC88-7205AF16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D2791-F2C3-4A75-BB42-F0BB8504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4DED2-22F3-430A-9591-C4DA49A5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4802-C2F5-431B-9807-138A54F0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CCA1F-5FB1-44E3-9341-760A47D0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36AD5-D3FC-4833-BFA2-8110B3AB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F2A75-EE0E-46FD-8060-1D7A7816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ABA14-5364-41F9-87C2-9C5CED18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7223C-D24A-42BD-8D39-0880FB16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79461-D5D4-4325-B2BD-F3FAFA9F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57FC0-60A4-4312-BF9F-3B758198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1584F-4DBD-42B2-B9F6-92C10C0E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667D0-E269-48DC-85A2-76A127BB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ED96B5-C2AB-46EC-BFE1-8B114A62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F9CC-A7B9-47AB-919D-C64443AA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F17AD-D67F-4770-8CE5-D9030F9C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D30DA6-2D91-4C23-8620-224085A9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685F3-368E-48D7-9CF5-E37CC81B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3DE7A-F323-401F-8E9A-9F5404A0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954BE-AFBC-4AF4-8280-65CEC4A4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C9D39E-941B-4C77-8A98-F0657A54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44900-A9E3-40FB-AD6C-85EF074A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551D9-3D97-47E5-AA28-9E33AAA1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45179-ED9A-43F7-A020-33BB23F0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43542-9421-4540-A9A8-4A47D3D2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7911-F5B1-4DC0-B26C-736A631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663F7-F6C8-4CDC-B3C0-866DBC1F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B06E3-EE15-4932-8975-CE4736F7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27F42-9743-4E14-AA97-6579C008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82185-3937-4FE3-9C71-EA435E79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53ADF-B9D3-4BEC-92DB-0C38EC4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F921B-A247-4CE6-B5D2-314CD60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3ED72-26D0-4552-85EA-10CC36EB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05DDC-28D3-4E7F-8635-053D925B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009581-F4C3-4F98-A3D7-7956EC1C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CC0D6-C3D8-4B4F-B923-3A5D3683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676-5385-4285-8265-F07555F5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3FAC-4A8B-4099-9DE3-ADAF7A2D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8043B-6169-49D5-936C-A9F7AF11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FE233-9EBA-49FD-BC0F-8AE42E2B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24F3D-65F2-4E26-8CE2-4A733872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0772E-6496-41AC-8582-443F936A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B6B22-4FFE-455D-BA80-2706EF95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F5BAC-C261-4BC4-97A1-3623C071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B858B4-5CA8-4A1B-99D9-617A80D1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A9880-7A51-4489-9F5D-3A361AE6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387BD7-AB20-4242-B443-9EF5B544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8D5B91-62D0-4C82-BD8E-AF2020C4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C5C7-34B4-41D3-A381-64349566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770A02-7515-401A-B849-2DA2ED83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E23BA-F4C9-4709-ABC1-AC494F2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53F3C-8D2E-4820-B14F-0EDB0B4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F3289-177F-4418-8ECD-13F25C57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BDF8B-891C-491D-BECC-3D6D0B2D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D35F4-687C-4CE6-B715-5CD70F85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D3AFB-35EA-4951-A261-63B9D088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FE917-95B7-4B5B-A564-640BDD80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CCE513-138D-40DC-9ABE-FD4C4978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599DE4-5490-4751-87C3-429CB2A3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6769-CC82-4296-9447-EB3A7D19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86AF48-06F9-4F1B-B58A-055BBF39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B35E9B-752C-4B21-9DB4-CDE59129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1F1F9-FBF4-4309-A5CC-A735ABEC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300B5-FD40-4383-98BE-57CFD2CE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CFDA1D-5E8E-4E48-B2F3-8A048AE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303C54-46CD-4809-BF96-3218B1E2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5233AD-5C8F-4F35-B2A4-FF588152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5AA90-1CE7-41C4-94A3-B6A60483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BE2AA-A5AE-4CF1-A439-B59C4FE3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095A6-F7BE-48B9-AEAD-4F55DC78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4E63-A6E9-46BD-9EB6-E0C3011C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2238D-788B-45D3-8438-0685664E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D27FF3-E38F-47C3-B69C-651F1C63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5D740D-0912-4E3B-83E2-9328C7E3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0110C-246D-440C-AEF1-B5EEE112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14CD9-B015-45FE-8CDE-CA1656AE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1EF71-4FFE-493C-915E-85244ABA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6431A8-049F-46A0-86E9-1F125875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008EF-0E08-4BA9-9CC4-AF93C08B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0FEBE-2FA0-4E6C-A8C8-93E6074E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9BCF1-3363-4ACB-A0CE-E4AEE914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4CF2-7B74-4CBF-9383-F1ED7387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60EFF-B791-4BBD-B9A8-DDC04A33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488477-FA54-4A32-9BD4-51F2EDA4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73EEB-A350-4762-81B8-EB611360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F6FE4-E27D-4A94-9573-3D32A9E5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C7B737-C4AC-4D79-B4D4-DC50FA6F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DDEF80-55F3-4D78-B416-BA16D17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4392D-3A31-44DB-8119-AA0A71B2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ACEDE2-8A42-4EDD-A19A-829E2BC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9278BB-0E5B-4F5E-B063-412355AE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7A8C67-CE2E-47E6-9CCE-F2D6DFE5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1DF6-CF01-4E38-9C24-583AD6B3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6F82F-F2EC-4FA9-830D-8099D3D9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F990E-81D9-4A64-8302-7BA9261A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6750E3-E15F-433F-9012-9D3B68CF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67109C-419B-4BD2-AF8A-29C21A5B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D53351-7BB9-4AD6-96F4-15043268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D2BC17-0DC1-41E2-B785-6D646D75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C676FF-F6AE-48D1-99A9-503D4358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AD9A85-B290-4D08-A22B-BE7A8946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711952-53A2-49F5-8FAD-2E8A0F74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E64B1B-937B-4A3E-BA9A-40AF8CE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4F17-F7EF-4A5F-AAC6-4CB7A4FF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73FB54-0750-4263-9A18-A4CE0710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198D80-5529-475D-8C05-856C35E4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F9B90F-1BE9-464D-B0D6-897DA35D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9A3955-3464-457B-8FE2-ED7D9455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3BCDB-B5C9-4E5D-AF49-B3F31AA9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9AA66B-A6E1-4400-80E0-0A755DC7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991EDC-6A0A-4018-9A90-B8DD2ABE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B95442-F11B-4320-B89C-5A7FB86F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1292E0-5EB5-443F-9533-EAFF21CD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259951-C76C-4BDA-8DF9-9790D7BF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B548-63D5-47EE-9721-91660A59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2A5F1A-472C-4C57-B457-A35CFBE8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D7E632-D9A4-4F97-BC9D-B64B45E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718185-5F96-4588-A967-CC6F774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131DFA-8FB0-4819-8922-21018FD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C9E2F4-0B59-4E37-8794-49C21427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A84E01-D1CF-4AB6-965B-79B9E357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9CF179-3693-4972-96E0-AFD280F9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823FF6-C30E-42A6-9EE8-73C40B90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C93BCB-E2B3-4C5B-93DC-D489D884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D6FF2F-FAE3-4A34-B87E-7FFEEF14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B88E-832E-4FB8-8B85-2E1F4FB4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85B376-750B-46A5-A551-15CEE098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E27A93-4711-4184-A563-90D1147A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936B35-43D9-410B-951F-9A20C3FC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97F3E9-9766-468E-8732-E784FEB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4E9E9C-7A2C-46B1-9007-2B417DB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6193BA-869F-4284-9CFE-1153CF95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95AD2F-B198-4A3E-96C8-06D669C5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137AAA-DA37-4375-9899-33427C45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40B369-C383-41B3-A39B-03B33601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122A7E-2444-4A95-A2E9-C9FEB1F1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B0A4B-5C40-4AA3-BFF9-1EF1DE12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3D3166-5599-464F-8107-2CD5BA8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AA089D-812F-4EE7-A6ED-19314B43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77D721-AB89-4E08-B65E-E83A3C18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BE1552-D692-4810-B229-0E78B6A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957FCD-9CBF-42DD-87D0-1C1C23A8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6642F7-0A73-4AE8-8C00-4A6BDC87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56E6B2-5456-4310-AF03-D9FFAE7B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4F2C88-703B-432C-9438-BE939CA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254B52-21BC-4ED6-9333-104C4301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EB549B-8794-47DF-8092-A1365348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703-D186-48CC-ACDF-12C16944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3657-9DEB-4256-AE9D-CA0DCA21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CBBD2C-147A-4110-85E3-AE9D05C8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D6A15B-1183-4B57-A939-910C0947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84D04C-576B-4C53-8C40-9CB7435F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1DCC2E-434D-4B0D-BE7D-6E99A596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18FC03-E5BB-4784-B1FE-E57F0087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090213-6488-4561-B9A7-9DA529EC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7E288B-D64D-41EF-BAE2-30627C71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08EE5D-07AE-4F88-A115-38D319E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A5E0CC-9853-46BD-8BAB-EEE8C089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6C60AE-E27D-4D63-B85B-0C15EBC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9194-D27A-4421-A9E0-7297AF93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B6819C-45F3-4A13-A7A5-69C9DC72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A01022-B3EE-4DC5-8E57-259F7238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B5C100-6B12-47DB-BE24-09F2BBAE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D530-AD31-4524-B8F2-09CB2D0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DAA4-5A06-4233-87CA-CD241E09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0430-00F5-447D-98CB-139FCB76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C9F9-9FA1-4A0A-B0C9-4FFBC3C8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3287-1509-4AA1-9A3B-DAD5DACE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CE32A-4969-4C26-8308-3103FEF9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7499-CC22-4A67-8E39-5A477511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714AD-4F0B-425B-901A-E725B87B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172-D64B-4E27-A265-0000440F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49394-E64F-4D65-A810-4F99F336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BB71-EDE5-47C5-A00E-1EC88643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7FFD-7678-4BD4-A8FE-3A148D21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0997-4D5D-4224-B4AA-4B221D69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9676-1C02-4C66-A09F-7C124AAD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66B4-7BB4-4D4A-8D2E-DF0D29A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EB8F7-6A02-4DC6-BA3F-9B8AC598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5758-3887-4A3F-A245-6328BA37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26D6-5E27-4B17-9848-07DE30D2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929F-A0E4-41B5-B301-30A7E30A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F48-148E-4232-9C9A-498BA1FF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85A5-07BE-4909-A89C-534EDD84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2A25-DEE6-44F8-AEE4-6AC91130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BD70-C85B-4E23-9781-88D02F56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507D4-8B1B-426E-855C-DAB25D2B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CCFD-C86B-406A-91E1-F1E21933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0BE5-5247-43DD-88A5-11332773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140E8-81A8-4B66-B815-E6BE3EDB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AFF0-F5A6-4CA1-937C-8FA43044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05259-63EB-4993-8496-C24A7501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ECB83-E847-4A75-9A94-756E9AC3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949-9B07-458C-85C8-653358B7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D8B2-36B0-4EF4-93F6-F695FEC0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B30F8-2948-47EC-AB31-7B45CFD9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D7DBD-CF0B-42A7-A1B3-A9B7C6D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5A98F-9842-43DF-AD19-3C29C3D8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E46AB-205B-4293-AC5E-0F6D5D0E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5E39-EF42-4E8A-8831-B553554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4EE91-788D-4008-A501-B0664031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D744D-EE3D-4AED-9384-4CF625FB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5899E-B32C-49CD-92F9-EC2D712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80D71-FBED-47AB-8EA7-8ED603DC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8A8-E507-4A51-872F-2ACAF4C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D723C-A331-4CA3-9617-AC992B23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2543C-E276-46A3-9C44-0C764529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434E-C338-4A75-8B4B-03CC5163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0A4DC-AE8A-4A15-A799-DEA46BA6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AE0E2-7A45-4568-871D-D5F165E5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96696-2AA1-41DD-B8C3-0BC392C9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9974A-633C-4D2A-846C-17C59724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C64DB-83F5-428D-A3E4-D193F54B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91AC5-3693-42DB-9E14-A796D273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4CBEC-9328-41A6-AC0B-0D51E8D2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F05-4E24-48EA-B0AD-3F50FEC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7FDFA-0736-4140-9010-E2A9186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04B42-1B92-487B-BDEA-9FA07469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9F9E5-BB82-4190-BD4F-410BC4B6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90A57-E4E6-4AC2-A410-974D705F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B9C5-9129-46AD-96CA-4E323E0A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F9149-6007-43E8-A883-00CB9B9A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1AB09-2D36-4330-97BA-0366098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05442-7B11-4B11-95CC-6E321422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E4DA9-CE4C-4527-A92D-D55B5627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676E6-A7A6-4B17-B3BD-E212A2DD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BF1-7602-4B3D-ADC3-B8D1B20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0FA9C-6F79-49EF-BAF3-ABE43AB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03A06-D192-4F28-809A-BFF39269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B8F63-B33A-4FF4-ADE8-383CE56A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ECF1F-B473-42F6-B41C-6A6A0887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93106-8465-4DB7-A808-56BD29C3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93F1B-3E3A-4064-A681-ECCDF891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89A4D-2879-42A7-8C56-33616ED1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8DAA6-0569-4CFF-BEB1-2CEC6BB9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899FA-C178-4DC6-9AB6-9C7CDFB0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D9B0F-EC17-4BA9-A034-DF789CC6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7799-5940-4A05-8766-3E0FDFEB3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34AA-B496-443A-87E4-E1D4391420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3B1F-F787-4EC7-B303-3ABA280AB2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6489-BB5C-42EF-9450-6F974A02BB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1788-51FB-438B-8E65-0B3F344DB9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F4B4-7503-4CEE-BFE7-E4F5738AA5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24B5-22A5-42D3-B318-46A6DBCF08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7790-5325-4FF5-8052-E8561D2616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8300-6614-4487-B294-081DF4E8A2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01C6-5D71-4A77-846B-7A395B7757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425A-6F9E-4D18-ACC0-DE35A2EA1F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8E39-DBDB-441C-BC1F-BF9497ABAA1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DC56-7EE1-44B0-89E3-37F2EB4C94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6B94-3007-4758-ABB5-C5EAB70C91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EEFC-81DC-45BE-B402-7208903DAB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DE7A-F9D4-4AA0-9B83-1EAC1300D1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80D3-1F0E-4457-91AC-26959C43AC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0AE3-5F70-4810-95AF-E9AFAA1FCD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4685-F7AC-48D6-9113-771E2F5FC7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54C8-D643-4B25-9610-2BAB8E6857D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F119-A0D7-4012-86AE-BE3AA0C2C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B688-BECC-4650-BFF6-843EA26F7B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DB6-E0A6-481E-8C8E-4E3D572371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F312-EE7B-462F-8B05-2264389716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52C3-1387-47FD-B6BF-EC049C765C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00DB-A5F5-4AAB-AD12-7828094F59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ставки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орфемный анализ сл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ся правильно анализировать слова с приставками и писать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1. Подготовка к урок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Математ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Физкультур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усский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Прямоугольник 1"/>
          <p:cNvSpPr/>
          <p:nvPr/>
        </p:nvSpPr>
        <p:spPr>
          <a:xfrm>
            <a:off x="3612240" y="32907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17" descr="DSC08483"/>
          <p:cNvPicPr/>
          <p:nvPr/>
        </p:nvPicPr>
        <p:blipFill>
          <a:blip r:embed="rId1"/>
          <a:stretch/>
        </p:blipFill>
        <p:spPr>
          <a:xfrm>
            <a:off x="826920" y="2781360"/>
            <a:ext cx="1785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есенка  успех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Group 2"/>
          <p:cNvGrpSpPr/>
          <p:nvPr/>
        </p:nvGrpSpPr>
        <p:grpSpPr>
          <a:xfrm>
            <a:off x="1101600" y="1051920"/>
            <a:ext cx="6552000" cy="5650200"/>
            <a:chOff x="1101600" y="1051920"/>
            <a:chExt cx="6552000" cy="5650200"/>
          </a:xfrm>
        </p:grpSpPr>
        <p:cxnSp>
          <p:nvCxnSpPr>
            <p:cNvPr id="1093" name="AutoShape 3"/>
            <p:cNvCxnSpPr/>
            <p:nvPr/>
          </p:nvCxnSpPr>
          <p:spPr>
            <a:xfrm flipH="1" flipV="1" rot="5400000">
              <a:off x="131400" y="3670560"/>
              <a:ext cx="4002120" cy="206208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94" name="AutoShape 4"/>
            <p:cNvCxnSpPr/>
            <p:nvPr/>
          </p:nvCxnSpPr>
          <p:spPr>
            <a:xfrm>
              <a:off x="3162960" y="2700720"/>
              <a:ext cx="22780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95" name="AutoShape 5"/>
            <p:cNvCxnSpPr/>
            <p:nvPr/>
          </p:nvCxnSpPr>
          <p:spPr>
            <a:xfrm flipV="1">
              <a:off x="5440320" y="1051920"/>
              <a:ext cx="1080" cy="16491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96" name="AutoShape 6"/>
            <p:cNvCxnSpPr/>
            <p:nvPr/>
          </p:nvCxnSpPr>
          <p:spPr>
            <a:xfrm>
              <a:off x="5440680" y="1052280"/>
              <a:ext cx="22132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</p:grpSp>
      <p:pic>
        <p:nvPicPr>
          <p:cNvPr id="1097" name="Рисунок 2" descr=""/>
          <p:cNvPicPr/>
          <p:nvPr/>
        </p:nvPicPr>
        <p:blipFill>
          <a:blip r:embed="rId1"/>
          <a:stretch/>
        </p:blipFill>
        <p:spPr>
          <a:xfrm>
            <a:off x="5786280" y="1197000"/>
            <a:ext cx="1727280" cy="1836720"/>
          </a:xfrm>
          <a:prstGeom prst="rect">
            <a:avLst/>
          </a:prstGeom>
          <a:ln w="0">
            <a:noFill/>
          </a:ln>
        </p:spPr>
      </p:pic>
      <p:pic>
        <p:nvPicPr>
          <p:cNvPr id="1098" name="Рисунок 3" descr=""/>
          <p:cNvPicPr/>
          <p:nvPr/>
        </p:nvPicPr>
        <p:blipFill>
          <a:blip r:embed="rId2"/>
          <a:stretch/>
        </p:blipFill>
        <p:spPr>
          <a:xfrm>
            <a:off x="3564000" y="2881440"/>
            <a:ext cx="1673280" cy="1776240"/>
          </a:xfrm>
          <a:prstGeom prst="rect">
            <a:avLst/>
          </a:prstGeom>
          <a:ln w="0">
            <a:noFill/>
          </a:ln>
        </p:spPr>
      </p:pic>
      <p:pic>
        <p:nvPicPr>
          <p:cNvPr id="1099" name="Рисунок 4" descr=""/>
          <p:cNvPicPr/>
          <p:nvPr/>
        </p:nvPicPr>
        <p:blipFill>
          <a:blip r:embed="rId3"/>
          <a:stretch/>
        </p:blipFill>
        <p:spPr>
          <a:xfrm>
            <a:off x="1390680" y="4836960"/>
            <a:ext cx="17971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годня на занятии </a:t>
            </a:r>
            <a:r>
              <a:rPr b="1" lang="ru-RU" sz="3200" spc="-1" strike="noStrike">
                <a:solidFill>
                  <a:srgbClr val="00b0f0"/>
                </a:solidFill>
                <a:latin typeface="Calibri"/>
                <a:ea typeface="Arial"/>
              </a:rPr>
              <a:t>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ч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знал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помнил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див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2" name="Рисунок 9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870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Рисунок 1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9780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8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Математ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думал +р…зг…дал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…бе…ка + з…грустил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…езд + п…са…ки +…бил + …бнял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…скучился +в…шли + книзу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…пустил + в…шёл +д…ел + кверху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3" name="Рисунок 2" descr=""/>
          <p:cNvPicPr/>
          <p:nvPr/>
        </p:nvPicPr>
        <p:blipFill>
          <a:blip r:embed="rId1"/>
          <a:stretch/>
        </p:blipFill>
        <p:spPr>
          <a:xfrm>
            <a:off x="6804000" y="63360"/>
            <a:ext cx="18414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опрос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зу =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Рисунок 2" descr=""/>
          <p:cNvPicPr/>
          <p:nvPr/>
        </p:nvPicPr>
        <p:blipFill>
          <a:blip r:embed="rId1"/>
          <a:stretch/>
        </p:blipFill>
        <p:spPr>
          <a:xfrm>
            <a:off x="5364000" y="525600"/>
            <a:ext cx="2953080" cy="164448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10920" y="185760"/>
            <a:ext cx="821844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изкульту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Прямоугольник 4"/>
          <p:cNvSpPr/>
          <p:nvPr/>
        </p:nvSpPr>
        <p:spPr>
          <a:xfrm>
            <a:off x="1547640" y="2492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ым детям нужно    …с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медленно   …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цы     …жать, потом   …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секунду    …сто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плавно    …пуст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ещё раз    … втор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ставки пространственного зна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1403280" y="1628640"/>
          <a:ext cx="6697800" cy="3086280"/>
        </p:xfrm>
        <a:graphic>
          <a:graphicData uri="http://schemas.openxmlformats.org/drawingml/2006/table">
            <a:tbl>
              <a:tblPr/>
              <a:tblGrid>
                <a:gridCol w="2232000"/>
                <a:gridCol w="2233800"/>
                <a:gridCol w="2232000"/>
              </a:tblGrid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ени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е направлено изнутри наруж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1" name="Rectangle 1"/>
          <p:cNvSpPr/>
          <p:nvPr/>
        </p:nvSpPr>
        <p:spPr>
          <a:xfrm>
            <a:off x="0" y="-87480"/>
            <a:ext cx="10009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3" name="Рисунок 1" descr=""/>
          <p:cNvPicPr/>
          <p:nvPr/>
        </p:nvPicPr>
        <p:blipFill>
          <a:blip r:embed="rId1"/>
          <a:srcRect l="29332" t="17721" r="29218" b="28140"/>
          <a:stretch/>
        </p:blipFill>
        <p:spPr>
          <a:xfrm>
            <a:off x="698400" y="620640"/>
            <a:ext cx="7747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бота   с    тексто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324000" y="836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енеть, звонок.              Дети, класс, из, идти.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, учительская, идти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ница.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я, библиотека, до, идти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овая, идти, Вера, из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а, к, окно, идти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мена,закончить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ти, все, класс, 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6" name="Объект 6" descr=""/>
          <p:cNvPicPr/>
          <p:nvPr/>
        </p:nvPicPr>
        <p:blipFill>
          <a:blip r:embed="rId1"/>
          <a:stretch/>
        </p:blipFill>
        <p:spPr>
          <a:xfrm>
            <a:off x="4362480" y="1700280"/>
            <a:ext cx="4595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Box 1"/>
          <p:cNvSpPr/>
          <p:nvPr/>
        </p:nvSpPr>
        <p:spPr>
          <a:xfrm>
            <a:off x="1428840" y="21420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ВЕРЬ  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2"/>
          <p:cNvSpPr/>
          <p:nvPr/>
        </p:nvSpPr>
        <p:spPr>
          <a:xfrm>
            <a:off x="4146480" y="2786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3"/>
          <p:cNvSpPr/>
          <p:nvPr/>
        </p:nvSpPr>
        <p:spPr>
          <a:xfrm>
            <a:off x="1071720" y="928800"/>
            <a:ext cx="7429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звенел   звонок.  Дети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и  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а.  Учительница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а  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скую.   Толя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ёл  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блиотеки.   Вера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а  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овой.   Света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д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а   к   ок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мена закончилась.   Все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1" descr=""/>
          <p:cNvPicPr/>
          <p:nvPr/>
        </p:nvPicPr>
        <p:blipFill>
          <a:blip r:embed="rId1"/>
          <a:stretch/>
        </p:blipFill>
        <p:spPr>
          <a:xfrm>
            <a:off x="7723080" y="4765680"/>
            <a:ext cx="14209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9:48:42Z</dcterms:created>
  <dc:creator>777</dc:creator>
  <dc:description/>
  <dc:language>en-US</dc:language>
  <cp:lastModifiedBy>Максим Свиридов</cp:lastModifiedBy>
  <dcterms:modified xsi:type="dcterms:W3CDTF">2019-02-09T13:03:28Z</dcterms:modified>
  <cp:revision>81</cp:revision>
  <dc:subject/>
  <dc:title>Слайд 1</dc:title>
</cp:coreProperties>
</file>