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84E-852C-4B44-8B0F-308BB46C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838-FF5D-477F-8A23-79F9234F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B477B-4079-48E2-A07E-37EA092D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BAA14-EE57-42AE-A704-A7C02291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E9825-B80C-4ED4-9914-65F4562D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C1FDA-3077-4C39-B2BD-4C0A3C72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44486-E2DA-4286-B9E9-17CCA557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DC387-7DC7-4451-BD46-6157AC7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0C4B8-52A2-417F-B148-F7B8A339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A75F9-85BC-457D-B884-E45CBFFF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DA5BF-CAE7-477A-AD4A-910A99A6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888EA-86BC-4C2A-8FC1-F628545F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A3F-CE6D-4668-8C8A-8414D6AD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0E05B-7718-452A-B8DB-8FAD24C0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B8CEF-E9EE-4878-9239-F3386302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C4EC7-0F98-44FB-9FDE-0A677D31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4225F-5D09-4A8A-A814-2F380690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DBD66-3FEB-4696-93F2-B97E28D3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EDF7D-F6F4-4C5B-89F7-42B6F2F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984A7-80B0-45B7-8E65-D6B061D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30CB5-6CCA-4253-AAB3-8685C6B3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B242F-537B-44FB-A102-85B54228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FF524-83AB-4D4E-ADCC-837E2FA5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043-23E9-40BC-B17E-8BAFABFB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65853-05EB-4320-9959-74B5CF01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AF4EC-D558-420D-B500-D6FEFAC8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B4C9E-5B29-4CD8-B3BA-F9CA9339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53AF7-4A01-4E9B-804A-5866A458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FE294-53F8-4063-9720-2BA222C3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42806-1A93-4AD7-A21F-68F82E40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D0558-D8FE-49F9-B894-997CC106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B9085-F800-40BD-9B95-16A59D44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42BE4-7837-4891-8ADD-87D76921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813C0-E0E1-40ED-9724-F37D193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3522-C7D5-40C0-9B19-8A5884E4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D557C-CB40-47D7-80B2-378F9BBD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84B1A-525A-4315-927B-41C067C8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213BF-A7AA-457B-8FE3-436F1A6D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EA6AD-05CE-4227-AF76-38775161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80DB4-764A-4EE2-A3F1-367F45D5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B4062-018A-4E8D-937C-A67B87ED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7B72E-8CEF-42CB-A5AF-D89E9024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FDA8C-CC16-4B1A-BCC8-CF45129E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63EB3-C7F7-4F9C-883C-35B089E7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ABABC-206B-47C2-9FEC-2E4EFEE8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020F-45BD-4374-BB1E-974506E4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DD522-FF1D-4733-B99C-19CBB94C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024A2-5DC1-43FE-9C62-19C0A147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E812E-981E-497A-AE13-DA6B7F20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C25EE-03F8-4F6A-81CA-6879562A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D3025-F4B9-4288-8331-5068F8B8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CEB8E-5732-4B04-A060-4FC2690A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C2C25-7F08-40AE-904B-3D7F16DC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CAA14-6E87-497A-86E1-906CE428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40620-3B58-4B73-8C57-306AA3C8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E1447-8E1D-446B-B8DC-0EC12F3E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3038-0364-4F31-B319-6A87ABC9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56A35-59A1-431D-8CA5-2681D92F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4C91E-F12B-41A8-863A-3D7D1E2F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1BAF1-DAFC-45B9-AFE7-036684EC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7B766-F9A8-4EBE-B6A6-F0992A9F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BD4BB-5B97-4692-B538-3EBB24D1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A3F41-5E99-4F3A-97D3-80516212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137C6-3D44-4D6D-B176-34B54EF7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0F314-4C62-4F72-9813-66B045D4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E006B-561A-4544-BFC4-77E2CFBF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80397-3FAD-43A7-A6D1-8A5B35E5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5730-0130-4133-BA17-F689B5A2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3BB09-5D7C-4369-AEB1-62C430BB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F35F2-A6F2-4BF0-9F6C-B969C5AC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AC2E6-1021-4CC9-AAA4-64C2C94D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B490F-E2F9-4277-91F4-1882B9FE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A8082-25EF-437F-A2DE-3196A433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DFA3C-6EBD-4839-AEAF-ACE816DA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CC6E1-1AD7-4FCB-9C09-398B6F92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A291B7-B844-45E2-BDA1-E653915B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76ACE-FB9E-4AF0-B5E2-D6EB8BD6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20E35-AF83-4C3C-A945-0CAB88A4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D838-2DEF-4BA1-80A1-A0EF469F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DF07A-51B6-4B0D-8EC6-140A69AC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CC767-7B21-4793-907D-517DE7A2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10AD9-C3C5-49AE-84BB-63EF9D68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4E19F-92BA-4106-B7F2-1C4144BB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2D17D-A2BE-4F07-9F71-0773D16C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6F6FA-C099-47CD-A8B1-AFF3A39D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48B5F-D7BB-4E7B-9C66-66D5A3EB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D29A1-0DE8-4FA4-B13F-4CC733EF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10C28-981E-45A4-85AE-55D27CC0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E1056-52A1-41A5-9324-6D5FD680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5314-708F-4A4D-940D-FE43943A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47213A-3080-4485-BEA6-3B625E43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000C9-DE0D-4175-B1EF-9A7318B9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01183-0E84-4D22-A73D-71778FCA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27232F-3400-4307-970E-F12A7FA7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F3FB8-CFE0-4ED4-BA1D-89251DF4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35EA4-1281-4BF5-8B67-34600AB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51318-C2EE-4572-9F51-56299F31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20488-201E-4A7F-A1A5-081E7396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6DA40-D6B5-4259-A5C8-0D8F42CF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FFE55-D619-4769-9DE7-36025D21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D298-9523-4CDF-9EEF-475B213E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B4E1B3-E941-4A73-B2A5-4EC0DF34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D8F02-C392-4436-BC0E-977BDF7A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2C72D-8AC9-4BDC-AE94-F5BCB149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69283-5363-4A68-8BC7-031EF2BC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93132B-9171-478A-B2E4-83D43808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10427-619F-4877-A831-E45AD8AF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CC7A0-F3D5-4CEE-8AFF-32EFE9B0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27F893-C3E7-40B1-81DE-25204C09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8DBC7-3955-4689-B649-80DC68E3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9268A3-4847-4DAD-85F1-76701B6F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41F-2F17-4F6B-9A6B-C3E79311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0C20-70A9-43FC-9888-C9A857CA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7DF3E-C4B6-49F4-81C9-B538E0EC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AEB17-DD98-40E1-B08C-694FBFB1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136EFF-CCC8-4922-B581-FE299524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97778-59DC-41CC-883A-2DFF1817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5B825B-5DEA-4026-8E48-2221F4E6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EB48F-2AF4-404B-9FB5-A937C9FD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2E995-AC79-4128-AD60-1C7FE5DE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98EC5-9099-40AD-844A-8B8005B2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2BE13-F86F-4E64-9110-33EAF2B6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FC57AC-1DAF-4514-9ECA-D1BC054E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4B22-2EEC-4F83-BA96-431BD1B6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4614D-D287-45A5-BA86-C9CE6662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1C6BB-E483-43D7-B464-739848B4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70A960-1311-4933-A1AC-20E703C7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CC534-CBB1-45A2-9C2F-B59CA326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41C24-C813-4AD0-ABAB-A528BBEE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13ACA-292E-4540-B98D-2407C9FC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5E71C1-F477-438A-BE9C-9F789A73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5830DC-08EB-4A18-97AC-AEB0B78C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DE8B73-8961-43F4-96D4-5B99B0BE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546E6-7A4F-4B05-ABF6-EB4779B3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BCC2-5A22-4229-81C4-9B205110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46C4AE-2439-4EE5-9B71-DB047332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50067E-8A15-45FF-AA0E-5955ADF2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115C0C-CAEB-4908-A51F-2A4464E2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0576D6-8C2B-490C-9484-E1C6A1B1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BC0655-EA28-45A6-ADEE-77F80B11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243DA7-03D3-43B7-9968-1323F616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E46B1-53B8-446E-B6A1-60B44A6A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661478-8C75-46CA-844B-CC750BD4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89AA60-E360-4892-8A8A-741E38BC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4EA1A-5AC4-479A-BC3F-8F05528E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98AD-6BC1-4EBF-988C-E981FBE4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C3F65-42E5-4D13-9EEF-F7EF6083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7DEF0-3510-4AB3-89C4-770E0E9D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B4B30-135A-4AB5-9311-5098F618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D440C2-73A7-4685-AE18-B7E91F37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2F23C0-F924-4179-82C9-3126DCF0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E3010-43FA-46F3-9F18-156668F8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F26E47-3D7C-4600-A32A-13A3691E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21AE92-1520-4DD5-B386-A995C8A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CF0A79-7C8D-434B-A35F-AA3EF46F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8D437E-0486-4CED-B2DC-074A7802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2428-034F-44FB-9CA8-BE2D11DB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D651DD-6111-4317-93D0-62A2A7BE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E92293-CC36-4392-A12D-B9CF1E90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FBA809-EA09-43A0-8A19-8A7F5FA7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6140FB-D724-43B8-ABB1-E49E88A6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E4F4A1-F831-47CE-8DA7-5CAEE88B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0A3E4A-2464-4902-94DB-CC19C00F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22180-0F82-49AF-8A92-656D2ADA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A074E-6299-49E1-A164-FB39817A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E5E96D-C513-43DB-A959-F9514662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18092B-AB00-43E9-A499-3B3A78BA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D0AA2-1A3E-4CC3-AAD8-7F1E3EAD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52914B-FFB2-458F-AD92-E3D6AE24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BACB7-0015-4769-81C5-839E8FE9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74A4B4-21FD-4DF1-91B6-49D7CE9B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9B242D-1BE1-4B5F-AF99-9E309EE4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6E29F7-A326-4E62-A979-746B3EC7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0AAE89-3359-49A5-82AD-A8A30669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D37A1D-7CE5-4FB6-9E00-E881C4E4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95A017-6B5F-4025-B47A-3513E8A2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1CFFE7-6CC0-434D-B2F1-11DD11E7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9384A6-F0A1-443B-A7BA-C2FBEAA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0A8A-8D47-4AF4-AA9A-B94BAD86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97DFAF-C172-42C4-AA6D-242C4957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D7D079-52BB-4E18-8317-31EED0BE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4E4DE-C553-4775-BE1D-87D15789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63529-AABF-41FB-B217-A402C90E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64480C-E960-4ECB-B4A9-36F675C4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9B8B9F-DF65-4329-BCE5-2BCA81FA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04BDCF-00CE-442E-83FA-705E79DB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3D5E40-D64E-4850-AA6D-9405FF57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D5E1B4-693B-455A-B12C-D8482F7C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0FB9A4-CC80-4C8E-A96F-C69C6135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67142-B634-40E9-BE10-353EE65E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0558CC-5812-44DE-906A-205D12F1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74D9D8-7AFE-48D4-A0EF-546B89F4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C282A3-B884-4685-A6CD-D11C3A39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DD554A-5DB5-4957-B016-5532157A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40FE6C-D992-4241-94DB-8AC0C355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C53C7E-E3F7-4083-86CD-46FF57CB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D78ED9-7EEF-40C1-8BDB-E8014837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5A2E57-EC5D-46CD-A2B4-A3674456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C4C1D9-C9B6-46FD-83A8-0862B88F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38082B-245F-42E6-8EB9-6F12A5DB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16AE-C7D2-46B2-9CE6-EA22A358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D2F043-60DF-4376-9805-B0E532F7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93B2E1-62E1-48C4-BA7E-B64C192C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DE9104-C1AA-49E1-AB8B-6F0056D1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8DD178-4FAF-428D-B158-63989332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DE4CAD-FAAB-4BCF-BC86-21A4EC33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DF56E1-F3BD-4C05-BB4C-8D70B8DE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83AB21-61C0-4D63-B21B-176F8F5E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ED411D-AC41-4ADF-B6A4-58968D2A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63258F-9E49-4DF3-BAEE-04730D1D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47E410-CEE1-4312-AD40-EB32D5AD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F570-5F2F-4936-8CE5-830B5ABF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19AA1C-0BBA-41AA-B6A1-5AB83890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489124-9C93-43D2-9B92-5F07CC13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E8D34B-2BBD-47D9-85F6-D2855B57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FA9F61-53EA-497D-A6DE-D29CE7AB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4E3168-D008-4A6C-88F5-E22D7242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F3DFEC-B7D5-4476-A029-DF5F9439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5DF392-630F-4DD9-A440-881A2A99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4E13E8-26BC-42D6-8DB1-B461DA30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6865C0-32DB-48D9-A09D-3762F3B7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957CEB-946A-4A1F-8755-4DE24E86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A49-D1AC-414A-899B-D9B7ABE5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029D1-8412-4DB5-9421-3366DE39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4A9F5F-645E-44F3-BEE1-AC72B2FE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26C365-8914-41E0-BCCC-17F2B493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5BA933-EB65-4AA6-B99D-7F830900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D01077-7847-4CAB-AA63-0CBF0E43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D5F9E3-4391-47DE-9474-40113F97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CC95F0-AE5A-4FCB-8315-F253860A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BF6447-BBDD-475F-8720-C036EDFD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A69557-E195-4EAD-96D9-83FB5D9A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553303-D6C6-4941-ACEB-B4F01E77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AAB62D-F212-4DBB-9621-BA28742B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66C7-B271-4470-9827-8D96C2FE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A1FEA1-FC6F-4C57-A355-9F8E3769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F48DF5-6145-4BF6-8297-90C39AB6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E2B537-E270-4EC2-A955-2A1F220F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C67B-0FD7-4C0C-96A1-B13492F0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4A7A-ED4A-41CB-B2C8-3D9F2A5D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8BA7E-7882-4C68-88A1-A124AA2F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9A8A4-5F41-4EA8-8CB1-4CD78F7A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F2C16-D042-4FC7-AB3F-8DE4CC67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1F49-28B3-4430-B3C7-62164C81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6030E-49EA-40DB-BC21-1E4A98C3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724C8-637C-4ED2-9C91-ABC82704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6C3-7148-4980-A196-5777322F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6DB38-B1DC-4275-A905-E633D6F4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BF68C-4EE9-4593-8343-6AD97258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4ACA-1B2A-4EB2-9B1A-75928E9D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B5773-D6B4-41F3-9979-C2B309D4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E174-61F1-47E0-8AB6-7F1B401D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7C7EE-14B6-48D4-9B32-D1F8F984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7C0F9-868F-4234-8C88-36B8DBDF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BE0E6-86A1-4368-8AEE-4272B627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2FD15-D393-4A4F-9821-B7CDD1CA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CC88F-41B6-4F09-85AE-4637AFD4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1F2-E2B5-4DE3-8BC7-F4B017FD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9D56E-3469-49C2-8863-C1D1F939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6B46-8FFE-48E3-B45D-B22B10E6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B54C-A171-464E-A021-6A36E573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BF115-5DAE-4F9F-8255-546DC572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FCD8D-4468-4B76-8ADD-1FB25FD3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728FD-F569-408D-898D-5A493AE0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65E1-407E-4F35-AB7A-DF8EEE09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C52DD-1140-4AF9-B8D2-6AF5D9B7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52522-D6AB-4218-AF7D-A6C5CD55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E86CA-0137-4AC1-BBDF-23D82F7E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632-9455-4FB1-8F4B-66A8E2AC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6ADCE-1885-4D5A-B678-E84F8FD4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CA811-5CFC-4B2C-B755-E1364281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11377-107D-42A8-B740-1F425E37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F7BE6-2061-48D5-A6DD-49967FE2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BE425-7A6C-419B-9B6C-6C262FB9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1698F-7FA7-4086-9A9B-78C9CF01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B5B7F-A8CA-4C1E-B69F-CE1E2429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7558B-30F8-4429-B9B2-FD5C0B58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07570-7E51-4C03-BDC9-7C02CC66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E7E59-09F7-4E9A-BEE5-2167C850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3FD-AA59-49EA-868D-E78F623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F9ABD-6746-415D-A5B9-6BFED18A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AA1D6-2D60-469D-A73C-FFE55070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74E4F-CA29-454C-A44F-861FD771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280A6-CCB0-4B17-89B0-757FA352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68776-2949-4EC4-A1B8-11D25C51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DF1D4-C8D4-4871-AFD8-0B4BADB9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55C73-C37F-439B-9EE6-093F6083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B04B4-DE18-4866-86FE-AA381DBD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DDDEC-D3BB-4DD2-9B03-A6BC80D6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99941-F3FD-4B88-9560-5E854219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677-6757-4EA8-8A07-344B32AE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C439B-0F65-47E5-AC41-F3908CAA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7C124-A15F-4C77-805A-1AB03021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6EB8E-4C4D-4B4E-BAC6-4031AF6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93BC0-32C8-4E26-A64F-664BEA51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1057-92DD-4D36-A2B4-D9B6016C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90FC5-5BC7-4B60-9A39-FBCF2153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FA35A-0AE6-4294-B593-8BB59992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1D085-E22E-4F68-B04E-765FB07B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FF3B0-13E6-4C7E-9F78-B8D8B22A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0C53B-E2DB-4BDC-B8D0-A1041C59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089-21B7-478F-AE46-D23C193C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68E50-2840-4A12-BB69-B7F0C90B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4F811-FFF1-474B-B3D7-672E112D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07B3-5CAE-4A25-95C8-01394C4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F1560-AC18-48AA-BF77-1E36CF2A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1189F-0E39-4699-BF16-E4DE5BEF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78D6C-57BF-4694-A4DA-69899C1B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20E0A-E16F-4527-AF1D-C8AE9BD7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161E0-1A58-4286-B2CA-9BD11FF9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70C95-E7AC-4CA1-AA8A-45C02998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CE527-CC6F-40BB-A55B-D133DC73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6250-18A2-460B-BD38-4AEC4C6534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DCEF-70C6-4460-A8E3-DFCDDB1AEE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246A-804E-4FC9-8C36-F004F52F9C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3DCA-CD9F-4E96-B2F0-042AF2B7D6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1A83-8BF6-4FBA-807E-A87A2456FC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BB16-8D97-44E9-9E32-0DCC562439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BAC5-9818-44C7-83CD-4EAA79A299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8241-C6D4-455F-8E00-B45B23954C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BD95-3BD9-40A5-9CAD-0D1AFB0D70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C04F-46A2-48A1-9B6D-18AC135274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6FAD-A153-473A-982A-B58FA07BE9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1DC0-1768-400C-B589-0CC96025141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5C35-B987-4446-BA84-66581115DC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B63F-B0D0-452C-AFF7-4D135D2E19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F20F-D1C5-45B6-B6C7-9923783F49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4677-D48D-4E89-8CAE-47EBC1AE25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090B-1C91-4868-994B-9282652A80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1684-0FFA-47A9-B3ED-463682A41F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52D1-CACD-44A5-A740-6AE5008E53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B501-DA8B-42E0-B2FA-755755ED7F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43A8-40C7-45DE-818B-EDA15C3B78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CE25-E583-4921-BA8B-AB5F923BBB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5895-78C7-4745-8A4C-7AC2D04051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A732-2130-4573-86F0-3A538CAC75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5CD9-5166-4299-A2F3-F672B841D2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56BB-E56B-4136-8A6D-DD1962FA97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ставки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орфемный анализ сло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ся правильно анализировать слова с приставками и писать 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1. Подготовка к урок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Математи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Физкультур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усский язы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Прямоугольник 1"/>
          <p:cNvSpPr/>
          <p:nvPr/>
        </p:nvSpPr>
        <p:spPr>
          <a:xfrm>
            <a:off x="3612240" y="32907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17" descr="DSC08483"/>
          <p:cNvPicPr/>
          <p:nvPr/>
        </p:nvPicPr>
        <p:blipFill>
          <a:blip r:embed="rId1"/>
          <a:stretch/>
        </p:blipFill>
        <p:spPr>
          <a:xfrm>
            <a:off x="826920" y="2781360"/>
            <a:ext cx="1785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есенка  успех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Group 2"/>
          <p:cNvGrpSpPr/>
          <p:nvPr/>
        </p:nvGrpSpPr>
        <p:grpSpPr>
          <a:xfrm>
            <a:off x="1101600" y="1051920"/>
            <a:ext cx="6552000" cy="5650200"/>
            <a:chOff x="1101600" y="1051920"/>
            <a:chExt cx="6552000" cy="5650200"/>
          </a:xfrm>
        </p:grpSpPr>
        <p:cxnSp>
          <p:nvCxnSpPr>
            <p:cNvPr id="1093" name="AutoShape 3"/>
            <p:cNvCxnSpPr/>
            <p:nvPr/>
          </p:nvCxnSpPr>
          <p:spPr>
            <a:xfrm flipH="1" flipV="1" rot="5400000">
              <a:off x="131400" y="3670560"/>
              <a:ext cx="4002120" cy="2062080"/>
            </a:xfrm>
            <a:prstGeom prst="bentConnector3">
              <a:avLst>
                <a:gd name="adj1" fmla="val 50000"/>
              </a:avLst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094" name="AutoShape 4"/>
            <p:cNvCxnSpPr/>
            <p:nvPr/>
          </p:nvCxnSpPr>
          <p:spPr>
            <a:xfrm>
              <a:off x="3162960" y="2700720"/>
              <a:ext cx="22780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095" name="AutoShape 5"/>
            <p:cNvCxnSpPr/>
            <p:nvPr/>
          </p:nvCxnSpPr>
          <p:spPr>
            <a:xfrm flipV="1">
              <a:off x="5440320" y="1051920"/>
              <a:ext cx="1080" cy="16491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096" name="AutoShape 6"/>
            <p:cNvCxnSpPr/>
            <p:nvPr/>
          </p:nvCxnSpPr>
          <p:spPr>
            <a:xfrm>
              <a:off x="5440680" y="1052280"/>
              <a:ext cx="22132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</p:grpSp>
      <p:pic>
        <p:nvPicPr>
          <p:cNvPr id="1097" name="Рисунок 2" descr=""/>
          <p:cNvPicPr/>
          <p:nvPr/>
        </p:nvPicPr>
        <p:blipFill>
          <a:blip r:embed="rId1"/>
          <a:stretch/>
        </p:blipFill>
        <p:spPr>
          <a:xfrm>
            <a:off x="5786280" y="1197000"/>
            <a:ext cx="1727280" cy="1836720"/>
          </a:xfrm>
          <a:prstGeom prst="rect">
            <a:avLst/>
          </a:prstGeom>
          <a:ln w="0">
            <a:noFill/>
          </a:ln>
        </p:spPr>
      </p:pic>
      <p:pic>
        <p:nvPicPr>
          <p:cNvPr id="1098" name="Рисунок 3" descr=""/>
          <p:cNvPicPr/>
          <p:nvPr/>
        </p:nvPicPr>
        <p:blipFill>
          <a:blip r:embed="rId2"/>
          <a:stretch/>
        </p:blipFill>
        <p:spPr>
          <a:xfrm>
            <a:off x="3564000" y="2881440"/>
            <a:ext cx="1673280" cy="1776240"/>
          </a:xfrm>
          <a:prstGeom prst="rect">
            <a:avLst/>
          </a:prstGeom>
          <a:ln w="0">
            <a:noFill/>
          </a:ln>
        </p:spPr>
      </p:pic>
      <p:pic>
        <p:nvPicPr>
          <p:cNvPr id="1099" name="Рисунок 4" descr=""/>
          <p:cNvPicPr/>
          <p:nvPr/>
        </p:nvPicPr>
        <p:blipFill>
          <a:blip r:embed="rId3"/>
          <a:stretch/>
        </p:blipFill>
        <p:spPr>
          <a:xfrm>
            <a:off x="1390680" y="4836960"/>
            <a:ext cx="17971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егодня на занятии </a:t>
            </a:r>
            <a:r>
              <a:rPr b="1" lang="ru-RU" sz="3200" spc="-1" strike="noStrike">
                <a:solidFill>
                  <a:srgbClr val="00b0f0"/>
                </a:solidFill>
                <a:latin typeface="Calibri"/>
                <a:ea typeface="Arial"/>
              </a:rPr>
              <a:t>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ч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знал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помнил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див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2" name="Рисунок 9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8703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Рисунок 1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9780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8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Математ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думал +р…зг…дал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…бе…ка + з…грустил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…езд + п…са…ки +…бил + …бнял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…скучился +в…шли + книзу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…пустил + в…шёл +д…ел + кверху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3" name="Рисунок 2" descr=""/>
          <p:cNvPicPr/>
          <p:nvPr/>
        </p:nvPicPr>
        <p:blipFill>
          <a:blip r:embed="rId1"/>
          <a:stretch/>
        </p:blipFill>
        <p:spPr>
          <a:xfrm>
            <a:off x="6804000" y="63360"/>
            <a:ext cx="18414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опрос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зу =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Зад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Рисунок 2" descr=""/>
          <p:cNvPicPr/>
          <p:nvPr/>
        </p:nvPicPr>
        <p:blipFill>
          <a:blip r:embed="rId1"/>
          <a:stretch/>
        </p:blipFill>
        <p:spPr>
          <a:xfrm>
            <a:off x="5364000" y="525600"/>
            <a:ext cx="2953080" cy="164448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10920" y="185760"/>
            <a:ext cx="821844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изкульту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Прямоугольник 4"/>
          <p:cNvSpPr/>
          <p:nvPr/>
        </p:nvSpPr>
        <p:spPr>
          <a:xfrm>
            <a:off x="1547640" y="2492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ым детям нужно    …с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медленно   …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цы     …жать, потом   …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секунду    …сто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плавно    …пуст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ещё раз    … втор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ставки пространственного зна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1403280" y="1628640"/>
          <a:ext cx="6697800" cy="3086280"/>
        </p:xfrm>
        <a:graphic>
          <a:graphicData uri="http://schemas.openxmlformats.org/drawingml/2006/table">
            <a:tbl>
              <a:tblPr/>
              <a:tblGrid>
                <a:gridCol w="2232000"/>
                <a:gridCol w="2233800"/>
                <a:gridCol w="2232000"/>
              </a:tblGrid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ал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торени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е направлено изнутри наруж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1" name="Rectangle 1"/>
          <p:cNvSpPr/>
          <p:nvPr/>
        </p:nvSpPr>
        <p:spPr>
          <a:xfrm>
            <a:off x="0" y="-87480"/>
            <a:ext cx="10009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3" name="Рисунок 1" descr=""/>
          <p:cNvPicPr/>
          <p:nvPr/>
        </p:nvPicPr>
        <p:blipFill>
          <a:blip r:embed="rId1"/>
          <a:srcRect l="29332" t="17721" r="29218" b="28140"/>
          <a:stretch/>
        </p:blipFill>
        <p:spPr>
          <a:xfrm>
            <a:off x="698400" y="620640"/>
            <a:ext cx="7747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бота   с    тексто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324000" y="836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енеть, звонок.              Дети, класс, из, идти.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, учительская, идти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ница.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я, библиотека, до, идти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овая, идти, Вера, из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а, к, окно, идти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мена,закончить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дти, все, класс, 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6" name="Объект 6" descr=""/>
          <p:cNvPicPr/>
          <p:nvPr/>
        </p:nvPicPr>
        <p:blipFill>
          <a:blip r:embed="rId1"/>
          <a:stretch/>
        </p:blipFill>
        <p:spPr>
          <a:xfrm>
            <a:off x="4362480" y="1700280"/>
            <a:ext cx="4595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Box 1"/>
          <p:cNvSpPr/>
          <p:nvPr/>
        </p:nvSpPr>
        <p:spPr>
          <a:xfrm>
            <a:off x="1428840" y="21420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ВЕРЬ  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2"/>
          <p:cNvSpPr/>
          <p:nvPr/>
        </p:nvSpPr>
        <p:spPr>
          <a:xfrm>
            <a:off x="4146480" y="27860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3"/>
          <p:cNvSpPr/>
          <p:nvPr/>
        </p:nvSpPr>
        <p:spPr>
          <a:xfrm>
            <a:off x="1071720" y="928800"/>
            <a:ext cx="7429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звенел   звонок.  Дети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и  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а.  Учительница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а  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скую.   Толя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ёл   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блиотеки.   Вера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а  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овой.   Света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д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а   к   ок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мена закончилась.   Все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1" descr=""/>
          <p:cNvPicPr/>
          <p:nvPr/>
        </p:nvPicPr>
        <p:blipFill>
          <a:blip r:embed="rId1"/>
          <a:stretch/>
        </p:blipFill>
        <p:spPr>
          <a:xfrm>
            <a:off x="7723080" y="4765680"/>
            <a:ext cx="14209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9:48:42Z</dcterms:created>
  <dc:creator>777</dc:creator>
  <dc:description/>
  <dc:language>en-US</dc:language>
  <cp:lastModifiedBy>Максим Свиридов</cp:lastModifiedBy>
  <dcterms:modified xsi:type="dcterms:W3CDTF">2019-02-09T13:03:28Z</dcterms:modified>
  <cp:revision>81</cp:revision>
  <dc:subject/>
  <dc:title>Слайд 1</dc:title>
</cp:coreProperties>
</file>