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F43B-6696-4851-B2D1-2E82F2E7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3F7C-7C22-4D20-B374-764B228D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9CA1-A0D1-492D-AB4C-F264F645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5F21-1D86-48CC-8812-F0A40B28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44E3-FE6B-442D-B825-9B93D750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9E57-8E44-44DF-A8D8-06951AF8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C2D2-F427-4C8F-BC48-7BB8DC76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CEDB-A3C5-44E7-8CC0-BB4F2B33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663C-3BC1-4FB6-85AD-E314B3F8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86FF-658A-41E5-8C3D-70DD9C1E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57C4-6FBB-46C3-9E45-6725428B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4D70-0B41-4322-8337-D761B393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D748-E720-47F9-BF33-9A946698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3B9F-AFC4-4251-93FB-4BBE9E71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A9B0-730E-415E-9F05-E17DF492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E83B-922C-4978-99AF-4C80EECE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76BC-8973-4BF0-B719-3D584B89A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E1D6-C57B-42C4-85AA-4215ABB7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FFCD-D37E-428B-89AC-7AACFAF8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5559-BA08-4933-8C19-3BCEBDB9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8C82-FB62-4F18-8E49-A64D9D1D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D9FE-DA83-40E3-A2EC-2B956021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831A-9005-45E4-8B7F-CD1E4FEB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9496-3E93-4531-90A4-5ED6BDC4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320"/>
              <a:chOff x="-1080" y="2601000"/>
              <a:chExt cx="268704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1080"/>
                <a:ext cx="1833120" cy="1668240"/>
                <a:chOff x="852840" y="4051080"/>
                <a:chExt cx="1833120" cy="16682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4400" y="3934800"/>
                  <a:ext cx="477360" cy="12438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3800"/>
                    <a:gd name="textAreaBottom" fmla="*/ 1244160 h 12438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32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64480" y="4978800"/>
                  <a:ext cx="110520" cy="5104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0480"/>
                    <a:gd name="textAreaBottom" fmla="*/ 510840 h 5104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32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9480" y="5567400"/>
                  <a:ext cx="200880" cy="8604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1" i="1" lang="en-US" sz="32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A936-B60F-4BE8-8BE2-F3E735BDD8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040" cy="6858000"/>
            <a:chOff x="-20160" y="0"/>
            <a:chExt cx="90500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5400" y="58680"/>
              <a:ext cx="3624480" cy="6137640"/>
              <a:chOff x="5405400" y="58680"/>
              <a:chExt cx="3624480" cy="61376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5120" y="343440"/>
                <a:ext cx="2112120" cy="2355480"/>
              </a:xfrm>
              <a:custGeom>
                <a:avLst/>
                <a:gdLst>
                  <a:gd name="textAreaLeft" fmla="*/ 0 w 2112120"/>
                  <a:gd name="textAreaRight" fmla="*/ 2112480 w 2112120"/>
                  <a:gd name="textAreaTop" fmla="*/ -360 h 2355480"/>
                  <a:gd name="textAreaBottom" fmla="*/ 2355480 h 23554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3200" y="1959480"/>
                <a:ext cx="904680" cy="842040"/>
              </a:xfrm>
              <a:custGeom>
                <a:avLst/>
                <a:gdLst>
                  <a:gd name="textAreaLeft" fmla="*/ 0 w 904680"/>
                  <a:gd name="textAreaRight" fmla="*/ 905040 w 904680"/>
                  <a:gd name="textAreaTop" fmla="*/ -360 h 842040"/>
                  <a:gd name="textAreaBottom" fmla="*/ 842040 h 84204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320" y="2585520"/>
                <a:ext cx="438480" cy="394920"/>
              </a:xfrm>
              <a:custGeom>
                <a:avLst/>
                <a:gdLst>
                  <a:gd name="textAreaLeft" fmla="*/ 0 w 438480"/>
                  <a:gd name="textAreaRight" fmla="*/ 438840 w 43848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69960"/>
                <a:ext cx="388440" cy="54972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-360 h 549720"/>
                  <a:gd name="textAreaBottom" fmla="*/ 549720 h 54972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6720" y="2649960"/>
                <a:ext cx="163080" cy="33156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4120" y="124164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5320" y="2936520"/>
                <a:ext cx="522720" cy="3265920"/>
              </a:xfrm>
              <a:custGeom>
                <a:avLst/>
                <a:gdLst>
                  <a:gd name="textAreaLeft" fmla="*/ 0 w 522720"/>
                  <a:gd name="textAreaRight" fmla="*/ 523080 w 522720"/>
                  <a:gd name="textAreaTop" fmla="*/ 360 h 3265920"/>
                  <a:gd name="textAreaBottom" fmla="*/ 3266640 h 32659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160" y="288000"/>
              <a:ext cx="896040" cy="821880"/>
              <a:chOff x="5645160" y="288000"/>
              <a:chExt cx="896040" cy="8218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040" y="778320"/>
                <a:ext cx="181080" cy="36180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000" y="460080"/>
                <a:ext cx="308160" cy="300600"/>
              </a:xfrm>
              <a:custGeom>
                <a:avLst/>
                <a:gdLst>
                  <a:gd name="textAreaLeft" fmla="*/ 0 w 308160"/>
                  <a:gd name="textAreaRight" fmla="*/ 308160 w 3081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9600" y="389520"/>
                <a:ext cx="322200" cy="153000"/>
              </a:xfrm>
              <a:custGeom>
                <a:avLst/>
                <a:gdLst>
                  <a:gd name="textAreaLeft" fmla="*/ 0 w 322200"/>
                  <a:gd name="textAreaRight" fmla="*/ 322560 w 32220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70560" y="5261040"/>
              <a:ext cx="1055520" cy="829800"/>
              <a:chOff x="970560" y="5261040"/>
              <a:chExt cx="10555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9280" y="552132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5200" y="573624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920" y="538560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CF1A-4548-4F86-AB87-5AA7BE42A7B9}" type="slidenum"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620640"/>
            <a:ext cx="8101080" cy="3975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336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0066"/>
                </a:solidFill>
                <a:latin typeface="Verdana"/>
              </a:rPr>
              <a:t>ОСОБЕННОСТИ РЕЧЕВОГО РАЗВИТИЯ ДЕТЕЙ </a:t>
            </a:r>
            <a:br>
              <a:rPr sz="5200"/>
            </a:br>
            <a:r>
              <a:rPr b="1" lang="ru-RU" sz="5200" spc="-1" strike="noStrike">
                <a:solidFill>
                  <a:srgbClr val="000066"/>
                </a:solidFill>
                <a:latin typeface="Verdana"/>
              </a:rPr>
              <a:t>ОТ 4 ДО 5 ЛЕТ</a:t>
            </a:r>
            <a:endParaRPr b="0" lang="en-US" sz="5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14200" y="0"/>
            <a:ext cx="8715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66"/>
                </a:solidFill>
                <a:uFillTx/>
                <a:latin typeface="Tahoma"/>
                <a:ea typeface="Tahoma"/>
              </a:rPr>
              <a:t>Логическое мышление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Развитие Мышления, Памяти, Внимания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Ребенок в возрасте от 4 до 5 лет должен уметь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1.Ребенок должен уметь находить отличия и сходства между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двумя картинками (или между двумя игрушками)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2.Ребенок должен уметь складывать по образцу постройки из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конструктора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3.Ребенок должен уметь складывать разрезанную картинку из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4-5 частей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4.Ребенок должен уметь не отвлекаясь, в течение 5 минут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выполнять задание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5.Ребенок должен уметь складывать пирамидку (чашечки,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вкладывая их друг в друга) без посторонней помощи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6.Ребенок должен уметь вкладывать в отверстия недостающие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фрагменты картинок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7..Ребенок должен уметь называть обобщающим словом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группу предметов (корова, лошадь, коза-домашние животные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зима, лето, весна- времена года). Находить лишний предмет в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каждой группе. Находить пару каждому предмету.</a:t>
            </a:r>
            <a:br>
              <a:rPr sz="2000"/>
            </a:b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13840" y="214200"/>
            <a:ext cx="8472600" cy="760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8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.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Ребенок должен уметь отвечать на такие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вопросы как: Можно ли летом кататься на санках?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Почему? Зачем зимой одевают теплые куртки?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Для чего нужны окна и двери в доме? И т.д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9. Ребенок должен уметь подбирать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противоположные слова:  стакан полный – стакан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пустой, дерево высокое – дерево низкое, идт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медленно – идти быстро,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пояс узкий – пояс широкий, ребенок голодный –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ребенок сытый, чай холодный – чай горячий и т.д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10.Ребенок должен уметь запоминать пары слов,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после прочтения взрослым: стакан-вода, девочка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мальчик, собака-кошка и т.д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11.Ребенок должен уметь видеть на картинке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неправильно изображенные предметы, объяснять,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что не так и почему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86880" cy="724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66"/>
                </a:solidFill>
                <a:uFillTx/>
                <a:latin typeface="Tahoma"/>
                <a:ea typeface="Tahoma"/>
              </a:rPr>
              <a:t>Навыки обихода</a:t>
            </a:r>
            <a:br>
              <a:rPr sz="1800"/>
            </a:b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Ребенок в возрасте от 4 до 5 лет должен уметь:</a:t>
            </a:r>
            <a:br>
              <a:rPr sz="2000"/>
            </a:b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Ребенок уже отлично застегивает пуговки, молнии 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развязывает шнурки, его хорошо слушаются ложка 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вилка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2. Ребенок должен уметь нанизывать крупные пуговицы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или бусины на нитку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3. Ребенок должен уметь точно проводить линии не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отрывая карандаш от бумаги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4. Ребенок должен уметь заштриховывать фигуры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ровными прямыми линиями, не выходя за контуры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рисунка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5. Ребенок должен уметь обводить и раскрашивать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картинки, не выходя за края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6. Ребенок должен уметь проводить линии по середине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дорожки, не выходя за её края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7. Ребенок должен различать правую и левую руку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14200" y="482400"/>
            <a:ext cx="8501040" cy="59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ahoma"/>
                <a:ea typeface="Calibri"/>
              </a:rPr>
              <a:t>Развитие разговорной речи - важный этап в формировании у ребенка связной речи.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Calibri"/>
              </a:rPr>
              <a:t>Главная задача родителей- помощь в овладении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Calibri"/>
              </a:rPr>
              <a:t>родным языком - обогащение словаря (углубление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Calibri"/>
              </a:rPr>
              <a:t>понимания смысла употребляемых слов) и в развитии связной речи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Calibri"/>
              </a:rPr>
              <a:t>   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Calibri"/>
              </a:rPr>
              <a:t>Для обогащения, уточнения и расширения словаря детей используйте самое ближайшее окружение ребенка, то, с чем он сталкивается дома, в детском саду, на улице. Вводите в словарь детей не только названия цветов( красный, синий и т.д.), но и их оттенков. Не только названия формы, величины предметов, но и материала, из которого эти предметы сделаны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85480" y="214200"/>
            <a:ext cx="8643960" cy="65008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Учить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-использовать в речи названия предметов, их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частей, материалов из которых они изготовлены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определять и называть местоположение предмета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время суток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употреблять существительные с обобщающим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значением; слова-антонимы</a:t>
            </a: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-вводить в словарь детей существительные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обозначающие профессии; глаголы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характеризующие трудовые действия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рассказывать о содержании сюжетной картинки, по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серии сюжетных картинок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подбирать слово на звук, который вы задаете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называть какой звук он слышит в начале слова, в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конце слова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42960" y="999720"/>
            <a:ext cx="821520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В этот период совершенствуется речевой слух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детей. Дети могут различать слова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отличающиеся одной фонемой (палка  балка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мышка – мишка)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Развитие фонематического слуха опережает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произносительные возможности детей, они, не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умея произносить тот или иной звук, слышат его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в чужой речи, замечают ошибку в произношении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другого ребенка, начинают слышать свое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ошибочное произношение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442800" y="357120"/>
            <a:ext cx="82440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ПРОИЗНОСИТЕЛЬНАЯ СТОРОНА РЕЧИ.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91520" cy="57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Verdana"/>
              </a:rPr>
              <a:t>Воспитательно -педагогическую работу можно считать успешной, если к 5 годам дети смогут: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Verdana"/>
              </a:rPr>
              <a:t>приобрести устойчивый интерес к заданиям по познавательной деятельности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6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Рассмотрим особенности речевого развития детей от 4 до 5 лет  в следующих разделах: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Verdana"/>
              </a:rPr>
              <a:t>Речь ребенка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Verdana"/>
              </a:rPr>
              <a:t>Игры, развивающие способности ребенка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Verdana"/>
              </a:rPr>
              <a:t>РЕЧЬ РЕБЕНКА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Развитие речи детей находится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в прямой зависимости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от следующих факторов: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РЕЧЕВОГО ОКРУЖЕНИЯ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Verdana"/>
              </a:rPr>
              <a:t>2. </a:t>
            </a: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ПЕДАГОГИЧЕСКИХ ВОЗДЕЙСТВИЙ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НАПРАВЛЕННЫХ НА ОСВОЕНИЕ РЕБЕНКОМ ОПРЕДЕЛЕННОГО РЕЧЕВОГО СОДЕРЖАНИЯ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Verdana"/>
              </a:rPr>
              <a:t>4-5 лет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Ребенок черпает свои знания, усваивая новые слова благодаря общению с взрослыми. В этом возрасте ребенок обычно задает взрослым много вопросов. Одновременно с расширением словаря у ребенка совершенствуется и звуковая сторона речи. К пяти годам малыш узнает на слух звук в слове, может подбирать слово на звук, который вы задаете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85840" y="331920"/>
            <a:ext cx="8572320" cy="637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Обладает словарным запасом около 3000 слов.  Осмысливает причинно-следственные отношения; употребляет сложносочиненные и сложноподчиненные предложения. Работает над собственным произношением, выделяет первый звук в слове. Понимает и употребляет слова-антонимы; образовывает новые слова по аналогии со знакомыми словами. Активно употребляет слова, обозначающие эмоциональное состояние, эстетические характеристики, разнообразные свойства и качества предметов. Знает назначение предметов и может сказать, из чего они сделаны.  Рассказывает о содержании сюжетной картинки.  Рассказывает невероятные истории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Активно сопровождает речью свою деятельность (игровые, бытовые и другие действия)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4"/>
          <p:cNvSpPr/>
          <p:nvPr/>
        </p:nvSpPr>
        <p:spPr>
          <a:xfrm>
            <a:off x="1571760" y="40248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214200" y="221040"/>
            <a:ext cx="8715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Развитие Речи</a:t>
            </a:r>
            <a:br>
              <a:rPr sz="2400"/>
            </a:b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Ребенок в возрасте от 4 до 5 лет должен уметь:</a:t>
            </a:r>
            <a:br>
              <a:rPr sz="2400"/>
            </a:br>
            <a:endParaRPr b="1" i="1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1. Ребенок должен строить фразы из 6-8 слов. Понимать ребенка должны даже посторонние люди, а не только родители.</a:t>
            </a:r>
            <a:br>
              <a:rPr sz="2400"/>
            </a:b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2. Ребенок должен понимать, чем отличается строение человека от строения животных, называть их части тела (руки - лапы, ногти - когти, волосы - шерсть).</a:t>
            </a:r>
            <a:br>
              <a:rPr sz="2400"/>
            </a:b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3. Ребенок должен уметь правильно ставить существительные в форму множественного числа (цветок - цветы, девочка – девочки- много девочек).</a:t>
            </a:r>
            <a:br>
              <a:rPr sz="2400"/>
            </a:b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4. Ребенок должен уметь находить предмет по описанию (яблоко - круглое, сладкое, желтое). Уметь  самостоятельно составлять описание предмета.</a:t>
            </a:r>
            <a:br>
              <a:rPr sz="2400"/>
            </a:br>
            <a:endParaRPr b="1" i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6"/>
          <p:cNvSpPr/>
          <p:nvPr/>
        </p:nvSpPr>
        <p:spPr>
          <a:xfrm>
            <a:off x="214200" y="285840"/>
            <a:ext cx="8715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5. Ребенок должен понимать значение предлогов (в, на, под, за, между, перед, около и т. д.).</a:t>
            </a:r>
            <a:br>
              <a:rPr sz="2400"/>
            </a:b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6. Ребенок должен знать, какие бывают профессии, чем занимаются люди этих профессий.</a:t>
            </a:r>
            <a:br>
              <a:rPr sz="2400"/>
            </a:b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7. Ребенок должен уметь поддерживать беседу: уметь отвечать на вопросы и правильно их задавать.</a:t>
            </a:r>
            <a:br>
              <a:rPr sz="2400"/>
            </a:b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8. Ребенок должен уметь пересказывать содержание услышанной сказки, рассказа. Рассказать наизусть несколько стихов, потешек.</a:t>
            </a:r>
            <a:br>
              <a:rPr sz="2400"/>
            </a:b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9. Ребенок должен называть свое имя, фамилию, сколько ему лет, называть город в котором живет.</a:t>
            </a:r>
            <a:br>
              <a:rPr sz="2400"/>
            </a:b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10.  Ребенок должен уметь отвечать вопросы, касательно недавно произошедших событий:  Где ты был сегодня? Кого встретил по дороге? Что мама купила в магазине? Что было на тебе одето?</a:t>
            </a:r>
            <a:endParaRPr b="1" i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1071720" y="214200"/>
            <a:ext cx="7800840" cy="59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13840" y="25560"/>
            <a:ext cx="8572680" cy="667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Окружающий мир</a:t>
            </a:r>
            <a:br>
              <a:rPr sz="2400"/>
            </a:b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Ребенок в возрасте от 4 до 5 лет должен уметь: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1. Ребенок должен уметь различать овощи, фрукты и ягоды, знать какими они бывают, когда созревают.</a:t>
            </a:r>
            <a:br>
              <a:rPr sz="2400"/>
            </a:b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2. Ребенок должен знать названия насекомых, уметь рассказывать о том, как они передвигаются (бабочка летает, улитка ползет, кузнечик прыгает)</a:t>
            </a:r>
            <a:br>
              <a:rPr sz="2400"/>
            </a:b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3. Ребенок должен знать всех домашних животных и их детенышей.</a:t>
            </a:r>
            <a:br>
              <a:rPr sz="2400"/>
            </a:b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4. Ребенок должен уметь угадывать по картинкам времена года. Знать приметы каждого из них.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29"/>
                </a:solidFill>
                <a:latin typeface="Tahoma"/>
                <a:ea typeface="Tahoma"/>
              </a:rPr>
              <a:t>5. </a:t>
            </a: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Ребенок должен уметь </a:t>
            </a:r>
            <a:r>
              <a:rPr b="1" i="1" lang="ru-RU" sz="2400" spc="-1" strike="noStrike">
                <a:solidFill>
                  <a:srgbClr val="000029"/>
                </a:solidFill>
                <a:latin typeface="Tahoma"/>
                <a:ea typeface="Tahoma"/>
              </a:rPr>
              <a:t>определять время суток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29"/>
                </a:solidFill>
                <a:latin typeface="Tahoma"/>
                <a:ea typeface="Tahoma"/>
              </a:rPr>
              <a:t>6. Отгадывать простые загадки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Verdana"/>
              </a:rPr>
              <a:t>Математика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ahoma"/>
              </a:rPr>
              <a:t>Ребенок в возрасте от 4 до 5 лет должен уметь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ahoma"/>
              </a:rPr>
              <a:t>Ребенок должен уметь определять расположение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ahoma"/>
              </a:rPr>
              <a:t>предметов: справа, слева, посередине, вверху, внизу, сзади, спереди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ahoma"/>
              </a:rPr>
              <a:t>2. Ребенок должен знать основные геометрические фигуры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ahoma"/>
              </a:rPr>
              <a:t>(круг, овал, квадрат, треугольник и прямоугольник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ahoma"/>
              </a:rPr>
              <a:t>3. Ребенок должен знать все цифры (0, 1, 2, 3, 4, 5, 6, 7, 8, 9)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ahoma"/>
              </a:rPr>
              <a:t>Считать предметы в пределах десяти, соотносить количество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ahoma"/>
              </a:rPr>
              <a:t>предметов с нужной цифрой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ahoma"/>
              </a:rPr>
              <a:t>4. Ребенок должен уметь расставлять цифры от 1 до 5 в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ahoma"/>
              </a:rPr>
              <a:t>правильной последовательности и в обратном порядке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ahoma"/>
              </a:rPr>
              <a:t>5. Ребенок должен уметь сравнивать количество предметов,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ahoma"/>
              </a:rPr>
              <a:t>понимать значение: больше - меньше, поровну. Делать равными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ahoma"/>
              </a:rPr>
              <a:t>неравные группы предметов: добавлять один предмет к группе с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ahoma"/>
              </a:rPr>
              <a:t>меньшим количеством предметов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ahoma"/>
              </a:rPr>
              <a:t>6. Ребенок знакомится с графическим образом числа, учится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ahoma"/>
              </a:rPr>
              <a:t>правильно писать цифры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09:36:15Z</dcterms:created>
  <dc:creator>Sergey</dc:creator>
  <dc:description/>
  <dc:language>en-US</dc:language>
  <cp:lastModifiedBy>дима</cp:lastModifiedBy>
  <dcterms:modified xsi:type="dcterms:W3CDTF">2020-11-24T10:25:13Z</dcterms:modified>
  <cp:revision>48</cp:revision>
  <dc:subject/>
  <dc:title>Особенности речевого развития детей от 4 до 5 лет</dc:title>
</cp:coreProperties>
</file>