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006-869D-49C2-A950-8EDC6293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8A5-5578-4D38-9E2B-127CF8C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F12-68D1-4642-99FA-B1500909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667-CDF4-4C56-8BBF-F2B302BF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08AA-8DE5-4A9D-AE2A-38C1BC07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ADB-A58C-400B-B517-35B9FCB5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8FAD-0393-4832-8EFC-223A0211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2DD-1B1C-4755-BD10-7C47D35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635D-622B-45C7-84F1-8AA6330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262-5CE9-459F-9A5B-51FE54A1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8E0-6D86-42F8-AC49-63C0C21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90A-8F63-47EA-909D-4CE3FAF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3BD-536A-41AE-940F-71BE15C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7FD-97CF-4766-A136-1AAAF2C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2D4C-EF7A-43A8-9611-77791EF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D98-7F6A-4838-B5A7-7BA5FBB8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983-B93B-44F6-83C1-91506136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A26-4837-49A4-ADF4-62E8E44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AF2-83B0-4568-89D2-AAE82085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9F8-6FF7-488D-8326-B16CF6A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1E6-8B6D-47A1-818D-5132BA7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9D5-A358-44BF-A42F-D8C6DBF5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60F-D9C9-423D-AA48-39E16B8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E1B-EC45-461C-A60B-F6BD4E8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240"/>
                <a:chOff x="852840" y="4051080"/>
                <a:chExt cx="1833120" cy="16682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60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1" i="1" lang="en-US" sz="32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637-8853-48FC-A191-9C93102CD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5400" y="58680"/>
              <a:ext cx="3624480" cy="6137640"/>
              <a:chOff x="5405400" y="58680"/>
              <a:chExt cx="3624480" cy="6137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5120" y="343440"/>
                <a:ext cx="2112120" cy="2355480"/>
              </a:xfrm>
              <a:custGeom>
                <a:avLst/>
                <a:gdLst>
                  <a:gd name="textAreaLeft" fmla="*/ 0 w 2112120"/>
                  <a:gd name="textAreaRight" fmla="*/ 2112480 w 211212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59480"/>
                <a:ext cx="904680" cy="842040"/>
              </a:xfrm>
              <a:custGeom>
                <a:avLst/>
                <a:gdLst>
                  <a:gd name="textAreaLeft" fmla="*/ 0 w 904680"/>
                  <a:gd name="textAreaRight" fmla="*/ 905040 w 90468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8552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69960"/>
                <a:ext cx="388440" cy="54972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720" y="2649960"/>
                <a:ext cx="163080" cy="33156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1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6520"/>
                <a:ext cx="522720" cy="326592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5920"/>
                  <a:gd name="textAreaBottom" fmla="*/ 3266640 h 3265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160" y="288000"/>
              <a:ext cx="896040" cy="821880"/>
              <a:chOff x="5645160" y="288000"/>
              <a:chExt cx="896040" cy="8218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040" y="778320"/>
                <a:ext cx="181080" cy="3618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000" y="460080"/>
                <a:ext cx="308160" cy="300600"/>
              </a:xfrm>
              <a:custGeom>
                <a:avLst/>
                <a:gdLst>
                  <a:gd name="textAreaLeft" fmla="*/ 0 w 308160"/>
                  <a:gd name="textAreaRight" fmla="*/ 308160 w 3081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9600" y="389520"/>
                <a:ext cx="322200" cy="1530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1040"/>
              <a:ext cx="1055520" cy="829800"/>
              <a:chOff x="970560" y="5261040"/>
              <a:chExt cx="10555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13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3624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560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13D-8176-41E1-9BED-4B767A340432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8101080" cy="397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ОСОБЕННОСТИ РЕЧЕВОГО РАЗВИТИЯ ДЕТЕЙ </a:t>
            </a:r>
            <a:br>
              <a:rPr sz="5200"/>
            </a:b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ОТ 4 ДО 5 ЛЕТ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Логическое мышлен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азвитие Мышления, Памяти, Внимания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.Ребенок должен уметь находить отличия и сходства между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вумя картинками (или между двумя игрушками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2.Ребенок должен уметь складывать по образцу постройки из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онструктор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3.Ребенок должен уметь складывать разрезанную картинку из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-5 часте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.Ребенок должен уметь не отвлекаясь, в течение 5 мину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ыполнять задан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5.Ребенок должен уметь складывать пирамидку (чашечки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кладывая их друг в друга) без посторонней помощ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6.Ребенок должен уметь вкладывать в отверстия недостающ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фрагменты картинок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7..Ребенок должен уметь называть обобщающим слов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группу предметов (корова, лошадь, коза-домашние животные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зима, лето, весна- времена года). Находить лишний предмет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аждой группе. Находить пару каждому предмету.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472600" cy="76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8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должен уметь отвечать на таки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опросы как: Можно ли летом кататься на санках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чему? Зачем зимой одевают теплые куртки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ля чего нужны окна и двери в доме?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9. Ребенок должен уметь подбир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ротивоположные слова:  стакан полный – стака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устой, дерево высокое – дерево низкое, ид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медленно – идти быстро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яс узкий – пояс широкий, ребенок голодный –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сытый, чай холодный – чай горячий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0.Ребенок должен уметь запоминать пары слов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после прочтения взрослым: стакан-вода, девоч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мальчик, собака-кошка и т.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11.Ребенок должен уметь видеть на картинк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неправильно изображенные предметы, объяснять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что не так и почем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86880" cy="724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Навыки обихода</a:t>
            </a:r>
            <a:br>
              <a:rPr sz="18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уже отлично застегивает пуговки, молнии 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азвязывает шнурки, его хорошо слушаются ложка 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вил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2. Ребенок должен уметь нанизывать крупные пуговиц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или бусины на нит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3. Ребенок должен уметь точно проводить линии н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отрывая карандаш от бумаг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4. Ребенок должен уметь заштриховывать фиг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овными прямыми линиями, не выходя за конт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рисун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5. Ребенок должен уметь обводить и раскрашив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картинки, не выходя за кр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6. Ребенок должен уметь проводить линии по середин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дорожки, не выходя за её кр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7. Ребенок должен различать правую и левую ру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4200" y="482400"/>
            <a:ext cx="8501040" cy="59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  <a:ea typeface="Calibri"/>
              </a:rPr>
              <a:t>Развитие разговорной речи - важный этап в формировании у ребенка связной речи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Главная задача родителей- помощь в овладени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родным языком - обогащение словаря (углублени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понимания смысла употребляемых слов) и в развитии связной реч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   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Calibri"/>
              </a:rPr>
              <a:t>Для обогащения, уточнения и расширения словаря детей используйте самое ближайшее окружение ребенка, то, с чем он сталкивается дома, в детском саду, на улице. Вводите в словарь детей не только названия цветов( красный, синий и т.д.), но и их оттенков. Не только названия формы, величины предметов, но и материала, из которого эти предметы сделаны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чить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-использовать в речи названия предметов, и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частей, материалов из которых они изготовлены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пределять и называть местоположение предмет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ремя суток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потреблять существительные с обобщающим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значением; слова-антонимы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-вводить в словарь детей существительные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бозначающие профессии; глаголы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характеризующие трудовые действ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рассказывать о содержании сюжетной картинки, п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серии сюжетных картинок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подбирать слово на звук, который вы задает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называть какой звук он слышит в начале слова, 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конце слова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82152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 этот период совершенствуется речевой слу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детей. Дети могут различать слов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тличающиеся одной фонемой (палка  балка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мышка – мишка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Развитие фонематического слуха опережа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произносительные возможности детей, они, н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умея произносить тот или иной звук, слышат ег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в чужой речи, замечают ошибку в произношени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другого ребенка, начинают слышать сво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шибочное произношени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42800" y="357120"/>
            <a:ext cx="8244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РОИЗНОСИТЕЛЬНАЯ СТОРОНА РЕЧИ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Воспитательно -педагогическую работу можно считать успешной, если к 5 годам дети смогут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Verdana"/>
              </a:rPr>
              <a:t>приобрести устойчивый интерес к заданиям по познавательной деятельност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6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Рассмотрим особенности речевого развития детей от 4 до 5 лет  в следующих разделах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Verdana"/>
              </a:rPr>
              <a:t>Речь ребен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Verdana"/>
              </a:rPr>
              <a:t>Игры, развивающие способности ребен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Verdana"/>
              </a:rPr>
              <a:t>РЕЧЬ РЕБЕН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Развитие речи детей находитс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в прямой зависимости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от следующих факторов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РЕЧЕВОГО ОКРУЖЕНИ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ПЕДАГОГИЧЕСКИХ ВОЗДЕЙСТВ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Verdana"/>
              </a:rPr>
              <a:t>НАПРАВЛЕННЫХ НА ОСВОЕНИЕ РЕБЕНКОМ ОПРЕДЕЛЕННОГО РЕЧЕВОГО СОДЕРЖАНИ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Verdana"/>
              </a:rPr>
              <a:t>4-5 ле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Ребенок черпает свои знания, усваивая новые слова благодаря общению с взрослыми. В этом возрасте ребенок обычно задает взрослым много вопросов. Одновременно с расширением словаря у ребенка совершенствуется и звуковая сторона речи. К пяти годам малыш узнает на слух звук в слове, может подбирать слово на звук, который вы задает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85840" y="331920"/>
            <a:ext cx="857232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Обладает словарным запасом около 3000 слов.  Осмысливает причинно-следственные отношения; употребляет сложносочиненные и сложноподчиненные предложения. Работает над собственным произношением, выделяет первый звук в слове. Понимает и употребляет слова-антонимы; образовывает новые слова по аналогии со знакомыми словами. Активно употребляет слова, обозначающие эмоциональное состояние, эстетические характеристики, разнообразные свойства и качества предметов. Знает назначение предметов и может сказать, из чего они сделаны.  Рассказывает о содержании сюжетной картинки.  Рассказывает невероятные истории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Активно сопровождает речью свою деятельность (игровые, бытовые и другие действия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4"/>
          <p:cNvSpPr/>
          <p:nvPr/>
        </p:nvSpPr>
        <p:spPr>
          <a:xfrm>
            <a:off x="1571760" y="4024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14200" y="22104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Развитие Речи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400"/>
            </a:b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. Ребенок должен строить фразы из 6-8 слов. Понимать ребенка должны даже посторонние люди, а не только родители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2. Ребенок должен понимать, чем отличается строение человека от строения животных, называть их части тела (руки - лапы, ногти - когти, волосы - шерсть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3. Ребенок должен уметь правильно ставить существительные в форму множественного числа (цветок - цветы, девочка – девочки- много девочек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4. Ребенок должен уметь находить предмет по описанию (яблоко - круглое, сладкое, желтое). Уметь  самостоятельно составлять описание предмета.</a:t>
            </a:r>
            <a:br>
              <a:rPr sz="2400"/>
            </a:b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6"/>
          <p:cNvSpPr/>
          <p:nvPr/>
        </p:nvSpPr>
        <p:spPr>
          <a:xfrm>
            <a:off x="214200" y="285840"/>
            <a:ext cx="8715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5. Ребенок должен понимать значение предлогов (в, на, под, за, между, перед, около и т. д.)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6. Ребенок должен знать, какие бывают профессии, чем занимаются люди этих профессий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7. Ребенок должен уметь поддерживать беседу: уметь отвечать на вопросы и правильно их задавать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8. Ребенок должен уметь пересказывать содержание услышанной сказки, рассказа. Рассказать наизусть несколько стихов, потешек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9. Ребенок должен называть свое имя, фамилию, сколько ему лет, называть город в котором живет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0.  Ребенок должен уметь отвечать вопросы, касательно недавно произошедших событий:  Где ты был сегодня? Кого встретил по дороге? Что мама купила в магазине? Что было на тебе одето?</a:t>
            </a:r>
            <a:endParaRPr b="1" i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071720" y="214200"/>
            <a:ext cx="780084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3840" y="25560"/>
            <a:ext cx="8572680" cy="667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Окружающий мир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1. Ребенок должен уметь различать овощи, фрукты и ягоды, знать какими они бывают, когда созревают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2. Ребенок должен знать названия насекомых, уметь рассказывать о том, как они передвигаются (бабочка летает, улитка ползет, кузнечик прыгает)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3. Ребенок должен знать всех домашних животных и их детенышей.</a:t>
            </a:r>
            <a:br>
              <a:rPr sz="2400"/>
            </a:b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4. Ребенок должен уметь угадывать по картинкам времена года. Знать приметы каждого из них.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5. </a:t>
            </a:r>
            <a:r>
              <a:rPr b="1" i="1" lang="ru-RU" sz="2400" spc="-1" strike="noStrike">
                <a:solidFill>
                  <a:srgbClr val="272727"/>
                </a:solidFill>
                <a:latin typeface="Tahoma"/>
                <a:ea typeface="Tahoma"/>
              </a:rPr>
              <a:t>Ребенок должен уметь </a:t>
            </a: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определять время суток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9"/>
                </a:solidFill>
                <a:latin typeface="Tahoma"/>
                <a:ea typeface="Tahoma"/>
              </a:rPr>
              <a:t>6. Отгадывать простые загадк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Математик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в возрасте от 4 до 5 лет должен уметь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Ребенок должен уметь определять расположени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едметов: справа, слева, посередине, вверху, внизу, сзади, спереди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2. Ребенок должен знать основные геометрические фигур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(круг, овал, квадрат, треугольник и прямоугольник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3. Ребенок должен знать все цифры (0, 1, 2, 3, 4, 5, 6, 7, 8, 9)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Считать предметы в пределах десяти, соотносить количество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едметов с нужной цифрой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4. Ребенок должен уметь расставлять цифры от 1 до 5 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авильной последовательности и в обратном порядке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5. Ребенок должен уметь сравнивать количество предметов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онимать значение: больше - меньше, поровну. Делать равным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неравные группы предметов: добавлять один предмет к группе с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меньшим количеством предметов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6. Ребенок знакомится с графическим образом числа, учитс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ahoma"/>
              </a:rPr>
              <a:t>правильно писать цифры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9:36:15Z</dcterms:created>
  <dc:creator>Sergey</dc:creator>
  <dc:description/>
  <dc:language>en-US</dc:language>
  <cp:lastModifiedBy>дима</cp:lastModifiedBy>
  <dcterms:modified xsi:type="dcterms:W3CDTF">2020-11-24T10:25:13Z</dcterms:modified>
  <cp:revision>48</cp:revision>
  <dc:subject/>
  <dc:title>Особенности речевого развития детей от 4 до 5 лет</dc:title>
</cp:coreProperties>
</file>