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73C-D0BE-4B23-B0A0-FE6FF201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24F-CF02-44B2-A1EA-947C4791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219-24BD-4C4D-8832-5739A9DA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14A-44EC-408B-938D-2A694F8C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78F1-5954-4545-A14E-4A1606F9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1DD5-0A59-45C0-9AC0-F88150B6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3708-72B5-443F-98B1-F3C32A86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DF02-8CBF-4BF5-9CDA-3FCBB324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D2B0-6891-4401-813E-6AE9BEF8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9F6C-A974-49BB-A559-B59BCB24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B091-FCC2-4B59-BFA3-55717871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1AA-C867-4C48-87C3-9282F069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CCF2-BCA8-40DA-8253-B760D2FF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287C-F476-4DA7-A39F-36DE6FC3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6A20-75E4-4D1E-9C1E-40DEA952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A2C0-54AB-49E6-BA23-9DC3A5E0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C245-A497-4187-A4E8-F814B09E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4CA9E-36B5-43D0-B142-279B3E83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509E3-4BE9-454E-98EC-D5631252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58154-7734-45C2-8B44-408B0F5D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F2AD5-F7CC-4587-9995-F48DB3DF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68967-6649-4496-AC8A-2FCA56E5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AB7-8502-4EF1-9FDC-C949741E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7A4A4-F334-4B41-8D20-D940E3BD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8E085-C0CE-48E5-9EDD-6AAE9C35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25122-DCA1-4A1B-9CF5-65F09903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1940E-E714-4F51-AF4D-F9562351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4070E-78A8-45E9-AD04-916CE2DB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8739D-0623-437C-BD9C-D9A0069B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4C388-4232-4C9E-91EA-0B245D18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087D-9CE4-4C2F-BA52-12D1ACE2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11DF4-0753-499F-A34A-EDE3D900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F41E3-58C4-45A1-9535-756552E0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55B-3446-44DF-B64F-BA3813D9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F1B41-1595-478E-B129-0A6655CA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54D4B-E797-4FE3-9C8D-F918B4D4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A115E-FE2B-4FDF-B472-B0D25D6E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9AAFA-DBAC-49B4-970F-8D549A25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8142F-7A9B-4C44-8979-83CCF1E5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CCC9B-D6D7-4118-A1DC-B9AF9ECA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BFF58-E299-4DE2-A379-A751DF3A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C7807-9ADE-4370-AE11-CC2CAE54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D7994-A10E-4CBA-9A61-9A2EC585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DD461-36DD-4F41-AA62-4C0B815F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D9F-B051-4886-87DE-A596609E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5055F5-2DAF-4E2B-BACC-B2CCDC40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98147-48C2-49FF-B725-67315819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F0DC7-858C-460E-892C-63AA223B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5DE2E-BACC-4C2B-A58A-4959A823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C607C-C557-4998-BDDC-E0E7DB2E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10987-42A4-4AA4-9733-11F09A69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875C4-926E-49E7-9089-D8EA581D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850933-36A4-43B4-89F1-D4E760CE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8337E-30D0-43DB-9964-C2FC0087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AB952-D456-404F-B2AD-5ADFE1E1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249E-1756-48A9-9B68-6B0E9EAA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B7DBF-0A10-4FBE-9D20-072D43BF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C63F6-78DD-4A15-94C6-D2F20234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16D6E4-5DF6-4A80-9DC5-290F3110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35FCD3-E414-49E1-932D-1CC3E01C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9B8C0-861A-4F28-96B4-BB21170F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D97513-38BF-47B1-980F-599AB72B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1E841-BE44-4C35-B26E-EEE65CD3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682957-DE5E-4161-B7F7-6C34A915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378F9B-B168-434A-AB97-0A906C7F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E81A67-180C-4965-90EC-655EDB16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03E-BE35-4ADA-A777-8ECB3DF4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200D7-6FC9-4C07-9974-859D1551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8F362-DD34-49AB-8ECA-285C56A5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5475E-21AC-4E88-8047-438C8397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13B135-DD2D-4284-BF5E-4A20F3D1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7CB67-396F-44CE-B988-4502BC4B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5D925-1383-4CFF-8831-B72AC22C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C1B025-FEBE-404E-8C99-74C51550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F5B18-D60A-44C2-AEDA-E98B6A23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D4874-BC58-4A16-8EA3-0FC9969D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1E2074-95D9-46A3-B44F-A499D16F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1013-AEC1-4DDF-BC88-B8FAA550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47A858-64BC-4A47-9B81-A11547C5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F81200-8ED4-4CEC-886F-A392E5BA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4D3945-D47E-4399-9D48-C36EB29A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450EDB-1425-4EF2-8B74-816F7EE0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59B93-D473-4931-AE39-D6EC21D6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9CDFA-D6B0-48BE-A0A9-F887F06B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B621C-C07E-4F44-9CB4-95CBF761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E7D4F-1650-4AB0-AFDE-801695AA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F9C04-E6EF-4690-814D-A1C10F46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FAE8F-6975-4489-A64D-4BDFAE77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C89-C1B2-40BC-B587-AD076399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24CA4-2EE3-476F-9002-57AB4334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6A356-C72E-4783-9D43-8AEBBA46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394B7-0D45-404F-A8F4-CE4D2EA1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CB824-41C0-487D-8A73-7914A4E0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1F294-F802-4A24-A5D4-B06D9CC4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1F6F0-64C9-435E-8A87-8B88302E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88498-A5A6-4D0D-9AED-65D07DBD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72F9-1107-4F56-AFAF-4F318E716A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6EDE-1C8D-4822-B4F5-70D770CCDE0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1781-6604-4E0E-8EBB-C14FBA8A7A6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5936-AA76-4EA5-8136-53F520CA837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F5CF-4036-4444-B604-AD4DF71E02B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3784-F3BD-4416-9F2B-CCD6A30C00D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4EB8-2B23-4115-9C2C-571EFFC414A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64EF-38DB-45C9-A25E-1C92E0BEC4A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WORLD AROUND 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Continents and countrie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2771640" y="3068640"/>
            <a:ext cx="3395880" cy="3309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Y NAME IS….I AM AUSTRALIAN. I’M FROM….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2" descr="Картинки по запросу фото девочки"/>
          <p:cNvPicPr/>
          <p:nvPr/>
        </p:nvPicPr>
        <p:blipFill>
          <a:blip r:embed="rId1"/>
          <a:stretch/>
        </p:blipFill>
        <p:spPr>
          <a:xfrm>
            <a:off x="1692360" y="2276640"/>
            <a:ext cx="5715000" cy="3371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Y NAME IS….I AM CANADIAN. I’M FROM….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2" descr="Картинки по запросу фото мальчика"/>
          <p:cNvPicPr/>
          <p:nvPr/>
        </p:nvPicPr>
        <p:blipFill>
          <a:blip r:embed="rId1"/>
          <a:stretch/>
        </p:blipFill>
        <p:spPr>
          <a:xfrm>
            <a:off x="395280" y="1628640"/>
            <a:ext cx="7238880" cy="48085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Schoolbook"/>
              </a:rPr>
              <a:t>FILL IN THE GAP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The  planet we live on is the ___________. The Earth is round. There are _________ oceans and ________ continents. The continents are:____________, Asia, _________, Australia, and ______________. _________ consist of of North __________ and South ___________. The ______________ are very large. There are many ________________ on the continents. Each country has its national_________, anthem and its own _____________ and custom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0000"/>
                </a:solidFill>
                <a:latin typeface="Century Schoolbook"/>
              </a:rPr>
              <a:t>CHECK</a:t>
            </a:r>
            <a:endParaRPr b="0" lang="en-US" sz="5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-360" y="207180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planet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we live on is the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Earth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. The Earth is round. There are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four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oceans and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six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continents. The continents are: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Europe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, Asia,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America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, Australia, and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Antarctic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America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consist of of North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America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and South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America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. The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continents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are very large. There are many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countries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on the continents. Each country has its national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flag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, anthem and its own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traditions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and custom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46360" y="5281560"/>
            <a:ext cx="62546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THANK YOU FOR ATTENTION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pic>
        <p:nvPicPr>
          <p:cNvPr id="431" name="Рисунок 3" descr="43501588_e391e4582629d60c2633216f95ed8cd8.jpg"/>
          <p:cNvPicPr/>
          <p:nvPr/>
        </p:nvPicPr>
        <p:blipFill>
          <a:blip r:embed="rId1"/>
          <a:srcRect l="10999" t="499" r="10999" b="0"/>
          <a:stretch/>
        </p:blipFill>
        <p:spPr>
          <a:xfrm>
            <a:off x="2700360" y="476280"/>
            <a:ext cx="3887640" cy="496080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3850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32c16"/>
                </a:solidFill>
                <a:latin typeface="Century Schoolbook"/>
              </a:rPr>
              <a:t>AT FIRST WE REMEMBER SOME WORDS. REPEAT AFTER ME, PLEASE.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Africa ['æfrıkə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Germany ['dзə:mənı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America [ə'merıkə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Italy ['ıt(ə)lı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Asia ['eı∫ə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Spain [speın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Australia [os'trelıə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the Vatican ['vætıkən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Antarctic [ænt'a:ktık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Vietnam [viet'næm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anada ['kænədə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France [fra:ns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hina ['t∫aınə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Europe ['juərəp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Egypt ['idзıpt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England ['ıŋglənd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642960" y="285840"/>
            <a:ext cx="8102520" cy="5857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LOOK AT OUR SCREEN AND FINISH THE FOLLOWING SENTENCES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nglish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rench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panish       is the national language of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German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alian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ussian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1187280" y="1484280"/>
          <a:ext cx="6780240" cy="4722840"/>
        </p:xfrm>
        <a:graphic>
          <a:graphicData uri="http://schemas.openxmlformats.org/drawingml/2006/table">
            <a:tbl>
              <a:tblPr/>
              <a:tblGrid>
                <a:gridCol w="1694160"/>
                <a:gridCol w="1695240"/>
                <a:gridCol w="1695600"/>
                <a:gridCol w="1695240"/>
              </a:tblGrid>
              <a:tr h="289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eat Brit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ashington 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us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r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nber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Rectangle 3"/>
          <p:cNvSpPr/>
          <p:nvPr/>
        </p:nvSpPr>
        <p:spPr>
          <a:xfrm>
            <a:off x="4459320" y="-31320"/>
            <a:ext cx="22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4674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entury Schoolbook"/>
              </a:rPr>
              <a:t>                     </a:t>
            </a:r>
            <a:r>
              <a:rPr b="0" lang="en-US" sz="3000" spc="-1" strike="noStrike">
                <a:solidFill>
                  <a:srgbClr val="ffff00"/>
                </a:solidFill>
                <a:latin typeface="Century Schoolbook"/>
              </a:rPr>
              <a:t>FILL I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637704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WRITE OUT THE NAMES OF THE COUNTR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1) ARUISI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2) SAINP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3) ANIC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4) ECNAR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1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1332000" y="4005360"/>
            <a:ext cx="253188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1187280" y="1484280"/>
          <a:ext cx="6780240" cy="4722840"/>
        </p:xfrm>
        <a:graphic>
          <a:graphicData uri="http://schemas.openxmlformats.org/drawingml/2006/table">
            <a:tbl>
              <a:tblPr/>
              <a:tblGrid>
                <a:gridCol w="1694160"/>
                <a:gridCol w="1695240"/>
                <a:gridCol w="1695600"/>
                <a:gridCol w="1695240"/>
              </a:tblGrid>
              <a:tr h="289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eat Brit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d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ashington 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e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t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t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us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sc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us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us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e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e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rm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r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r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r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nber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str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Rectangle 3"/>
          <p:cNvSpPr/>
          <p:nvPr/>
        </p:nvSpPr>
        <p:spPr>
          <a:xfrm>
            <a:off x="4459320" y="-31320"/>
            <a:ext cx="22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4674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entury Schoolbook"/>
              </a:rPr>
              <a:t>                     </a:t>
            </a:r>
            <a:r>
              <a:rPr b="0" lang="en-US" sz="3000" spc="-1" strike="noStrike">
                <a:solidFill>
                  <a:srgbClr val="ffff00"/>
                </a:solidFill>
                <a:latin typeface="Century Schoolbook"/>
              </a:rPr>
              <a:t>CHEC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4" descr="IMG_2035.jpg"/>
          <p:cNvPicPr/>
          <p:nvPr/>
        </p:nvPicPr>
        <p:blipFill>
          <a:blip r:embed="rId1"/>
          <a:stretch/>
        </p:blipFill>
        <p:spPr>
          <a:xfrm>
            <a:off x="2301840" y="2143080"/>
            <a:ext cx="5127840" cy="38782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MAGINE THAT YOU ARE AN INTERNATIONAL CONFERENCE. SAY WHAT YOU NAME (NATIONALITY) IS, WHERE YOU ARE FROM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Y NAME IS….I AM ENGLISH. I’M FROM….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9" name="Picture 2" descr="Картинки по запросу фото девочки"/>
          <p:cNvPicPr/>
          <p:nvPr/>
        </p:nvPicPr>
        <p:blipFill>
          <a:blip r:embed="rId1"/>
          <a:stretch/>
        </p:blipFill>
        <p:spPr>
          <a:xfrm>
            <a:off x="1908000" y="1747800"/>
            <a:ext cx="5283360" cy="4103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н Растрепин</dc:creator>
  <dc:description/>
  <dc:language>en-US</dc:language>
  <cp:lastModifiedBy>Роман Растрепин</cp:lastModifiedBy>
  <dcterms:modified xsi:type="dcterms:W3CDTF">2020-11-24T14:23:40Z</dcterms:modified>
  <cp:revision>198</cp:revision>
  <dc:subject/>
  <dc:title>Заголовок слайда отсутствует</dc:title>
</cp:coreProperties>
</file>