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271-DD9E-4914-A5C2-06713410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C9F1-EBEF-43AB-A19D-3D3A072B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70A-BFDD-4B15-BAF1-20AC9A1F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DEC-199A-4CEC-BE54-641F33E6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6A55-7A80-4EE1-A788-1BCB50C5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7FE1-64F6-4A62-A2BB-28075EEE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F2AF-9282-4DF2-9EA9-BFAC9BA0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1A89-059E-4437-8600-17931FD6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E0A9-6740-493C-8F39-BD3D0258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0B4D-3F17-4787-AADE-FB699EB2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D2EB-1D56-4ECB-AD77-C2D9D77E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019A-3D5D-48E4-848B-E0F23D08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9A36-70BC-4A97-97AE-6BB7CF51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812B-43CE-4704-957B-86A0CB48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2415-0C47-42C8-BEC9-5A6AB484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B99A-8B43-4A25-AF4C-96769B22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F7AA-2DAB-4E43-BEAB-67ADD02F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F7AB3-2243-49BE-9485-B6588580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A8E6E6-6F78-4BD6-9B6A-E0E02152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B6ECC-80D8-4873-A72B-82D42313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1294E-0DAA-47B9-8D22-BCC781EF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77C2C-9B57-4EF6-91C6-6CAC0D55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F80-C6AD-43B8-B139-FEBEFCD1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5ED54-A9B2-48E8-BED9-E8AC917A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2911B-85AF-419F-907D-02843FD2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038A1-95B6-4563-BCD3-64671872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185D9-0F8B-4B1B-8715-D09BB104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9496F-2C6A-4EB7-9580-9071A50C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75847-2C64-4D5A-8C0C-0ED61E01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A2A4C-78B3-402A-A85A-B3D6A9C0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BBC9A-004E-4FBC-A54D-BB1605E2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9F481-B9FE-4DCD-A1BD-7C186D14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3C76A-2EDC-491B-B45F-A5ABC471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797-90AD-4A35-8D4A-DEA0F710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0EAF4-9B01-41EA-B7C6-7A77B10B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8AFF6-3D2D-4FA4-9FBB-33562ED9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06C4C-C494-422F-9CA0-EE6896F4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8938F-3EA6-49A5-BF9D-AD6069EF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1CEE2-79CD-4BF1-BD6C-EE7D31DE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B747B-6FF5-4E31-9D0B-4EA8B77A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AD696-6F61-4E6E-8DB1-4DD8FCD9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C6B4E-7637-44D0-9D36-B48416D5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8B521-2A67-440C-9A13-D5F70064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0B58A5-64F9-4708-9EF8-23391951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1BF-0B3D-42F9-8E93-4F5D8362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E14B94-2499-4693-8CBE-C0EB8D55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89DF06-D91C-48EA-880A-AF938F29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C4B8E7-91AE-49E5-A502-14C72501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E06B09-03B3-4434-9C97-83DC9673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CD70D5-B7C6-4E64-8132-006C22E1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8E2AC0-D63E-499B-93A8-A0EC337C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6054D-4FFE-4DC4-B498-0ED8164C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FA697D-49E4-499E-BFC8-2FC63B49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3916F5-787E-4B00-8F2F-72BE7098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0EC057-544D-4B57-8B67-4E336E5B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663-8840-4046-9DFD-27826A6D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1D69E9-8E3E-4EFE-87D6-3175C66B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66D3D6-B964-4401-87BA-B616843D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3A6DFE-C42C-42B4-95A4-96747524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8A05A3-EA30-4C0B-8EA0-D9E54C33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5F4494-2114-492E-A12F-F93F7F1A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F3B29B-9C8F-4A1C-9FBF-9D33878A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1EFD28-ECC8-4B50-86A2-CED1A284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8F1ED3-9B36-4C07-ABCC-A117AFA6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244F5D-A818-4C7B-9A61-55388F16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2AF379-1D5E-4EF9-AEEB-4255F166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EB1-1353-422B-8F8D-EECD789D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53CE90-EF9F-455F-8D6B-7CEF68C4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60A56F-2310-4438-94CF-4F54588A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13A86-2E02-45A9-9D6E-EB95A294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5D8271-2AA8-4452-A4C6-67B5CCF1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5B0CC-ACDC-4BB1-A027-7770A906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9A4C14-ED01-44DA-9A24-197B355B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2562C4-A78C-4344-B1CD-3B5D8AC3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04D73A-3250-446F-B952-796311F0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AABEA2-F893-41F0-9CA4-556D9AF2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70C15B-8B73-497F-9273-ECB21682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221C-5762-4E1E-B825-4180CF36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B69F9A-B4C8-4424-AB7E-031399E3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BD9292-2DB1-4C6D-8366-C9C095CB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142BF4-097F-46FF-998E-D56EBF47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8EA3A2-9EB3-4881-9312-49872CE5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E184D7-5D0C-4FD8-9B53-B1C014A7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0688F-6E3E-457D-975D-C45D369C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1ADB9-B9B1-45AF-84D0-762A77D7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786AF-5DE7-4B32-B6C4-C0EB5E81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AE0BA-A9E9-4A79-BCF5-CC8DA979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ED7DF-492E-4F2D-BFA3-461C1C5C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CA3-1DC1-4584-A04D-22DF0DEC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F4193-BDB3-454C-908F-61875139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EE408-ADE2-46F7-B0E2-83CE48EA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2590D-A227-4D47-9335-2C35B787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BA713-65C4-4424-AA64-E851E7B2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21BDA-CD53-43DE-A31A-E7F4C83C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A9A2B-E6F1-43B1-ADCC-320DBCF0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666D0-820E-4C59-A196-B20322EC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591C-3FC9-41AD-81C3-4DDC194E20A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50FA-9BC0-4E7E-8D04-22DC4B1C826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3C70-4166-43FD-B219-169559739E7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25A7-BC98-440A-BB72-34EFF1F0A92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21AE-7E06-4D0B-9EF3-2F8095F06B5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2CD8-4E90-485E-8460-B64F169DC26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9C4D-BCDD-48D7-A401-75B7076FA45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3013-EB4A-4BE0-A862-FD4939B20BB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WORLD AROUND U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Continents and countrie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6" descr="Похожее изображение"/>
          <p:cNvPicPr/>
          <p:nvPr/>
        </p:nvPicPr>
        <p:blipFill>
          <a:blip r:embed="rId1"/>
          <a:stretch/>
        </p:blipFill>
        <p:spPr>
          <a:xfrm>
            <a:off x="2771640" y="3068640"/>
            <a:ext cx="3395880" cy="3309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Y NAME IS….I AM AUSTRALIAN. I’M FROM….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2" descr="Картинки по запросу фото девочки"/>
          <p:cNvPicPr/>
          <p:nvPr/>
        </p:nvPicPr>
        <p:blipFill>
          <a:blip r:embed="rId1"/>
          <a:stretch/>
        </p:blipFill>
        <p:spPr>
          <a:xfrm>
            <a:off x="1692360" y="2276640"/>
            <a:ext cx="5715000" cy="3371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Y NAME IS….I AM CANADIAN. I’M FROM….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5" name="Picture 2" descr="Картинки по запросу фото мальчика"/>
          <p:cNvPicPr/>
          <p:nvPr/>
        </p:nvPicPr>
        <p:blipFill>
          <a:blip r:embed="rId1"/>
          <a:stretch/>
        </p:blipFill>
        <p:spPr>
          <a:xfrm>
            <a:off x="395280" y="1628640"/>
            <a:ext cx="7238880" cy="48085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Schoolbook"/>
              </a:rPr>
              <a:t>FILL IN THE GAP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79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The  planet we live on is the ___________. The Earth is round. There are _________ oceans and ________ continents. The continents are:____________, Asia, _________, Australia, and ______________. _________ consist of of North __________ and South ___________. The ______________ are very large. There are many ________________ on the continents. Each country has its national_________, anthem and its own _____________ and custom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0000"/>
                </a:solidFill>
                <a:latin typeface="Century Schoolbook"/>
              </a:rPr>
              <a:t>CHECK</a:t>
            </a:r>
            <a:endParaRPr b="0" lang="en-US" sz="5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-360" y="207180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planet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we live on is the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Earth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. The Earth is round. There are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four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oceans and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six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continents. The continents are: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Europe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, Asia,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America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, Australia, and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Antarctic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America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consist of of North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America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and South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America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. The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continents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are very large. There are many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countries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on the continents. Each country has its national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flag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, anthem and its own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traditions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and custom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46360" y="5281560"/>
            <a:ext cx="62546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39d"/>
                </a:solidFill>
                <a:latin typeface="Century Schoolbook"/>
              </a:rPr>
              <a:t>THANK YOU FOR ATTENTION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pic>
        <p:nvPicPr>
          <p:cNvPr id="431" name="Рисунок 3" descr="43501588_e391e4582629d60c2633216f95ed8cd8.jpg"/>
          <p:cNvPicPr/>
          <p:nvPr/>
        </p:nvPicPr>
        <p:blipFill>
          <a:blip r:embed="rId1"/>
          <a:srcRect l="10999" t="499" r="10999" b="0"/>
          <a:stretch/>
        </p:blipFill>
        <p:spPr>
          <a:xfrm>
            <a:off x="2700360" y="476280"/>
            <a:ext cx="3887640" cy="4960800"/>
          </a:xfrm>
          <a:prstGeom prst="rect">
            <a:avLst/>
          </a:prstGeom>
          <a:ln w="0">
            <a:noFill/>
          </a:ln>
        </p:spPr>
      </p:pic>
    </p:spTree>
  </p:cSld>
  <p:transition>
    <p:diamond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3850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32c16"/>
                </a:solidFill>
                <a:latin typeface="Century Schoolbook"/>
              </a:rPr>
              <a:t>AT FIRST WE REMEMBER SOME WORDS. REPEAT AFTER ME, PLEASE.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Africa ['æfrıkə]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Germany ['dзə:mənı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America [ə'merıkə]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Italy ['ıt(ə)lı]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Asia ['eı∫ə]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Spain [speın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Australia [os'trelıə]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the Vatican ['vætıkən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Antarctic [ænt'a:ktık]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Vietnam [viet'næm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anada ['kænədə]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France [fra:ns]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hina ['t∫aınə]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Europe ['juərəp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Egypt ['idзıpt]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England ['ıŋglənd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642960" y="285840"/>
            <a:ext cx="8102520" cy="5857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LOOK AT OUR SCREEN AND FINISH THE FOLLOWING SENTENCES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nglish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French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panish       is the national language of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German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alian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ussian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1187280" y="1484280"/>
          <a:ext cx="6780240" cy="4722840"/>
        </p:xfrm>
        <a:graphic>
          <a:graphicData uri="http://schemas.openxmlformats.org/drawingml/2006/table">
            <a:tbl>
              <a:tblPr/>
              <a:tblGrid>
                <a:gridCol w="1694160"/>
                <a:gridCol w="1695240"/>
                <a:gridCol w="1695600"/>
                <a:gridCol w="1695240"/>
              </a:tblGrid>
              <a:tr h="289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eat Brit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ashington 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us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r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nber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Rectangle 3"/>
          <p:cNvSpPr/>
          <p:nvPr/>
        </p:nvSpPr>
        <p:spPr>
          <a:xfrm>
            <a:off x="4459320" y="-31320"/>
            <a:ext cx="22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4674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entury Schoolbook"/>
              </a:rPr>
              <a:t>                     </a:t>
            </a:r>
            <a:r>
              <a:rPr b="0" lang="en-US" sz="3000" spc="-1" strike="noStrike">
                <a:solidFill>
                  <a:srgbClr val="ffff00"/>
                </a:solidFill>
                <a:latin typeface="Century Schoolbook"/>
              </a:rPr>
              <a:t>FILL I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637704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WRITE OUT THE NAMES OF THE COUNTRIE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1) ARUISI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2) SAINP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3) ANIC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4) ECNAR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1" name="Picture 6" descr="Похожее изображение"/>
          <p:cNvPicPr/>
          <p:nvPr/>
        </p:nvPicPr>
        <p:blipFill>
          <a:blip r:embed="rId1"/>
          <a:stretch/>
        </p:blipFill>
        <p:spPr>
          <a:xfrm>
            <a:off x="1332000" y="4005360"/>
            <a:ext cx="253188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1187280" y="1484280"/>
          <a:ext cx="6780240" cy="4722840"/>
        </p:xfrm>
        <a:graphic>
          <a:graphicData uri="http://schemas.openxmlformats.org/drawingml/2006/table">
            <a:tbl>
              <a:tblPr/>
              <a:tblGrid>
                <a:gridCol w="1694160"/>
                <a:gridCol w="1695240"/>
                <a:gridCol w="1695600"/>
                <a:gridCol w="1695240"/>
              </a:tblGrid>
              <a:tr h="289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eat Brit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d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ashington 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eri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ta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ta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us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sc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us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us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e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e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rm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er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r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r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stra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nber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stra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Rectangle 3"/>
          <p:cNvSpPr/>
          <p:nvPr/>
        </p:nvSpPr>
        <p:spPr>
          <a:xfrm>
            <a:off x="4459320" y="-31320"/>
            <a:ext cx="22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4674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entury Schoolbook"/>
              </a:rPr>
              <a:t>                     </a:t>
            </a:r>
            <a:r>
              <a:rPr b="0" lang="en-US" sz="3000" spc="-1" strike="noStrike">
                <a:solidFill>
                  <a:srgbClr val="ffff00"/>
                </a:solidFill>
                <a:latin typeface="Century Schoolbook"/>
              </a:rPr>
              <a:t>CHEC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4" descr="IMG_2035.jpg"/>
          <p:cNvPicPr/>
          <p:nvPr/>
        </p:nvPicPr>
        <p:blipFill>
          <a:blip r:embed="rId1"/>
          <a:stretch/>
        </p:blipFill>
        <p:spPr>
          <a:xfrm>
            <a:off x="2301840" y="2143080"/>
            <a:ext cx="5127840" cy="38782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MAGINE THAT YOU ARE AN INTERNATIONAL CONFERENCE. SAY WHAT YOU NAME (NATIONALITY) IS, WHERE YOU ARE FROM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Y NAME IS….I AM ENGLISH. I’M FROM….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9" name="Picture 2" descr="Картинки по запросу фото девочки"/>
          <p:cNvPicPr/>
          <p:nvPr/>
        </p:nvPicPr>
        <p:blipFill>
          <a:blip r:embed="rId1"/>
          <a:stretch/>
        </p:blipFill>
        <p:spPr>
          <a:xfrm>
            <a:off x="1908000" y="1747800"/>
            <a:ext cx="5283360" cy="4103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ман Растрепин</dc:creator>
  <dc:description/>
  <dc:language>en-US</dc:language>
  <cp:lastModifiedBy>Роман Растрепин</cp:lastModifiedBy>
  <dcterms:modified xsi:type="dcterms:W3CDTF">2020-11-24T14:23:40Z</dcterms:modified>
  <cp:revision>198</cp:revision>
  <dc:subject/>
  <dc:title>Заголовок слайда отсутствует</dc:title>
</cp:coreProperties>
</file>