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440338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063800" y="685440"/>
            <a:ext cx="4730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CC4-8C64-47CC-9406-3DB65CB761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63800" y="685800"/>
            <a:ext cx="4730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643-D7AD-4205-B3F9-076BD19F5904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72EB-2FEA-4D35-8DF0-1807EA2B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F1B6-0FFC-412A-8678-0E120399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7BCB-D834-4F1C-A3F6-96C23D4C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8BA7-136D-4164-AA2C-48497E84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AF7-3249-472D-9EA9-8215F4D1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7BD-32FB-4F6C-AE53-217A0C9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FB5-A04E-4B3B-B8EB-007BC76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8D9F-B400-4257-825D-882EE765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DDF7-EEBE-4F73-AEC8-050F8DF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974-B68C-4DD9-81E1-C6F1C195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F7C1-BB09-4852-AF28-035D8E4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7496-4268-4531-805F-D24BAB0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CAE3-2C24-416A-B43A-80A6AC2A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66F9-EBD1-42DB-807A-0F9B1B4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F13-ED04-49EE-8CB9-F07A90A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F0E-00E3-4C71-8BC7-BBD4E5FE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8E3B-D78E-44AB-9C5B-837A5625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3D0B-D30A-42B9-873C-E67AF74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95EE-DC58-4586-9D87-99BA5E3A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C908-B990-4EFE-9B41-8A2092A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2B40-F951-4448-92B8-452D2874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5590-E42A-482B-ABEF-39E25C9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6E22-6E40-4225-95F0-8FEB3FE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3111-8D28-42FC-AA39-65A0B97A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06AD-37BB-4644-AC8C-F003B069C6D2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0360" y="463680"/>
            <a:ext cx="135619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60360" y="695160"/>
            <a:ext cx="1961640" cy="2089080"/>
            <a:chOff x="360360" y="695160"/>
            <a:chExt cx="1961640" cy="2089080"/>
          </a:xfrm>
        </p:grpSpPr>
        <p:sp>
          <p:nvSpPr>
            <p:cNvPr id="7" name="Rectangle 9"/>
            <p:cNvSpPr/>
            <p:nvPr/>
          </p:nvSpPr>
          <p:spPr>
            <a:xfrm>
              <a:off x="1472040" y="695160"/>
              <a:ext cx="70200" cy="1291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315080" y="695160"/>
              <a:ext cx="71640" cy="1136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154520" y="695160"/>
              <a:ext cx="70200" cy="969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994680" y="695160"/>
              <a:ext cx="70200" cy="807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837360" y="695160"/>
              <a:ext cx="70200" cy="650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77520" y="695160"/>
              <a:ext cx="70200" cy="476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17680" y="695160"/>
              <a:ext cx="72360" cy="32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60360" y="695160"/>
              <a:ext cx="69480" cy="164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632240" y="695160"/>
              <a:ext cx="64440" cy="1447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787040" y="695160"/>
              <a:ext cx="65160" cy="16124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939320" y="695160"/>
              <a:ext cx="67320" cy="1767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097000" y="695160"/>
              <a:ext cx="69480" cy="19342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254680" y="695160"/>
              <a:ext cx="67320" cy="2089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720360" y="9507240"/>
            <a:ext cx="3359160" cy="7254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60360" y="1508040"/>
            <a:ext cx="13561920" cy="0"/>
          </a:xfrm>
          <a:prstGeom prst="line">
            <a:avLst/>
          </a:prstGeom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60360" y="2203560"/>
            <a:ext cx="3600000" cy="3828600"/>
            <a:chOff x="360360" y="2203560"/>
            <a:chExt cx="3600000" cy="3828600"/>
          </a:xfrm>
        </p:grpSpPr>
        <p:sp>
          <p:nvSpPr>
            <p:cNvPr id="59" name="Rectangle 9"/>
            <p:cNvSpPr/>
            <p:nvPr/>
          </p:nvSpPr>
          <p:spPr>
            <a:xfrm>
              <a:off x="2400120" y="2203560"/>
              <a:ext cx="130320" cy="2366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110320" y="2203560"/>
              <a:ext cx="127440" cy="2080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817640" y="2203560"/>
              <a:ext cx="129600" cy="1778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525320" y="2203560"/>
              <a:ext cx="129600" cy="1478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235160" y="2203560"/>
              <a:ext cx="130320" cy="1191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942480" y="2203560"/>
              <a:ext cx="130320" cy="872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650520" y="2203560"/>
              <a:ext cx="129600" cy="601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60360" y="2203560"/>
              <a:ext cx="129600" cy="30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692800" y="2203560"/>
              <a:ext cx="125280" cy="2653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977920" y="2203560"/>
              <a:ext cx="122400" cy="2955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3260160" y="2203560"/>
              <a:ext cx="122400" cy="3241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545280" y="2203560"/>
              <a:ext cx="127440" cy="35431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837960" y="2203560"/>
              <a:ext cx="122400" cy="3828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7203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6C27-20AA-4389-AF51-6973DA269F3C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ff"/>
                </a:solidFill>
                <a:latin typeface="Arial"/>
              </a:rPr>
              <a:t>Презентация для родителей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12680" y="2719080"/>
            <a:ext cx="12668400" cy="6561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0000"/>
                </a:solidFill>
                <a:latin typeface="Arial"/>
              </a:rPr>
              <a:t>«Домашняя игротека по развитию речи»</a:t>
            </a:r>
            <a:endParaRPr b="0" lang="en-US" sz="6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3" name="Picture 4" descr="web-tutor_jpg_1296906cl-8"/>
          <p:cNvPicPr/>
          <p:nvPr/>
        </p:nvPicPr>
        <p:blipFill>
          <a:blip r:embed="rId1"/>
          <a:stretch/>
        </p:blipFill>
        <p:spPr>
          <a:xfrm>
            <a:off x="674640" y="5183280"/>
            <a:ext cx="56991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мелкой моторики рук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320560"/>
            <a:ext cx="13501800" cy="6923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омогаю маме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Большую часть времени вы проводите на кухне. Вы заняты приготовлением ужина. Малыш крутится возле вас. Предложите ему перебрать горох, рис, гречку. Тем самым он окажет вам посильную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омощь и потренирует свои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альчики</a:t>
            </a: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5" name="Picture 6" descr="0_5457d_6e91b291_XL"/>
          <p:cNvPicPr/>
          <p:nvPr/>
        </p:nvPicPr>
        <p:blipFill>
          <a:blip r:embed="rId1"/>
          <a:stretch/>
        </p:blipFill>
        <p:spPr>
          <a:xfrm>
            <a:off x="9675720" y="6634080"/>
            <a:ext cx="42228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87320" y="1739520"/>
            <a:ext cx="12714480" cy="76136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пал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йте ребенку счетные палочки. Пусть он выкладывает из них простейшие геометрические фигуры, узоры, буквы, предметы. А дополнить можно вырезанными из бумаги деталям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7" name="Picture 12" descr="0_54594_1da35c40_XL"/>
          <p:cNvPicPr/>
          <p:nvPr/>
        </p:nvPicPr>
        <p:blipFill>
          <a:blip r:embed="rId1"/>
          <a:stretch/>
        </p:blipFill>
        <p:spPr>
          <a:xfrm>
            <a:off x="10209240" y="6048360"/>
            <a:ext cx="39020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ff"/>
                </a:solidFill>
                <a:latin typeface="Arial"/>
              </a:rPr>
              <a:t>Игры на обогащение словаря ребенка</a:t>
            </a:r>
            <a:endParaRPr b="0" lang="en-US" sz="4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403360"/>
            <a:ext cx="13628520" cy="6950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оскажи словечко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 начинаете фразу, а ребенок заканчивает ее. Например: ворона каркает, а воробей …(чирикает). Сова летает, а заяц…(бегает, прыгает). У коровы теленок, а у лошади   …(жеребенок)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6" name="Picture 5" descr="Картинка 200 из 760"/>
          <p:cNvPicPr/>
          <p:nvPr/>
        </p:nvPicPr>
        <p:blipFill>
          <a:blip r:embed="rId1"/>
          <a:stretch/>
        </p:blipFill>
        <p:spPr>
          <a:xfrm>
            <a:off x="10688760" y="6308640"/>
            <a:ext cx="3713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12320" y="2320560"/>
            <a:ext cx="12601800" cy="70326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авай искать на кухне слов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На кухне можно проводить игры на обогащение словаря ребенк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Какие слова можно вынуть из борща?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инегрета? Кухонного шкафа? Плиты? и пр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8" name="Picture 5" descr="Картинка 179 из 760"/>
          <p:cNvPicPr/>
          <p:nvPr/>
        </p:nvPicPr>
        <p:blipFill>
          <a:blip r:embed="rId1"/>
          <a:stretch/>
        </p:blipFill>
        <p:spPr>
          <a:xfrm>
            <a:off x="11111040" y="1906560"/>
            <a:ext cx="361296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38040" y="1574640"/>
            <a:ext cx="10688760" cy="77788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Угощаю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вспомним слова и угостим друг друга. Ребенок называет «вкусное» слово и кладет вам на ладошку, затем вы ему, и так до тех пор, пока все не «съедите». Можно поиграть                        в «сладкие», «кислые», «соленые», «горькие» слов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0" name="Picture 7" descr="0_5456f_5f67a090_XL"/>
          <p:cNvPicPr/>
          <p:nvPr/>
        </p:nvPicPr>
        <p:blipFill>
          <a:blip r:embed="rId1"/>
          <a:stretch/>
        </p:blipFill>
        <p:spPr>
          <a:xfrm>
            <a:off x="338040" y="5764320"/>
            <a:ext cx="328932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2153880"/>
            <a:ext cx="13952520" cy="71722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Я заметил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проверим кто из нас самый внимательный. Будем называть предметы, мимо которых мы проходим, а еще обязательно укажем какие они. Вот почтовый ящик – он синий. Я заметил кошку – она пушистая. Ребенок и взрослый могут называть увиденные объекты по очеред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2" name="Picture 8" descr="Картинка 21 из 765"/>
          <p:cNvPicPr/>
          <p:nvPr/>
        </p:nvPicPr>
        <p:blipFill>
          <a:blip r:embed="rId1"/>
          <a:stretch/>
        </p:blipFill>
        <p:spPr>
          <a:xfrm>
            <a:off x="10831680" y="378000"/>
            <a:ext cx="3232080" cy="34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2719440"/>
            <a:ext cx="13501800" cy="6634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риготовим сок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Из яблок…(яблочный); из груш…(грушевый); из моркови, сливы, вишни, апельсина, лимона и т.п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Справились? А теперь наоборот : апельсиновый сок из чего?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4" name="Picture 5" descr="0_54574_f703ed54_XL"/>
          <p:cNvPicPr/>
          <p:nvPr/>
        </p:nvPicPr>
        <p:blipFill>
          <a:blip r:embed="rId1"/>
          <a:stretch/>
        </p:blipFill>
        <p:spPr>
          <a:xfrm>
            <a:off x="10576080" y="5981760"/>
            <a:ext cx="35128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12320" y="2236320"/>
            <a:ext cx="12601800" cy="71168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Представь, что у нас есть волшебные очки. Когда их надеваешь, то все становиться красным (синим, зеленым, прозрачным и т.д.).Посмотри вокруг, какого цвета все стало скажи?»(красный   стол и пр.)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6" name="Picture 5" descr="Картинка 31 из 765"/>
          <p:cNvPicPr/>
          <p:nvPr/>
        </p:nvPicPr>
        <p:blipFill>
          <a:blip r:embed="rId1"/>
          <a:stretch/>
        </p:blipFill>
        <p:spPr>
          <a:xfrm>
            <a:off x="11171160" y="836640"/>
            <a:ext cx="2492280" cy="24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_4d62d_746d092c_M"/>
          <p:cNvPicPr/>
          <p:nvPr/>
        </p:nvPicPr>
        <p:blipFill>
          <a:blip r:embed="rId2"/>
          <a:stretch/>
        </p:blipFill>
        <p:spPr>
          <a:xfrm>
            <a:off x="4643280" y="7375680"/>
            <a:ext cx="2608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1600" y="2486160"/>
            <a:ext cx="13052520" cy="6867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Лягушк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деление звука из ряда гласных: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а, и, у, ю, я, э. «Будешь прыгать как лягушка, если услышишь «а», на другие звуки опускаешь низко руки».     По аналогии проводиться игра на другие     гласные звуки. Позже можно проводить     игру на согласные звук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9" name="Picture 7" descr="Картинка 103 из 761"/>
          <p:cNvPicPr/>
          <p:nvPr/>
        </p:nvPicPr>
        <p:blipFill>
          <a:blip r:embed="rId1"/>
          <a:stretch/>
        </p:blipFill>
        <p:spPr>
          <a:xfrm>
            <a:off x="10734840" y="1574640"/>
            <a:ext cx="3403440" cy="3289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звуковой культуры реч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2827440"/>
            <a:ext cx="12489120" cy="6526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Игра с мячом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Я буду называть предметы и бросать тебе мяч. Ты будешь ловить только тогда, когда в слове услышишь звук «ж» (называете любой звук). Если в слове звука нет, то мяч ловить не надо. Начинаем..»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2" name="Picture 6" descr="i?id=244188485-53-72"/>
          <p:cNvPicPr/>
          <p:nvPr/>
        </p:nvPicPr>
        <p:blipFill>
          <a:blip r:embed="rId1"/>
          <a:stretch/>
        </p:blipFill>
        <p:spPr>
          <a:xfrm>
            <a:off x="10109160" y="544680"/>
            <a:ext cx="39146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8:06:19Z</dcterms:created>
  <dc:creator>кузя</dc:creator>
  <dc:description/>
  <dc:language>en-US</dc:language>
  <cp:lastModifiedBy>дима</cp:lastModifiedBy>
  <dcterms:modified xsi:type="dcterms:W3CDTF">2020-11-24T10:15:52Z</dcterms:modified>
  <cp:revision>19</cp:revision>
  <dc:subject/>
  <dc:title>Презентация для родителей</dc:title>
</cp:coreProperties>
</file>