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1440338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063800" y="685440"/>
            <a:ext cx="47304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88"/>
              </a:spcBef>
              <a:buNone/>
              <a:tabLst>
                <a:tab algn="l" pos="0"/>
                <a:tab algn="l" pos="1589040"/>
                <a:tab algn="l" pos="3178080"/>
                <a:tab algn="l" pos="4767120"/>
                <a:tab algn="l" pos="6356520"/>
                <a:tab algn="l" pos="7945560"/>
                <a:tab algn="l" pos="9534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0CC1-DA9C-4F55-A6CC-B4CBFBED5D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063800" y="685800"/>
            <a:ext cx="47304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88"/>
              </a:spcBef>
              <a:buNone/>
              <a:tabLst>
                <a:tab algn="l" pos="0"/>
                <a:tab algn="l" pos="1589040"/>
                <a:tab algn="l" pos="3178080"/>
                <a:tab algn="l" pos="4767120"/>
                <a:tab algn="l" pos="6356520"/>
                <a:tab algn="l" pos="7945560"/>
                <a:tab algn="l" pos="9534600"/>
              </a:tabLst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5257-19D9-43CB-9D05-FB761D112689}" type="slidenum">
              <a:rPr b="0" lang="ru-RU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40B50-E341-446E-AA98-099F175ED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639880" y="3015720"/>
            <a:ext cx="110412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639880" y="6288120"/>
            <a:ext cx="110412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F83A5-4415-4DD5-B196-DB8A671A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639880" y="30157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8297280" y="30157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639880" y="62881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8297280" y="62881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04265-FCEE-4B28-8E62-1593EE857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39880" y="3015720"/>
            <a:ext cx="35550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373080" y="3015720"/>
            <a:ext cx="35550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0106280" y="3015720"/>
            <a:ext cx="35550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2639880" y="6288120"/>
            <a:ext cx="35550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6373080" y="6288120"/>
            <a:ext cx="35550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10106280" y="6288120"/>
            <a:ext cx="35550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6AA10-E50F-42AD-B9B5-5D058510E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0142-5D6B-495E-9F1A-59968B46B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639880" y="3015720"/>
            <a:ext cx="11041200" cy="62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497B-3F35-4C6B-8BB2-80FD6B29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639880" y="3015720"/>
            <a:ext cx="11041200" cy="62643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EF35-C516-42D8-8467-BA9850B5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39880" y="3015720"/>
            <a:ext cx="5387760" cy="62643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297280" y="3015720"/>
            <a:ext cx="5387760" cy="62643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34E2-6AF3-498C-B884-A8A1DBC1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FBDC-E6B2-4B9D-A292-7FF1DE47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639880" y="695160"/>
            <a:ext cx="11041200" cy="91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F22F4-6A62-46EE-AC68-082A4B17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639880" y="30157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297280" y="3015720"/>
            <a:ext cx="5387760" cy="62643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639880" y="62881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34C0-5B5F-45CE-B829-7DB40B54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2639880" y="3015720"/>
            <a:ext cx="11041200" cy="62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F51EA-EBDE-4FA3-B0C4-C602F395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39880" y="3015720"/>
            <a:ext cx="5387760" cy="62643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8297280" y="30157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8297280" y="62881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36A06-5DDA-4F09-B841-2E180926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39880" y="30157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8297280" y="30157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639880" y="6288120"/>
            <a:ext cx="110412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7CD1-10A5-4753-B9B3-1061F8D6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39880" y="3015720"/>
            <a:ext cx="110412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639880" y="6288120"/>
            <a:ext cx="110412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5B0F6-AC4B-4AB8-B948-F867268F7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639880" y="30157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297280" y="30157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639880" y="62881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8297280" y="62881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BB43E-5578-45C7-BFBA-07B28742C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39880" y="3015720"/>
            <a:ext cx="35550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373080" y="3015720"/>
            <a:ext cx="35550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0106280" y="3015720"/>
            <a:ext cx="35550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2639880" y="6288120"/>
            <a:ext cx="35550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6373080" y="6288120"/>
            <a:ext cx="35550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10106280" y="6288120"/>
            <a:ext cx="35550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33D4-C2AE-4DB1-A599-F26515DB2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639880" y="3015720"/>
            <a:ext cx="11041200" cy="62643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CDE45-3EAC-4F89-9994-8EF02F51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639880" y="3015720"/>
            <a:ext cx="5387760" cy="62643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297280" y="3015720"/>
            <a:ext cx="5387760" cy="62643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9B27C-7E4A-4CCF-B822-4674BC19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391F9-3897-4EEF-9A2B-F59E70D0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639880" y="695160"/>
            <a:ext cx="11041200" cy="91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86A38-56F4-440C-8511-F45A38E4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639880" y="30157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297280" y="3015720"/>
            <a:ext cx="5387760" cy="62643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639880" y="62881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7CB76-BFAD-4EA8-A54D-1CE188E9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39880" y="3015720"/>
            <a:ext cx="5387760" cy="62643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297280" y="30157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297280" y="62881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CB5CD-B076-447E-A408-39CD92C8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639880" y="30157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8297280" y="30157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639880" y="6288120"/>
            <a:ext cx="110412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05930-05EB-4B11-89A3-50CD589A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39880" y="3015720"/>
            <a:ext cx="11041200" cy="62643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 fontScale="99000"/>
          </a:bodyPr>
          <a:p>
            <a:pPr marL="589320" indent="-589320">
              <a:spcBef>
                <a:spcPts val="1225"/>
              </a:spcBef>
              <a:buClr>
                <a:srgbClr val="6600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66ff"/>
                </a:solidFill>
                <a:latin typeface="Arial"/>
              </a:rPr>
              <a:t>Click to edit the outline text format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lvl="1" marL="1277640" indent="-490320">
              <a:spcBef>
                <a:spcPts val="1225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66ff"/>
                </a:solidFill>
                <a:latin typeface="Arial"/>
              </a:rPr>
              <a:t>Second Outline Level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lvl="2" marL="1965960" indent="-392760">
              <a:spcBef>
                <a:spcPts val="1225"/>
              </a:spcBef>
              <a:buClr>
                <a:srgbClr val="6600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66ff"/>
                </a:solidFill>
                <a:latin typeface="Arial"/>
              </a:rPr>
              <a:t>Third Outline Level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lvl="3" marL="2753280" indent="-392760">
              <a:spcBef>
                <a:spcPts val="1225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66ff"/>
                </a:solidFill>
                <a:latin typeface="Arial"/>
              </a:rPr>
              <a:t>Fourth Outline Level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lvl="4" marL="3539160" indent="-392760">
              <a:spcBef>
                <a:spcPts val="1225"/>
              </a:spcBef>
              <a:buClr>
                <a:srgbClr val="66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66ff"/>
                </a:solidFill>
                <a:latin typeface="Arial"/>
              </a:rPr>
              <a:t>Fifth Outline Level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lvl="5" marL="3539160" indent="-392760">
              <a:spcBef>
                <a:spcPts val="1225"/>
              </a:spcBef>
              <a:buClr>
                <a:srgbClr val="ffffcc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66ff"/>
                </a:solidFill>
                <a:latin typeface="Arial"/>
              </a:rPr>
              <a:t>Sixth Outline Level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lvl="6" marL="3539160" indent="-392760">
              <a:spcBef>
                <a:spcPts val="1225"/>
              </a:spcBef>
              <a:buClr>
                <a:srgbClr val="ffffcc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66ff"/>
                </a:solidFill>
                <a:latin typeface="Arial"/>
              </a:rPr>
              <a:t>Seventh Outline Level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920840" y="9512280"/>
            <a:ext cx="4559400" cy="6969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10321560" y="9512280"/>
            <a:ext cx="3359160" cy="6969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1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A25B-BDCF-419F-BAB0-74811179D0E9}" type="slidenum">
              <a:rPr b="0" lang="ru-RU" sz="2100" spc="-1" strike="noStrike">
                <a:solidFill>
                  <a:srgbClr val="0066ff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420840" y="9396360"/>
            <a:ext cx="13560120" cy="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8760" rIns="158760" tIns="-79200" bIns="-792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60360" y="463680"/>
            <a:ext cx="13561920" cy="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8760" rIns="158760" tIns="-79200" bIns="-792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360360" y="695160"/>
            <a:ext cx="1961640" cy="2089080"/>
            <a:chOff x="360360" y="695160"/>
            <a:chExt cx="1961640" cy="2089080"/>
          </a:xfrm>
        </p:grpSpPr>
        <p:sp>
          <p:nvSpPr>
            <p:cNvPr id="7" name="Rectangle 9"/>
            <p:cNvSpPr/>
            <p:nvPr/>
          </p:nvSpPr>
          <p:spPr>
            <a:xfrm>
              <a:off x="1472040" y="695160"/>
              <a:ext cx="70200" cy="129132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315080" y="695160"/>
              <a:ext cx="71640" cy="11365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154520" y="695160"/>
              <a:ext cx="70200" cy="9694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994680" y="695160"/>
              <a:ext cx="70200" cy="8074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837360" y="695160"/>
              <a:ext cx="70200" cy="65016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77520" y="695160"/>
              <a:ext cx="70200" cy="4762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517680" y="695160"/>
              <a:ext cx="72360" cy="3286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360360" y="695160"/>
              <a:ext cx="69480" cy="16416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632240" y="695160"/>
              <a:ext cx="64440" cy="144792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787040" y="695160"/>
              <a:ext cx="65160" cy="161244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939320" y="695160"/>
              <a:ext cx="67320" cy="176760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097000" y="695160"/>
              <a:ext cx="69480" cy="193428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254680" y="695160"/>
              <a:ext cx="67320" cy="208908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720360" y="9507240"/>
            <a:ext cx="3359160" cy="7254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360360" y="1508040"/>
            <a:ext cx="13561920" cy="0"/>
          </a:xfrm>
          <a:prstGeom prst="line">
            <a:avLst/>
          </a:prstGeom>
          <a:ln w="66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8760" rIns="158760" tIns="-79200" bIns="-792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360360" y="2203560"/>
            <a:ext cx="3600000" cy="3828600"/>
            <a:chOff x="360360" y="2203560"/>
            <a:chExt cx="3600000" cy="3828600"/>
          </a:xfrm>
        </p:grpSpPr>
        <p:sp>
          <p:nvSpPr>
            <p:cNvPr id="59" name="Rectangle 9"/>
            <p:cNvSpPr/>
            <p:nvPr/>
          </p:nvSpPr>
          <p:spPr>
            <a:xfrm>
              <a:off x="2400120" y="2203560"/>
              <a:ext cx="130320" cy="23662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2110320" y="2203560"/>
              <a:ext cx="127440" cy="20804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817640" y="2203560"/>
              <a:ext cx="129600" cy="17784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1525320" y="2203560"/>
              <a:ext cx="129600" cy="14788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1235160" y="2203560"/>
              <a:ext cx="130320" cy="1191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942480" y="2203560"/>
              <a:ext cx="130320" cy="8726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650520" y="2203560"/>
              <a:ext cx="129600" cy="60156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360360" y="2203560"/>
              <a:ext cx="129600" cy="3016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2692800" y="2203560"/>
              <a:ext cx="125280" cy="265392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2977920" y="2203560"/>
              <a:ext cx="122400" cy="295596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3260160" y="2203560"/>
              <a:ext cx="122400" cy="324108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3545280" y="2203560"/>
              <a:ext cx="127440" cy="354312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3837960" y="2203560"/>
              <a:ext cx="122400" cy="382860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420840" y="9396360"/>
            <a:ext cx="13560120" cy="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8760" rIns="158760" tIns="-79200" bIns="-792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2639880" y="3015720"/>
            <a:ext cx="11041200" cy="62643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 fontScale="99000"/>
          </a:bodyPr>
          <a:p>
            <a:pPr marL="589320" indent="-589320">
              <a:spcBef>
                <a:spcPts val="1225"/>
              </a:spcBef>
              <a:buClr>
                <a:srgbClr val="6600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66ff"/>
                </a:solidFill>
                <a:latin typeface="Arial"/>
              </a:rPr>
              <a:t>Click to edit the outline text format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lvl="1" marL="1277640" indent="-490320">
              <a:spcBef>
                <a:spcPts val="1225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66ff"/>
                </a:solidFill>
                <a:latin typeface="Arial"/>
              </a:rPr>
              <a:t>Second Outline Level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lvl="2" marL="1965960" indent="-392760">
              <a:spcBef>
                <a:spcPts val="1225"/>
              </a:spcBef>
              <a:buClr>
                <a:srgbClr val="6600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66ff"/>
                </a:solidFill>
                <a:latin typeface="Arial"/>
              </a:rPr>
              <a:t>Third Outline Level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lvl="3" marL="2753280" indent="-392760">
              <a:spcBef>
                <a:spcPts val="1225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66ff"/>
                </a:solidFill>
                <a:latin typeface="Arial"/>
              </a:rPr>
              <a:t>Fourth Outline Level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lvl="4" marL="3539160" indent="-392760">
              <a:spcBef>
                <a:spcPts val="1225"/>
              </a:spcBef>
              <a:buClr>
                <a:srgbClr val="66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66ff"/>
                </a:solidFill>
                <a:latin typeface="Arial"/>
              </a:rPr>
              <a:t>Fifth Outline Level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lvl="5" marL="3539160" indent="-392760">
              <a:spcBef>
                <a:spcPts val="1225"/>
              </a:spcBef>
              <a:buClr>
                <a:srgbClr val="ffffcc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66ff"/>
                </a:solidFill>
                <a:latin typeface="Arial"/>
              </a:rPr>
              <a:t>Sixth Outline Level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lvl="6" marL="3539160" indent="-392760">
              <a:spcBef>
                <a:spcPts val="1225"/>
              </a:spcBef>
              <a:buClr>
                <a:srgbClr val="ffffcc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66ff"/>
                </a:solidFill>
                <a:latin typeface="Arial"/>
              </a:rPr>
              <a:t>Seventh Outline Level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720360" y="9512280"/>
            <a:ext cx="3359160" cy="6969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4920840" y="9512280"/>
            <a:ext cx="4559400" cy="6969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10321560" y="9512280"/>
            <a:ext cx="3359160" cy="6969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1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4C5D-FD60-434F-9B98-532CC3EFAEFA}" type="slidenum">
              <a:rPr b="0" lang="ru-RU" sz="2100" spc="-1" strike="noStrike">
                <a:solidFill>
                  <a:srgbClr val="0066ff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0066ff"/>
                </a:solidFill>
                <a:latin typeface="Arial"/>
              </a:rPr>
              <a:t>Презентация для родителей</a:t>
            </a:r>
            <a:endParaRPr b="0" lang="en-US" sz="6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12680" y="2719080"/>
            <a:ext cx="12668400" cy="6561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marL="595440" indent="0" algn="ctr">
              <a:spcBef>
                <a:spcPts val="1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900" spc="-1" strike="noStrike">
                <a:solidFill>
                  <a:srgbClr val="ff0000"/>
                </a:solidFill>
                <a:latin typeface="Arial"/>
              </a:rPr>
              <a:t>«Домашняя игротека по развитию речи»</a:t>
            </a:r>
            <a:endParaRPr b="0" lang="en-US" sz="6900" spc="-1" strike="noStrike">
              <a:solidFill>
                <a:srgbClr val="0066ff"/>
              </a:solidFill>
              <a:latin typeface="Arial"/>
            </a:endParaRPr>
          </a:p>
          <a:p>
            <a:pPr marL="59544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r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r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r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r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r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r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r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r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ct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23" name="Picture 4" descr="web-tutor_jpg_1296906cl-8"/>
          <p:cNvPicPr/>
          <p:nvPr/>
        </p:nvPicPr>
        <p:blipFill>
          <a:blip r:embed="rId1"/>
          <a:stretch/>
        </p:blipFill>
        <p:spPr>
          <a:xfrm>
            <a:off x="674640" y="5183280"/>
            <a:ext cx="569916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437920" y="836640"/>
            <a:ext cx="11160360" cy="153504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66ff"/>
                </a:solidFill>
                <a:latin typeface="Arial"/>
              </a:rPr>
              <a:t>Игры на развитие мелкой моторики рук.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2320560"/>
            <a:ext cx="13501800" cy="69231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marL="59544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000066"/>
                </a:solidFill>
                <a:latin typeface="Arial"/>
              </a:rPr>
              <a:t>«Помогаю маме»</a:t>
            </a:r>
            <a:endParaRPr b="0" lang="en-US" sz="6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just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Большую часть времени вы проводите на кухне. Вы заняты приготовлением ужина. Малыш крутится возле вас. Предложите ему перебрать горох, рис, гречку. Тем самым он окажет вам посильную 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just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помощь и потренирует свои 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just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пальчики</a:t>
            </a:r>
            <a:r>
              <a:rPr b="0" lang="ru-RU" sz="4900" spc="-1" strike="noStrike">
                <a:solidFill>
                  <a:srgbClr val="0066ff"/>
                </a:solidFill>
                <a:latin typeface="Arial"/>
              </a:rPr>
              <a:t>.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45" name="Picture 6" descr="0_5457d_6e91b291_XL"/>
          <p:cNvPicPr/>
          <p:nvPr/>
        </p:nvPicPr>
        <p:blipFill>
          <a:blip r:embed="rId1"/>
          <a:stretch/>
        </p:blipFill>
        <p:spPr>
          <a:xfrm>
            <a:off x="9675720" y="6634080"/>
            <a:ext cx="422280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787320" y="1739520"/>
            <a:ext cx="12714480" cy="761364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marL="59544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000066"/>
                </a:solidFill>
                <a:latin typeface="Arial"/>
              </a:rPr>
              <a:t>«Волшебные палочки»</a:t>
            </a:r>
            <a:endParaRPr b="0" lang="en-US" sz="6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just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Дайте ребенку счетные палочки. Пусть он выкладывает из них простейшие геометрические фигуры, узоры, буквы, предметы. А дополнить можно вырезанными из бумаги деталями.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47" name="Picture 12" descr="0_54594_1da35c40_XL"/>
          <p:cNvPicPr/>
          <p:nvPr/>
        </p:nvPicPr>
        <p:blipFill>
          <a:blip r:embed="rId1"/>
          <a:stretch/>
        </p:blipFill>
        <p:spPr>
          <a:xfrm>
            <a:off x="10209240" y="6048360"/>
            <a:ext cx="390204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66ff"/>
                </a:solidFill>
                <a:latin typeface="Arial"/>
              </a:rPr>
              <a:t>Игры на обогащение словаря ребенка</a:t>
            </a:r>
            <a:endParaRPr b="0" lang="en-US" sz="4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360" y="2403360"/>
            <a:ext cx="13628520" cy="69501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marL="59544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000066"/>
                </a:solidFill>
                <a:latin typeface="Arial"/>
              </a:rPr>
              <a:t>«Доскажи словечко»</a:t>
            </a:r>
            <a:endParaRPr b="0" lang="en-US" sz="6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just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Вы начинаете фразу, а ребенок заканчивает ее. Например: ворона каркает, а воробей …(чирикает). Сова летает, а заяц…(бегает, прыгает). У коровы теленок, а у лошади   …(жеребенок) и т.д.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26" name="Picture 5" descr="Картинка 200 из 760"/>
          <p:cNvPicPr/>
          <p:nvPr/>
        </p:nvPicPr>
        <p:blipFill>
          <a:blip r:embed="rId1"/>
          <a:stretch/>
        </p:blipFill>
        <p:spPr>
          <a:xfrm>
            <a:off x="10688760" y="6308640"/>
            <a:ext cx="371304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12320" y="2320560"/>
            <a:ext cx="12601800" cy="70326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marL="59544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1" lang="ru-RU" sz="49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6200" spc="-1" strike="noStrike">
                <a:solidFill>
                  <a:srgbClr val="000066"/>
                </a:solidFill>
                <a:latin typeface="Arial"/>
              </a:rPr>
              <a:t>«Давай искать на кухне слова»</a:t>
            </a:r>
            <a:endParaRPr b="0" lang="en-US" sz="6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just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На кухне можно проводить игры на обогащение словаря ребенка.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just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Какие слова можно вынуть из борща?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just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Винегрета? Кухонного шкафа? Плиты? и пр.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28" name="Picture 5" descr="Картинка 179 из 760"/>
          <p:cNvPicPr/>
          <p:nvPr/>
        </p:nvPicPr>
        <p:blipFill>
          <a:blip r:embed="rId1"/>
          <a:stretch/>
        </p:blipFill>
        <p:spPr>
          <a:xfrm>
            <a:off x="11111040" y="1906560"/>
            <a:ext cx="3612960" cy="295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38040" y="1574640"/>
            <a:ext cx="10688760" cy="777888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marL="59544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000066"/>
                </a:solidFill>
                <a:latin typeface="Arial"/>
              </a:rPr>
              <a:t>«Угощаю»</a:t>
            </a:r>
            <a:endParaRPr b="0" lang="en-US" sz="6200" spc="-1" strike="noStrike">
              <a:solidFill>
                <a:srgbClr val="0066ff"/>
              </a:solidFill>
              <a:latin typeface="Arial"/>
            </a:endParaRPr>
          </a:p>
          <a:p>
            <a:pPr marL="5954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Давай вспомним слова и угостим друг друга. Ребенок называет «вкусное» слово и кладет вам на ладошку, затем вы ему, и так до тех пор, пока все не «съедите». Можно поиграть                        в «сладкие», «кислые», «соленые», «горькие» слова.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30" name="Picture 7" descr="0_5456f_5f67a090_XL"/>
          <p:cNvPicPr/>
          <p:nvPr/>
        </p:nvPicPr>
        <p:blipFill>
          <a:blip r:embed="rId1"/>
          <a:stretch/>
        </p:blipFill>
        <p:spPr>
          <a:xfrm>
            <a:off x="338040" y="5764320"/>
            <a:ext cx="3289320" cy="29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-360" y="2153880"/>
            <a:ext cx="13952520" cy="717228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marL="59544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000066"/>
                </a:solidFill>
                <a:latin typeface="Arial"/>
              </a:rPr>
              <a:t>«Я заметил»</a:t>
            </a:r>
            <a:endParaRPr b="0" lang="en-US" sz="6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just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Давай проверим кто из нас самый внимательный. Будем называть предметы, мимо которых мы проходим, а еще обязательно укажем какие они. Вот почтовый ящик – он синий. Я заметил кошку – она пушистая. Ребенок и взрослый могут называть увиденные объекты по очереди.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32" name="Picture 8" descr="Картинка 21 из 765"/>
          <p:cNvPicPr/>
          <p:nvPr/>
        </p:nvPicPr>
        <p:blipFill>
          <a:blip r:embed="rId1"/>
          <a:stretch/>
        </p:blipFill>
        <p:spPr>
          <a:xfrm>
            <a:off x="10831680" y="378000"/>
            <a:ext cx="3232080" cy="342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-360" y="2719440"/>
            <a:ext cx="13501800" cy="663408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marL="59544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000066"/>
                </a:solidFill>
                <a:latin typeface="Arial"/>
              </a:rPr>
              <a:t>«Приготовим сок»</a:t>
            </a:r>
            <a:endParaRPr b="0" lang="en-US" sz="6200" spc="-1" strike="noStrike">
              <a:solidFill>
                <a:srgbClr val="0066ff"/>
              </a:solidFill>
              <a:latin typeface="Arial"/>
            </a:endParaRPr>
          </a:p>
          <a:p>
            <a:pPr marL="5954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Из яблок…(яблочный); из груш…(грушевый); из моркови, сливы, вишни, апельсина, лимона и т.п.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marL="5954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Справились? А теперь наоборот : апельсиновый сок из чего? И т.д.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34" name="Picture 5" descr="0_54574_f703ed54_XL"/>
          <p:cNvPicPr/>
          <p:nvPr/>
        </p:nvPicPr>
        <p:blipFill>
          <a:blip r:embed="rId1"/>
          <a:stretch/>
        </p:blipFill>
        <p:spPr>
          <a:xfrm>
            <a:off x="10576080" y="5981760"/>
            <a:ext cx="351288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12320" y="2236320"/>
            <a:ext cx="12601800" cy="711684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marL="595440" indent="0" algn="ctr">
              <a:lnSpc>
                <a:spcPct val="8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000066"/>
                </a:solidFill>
                <a:latin typeface="Arial"/>
              </a:rPr>
              <a:t>«Волшебные очки»</a:t>
            </a:r>
            <a:endParaRPr b="0" lang="en-US" sz="6200" spc="-1" strike="noStrike">
              <a:solidFill>
                <a:srgbClr val="0066ff"/>
              </a:solidFill>
              <a:latin typeface="Arial"/>
            </a:endParaRPr>
          </a:p>
          <a:p>
            <a:pPr marL="5954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«Представь, что у нас есть волшебные очки. Когда их надеваешь, то все становиться красным (синим, зеленым, прозрачным и т.д.).Посмотри вокруг, какого цвета все стало скажи?»(красный   стол и пр.)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36" name="Picture 5" descr="Картинка 31 из 765"/>
          <p:cNvPicPr/>
          <p:nvPr/>
        </p:nvPicPr>
        <p:blipFill>
          <a:blip r:embed="rId1"/>
          <a:stretch/>
        </p:blipFill>
        <p:spPr>
          <a:xfrm>
            <a:off x="11171160" y="836640"/>
            <a:ext cx="2492280" cy="2411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0_4d62d_746d092c_M"/>
          <p:cNvPicPr/>
          <p:nvPr/>
        </p:nvPicPr>
        <p:blipFill>
          <a:blip r:embed="rId2"/>
          <a:stretch/>
        </p:blipFill>
        <p:spPr>
          <a:xfrm>
            <a:off x="4643280" y="7375680"/>
            <a:ext cx="2608560" cy="19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61600" y="2486160"/>
            <a:ext cx="13052520" cy="68673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marL="59544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000066"/>
                </a:solidFill>
                <a:latin typeface="Arial"/>
              </a:rPr>
              <a:t>«Лягушка»</a:t>
            </a:r>
            <a:endParaRPr b="0" lang="en-US" sz="6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just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Выделение звука из ряда гласных: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just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а, и, у, ю, я, э. «Будешь прыгать как лягушка, если услышишь «а», на другие звуки опускаешь низко руки».     По аналогии проводиться игра на другие     гласные звуки. Позже можно проводить     игру на согласные звуки.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39" name="Picture 7" descr="Картинка 103 из 761"/>
          <p:cNvPicPr/>
          <p:nvPr/>
        </p:nvPicPr>
        <p:blipFill>
          <a:blip r:embed="rId1"/>
          <a:stretch/>
        </p:blipFill>
        <p:spPr>
          <a:xfrm>
            <a:off x="10734840" y="1574640"/>
            <a:ext cx="3403440" cy="32893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2437920" y="836640"/>
            <a:ext cx="11160360" cy="153504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66ff"/>
                </a:solidFill>
                <a:latin typeface="Arial"/>
              </a:rPr>
              <a:t>Игры на развитие звуковой культуры речи.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00000" y="2827440"/>
            <a:ext cx="12489120" cy="652608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marL="59544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000066"/>
                </a:solidFill>
                <a:latin typeface="Arial"/>
              </a:rPr>
              <a:t>«Игра с мячом»</a:t>
            </a:r>
            <a:endParaRPr b="0" lang="en-US" sz="6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just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«Я буду называть предметы и бросать тебе мяч. Ты будешь ловить только тогда, когда в слове услышишь звук «ж» (называете любой звук). Если в слове звука нет, то мяч ловить не надо. Начинаем..»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ctr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42" name="Picture 6" descr="i?id=244188485-53-72"/>
          <p:cNvPicPr/>
          <p:nvPr/>
        </p:nvPicPr>
        <p:blipFill>
          <a:blip r:embed="rId1"/>
          <a:stretch/>
        </p:blipFill>
        <p:spPr>
          <a:xfrm>
            <a:off x="10109160" y="544680"/>
            <a:ext cx="391464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18:06:19Z</dcterms:created>
  <dc:creator>кузя</dc:creator>
  <dc:description/>
  <dc:language>en-US</dc:language>
  <cp:lastModifiedBy>дима</cp:lastModifiedBy>
  <dcterms:modified xsi:type="dcterms:W3CDTF">2020-11-24T10:15:52Z</dcterms:modified>
  <cp:revision>19</cp:revision>
  <dc:subject/>
  <dc:title>Презентация для родителей</dc:title>
</cp:coreProperties>
</file>