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205-7739-4DA7-8CE9-B39FE2437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8F4-3210-45F2-87F2-12BCE6FC81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8EA-12EF-4C76-A019-AFF7ED64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234-3F28-4358-9612-E75F2285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85A-6866-4A47-AD0A-CFE60DB6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2F5-A4A9-4BF0-8E9E-1148EF21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BEF-4ED9-414B-B638-68BD5440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0EB4-01AC-464C-9433-FD9F3130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4CF7-378C-45D7-94AD-21C12DC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312-CC7C-4F8C-88EB-5AA3860B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2C9-A476-4071-B0CA-B29CC4A7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26B-3B33-4D9D-B581-95192AD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A4B2-0962-4490-8498-86DD6AA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4C5-FF0C-4057-905A-A1A14F9B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944-9E26-4647-A1A9-FA789F2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695-CC1F-4E7D-AF74-4AD46A0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3F3D-46C4-41F6-B754-5614E84D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240-9D09-4DD6-B742-85D4C60A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A1C2-D14F-40EA-9907-1A698987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1DED-FD5F-479C-BB8E-71CDF66D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5146-118D-4AD3-A060-6DBFA560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1915-222C-418F-9CB2-848FEFB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22E8-B70C-48D9-9A52-EACCDEA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6E0F-AC54-41DD-B5F3-797A64CA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FD0-CEF0-4447-B4AC-D673EA8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4914-7687-4BC8-99DA-3DFB79E0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3761-31B8-4EAE-914E-9CE58C1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7636-3E6D-42F7-86DE-F8D061E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823C-B5DA-4785-87C9-DE82BE4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6F4B-5A87-4148-9747-24C782F7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FCBC-659A-4A06-A8C2-BFB6CB1F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6422-DB92-4AFA-91F0-2134C93E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9494-F2C9-44ED-BFD0-F3B0C75D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75A2-ECFB-4481-941C-64AA47C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B90A-C3C8-4E8D-B531-F959F6F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72A-802F-4E7A-8346-077D6C3B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0609-2D81-494F-B6F0-72F79EB5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A776-B0E5-4E60-A1A5-B50830D7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3D2D-C166-492B-93B9-4DE20D3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52C9-4251-40D7-8114-8357BF93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D923-F5F8-45CC-9B50-3273D80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04BA-4218-4266-9EF5-6FBBA52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8085-A9BE-4EFD-9E84-38393D8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1DB1-D958-48A6-96B4-643324EC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6FFD-BF8A-42DA-B825-AACF1907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54B7-7D31-42B4-BFE0-C72DDD9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027-83A4-4981-8F36-25C73B4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251F-09F9-4622-A854-88BC8C2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8E99-9AD8-4C53-8BA1-99E05E7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1A6A-576B-49E6-9A0B-44F245E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081F-562E-4ABF-A8B2-AF815419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86DC-46E7-42D2-B489-B5596D47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D164-BD8A-4396-8B56-90E32AA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F062-2970-481D-80D1-037FC43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B4B1-7B94-4417-863B-5A609B5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BCFC-8AC4-4A6D-BB0D-8142AF5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46F5-F03A-432B-98BC-104C5968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594-574A-407A-844A-D7B1245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02C2-4748-4DDC-838A-555D7E5D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F6741-55DE-49C0-B23C-FA3391DD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49DA9-42E6-4DDE-A67E-C175469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1AC0-4123-4E82-8658-A8B5343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0B64D-0472-421F-9BD1-608682BE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D7D5-00F8-4744-8560-A5AD3354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EA99-2E28-4158-A4B0-809568B7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985F-E7BB-48E7-9D06-0B3B19B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C7DE-38AD-4377-A4B4-A9CE1887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A9D47-5295-46F5-839A-5126B2F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A13-1B5D-4398-8250-7B55670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2F2E-D25A-4D1F-B8E6-5EAF43F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311E1-5F83-4A77-AC10-A50D7F2E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7419-5ABA-4436-A0DB-09FC87D2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E53-E314-4D0F-8257-6B080D8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E9-E4DF-4F67-8ACC-AFC5E6B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D1A-568C-4078-832C-FB4FC6D63CCE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2000-EE3E-4839-A9B6-6704060363F0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FE6B-F9A8-4F8F-9686-C03C08B2256C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CAF-DCE0-4CFF-8CF8-AB2CA6813675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319-ABFA-4FB3-90CE-4FDB8859BB22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975-C431-4419-8089-4DB16E51F16B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одзаголовок 1" descr=""/>
          <p:cNvPicPr/>
          <p:nvPr/>
        </p:nvPicPr>
        <p:blipFill>
          <a:blip r:embed="rId1"/>
          <a:stretch/>
        </p:blipFill>
        <p:spPr>
          <a:xfrm>
            <a:off x="1908000" y="5834160"/>
            <a:ext cx="6566040" cy="5364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7200" spc="-1" strike="noStrike">
                <a:solidFill>
                  <a:srgbClr val="065218"/>
                </a:solidFill>
                <a:latin typeface="Trebuchet MS"/>
              </a:rPr>
              <a:t>КАКТУСЫ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2" descr="Картинка 9 из 96573"/>
          <p:cNvPicPr/>
          <p:nvPr/>
        </p:nvPicPr>
        <p:blipFill>
          <a:blip r:embed="rId2"/>
          <a:stretch/>
        </p:blipFill>
        <p:spPr>
          <a:xfrm>
            <a:off x="2571840" y="357120"/>
            <a:ext cx="5715000" cy="3800520"/>
          </a:xfrm>
          <a:prstGeom prst="rect">
            <a:avLst/>
          </a:prstGeom>
          <a:ln w="76320">
            <a:solidFill>
              <a:srgbClr val="bdec4a"/>
            </a:solidFill>
            <a:miter/>
          </a:ln>
        </p:spPr>
      </p:pic>
      <p:sp>
        <p:nvSpPr>
          <p:cNvPr id="283" name="Rectangle 1"/>
          <p:cNvSpPr/>
          <p:nvPr/>
        </p:nvSpPr>
        <p:spPr>
          <a:xfrm>
            <a:off x="0" y="556920"/>
            <a:ext cx="17859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Times New Roman"/>
              </a:rPr>
              <a:t>МАОУ «Закалтусная Н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Автор проек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ученица 2 класса Черных Лю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Руководитель проект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3b12"/>
                </a:solidFill>
                <a:latin typeface="Arial"/>
                <a:ea typeface="Arial"/>
              </a:rPr>
              <a:t>Е.А. Хаблак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99840" y="213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b435"/>
                </a:solidFill>
                <a:latin typeface="Trebuchet MS"/>
              </a:rPr>
              <a:t>ИРКУТСКИЙ БОТАНИЧЕСКИЙ САД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0" y="164304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http://www.gazetairkutsk.ru/wp-content/uploads/2010/04/DSCN1601-300x225.jpg"/>
          <p:cNvPicPr/>
          <p:nvPr/>
        </p:nvPicPr>
        <p:blipFill>
          <a:blip r:embed="rId1"/>
          <a:stretch/>
        </p:blipFill>
        <p:spPr>
          <a:xfrm>
            <a:off x="357120" y="1857240"/>
            <a:ext cx="3643560" cy="278604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sp>
        <p:nvSpPr>
          <p:cNvPr id="345" name="Прямоугольник 4"/>
          <p:cNvSpPr/>
          <p:nvPr/>
        </p:nvSpPr>
        <p:spPr>
          <a:xfrm>
            <a:off x="4357800" y="1857240"/>
            <a:ext cx="4500360" cy="2857680"/>
          </a:xfrm>
          <a:prstGeom prst="rect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i-main-pic" descr="Картинка 1 из 151"/>
          <p:cNvPicPr/>
          <p:nvPr/>
        </p:nvPicPr>
        <p:blipFill>
          <a:blip r:embed="rId2"/>
          <a:stretch/>
        </p:blipFill>
        <p:spPr>
          <a:xfrm>
            <a:off x="4357800" y="1857240"/>
            <a:ext cx="450036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Блок-схема: альтернативный процесс 6"/>
          <p:cNvSpPr/>
          <p:nvPr/>
        </p:nvSpPr>
        <p:spPr>
          <a:xfrm>
            <a:off x="785880" y="5214960"/>
            <a:ext cx="7858080" cy="1285920"/>
          </a:xfrm>
          <a:prstGeom prst="flowChartAlternate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b0d"/>
                </a:solidFill>
                <a:latin typeface="Calibri"/>
              </a:rPr>
              <a:t>Цветущие кактусы поднимут вам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770d"/>
                </a:solidFill>
                <a:latin typeface="Trebuchet MS"/>
              </a:rPr>
              <a:t>КАКТУСЫ ВДОХНОВЛЯЮТ ЧЕЛОВЕКА НА ПОЭЗИЮ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Блок-схема: процесс 3"/>
          <p:cNvSpPr/>
          <p:nvPr/>
        </p:nvSpPr>
        <p:spPr>
          <a:xfrm>
            <a:off x="571680" y="2286000"/>
            <a:ext cx="3929040" cy="371484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-main-pic" descr="Картинка 108 из 32802"/>
          <p:cNvPicPr/>
          <p:nvPr/>
        </p:nvPicPr>
        <p:blipFill>
          <a:blip r:embed="rId1"/>
          <a:stretch/>
        </p:blipFill>
        <p:spPr>
          <a:xfrm>
            <a:off x="571680" y="2286000"/>
            <a:ext cx="3929040" cy="3714840"/>
          </a:xfrm>
          <a:prstGeom prst="rect">
            <a:avLst/>
          </a:prstGeom>
          <a:ln w="0">
            <a:noFill/>
          </a:ln>
        </p:spPr>
      </p:pic>
      <p:sp>
        <p:nvSpPr>
          <p:cNvPr id="352" name="Блок-схема: процесс 6"/>
          <p:cNvSpPr/>
          <p:nvPr/>
        </p:nvSpPr>
        <p:spPr>
          <a:xfrm>
            <a:off x="4643280" y="2000160"/>
            <a:ext cx="3929400" cy="42865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Ёжик Кактус повстречал,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Ёжик Кактусу сказал: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— Отчего позеленел?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Крокодила, поди, съе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Кактус Ёжику своё: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— Серым стал ты отчего?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Видно, солнечных лучей</a:t>
            </a:r>
            <a:br>
              <a:rPr sz="1800"/>
            </a:br>
            <a:r>
              <a:rPr b="0" lang="ru-RU" sz="1800" spc="-1" strike="noStrike">
                <a:solidFill>
                  <a:srgbClr val="6c6d6d"/>
                </a:solidFill>
                <a:latin typeface="Calibri"/>
                <a:ea typeface="Times New Roman"/>
              </a:rPr>
              <a:t>Не хватает для 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5359320" y="2571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5072040" y="20718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545b0d"/>
                </a:solidFill>
                <a:latin typeface="Calibri"/>
              </a:rPr>
              <a:t>Ежик и как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6143760" y="5429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b0d"/>
                </a:solidFill>
                <a:latin typeface="Calibri"/>
              </a:rPr>
              <a:t>Татьяна Марш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770d"/>
                </a:solidFill>
                <a:latin typeface="Trebuchet MS"/>
              </a:rPr>
              <a:t>ЛЮДИ СОЧИНЯЮТ ПРО КАКТУСЫ АНЕКДОТ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Блок-схема: процесс 3"/>
          <p:cNvSpPr/>
          <p:nvPr/>
        </p:nvSpPr>
        <p:spPr>
          <a:xfrm>
            <a:off x="0" y="1714680"/>
            <a:ext cx="9144000" cy="5143320"/>
          </a:xfrm>
          <a:prstGeom prst="flowChartProcess">
            <a:avLst/>
          </a:prstGeom>
          <a:solidFill>
            <a:srgbClr val="ffffff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4"/>
          <p:cNvSpPr/>
          <p:nvPr/>
        </p:nvSpPr>
        <p:spPr>
          <a:xfrm>
            <a:off x="285840" y="2000160"/>
            <a:ext cx="8572320" cy="457200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Блок-схема: процесс 6"/>
          <p:cNvSpPr/>
          <p:nvPr/>
        </p:nvSpPr>
        <p:spPr>
          <a:xfrm>
            <a:off x="571680" y="2214720"/>
            <a:ext cx="3429000" cy="40003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Блок-схема: процесс 7"/>
          <p:cNvSpPr/>
          <p:nvPr/>
        </p:nvSpPr>
        <p:spPr>
          <a:xfrm>
            <a:off x="4786200" y="2286000"/>
            <a:ext cx="3643560" cy="192888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-main-pic" descr="Картинка 80 из 14347"/>
          <p:cNvPicPr/>
          <p:nvPr/>
        </p:nvPicPr>
        <p:blipFill>
          <a:blip r:embed="rId1"/>
          <a:stretch/>
        </p:blipFill>
        <p:spPr>
          <a:xfrm>
            <a:off x="642960" y="228600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4857840" y="242892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Обь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Отдам кактус в хороши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97923"/>
                </a:solidFill>
                <a:latin typeface="Calibri"/>
              </a:rPr>
              <a:t>Приучен к гор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7923"/>
                </a:solidFill>
                <a:latin typeface="Trebuchet MS"/>
              </a:rPr>
              <a:t>КАКТУСЫ ЯВЛЯЮТСЯ ПРЕДМЕТОМ ТВОРЧЕСТВ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Блок-схема: процесс 2"/>
          <p:cNvSpPr/>
          <p:nvPr/>
        </p:nvSpPr>
        <p:spPr>
          <a:xfrm>
            <a:off x="142920" y="1785960"/>
            <a:ext cx="2714760" cy="314316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Блок-схема: процесс 3"/>
          <p:cNvSpPr/>
          <p:nvPr/>
        </p:nvSpPr>
        <p:spPr>
          <a:xfrm>
            <a:off x="3071880" y="3071880"/>
            <a:ext cx="2857320" cy="328608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Блок-схема: процесс 5"/>
          <p:cNvSpPr/>
          <p:nvPr/>
        </p:nvSpPr>
        <p:spPr>
          <a:xfrm>
            <a:off x="6143760" y="1785960"/>
            <a:ext cx="2857320" cy="314316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-main-pic" descr="Картинка 34 из 118"/>
          <p:cNvPicPr/>
          <p:nvPr/>
        </p:nvPicPr>
        <p:blipFill>
          <a:blip r:embed="rId1"/>
          <a:stretch/>
        </p:blipFill>
        <p:spPr>
          <a:xfrm>
            <a:off x="571680" y="2214720"/>
            <a:ext cx="1780920" cy="21621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0" descr="http://pan-as.3dn.ru/_ld/9/s23762343.jpg"/>
          <p:cNvPicPr/>
          <p:nvPr/>
        </p:nvPicPr>
        <p:blipFill>
          <a:blip r:embed="rId2"/>
          <a:stretch/>
        </p:blipFill>
        <p:spPr>
          <a:xfrm>
            <a:off x="3429000" y="3571920"/>
            <a:ext cx="2171880" cy="21621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7" descr="http://www.podelkidoma.ru/sites/default/files/PICT5957a.jpg"/>
          <p:cNvPicPr/>
          <p:nvPr/>
        </p:nvPicPr>
        <p:blipFill>
          <a:blip r:embed="rId3"/>
          <a:stretch/>
        </p:blipFill>
        <p:spPr>
          <a:xfrm>
            <a:off x="6786720" y="2286000"/>
            <a:ext cx="161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Блок-схема: процесс 1"/>
          <p:cNvSpPr/>
          <p:nvPr/>
        </p:nvSpPr>
        <p:spPr>
          <a:xfrm>
            <a:off x="0" y="1714680"/>
            <a:ext cx="9144000" cy="51433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Блок-схема: процесс 2"/>
          <p:cNvSpPr/>
          <p:nvPr/>
        </p:nvSpPr>
        <p:spPr>
          <a:xfrm>
            <a:off x="1857240" y="0"/>
            <a:ext cx="7286760" cy="164304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Блок-схема: процесс 3"/>
          <p:cNvSpPr/>
          <p:nvPr/>
        </p:nvSpPr>
        <p:spPr>
          <a:xfrm>
            <a:off x="0" y="1428840"/>
            <a:ext cx="9144000" cy="4929120"/>
          </a:xfrm>
          <a:prstGeom prst="flowChartProcess">
            <a:avLst/>
          </a:prstGeom>
          <a:solidFill>
            <a:srgbClr val="8fcb17"/>
          </a:solidFill>
          <a:ln w="50760">
            <a:solidFill>
              <a:srgbClr val="82a3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500040" y="1785960"/>
            <a:ext cx="792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97923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65218"/>
                </a:solidFill>
                <a:latin typeface="Trebuchet MS"/>
              </a:rPr>
              <a:t>     </a:t>
            </a:r>
            <a:r>
              <a:rPr b="0" lang="ru-RU" sz="5400" spc="-1" strike="noStrike">
                <a:solidFill>
                  <a:srgbClr val="065218"/>
                </a:solidFill>
                <a:latin typeface="Trebuchet MS"/>
              </a:rPr>
              <a:t>ВВЕДЕНИЕ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0" y="1714680"/>
            <a:ext cx="9144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" descr="C:\Users\user\Desktop\кактус.jpg"/>
          <p:cNvPicPr/>
          <p:nvPr/>
        </p:nvPicPr>
        <p:blipFill>
          <a:blip r:embed="rId1"/>
          <a:stretch/>
        </p:blipFill>
        <p:spPr>
          <a:xfrm>
            <a:off x="5643720" y="2143080"/>
            <a:ext cx="3071520" cy="4429080"/>
          </a:xfrm>
          <a:prstGeom prst="rect">
            <a:avLst/>
          </a:prstGeom>
          <a:ln w="57240">
            <a:solidFill>
              <a:srgbClr val="769f11"/>
            </a:solidFill>
            <a:miter/>
          </a:ln>
        </p:spPr>
      </p:pic>
      <p:sp>
        <p:nvSpPr>
          <p:cNvPr id="287" name="Скругленный прямоугольник 11"/>
          <p:cNvSpPr/>
          <p:nvPr/>
        </p:nvSpPr>
        <p:spPr>
          <a:xfrm>
            <a:off x="357120" y="1857240"/>
            <a:ext cx="4714920" cy="471492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500040" y="2000160"/>
            <a:ext cx="442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5218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Ц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Доказать, что выращивание кактусов не только увлечение, но и польза для здоровья, настроения и аппетита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чить литературу по теме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ть как кактусы влияют на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ить причину влияния кактусов на человека, проанализировав их влия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 здоровье, настроение и аппет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28520" y="21384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65218"/>
                </a:solidFill>
                <a:latin typeface="Trebuchet MS"/>
              </a:rPr>
              <a:t>КТО ТАКИЕ КАКТУСЫ?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0" y="1643040"/>
            <a:ext cx="9144000" cy="49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актусы - это семейство многолет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c3b12"/>
                </a:solidFill>
                <a:latin typeface="Calibri"/>
              </a:rPr>
              <a:t>травянистых двудольных растений, относящихся к группе стеблевых суккул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Картинка 15 из 96403"/>
          <p:cNvPicPr/>
          <p:nvPr/>
        </p:nvPicPr>
        <p:blipFill>
          <a:blip r:embed="rId1"/>
          <a:stretch/>
        </p:blipFill>
        <p:spPr>
          <a:xfrm>
            <a:off x="2286000" y="1857240"/>
            <a:ext cx="4357800" cy="373860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Картинка 193 из 1401"/>
          <p:cNvPicPr/>
          <p:nvPr/>
        </p:nvPicPr>
        <p:blipFill>
          <a:blip r:embed="rId1"/>
          <a:stretch/>
        </p:blipFill>
        <p:spPr>
          <a:xfrm>
            <a:off x="4000680" y="3857760"/>
            <a:ext cx="3286080" cy="300024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Картинка 89 из 91399"/>
          <p:cNvPicPr/>
          <p:nvPr/>
        </p:nvPicPr>
        <p:blipFill>
          <a:blip r:embed="rId2"/>
          <a:stretch/>
        </p:blipFill>
        <p:spPr>
          <a:xfrm>
            <a:off x="4643280" y="1714680"/>
            <a:ext cx="2500560" cy="2395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5600" y="22824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КАКИЕ БЫВАЮТ КАКТУСЫ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Стрелка вправо 8"/>
          <p:cNvSpPr/>
          <p:nvPr/>
        </p:nvSpPr>
        <p:spPr>
          <a:xfrm>
            <a:off x="0" y="2000160"/>
            <a:ext cx="2143080" cy="171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право 9"/>
          <p:cNvSpPr/>
          <p:nvPr/>
        </p:nvSpPr>
        <p:spPr>
          <a:xfrm>
            <a:off x="0" y="4643280"/>
            <a:ext cx="2143080" cy="17859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-71280" y="25718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Эхинопс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-71280" y="52862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Мамилля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4500720" y="1500120"/>
            <a:ext cx="71280" cy="5357880"/>
          </a:xfrm>
          <a:prstGeom prst="rect">
            <a:avLst/>
          </a:prstGeom>
          <a:solidFill>
            <a:srgbClr val="97c644"/>
          </a:solidFill>
          <a:ln w="9360">
            <a:solidFill>
              <a:srgbClr val="97c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трелка влево 13"/>
          <p:cNvSpPr/>
          <p:nvPr/>
        </p:nvSpPr>
        <p:spPr>
          <a:xfrm>
            <a:off x="7072200" y="2071800"/>
            <a:ext cx="2071800" cy="1500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лево 14"/>
          <p:cNvSpPr/>
          <p:nvPr/>
        </p:nvSpPr>
        <p:spPr>
          <a:xfrm>
            <a:off x="7072200" y="4714920"/>
            <a:ext cx="2071800" cy="1500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7215120" y="2571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Опу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7143840" y="52149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Цере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Картинка 12 из 9726"/>
          <p:cNvPicPr/>
          <p:nvPr/>
        </p:nvPicPr>
        <p:blipFill>
          <a:blip r:embed="rId3"/>
          <a:stretch/>
        </p:blipFill>
        <p:spPr>
          <a:xfrm>
            <a:off x="2286000" y="2000160"/>
            <a:ext cx="1876320" cy="2071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Картинка 144 из 1806"/>
          <p:cNvPicPr/>
          <p:nvPr/>
        </p:nvPicPr>
        <p:blipFill>
          <a:blip r:embed="rId4"/>
          <a:stretch/>
        </p:blipFill>
        <p:spPr>
          <a:xfrm>
            <a:off x="2214720" y="4500720"/>
            <a:ext cx="220176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Картинка 75 из 1012"/>
          <p:cNvPicPr/>
          <p:nvPr/>
        </p:nvPicPr>
        <p:blipFill>
          <a:blip r:embed="rId1"/>
          <a:stretch/>
        </p:blipFill>
        <p:spPr>
          <a:xfrm>
            <a:off x="4286160" y="1714680"/>
            <a:ext cx="3143520" cy="3219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364 из 659"/>
          <p:cNvPicPr/>
          <p:nvPr/>
        </p:nvPicPr>
        <p:blipFill>
          <a:blip r:embed="rId2"/>
          <a:stretch/>
        </p:blipFill>
        <p:spPr>
          <a:xfrm>
            <a:off x="4929120" y="4786200"/>
            <a:ext cx="2071800" cy="19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Картинка 404 из 1535"/>
          <p:cNvPicPr/>
          <p:nvPr/>
        </p:nvPicPr>
        <p:blipFill>
          <a:blip r:embed="rId3"/>
          <a:stretch/>
        </p:blipFill>
        <p:spPr>
          <a:xfrm>
            <a:off x="2143080" y="1643040"/>
            <a:ext cx="2428920" cy="2595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КАКИЕ БЫВАЮТ КАКТУСЫ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Стрелка вправо 3"/>
          <p:cNvSpPr/>
          <p:nvPr/>
        </p:nvSpPr>
        <p:spPr>
          <a:xfrm>
            <a:off x="0" y="2286000"/>
            <a:ext cx="2357280" cy="16430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право 4"/>
          <p:cNvSpPr/>
          <p:nvPr/>
        </p:nvSpPr>
        <p:spPr>
          <a:xfrm>
            <a:off x="0" y="4643280"/>
            <a:ext cx="2357280" cy="16434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лево 5"/>
          <p:cNvSpPr/>
          <p:nvPr/>
        </p:nvSpPr>
        <p:spPr>
          <a:xfrm>
            <a:off x="7000920" y="2357280"/>
            <a:ext cx="2143080" cy="150048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лево 6"/>
          <p:cNvSpPr/>
          <p:nvPr/>
        </p:nvSpPr>
        <p:spPr>
          <a:xfrm>
            <a:off x="7000920" y="4714920"/>
            <a:ext cx="2143080" cy="150012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4500720" y="1500120"/>
            <a:ext cx="71280" cy="5357880"/>
          </a:xfrm>
          <a:prstGeom prst="rect">
            <a:avLst/>
          </a:prstGeom>
          <a:solidFill>
            <a:srgbClr val="97c644"/>
          </a:solidFill>
          <a:ln w="9360">
            <a:solidFill>
              <a:srgbClr val="97c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0" y="2786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Эпифилл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0" y="52149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Зигокакт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7286760" y="2786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Рипсал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7215120" y="52149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</a:t>
            </a:r>
            <a:r>
              <a:rPr b="0" lang="ru-RU" sz="2800" spc="-1" strike="noStrike">
                <a:solidFill>
                  <a:srgbClr val="065218"/>
                </a:solidFill>
                <a:latin typeface="Calibri"/>
                <a:ea typeface="Arial"/>
              </a:rPr>
              <a:t>Переск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Картинка 62 из 2052"/>
          <p:cNvPicPr/>
          <p:nvPr/>
        </p:nvPicPr>
        <p:blipFill>
          <a:blip r:embed="rId4"/>
          <a:stretch/>
        </p:blipFill>
        <p:spPr>
          <a:xfrm>
            <a:off x="2286000" y="4143240"/>
            <a:ext cx="21430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АННЫЕ ОПРОСА РОДСТВЕННИКОВ  И ЗНАКОМЫХ НА 3.12.20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0" y="16430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4"/>
          <p:cNvSpPr/>
          <p:nvPr/>
        </p:nvSpPr>
        <p:spPr>
          <a:xfrm>
            <a:off x="1071720" y="2357280"/>
            <a:ext cx="6929280" cy="278640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1214280" y="271476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 имеют кактус – 2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1 кактус – 5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2 кактуса – 4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3 кактуса -2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еют коллекцию кактусов – 3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го опрошено 16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5600" y="22824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ВЫБОРА КАКТУС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0" y="1643040"/>
            <a:ext cx="9144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5218"/>
                </a:solidFill>
                <a:latin typeface="Calibri"/>
                <a:ea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4"/>
          <p:cNvSpPr/>
          <p:nvPr/>
        </p:nvSpPr>
        <p:spPr>
          <a:xfrm>
            <a:off x="500040" y="1857240"/>
            <a:ext cx="8215200" cy="857520"/>
          </a:xfrm>
          <a:prstGeom prst="roundRect">
            <a:avLst>
              <a:gd name="adj" fmla="val 16667"/>
            </a:avLst>
          </a:prstGeom>
          <a:solidFill>
            <a:srgbClr val="d4e33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5218"/>
                </a:solidFill>
                <a:latin typeface="Calibri"/>
              </a:rPr>
              <a:t>ПРЕДПОЧТЕНИЯ ЛЮДЕЙ В ВЫБОРЕ КАКТУ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5" descr=""/>
          <p:cNvPicPr/>
          <p:nvPr/>
        </p:nvPicPr>
        <p:blipFill>
          <a:blip r:embed="rId1"/>
          <a:stretch/>
        </p:blipFill>
        <p:spPr>
          <a:xfrm>
            <a:off x="928800" y="2928960"/>
            <a:ext cx="7429320" cy="3532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Картинка 97 из 91399"/>
          <p:cNvPicPr/>
          <p:nvPr/>
        </p:nvPicPr>
        <p:blipFill>
          <a:blip r:embed="rId2"/>
          <a:stretch/>
        </p:blipFill>
        <p:spPr>
          <a:xfrm>
            <a:off x="5364000" y="3475080"/>
            <a:ext cx="2554560" cy="262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22824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ВЛИЯНИЯ КАКТУСОВ НА ЗДОРОВЬ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7120" y="1785960"/>
          <a:ext cx="5500800" cy="4751280"/>
        </p:xfrm>
        <a:graphic>
          <a:graphicData uri="http://schemas.openxmlformats.org/drawingml/2006/table">
            <a:tbl>
              <a:tblPr/>
              <a:tblGrid>
                <a:gridCol w="1265400"/>
                <a:gridCol w="423540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33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336"/>
                    </a:solidFill>
                  </a:tcPr>
                </a:tc>
              </a:tr>
              <a:tr h="84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АЛО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Солнечные ожоги, заживление ран, увлажнение кожи, лечение волос, стоматит, кашель, лечение желудка, насмор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АГ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Ушибы, зубная боль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МОЛОЧ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ожные заболевания, борьба с кишечными паразита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АЛАНХО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станавливает кровь, заживление ран, ожогов, насмор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ЧИ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Лечение ран, ожогов, болей в сердц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САНСЕВЬ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От боли в ушах, от зуда, от головной боли, при слаб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ТОЛСТЯ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При ангине, заживление ра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КАКТ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65218"/>
                          </a:solidFill>
                          <a:latin typeface="Arial"/>
                          <a:ea typeface="Times New Roman"/>
                        </a:rPr>
                        <a:t>При ангине, авитаминозе, гриппе, насморке, ячмен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Picture 2" descr="Картинка 8 из 95919"/>
          <p:cNvPicPr/>
          <p:nvPr/>
        </p:nvPicPr>
        <p:blipFill>
          <a:blip r:embed="rId1"/>
          <a:stretch/>
        </p:blipFill>
        <p:spPr>
          <a:xfrm>
            <a:off x="6072120" y="1928880"/>
            <a:ext cx="272412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5600" y="228600"/>
            <a:ext cx="7358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5218"/>
                </a:solidFill>
                <a:latin typeface="Trebuchet MS"/>
              </a:rPr>
              <a:t>АНАЛИЗ РОЛИ КАКТУСОВ В ПИТАНИИ ЧЕЛОВЕ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0" y="164304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34" descr="Кактус, блюжа из кактуса"/>
          <p:cNvPicPr/>
          <p:nvPr/>
        </p:nvPicPr>
        <p:blipFill>
          <a:blip r:embed="rId1"/>
          <a:stretch/>
        </p:blipFill>
        <p:spPr>
          <a:xfrm>
            <a:off x="1143000" y="2428920"/>
            <a:ext cx="2357280" cy="157176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pic>
        <p:nvPicPr>
          <p:cNvPr id="338" name="Рисунок 45" descr="http://www.rio-grandeirk.ru/images/57.jpg"/>
          <p:cNvPicPr/>
          <p:nvPr/>
        </p:nvPicPr>
        <p:blipFill>
          <a:blip r:embed="rId2"/>
          <a:stretch/>
        </p:blipFill>
        <p:spPr>
          <a:xfrm>
            <a:off x="4857840" y="2428920"/>
            <a:ext cx="2500200" cy="1571760"/>
          </a:xfrm>
          <a:prstGeom prst="rect">
            <a:avLst/>
          </a:prstGeom>
          <a:ln w="57240">
            <a:solidFill>
              <a:srgbClr val="0c8228"/>
            </a:solidFill>
            <a:miter/>
          </a:ln>
        </p:spPr>
      </p:pic>
      <p:sp>
        <p:nvSpPr>
          <p:cNvPr id="339" name="Скругленный прямоугольник 5"/>
          <p:cNvSpPr/>
          <p:nvPr/>
        </p:nvSpPr>
        <p:spPr>
          <a:xfrm>
            <a:off x="285840" y="1714680"/>
            <a:ext cx="8429400" cy="571320"/>
          </a:xfrm>
          <a:prstGeom prst="roundRect">
            <a:avLst>
              <a:gd name="adj" fmla="val 16667"/>
            </a:avLst>
          </a:prstGeom>
          <a:solidFill>
            <a:srgbClr val="e5ee8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81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6b9811"/>
                </a:solidFill>
                <a:latin typeface="Calibri"/>
              </a:rPr>
              <a:t>В Мексик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унцию маринуют, жарят, варят из нее варенье, и даже делают кактусовую в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6"/>
          <p:cNvSpPr/>
          <p:nvPr/>
        </p:nvSpPr>
        <p:spPr>
          <a:xfrm>
            <a:off x="357120" y="4214880"/>
            <a:ext cx="8358120" cy="2500200"/>
          </a:xfrm>
          <a:prstGeom prst="roundRect">
            <a:avLst>
              <a:gd name="adj" fmla="val 16667"/>
            </a:avLst>
          </a:prstGeom>
          <a:solidFill>
            <a:srgbClr val="e5ee86"/>
          </a:solidFill>
          <a:ln w="9360">
            <a:solidFill>
              <a:srgbClr val="dbe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28760" y="4406400"/>
            <a:ext cx="842940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811"/>
                </a:solidFill>
                <a:latin typeface="Calibri"/>
                <a:ea typeface="Times New Roman"/>
              </a:rPr>
              <a:t>В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811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унцию используют в маринова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В ресторане «</a:t>
            </a:r>
            <a:r>
              <a:rPr b="0" lang="en-US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RIO GRANDE</a:t>
            </a:r>
            <a:r>
              <a:rPr b="0" lang="ru-RU" sz="1400" spc="-1" strike="noStrike">
                <a:solidFill>
                  <a:srgbClr val="065218"/>
                </a:solidFill>
                <a:latin typeface="Calibri"/>
                <a:ea typeface="Times New Roman"/>
              </a:rPr>
              <a:t>» мне предлож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Наполи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Маринованный кактус «Наполитос», помидор, перец болгарский, кукуруза, креветки. Украшается помидором, дольками лимона, масл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Эстофадо Кон Как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270c"/>
                </a:solidFill>
                <a:latin typeface="Calibri"/>
                <a:ea typeface="Arial"/>
              </a:rPr>
              <a:t>Говядина тушённая с кактусом, под острым  соусом. Говяжья вырезка, маринованный кактус «Наполитос», перец Холопеньо, соус «Мексиканский», помидор, лук, масло растительное. Подаётся с соусами «Пико де Гайо», «Сальса кукурузная». </a:t>
            </a:r>
            <a:r>
              <a:rPr b="0" lang="ru-RU" sz="1000" spc="-1" strike="noStrike">
                <a:solidFill>
                  <a:srgbClr val="1d270c"/>
                </a:solidFill>
                <a:latin typeface="Calibri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0:51:20Z</dcterms:created>
  <dc:creator>user</dc:creator>
  <dc:description/>
  <dc:language>en-US</dc:language>
  <cp:lastModifiedBy>User</cp:lastModifiedBy>
  <dcterms:modified xsi:type="dcterms:W3CDTF">2020-11-15T09:21:55Z</dcterms:modified>
  <cp:revision>62</cp:revision>
  <dc:subject/>
  <dc:title>КАКТУСЫ</dc:title>
</cp:coreProperties>
</file>