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48F2-1754-42E9-9068-B2F2CCD9CC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8B55-E801-4A9F-AB2B-C2BD5D30DE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F92-FC09-476E-99E8-FDFADCA8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954-96E6-445F-9350-99552BD5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75C-EE40-4589-92F0-D140D962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FB3-3918-43C7-B4C9-C4E46DC1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5D9A-1B7E-4E65-8B8F-597F6D44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DEED-B271-4E36-8835-EB80EDFB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AB78-17BD-4A96-BF69-E741B215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DE2D-C6EB-4870-8F5D-C3D98B18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5EC6-FCB6-4EE6-B662-6193511C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F71E-90A3-43F9-814F-DD04C4E6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185D-DCA9-4785-8D7C-7A0336D6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EA4-E31C-46BA-A74F-01515F4F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DBC3-6F9E-4195-B0E4-45A10092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1BC9-EA0D-4281-B980-48E5171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3E35-F886-4834-8881-39779C34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576C-CAFF-48F5-890E-D0CDD8F4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31BE-192F-46B7-B06F-9D160525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DCBD-5B3A-4532-BB6C-BA59994E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3D03-FA96-49AF-8821-CD8B6B10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D6A12-673A-4B19-9F31-91509B75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D817-2052-46B3-97D5-95FBBD56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160A-9AF4-4BFB-8C0F-9E04D552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C2D-184A-47E5-9078-66A01950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E77B-2ED9-4B3B-B27D-2568FB2F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0658-79E8-4A15-A9BE-8639E459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F777-272D-44B9-B2D1-0C3D0D4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AAD02-FDAA-4C90-95FB-EC5A2E36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DBE5-BB32-4E48-B756-B722F916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EDEE-EFDC-4494-9DC9-3A7C01BF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23B1-B3FA-4808-BD44-F15135A6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0CBD-7A36-4D4A-BFBE-C8B1D897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41AD8-4996-4F04-8D66-122D6139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3FC1-4EBA-47E9-800C-EAAF6E3C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E78-F1EB-4D91-8987-F189CE14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1EA7-16AB-4A45-AB9E-1BC10CAE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E1A7-DF4C-49A7-813A-59ADA622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0953-4611-427F-AC75-8D6F09B6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89080-DB9F-4648-A2AB-DB8D5C36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B3F5F-FFF6-4F5E-98FA-EFD5655A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21A8-12B8-4029-A231-1B66385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E9982-3389-428F-B4D6-C3C4B36C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1A79-F8B6-4DB5-9F6B-68744805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A5F1C-8356-48AB-87CE-524FC76E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A75A3-CEF2-4F59-BE3D-4C65530D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07F-2AE9-41C2-B34A-FE42E46A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9A1F-590B-42AC-A2C1-40C8457B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FCF1-B220-49FB-A1AF-C442A714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E7DC-405C-48DE-A36E-46CFEA26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6F25-A1F6-4C50-B40C-17C8BEEE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D5ECE-991C-40CC-8AF4-3DC6E187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5F9B2-D192-4285-A1E8-FF08CED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FE32F-4DFA-4EB1-8BDF-1834F738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B2AC-7DDB-4FD8-AE78-083E42AA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BB8C1-099C-4A86-A688-5242E2DE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90B9-83B1-47F4-A114-C947BD9A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A32-48C3-45EB-91AA-E43F53C0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BF355-855D-4708-AC23-B1DA7483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F9E1C-64AC-4AC5-B522-D32DF9FB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FB24F-0BDD-4689-844A-7154953E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4C1E4-8536-41C0-9EE7-32F574DE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FFD1-94C5-40D5-B8A5-FE160D1D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C6622-FDC1-403D-89EE-A1B1D9EB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B8EAF-EC97-47F8-A554-2B40430F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235BD-B30F-491D-9ABA-A8132D27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DDB09-B3C9-48C6-9ABB-08FE13A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6CD3C-DF61-449A-8DA5-0753D8D0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F51-2ABF-4D47-A3AF-087EF39E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AF14-E7C2-42BC-85D5-6F69D31D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A5961-8373-4920-A754-DC0C21A3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7DFF-C7AC-4C1B-A26B-383B037A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D9B-32C5-41FF-A0D0-58F90BC9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8EB-885C-4A50-A1AB-7307854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F4B4-FC38-4D70-BE68-A85E4F197E3E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5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4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2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DB41-F8AA-45FE-A1BA-8BB8E8A73B84}" type="slidenum"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6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8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E650-83CC-426E-9E27-EEC57DB37A02}" type="slidenum"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8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06CF-AA65-45C2-A63A-0E104E0F1DEA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8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521E-91F0-488B-946D-E6A309B8B56E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8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0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3145-71B3-48A1-B8FF-57D44DA42518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Подзаголовок 1" descr=""/>
          <p:cNvPicPr/>
          <p:nvPr/>
        </p:nvPicPr>
        <p:blipFill>
          <a:blip r:embed="rId1"/>
          <a:stretch/>
        </p:blipFill>
        <p:spPr>
          <a:xfrm>
            <a:off x="1908000" y="5834160"/>
            <a:ext cx="6566040" cy="5364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7200" spc="-1" strike="noStrike">
                <a:solidFill>
                  <a:srgbClr val="065218"/>
                </a:solidFill>
                <a:latin typeface="Trebuchet MS"/>
              </a:rPr>
              <a:t>КАКТУСЫ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2" descr="Картинка 9 из 96573"/>
          <p:cNvPicPr/>
          <p:nvPr/>
        </p:nvPicPr>
        <p:blipFill>
          <a:blip r:embed="rId2"/>
          <a:stretch/>
        </p:blipFill>
        <p:spPr>
          <a:xfrm>
            <a:off x="2571840" y="357120"/>
            <a:ext cx="5715000" cy="3800520"/>
          </a:xfrm>
          <a:prstGeom prst="rect">
            <a:avLst/>
          </a:prstGeom>
          <a:ln w="76320">
            <a:solidFill>
              <a:srgbClr val="bdec4a"/>
            </a:solidFill>
            <a:miter/>
          </a:ln>
        </p:spPr>
      </p:pic>
      <p:sp>
        <p:nvSpPr>
          <p:cNvPr id="283" name="Rectangle 1"/>
          <p:cNvSpPr/>
          <p:nvPr/>
        </p:nvSpPr>
        <p:spPr>
          <a:xfrm>
            <a:off x="0" y="556920"/>
            <a:ext cx="17859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Times New Roman"/>
              </a:rPr>
              <a:t>МАОУ «Закалтусная НОШ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Автор проект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ученица 2 класса Черных Лю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Руководитель проект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Е.А. Хаблак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99840" y="213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b435"/>
                </a:solidFill>
                <a:latin typeface="Trebuchet MS"/>
              </a:rPr>
              <a:t>ИРКУТСКИЙ БОТАНИЧЕСКИЙ САД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0" y="164304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http://www.gazetairkutsk.ru/wp-content/uploads/2010/04/DSCN1601-300x225.jpg"/>
          <p:cNvPicPr/>
          <p:nvPr/>
        </p:nvPicPr>
        <p:blipFill>
          <a:blip r:embed="rId1"/>
          <a:stretch/>
        </p:blipFill>
        <p:spPr>
          <a:xfrm>
            <a:off x="357120" y="1857240"/>
            <a:ext cx="3643560" cy="2786040"/>
          </a:xfrm>
          <a:prstGeom prst="rect">
            <a:avLst/>
          </a:prstGeom>
          <a:ln w="57240">
            <a:solidFill>
              <a:srgbClr val="0c8228"/>
            </a:solidFill>
            <a:miter/>
          </a:ln>
        </p:spPr>
      </p:pic>
      <p:sp>
        <p:nvSpPr>
          <p:cNvPr id="345" name="Прямоугольник 4"/>
          <p:cNvSpPr/>
          <p:nvPr/>
        </p:nvSpPr>
        <p:spPr>
          <a:xfrm>
            <a:off x="4357800" y="1857240"/>
            <a:ext cx="4500360" cy="2857680"/>
          </a:xfrm>
          <a:prstGeom prst="rect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i-main-pic" descr="Картинка 1 из 151"/>
          <p:cNvPicPr/>
          <p:nvPr/>
        </p:nvPicPr>
        <p:blipFill>
          <a:blip r:embed="rId2"/>
          <a:stretch/>
        </p:blipFill>
        <p:spPr>
          <a:xfrm>
            <a:off x="4357800" y="1857240"/>
            <a:ext cx="4500360" cy="2857680"/>
          </a:xfrm>
          <a:prstGeom prst="rect">
            <a:avLst/>
          </a:prstGeom>
          <a:ln w="0">
            <a:noFill/>
          </a:ln>
        </p:spPr>
      </p:pic>
      <p:sp>
        <p:nvSpPr>
          <p:cNvPr id="347" name="Блок-схема: альтернативный процесс 6"/>
          <p:cNvSpPr/>
          <p:nvPr/>
        </p:nvSpPr>
        <p:spPr>
          <a:xfrm>
            <a:off x="785880" y="5214960"/>
            <a:ext cx="7858080" cy="1285920"/>
          </a:xfrm>
          <a:prstGeom prst="flowChartAlternate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b0d"/>
                </a:solidFill>
                <a:latin typeface="Calibri"/>
              </a:rPr>
              <a:t>Цветущие кактусы поднимут вам на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770d"/>
                </a:solidFill>
                <a:latin typeface="Trebuchet MS"/>
              </a:rPr>
              <a:t>КАКТУСЫ ВДОХНОВЛЯЮТ ЧЕЛОВЕКА НА ПОЭЗИЮ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0" y="16430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Блок-схема: процесс 3"/>
          <p:cNvSpPr/>
          <p:nvPr/>
        </p:nvSpPr>
        <p:spPr>
          <a:xfrm>
            <a:off x="571680" y="2286000"/>
            <a:ext cx="3929040" cy="371484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-main-pic" descr="Картинка 108 из 32802"/>
          <p:cNvPicPr/>
          <p:nvPr/>
        </p:nvPicPr>
        <p:blipFill>
          <a:blip r:embed="rId1"/>
          <a:stretch/>
        </p:blipFill>
        <p:spPr>
          <a:xfrm>
            <a:off x="571680" y="2286000"/>
            <a:ext cx="3929040" cy="3714840"/>
          </a:xfrm>
          <a:prstGeom prst="rect">
            <a:avLst/>
          </a:prstGeom>
          <a:ln w="0">
            <a:noFill/>
          </a:ln>
        </p:spPr>
      </p:pic>
      <p:sp>
        <p:nvSpPr>
          <p:cNvPr id="352" name="Блок-схема: процесс 6"/>
          <p:cNvSpPr/>
          <p:nvPr/>
        </p:nvSpPr>
        <p:spPr>
          <a:xfrm>
            <a:off x="4643280" y="2000160"/>
            <a:ext cx="3929400" cy="428652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Ёжик Кактус повстречал,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Ёжик Кактусу сказал: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— Отчего позеленел?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Крокодила, поди, съел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Кактус Ёжику своё: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— Серым стал ты отчего?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Видно, солнечных лучей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Не хватает для е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1"/>
          <p:cNvSpPr/>
          <p:nvPr/>
        </p:nvSpPr>
        <p:spPr>
          <a:xfrm>
            <a:off x="5359320" y="2571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2"/>
          <p:cNvSpPr/>
          <p:nvPr/>
        </p:nvSpPr>
        <p:spPr>
          <a:xfrm>
            <a:off x="5072040" y="20718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800" spc="-1" strike="noStrike">
                <a:solidFill>
                  <a:srgbClr val="545b0d"/>
                </a:solidFill>
                <a:latin typeface="Calibri"/>
              </a:rPr>
              <a:t>Ежик и как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6143760" y="54291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b0d"/>
                </a:solidFill>
                <a:latin typeface="Calibri"/>
              </a:rPr>
              <a:t>Татьяна Марш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770d"/>
                </a:solidFill>
                <a:latin typeface="Trebuchet MS"/>
              </a:rPr>
              <a:t>ЛЮДИ СОЧИНЯЮТ ПРО КАКТУСЫ АНЕКДОТЫ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Блок-схема: процесс 3"/>
          <p:cNvSpPr/>
          <p:nvPr/>
        </p:nvSpPr>
        <p:spPr>
          <a:xfrm>
            <a:off x="0" y="1714680"/>
            <a:ext cx="9144000" cy="5143320"/>
          </a:xfrm>
          <a:prstGeom prst="flowChartProcess">
            <a:avLst/>
          </a:prstGeom>
          <a:solidFill>
            <a:srgbClr val="fffff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4"/>
          <p:cNvSpPr/>
          <p:nvPr/>
        </p:nvSpPr>
        <p:spPr>
          <a:xfrm>
            <a:off x="285840" y="2000160"/>
            <a:ext cx="8572320" cy="457200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Блок-схема: процесс 6"/>
          <p:cNvSpPr/>
          <p:nvPr/>
        </p:nvSpPr>
        <p:spPr>
          <a:xfrm>
            <a:off x="571680" y="2214720"/>
            <a:ext cx="3429000" cy="400032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Блок-схема: процесс 7"/>
          <p:cNvSpPr/>
          <p:nvPr/>
        </p:nvSpPr>
        <p:spPr>
          <a:xfrm>
            <a:off x="4786200" y="2286000"/>
            <a:ext cx="3643560" cy="192888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-main-pic" descr="Картинка 80 из 14347"/>
          <p:cNvPicPr/>
          <p:nvPr/>
        </p:nvPicPr>
        <p:blipFill>
          <a:blip r:embed="rId1"/>
          <a:stretch/>
        </p:blipFill>
        <p:spPr>
          <a:xfrm>
            <a:off x="642960" y="2286000"/>
            <a:ext cx="3286080" cy="38577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0"/>
          <p:cNvSpPr/>
          <p:nvPr/>
        </p:nvSpPr>
        <p:spPr>
          <a:xfrm>
            <a:off x="4857840" y="2428920"/>
            <a:ext cx="35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Обь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Отдам кактус в хороши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Приучен к гор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7923"/>
                </a:solidFill>
                <a:latin typeface="Trebuchet MS"/>
              </a:rPr>
              <a:t>КАКТУСЫ ЯВЛЯЮТСЯ ПРЕДМЕТОМ ТВОРЧЕСТВ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Блок-схема: процесс 2"/>
          <p:cNvSpPr/>
          <p:nvPr/>
        </p:nvSpPr>
        <p:spPr>
          <a:xfrm>
            <a:off x="142920" y="1785960"/>
            <a:ext cx="2714760" cy="314316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Блок-схема: процесс 3"/>
          <p:cNvSpPr/>
          <p:nvPr/>
        </p:nvSpPr>
        <p:spPr>
          <a:xfrm>
            <a:off x="3071880" y="3071880"/>
            <a:ext cx="2857320" cy="328608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Блок-схема: процесс 5"/>
          <p:cNvSpPr/>
          <p:nvPr/>
        </p:nvSpPr>
        <p:spPr>
          <a:xfrm>
            <a:off x="6143760" y="1785960"/>
            <a:ext cx="2857320" cy="314316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-main-pic" descr="Картинка 34 из 118"/>
          <p:cNvPicPr/>
          <p:nvPr/>
        </p:nvPicPr>
        <p:blipFill>
          <a:blip r:embed="rId1"/>
          <a:stretch/>
        </p:blipFill>
        <p:spPr>
          <a:xfrm>
            <a:off x="571680" y="2214720"/>
            <a:ext cx="1780920" cy="216216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0" descr="http://pan-as.3dn.ru/_ld/9/s23762343.jpg"/>
          <p:cNvPicPr/>
          <p:nvPr/>
        </p:nvPicPr>
        <p:blipFill>
          <a:blip r:embed="rId2"/>
          <a:stretch/>
        </p:blipFill>
        <p:spPr>
          <a:xfrm>
            <a:off x="3429000" y="3571920"/>
            <a:ext cx="2171880" cy="216216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7" descr="http://www.podelkidoma.ru/sites/default/files/PICT5957a.jpg"/>
          <p:cNvPicPr/>
          <p:nvPr/>
        </p:nvPicPr>
        <p:blipFill>
          <a:blip r:embed="rId3"/>
          <a:stretch/>
        </p:blipFill>
        <p:spPr>
          <a:xfrm>
            <a:off x="6786720" y="2286000"/>
            <a:ext cx="1618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Блок-схема: процесс 1"/>
          <p:cNvSpPr/>
          <p:nvPr/>
        </p:nvSpPr>
        <p:spPr>
          <a:xfrm>
            <a:off x="0" y="1714680"/>
            <a:ext cx="9144000" cy="514332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Блок-схема: процесс 2"/>
          <p:cNvSpPr/>
          <p:nvPr/>
        </p:nvSpPr>
        <p:spPr>
          <a:xfrm>
            <a:off x="1857240" y="0"/>
            <a:ext cx="7286760" cy="164304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Блок-схема: процесс 3"/>
          <p:cNvSpPr/>
          <p:nvPr/>
        </p:nvSpPr>
        <p:spPr>
          <a:xfrm>
            <a:off x="0" y="1428840"/>
            <a:ext cx="9144000" cy="492912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500040" y="1785960"/>
            <a:ext cx="792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97923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65218"/>
                </a:solidFill>
                <a:latin typeface="Trebuchet MS"/>
              </a:rPr>
              <a:t>     </a:t>
            </a:r>
            <a:r>
              <a:rPr b="0" lang="ru-RU" sz="5400" spc="-1" strike="noStrike">
                <a:solidFill>
                  <a:srgbClr val="065218"/>
                </a:solidFill>
                <a:latin typeface="Trebuchet MS"/>
              </a:rPr>
              <a:t>ВВЕДЕНИЕ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0" y="1714680"/>
            <a:ext cx="9144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1" descr="C:\Users\user\Desktop\кактус.jpg"/>
          <p:cNvPicPr/>
          <p:nvPr/>
        </p:nvPicPr>
        <p:blipFill>
          <a:blip r:embed="rId1"/>
          <a:stretch/>
        </p:blipFill>
        <p:spPr>
          <a:xfrm>
            <a:off x="5643720" y="2143080"/>
            <a:ext cx="3071520" cy="4429080"/>
          </a:xfrm>
          <a:prstGeom prst="rect">
            <a:avLst/>
          </a:prstGeom>
          <a:ln w="57240">
            <a:solidFill>
              <a:srgbClr val="769f11"/>
            </a:solidFill>
            <a:miter/>
          </a:ln>
        </p:spPr>
      </p:pic>
      <p:sp>
        <p:nvSpPr>
          <p:cNvPr id="287" name="Скругленный прямоугольник 11"/>
          <p:cNvSpPr/>
          <p:nvPr/>
        </p:nvSpPr>
        <p:spPr>
          <a:xfrm>
            <a:off x="357120" y="1857240"/>
            <a:ext cx="4714920" cy="4714920"/>
          </a:xfrm>
          <a:prstGeom prst="roundRect">
            <a:avLst>
              <a:gd name="adj" fmla="val 16667"/>
            </a:avLst>
          </a:prstGeom>
          <a:solidFill>
            <a:srgbClr val="d4e336"/>
          </a:solidFill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500040" y="2000160"/>
            <a:ext cx="442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5218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Цель проект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Доказать, что выращивание кактусов не только увлечение, но и польза для здоровья, настроения и аппетита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учить литературу по теме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ть как кактусы влияют на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явить причину влияния кактусов на человека, проанализировав их влия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 здоровье, настроение и аппет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28520" y="213840"/>
            <a:ext cx="70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65218"/>
                </a:solidFill>
                <a:latin typeface="Trebuchet MS"/>
              </a:rPr>
              <a:t>КТО ТАКИЕ КАКТУСЫ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Box 2"/>
          <p:cNvSpPr/>
          <p:nvPr/>
        </p:nvSpPr>
        <p:spPr>
          <a:xfrm>
            <a:off x="0" y="1643040"/>
            <a:ext cx="9144000" cy="49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актусы - это семейство многолетни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c3b12"/>
                </a:solidFill>
                <a:latin typeface="Calibri"/>
              </a:rPr>
              <a:t>травянистых двудольных растений, относящихся к группе стеблевых суккул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Картинка 15 из 96403"/>
          <p:cNvPicPr/>
          <p:nvPr/>
        </p:nvPicPr>
        <p:blipFill>
          <a:blip r:embed="rId1"/>
          <a:stretch/>
        </p:blipFill>
        <p:spPr>
          <a:xfrm>
            <a:off x="2286000" y="1857240"/>
            <a:ext cx="4357800" cy="3738600"/>
          </a:xfrm>
          <a:prstGeom prst="rect">
            <a:avLst/>
          </a:prstGeom>
          <a:ln w="57240">
            <a:solidFill>
              <a:srgbClr val="0c8228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Картинка 193 из 1401"/>
          <p:cNvPicPr/>
          <p:nvPr/>
        </p:nvPicPr>
        <p:blipFill>
          <a:blip r:embed="rId1"/>
          <a:stretch/>
        </p:blipFill>
        <p:spPr>
          <a:xfrm>
            <a:off x="4000680" y="3857760"/>
            <a:ext cx="3286080" cy="300024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Картинка 89 из 91399"/>
          <p:cNvPicPr/>
          <p:nvPr/>
        </p:nvPicPr>
        <p:blipFill>
          <a:blip r:embed="rId2"/>
          <a:stretch/>
        </p:blipFill>
        <p:spPr>
          <a:xfrm>
            <a:off x="4643280" y="1714680"/>
            <a:ext cx="2500560" cy="2395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85600" y="22824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КАКИЕ БЫВАЮТ КАКТУСЫ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Стрелка вправо 8"/>
          <p:cNvSpPr/>
          <p:nvPr/>
        </p:nvSpPr>
        <p:spPr>
          <a:xfrm>
            <a:off x="0" y="2000160"/>
            <a:ext cx="2143080" cy="171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трелка вправо 9"/>
          <p:cNvSpPr/>
          <p:nvPr/>
        </p:nvSpPr>
        <p:spPr>
          <a:xfrm>
            <a:off x="0" y="4643280"/>
            <a:ext cx="2143080" cy="17859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-71280" y="25718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Эхинопси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-71280" y="528624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Мамилля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4500720" y="1500120"/>
            <a:ext cx="71280" cy="5357880"/>
          </a:xfrm>
          <a:prstGeom prst="rect">
            <a:avLst/>
          </a:prstGeom>
          <a:solidFill>
            <a:srgbClr val="97c644"/>
          </a:solidFill>
          <a:ln w="9360">
            <a:solidFill>
              <a:srgbClr val="97c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трелка влево 13"/>
          <p:cNvSpPr/>
          <p:nvPr/>
        </p:nvSpPr>
        <p:spPr>
          <a:xfrm>
            <a:off x="7072200" y="2071800"/>
            <a:ext cx="2071800" cy="150012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трелка влево 14"/>
          <p:cNvSpPr/>
          <p:nvPr/>
        </p:nvSpPr>
        <p:spPr>
          <a:xfrm>
            <a:off x="7072200" y="4714920"/>
            <a:ext cx="2071800" cy="150012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7215120" y="2571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5218"/>
                </a:solidFill>
                <a:latin typeface="Calibri"/>
                <a:ea typeface="Arial"/>
              </a:rPr>
              <a:t>   </a:t>
            </a: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Опу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6"/>
          <p:cNvSpPr/>
          <p:nvPr/>
        </p:nvSpPr>
        <p:spPr>
          <a:xfrm>
            <a:off x="7143840" y="52149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5218"/>
                </a:solidFill>
                <a:latin typeface="Calibri"/>
                <a:ea typeface="Arial"/>
              </a:rPr>
              <a:t>     </a:t>
            </a: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Цере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Картинка 12 из 9726"/>
          <p:cNvPicPr/>
          <p:nvPr/>
        </p:nvPicPr>
        <p:blipFill>
          <a:blip r:embed="rId3"/>
          <a:stretch/>
        </p:blipFill>
        <p:spPr>
          <a:xfrm>
            <a:off x="2286000" y="2000160"/>
            <a:ext cx="1876320" cy="2071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Картинка 144 из 1806"/>
          <p:cNvPicPr/>
          <p:nvPr/>
        </p:nvPicPr>
        <p:blipFill>
          <a:blip r:embed="rId4"/>
          <a:stretch/>
        </p:blipFill>
        <p:spPr>
          <a:xfrm>
            <a:off x="2214720" y="4500720"/>
            <a:ext cx="220176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2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Картинка 75 из 1012"/>
          <p:cNvPicPr/>
          <p:nvPr/>
        </p:nvPicPr>
        <p:blipFill>
          <a:blip r:embed="rId1"/>
          <a:stretch/>
        </p:blipFill>
        <p:spPr>
          <a:xfrm>
            <a:off x="4286160" y="1714680"/>
            <a:ext cx="3143520" cy="3219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364 из 659"/>
          <p:cNvPicPr/>
          <p:nvPr/>
        </p:nvPicPr>
        <p:blipFill>
          <a:blip r:embed="rId2"/>
          <a:stretch/>
        </p:blipFill>
        <p:spPr>
          <a:xfrm>
            <a:off x="4929120" y="4786200"/>
            <a:ext cx="2071800" cy="1995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Картинка 404 из 1535"/>
          <p:cNvPicPr/>
          <p:nvPr/>
        </p:nvPicPr>
        <p:blipFill>
          <a:blip r:embed="rId3"/>
          <a:stretch/>
        </p:blipFill>
        <p:spPr>
          <a:xfrm>
            <a:off x="2143080" y="1643040"/>
            <a:ext cx="2428920" cy="25956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КАКИЕ БЫВАЮТ КАКТУСЫ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Стрелка вправо 3"/>
          <p:cNvSpPr/>
          <p:nvPr/>
        </p:nvSpPr>
        <p:spPr>
          <a:xfrm>
            <a:off x="0" y="2286000"/>
            <a:ext cx="2357280" cy="16430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право 4"/>
          <p:cNvSpPr/>
          <p:nvPr/>
        </p:nvSpPr>
        <p:spPr>
          <a:xfrm>
            <a:off x="0" y="4643280"/>
            <a:ext cx="2357280" cy="16434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трелка влево 5"/>
          <p:cNvSpPr/>
          <p:nvPr/>
        </p:nvSpPr>
        <p:spPr>
          <a:xfrm>
            <a:off x="7000920" y="2357280"/>
            <a:ext cx="2143080" cy="150048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трелка влево 6"/>
          <p:cNvSpPr/>
          <p:nvPr/>
        </p:nvSpPr>
        <p:spPr>
          <a:xfrm>
            <a:off x="7000920" y="4714920"/>
            <a:ext cx="2143080" cy="150012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4500720" y="1500120"/>
            <a:ext cx="71280" cy="5357880"/>
          </a:xfrm>
          <a:prstGeom prst="rect">
            <a:avLst/>
          </a:prstGeom>
          <a:solidFill>
            <a:srgbClr val="97c644"/>
          </a:solidFill>
          <a:ln w="9360">
            <a:solidFill>
              <a:srgbClr val="97c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0" y="2786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Эпифилл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0" y="52149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Зигокакт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0"/>
          <p:cNvSpPr/>
          <p:nvPr/>
        </p:nvSpPr>
        <p:spPr>
          <a:xfrm>
            <a:off x="7286760" y="27860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Рипсали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7215120" y="52149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5218"/>
                </a:solidFill>
                <a:latin typeface="Calibri"/>
                <a:ea typeface="Arial"/>
              </a:rPr>
              <a:t>  </a:t>
            </a: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Переск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Картинка 62 из 2052"/>
          <p:cNvPicPr/>
          <p:nvPr/>
        </p:nvPicPr>
        <p:blipFill>
          <a:blip r:embed="rId4"/>
          <a:stretch/>
        </p:blipFill>
        <p:spPr>
          <a:xfrm>
            <a:off x="2286000" y="4143240"/>
            <a:ext cx="21430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АННЫЕ ОПРОСА РОДСТВЕННИКОВ  И ЗНАКОМЫХ НА 3.12.20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0" y="16430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4"/>
          <p:cNvSpPr/>
          <p:nvPr/>
        </p:nvSpPr>
        <p:spPr>
          <a:xfrm>
            <a:off x="1071720" y="2357280"/>
            <a:ext cx="6929280" cy="2786400"/>
          </a:xfrm>
          <a:prstGeom prst="roundRect">
            <a:avLst>
              <a:gd name="adj" fmla="val 16667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1214280" y="271476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 имеют кактус – 2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еют 1 кактус – 5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еют 2 кактуса – 4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еют 3 кактуса -2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еют коллекцию кактусов – 3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сего опрошено 16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85600" y="22824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АНАЛИЗ ВЫБОРА КАКТУС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0" y="1643040"/>
            <a:ext cx="914400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5218"/>
                </a:solidFill>
                <a:latin typeface="Calibri"/>
                <a:ea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4"/>
          <p:cNvSpPr/>
          <p:nvPr/>
        </p:nvSpPr>
        <p:spPr>
          <a:xfrm>
            <a:off x="500040" y="1857240"/>
            <a:ext cx="8215200" cy="857520"/>
          </a:xfrm>
          <a:prstGeom prst="roundRect">
            <a:avLst>
              <a:gd name="adj" fmla="val 16667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</a:rPr>
              <a:t>ПРЕДПОЧТЕНИЯ ЛЮДЕЙ В ВЫБОРЕ КАКТУ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Диаграмма 5" descr=""/>
          <p:cNvPicPr/>
          <p:nvPr/>
        </p:nvPicPr>
        <p:blipFill>
          <a:blip r:embed="rId1"/>
          <a:stretch/>
        </p:blipFill>
        <p:spPr>
          <a:xfrm>
            <a:off x="928800" y="2928960"/>
            <a:ext cx="7429320" cy="35323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Картинка 97 из 91399"/>
          <p:cNvPicPr/>
          <p:nvPr/>
        </p:nvPicPr>
        <p:blipFill>
          <a:blip r:embed="rId2"/>
          <a:stretch/>
        </p:blipFill>
        <p:spPr>
          <a:xfrm>
            <a:off x="5364000" y="3475080"/>
            <a:ext cx="2554560" cy="262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22824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АНАЛИЗ ВЛИЯНИЯ КАКТУСОВ НА ЗДОРОВЬ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57120" y="1785960"/>
          <a:ext cx="5500800" cy="4751280"/>
        </p:xfrm>
        <a:graphic>
          <a:graphicData uri="http://schemas.openxmlformats.org/drawingml/2006/table">
            <a:tbl>
              <a:tblPr/>
              <a:tblGrid>
                <a:gridCol w="1265400"/>
                <a:gridCol w="423540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33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336"/>
                    </a:solidFill>
                  </a:tcPr>
                </a:tc>
              </a:tr>
              <a:tr h="84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АЛО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Солнечные ожоги, заживление ран, увлажнение кожи, лечение волос, стоматит, кашель, лечение желудка, насмор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АГА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Ушибы, зубная боль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МОЛОЧ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Кожные заболевания, борьба с кишечными паразитам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КАЛАНХО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Останавливает кровь, заживление ран, ожогов, насмор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ОЧИ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Лечение ран, ожогов, болей в сердц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САНСЕВЬЕ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От боли в ушах, от зуда, от головной боли, при слаб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ТОЛСТЯ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При ангине, заживление ра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КАКТУ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При ангине, авитаминозе, гриппе, насморке, ячмен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4" name="Picture 2" descr="Картинка 8 из 95919"/>
          <p:cNvPicPr/>
          <p:nvPr/>
        </p:nvPicPr>
        <p:blipFill>
          <a:blip r:embed="rId1"/>
          <a:stretch/>
        </p:blipFill>
        <p:spPr>
          <a:xfrm>
            <a:off x="6072120" y="1928880"/>
            <a:ext cx="2724120" cy="450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85600" y="228600"/>
            <a:ext cx="7358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АНАЛИЗ РОЛИ КАКТУСОВ В ПИТАНИИ ЧЕЛОВЕК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0" y="164304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34" descr="Кактус, блюжа из кактуса"/>
          <p:cNvPicPr/>
          <p:nvPr/>
        </p:nvPicPr>
        <p:blipFill>
          <a:blip r:embed="rId1"/>
          <a:stretch/>
        </p:blipFill>
        <p:spPr>
          <a:xfrm>
            <a:off x="1143000" y="2428920"/>
            <a:ext cx="2357280" cy="1571760"/>
          </a:xfrm>
          <a:prstGeom prst="rect">
            <a:avLst/>
          </a:prstGeom>
          <a:ln w="57240">
            <a:solidFill>
              <a:srgbClr val="0c8228"/>
            </a:solidFill>
            <a:miter/>
          </a:ln>
        </p:spPr>
      </p:pic>
      <p:pic>
        <p:nvPicPr>
          <p:cNvPr id="338" name="Рисунок 45" descr="http://www.rio-grandeirk.ru/images/57.jpg"/>
          <p:cNvPicPr/>
          <p:nvPr/>
        </p:nvPicPr>
        <p:blipFill>
          <a:blip r:embed="rId2"/>
          <a:stretch/>
        </p:blipFill>
        <p:spPr>
          <a:xfrm>
            <a:off x="4857840" y="2428920"/>
            <a:ext cx="2500200" cy="1571760"/>
          </a:xfrm>
          <a:prstGeom prst="rect">
            <a:avLst/>
          </a:prstGeom>
          <a:ln w="57240">
            <a:solidFill>
              <a:srgbClr val="0c8228"/>
            </a:solidFill>
            <a:miter/>
          </a:ln>
        </p:spPr>
      </p:pic>
      <p:sp>
        <p:nvSpPr>
          <p:cNvPr id="339" name="Скругленный прямоугольник 5"/>
          <p:cNvSpPr/>
          <p:nvPr/>
        </p:nvSpPr>
        <p:spPr>
          <a:xfrm>
            <a:off x="285840" y="1714680"/>
            <a:ext cx="8429400" cy="571320"/>
          </a:xfrm>
          <a:prstGeom prst="roundRect">
            <a:avLst>
              <a:gd name="adj" fmla="val 16667"/>
            </a:avLst>
          </a:prstGeom>
          <a:solidFill>
            <a:srgbClr val="e5ee8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81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6b9811"/>
                </a:solidFill>
                <a:latin typeface="Calibri"/>
              </a:rPr>
              <a:t>В Мексик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унцию маринуют, жарят, варят из нее варенье, и даже делают кактусовую во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6"/>
          <p:cNvSpPr/>
          <p:nvPr/>
        </p:nvSpPr>
        <p:spPr>
          <a:xfrm>
            <a:off x="357120" y="4214880"/>
            <a:ext cx="8358120" cy="2500200"/>
          </a:xfrm>
          <a:prstGeom prst="roundRect">
            <a:avLst>
              <a:gd name="adj" fmla="val 16667"/>
            </a:avLst>
          </a:prstGeom>
          <a:solidFill>
            <a:srgbClr val="e5ee8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28760" y="4406400"/>
            <a:ext cx="842940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811"/>
                </a:solidFill>
                <a:latin typeface="Calibri"/>
                <a:ea typeface="Times New Roman"/>
              </a:rPr>
              <a:t>В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811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унцию используют в маринова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65218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065218"/>
                </a:solidFill>
                <a:latin typeface="Calibri"/>
                <a:ea typeface="Times New Roman"/>
              </a:rPr>
              <a:t>В ресторане «</a:t>
            </a:r>
            <a:r>
              <a:rPr b="0" lang="en-US" sz="1400" spc="-1" strike="noStrike">
                <a:solidFill>
                  <a:srgbClr val="065218"/>
                </a:solidFill>
                <a:latin typeface="Calibri"/>
                <a:ea typeface="Times New Roman"/>
              </a:rPr>
              <a:t>RIO GRANDE</a:t>
            </a:r>
            <a:r>
              <a:rPr b="0" lang="ru-RU" sz="1400" spc="-1" strike="noStrike">
                <a:solidFill>
                  <a:srgbClr val="065218"/>
                </a:solidFill>
                <a:latin typeface="Calibri"/>
                <a:ea typeface="Times New Roman"/>
              </a:rPr>
              <a:t>» мне предложи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270c"/>
                </a:solidFill>
                <a:latin typeface="Calibri"/>
                <a:ea typeface="Arial"/>
              </a:rPr>
              <a:t>Наполит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270c"/>
                </a:solidFill>
                <a:latin typeface="Calibri"/>
                <a:ea typeface="Arial"/>
              </a:rPr>
              <a:t>Маринованный кактус «Наполитос», помидор, перец болгарский, кукуруза, креветки. Украшается помидором, дольками лимона, масл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270c"/>
                </a:solidFill>
                <a:latin typeface="Calibri"/>
                <a:ea typeface="Arial"/>
              </a:rPr>
              <a:t>Эстофадо Кон Как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270c"/>
                </a:solidFill>
                <a:latin typeface="Calibri"/>
                <a:ea typeface="Arial"/>
              </a:rPr>
              <a:t>Говядина тушённая с кактусом, под острым  соусом. Говяжья вырезка, маринованный кактус «Наполитос», перец Холопеньо, соус «Мексиканский», помидор, лук, масло растительное. Подаётся с соусами «Пико де Гайо», «Сальса кукурузная». </a:t>
            </a:r>
            <a:r>
              <a:rPr b="0" lang="ru-RU" sz="1000" spc="-1" strike="noStrike">
                <a:solidFill>
                  <a:srgbClr val="1d270c"/>
                </a:solidFill>
                <a:latin typeface="Calibri"/>
                <a:ea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0:51:20Z</dcterms:created>
  <dc:creator>user</dc:creator>
  <dc:description/>
  <dc:language>en-US</dc:language>
  <cp:lastModifiedBy>User</cp:lastModifiedBy>
  <dcterms:modified xsi:type="dcterms:W3CDTF">2020-11-15T09:21:55Z</dcterms:modified>
  <cp:revision>62</cp:revision>
  <dc:subject/>
  <dc:title>КАКТУСЫ</dc:title>
</cp:coreProperties>
</file>