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63F-D87A-4F50-9338-AF18012C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D2F-0954-4C1F-A0ED-8B06D3A7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CD42C-515B-4770-9301-7A73E01B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272AC-BDAC-4FA0-890C-67FD4B4A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74C13-534B-4E0B-8D36-39CD5F6E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81656-0B8A-48A9-A550-F3DDF7A1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123AC-B395-48C7-8289-3B89CD72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9EAF8-205A-497C-8DCF-D554EE60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EFC38-6C22-4940-A23A-58AA8DAA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0DD93-1570-4EC2-AEFA-65A06A58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2BEA1-4705-4A44-9768-82F16578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3ED8-6DFA-474E-95FF-38FB0AB3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0F61-107B-4903-AE99-A0AA543F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0DC6-4E84-470A-9D19-3DF1BE84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C438-1F21-4E2B-8870-636021B5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87E2-D682-43B2-9EA2-62ADA380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2AB9-C527-4501-BD1E-634CFB2D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DCDF-D6A9-4FD9-80D0-CF3E916A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FA7D-BE4B-4DC7-8DD2-42EC5ED4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575F-C6F8-49FE-83F0-5B96E4EC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2E8-5B23-4A93-921A-C8B382C1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23E7-455D-4673-9DE0-350C31F7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08AB-1203-4694-8AD7-C7596408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36F4-931A-45F4-B490-C99A8F71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CA24-895E-4A99-B7AD-6E2A0876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A780-9AAB-47AE-99C7-86BBD780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AA5A1-1BF0-4FBE-BE65-06848D6F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D9DB0-8171-45A5-95EB-358ED4F8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0F129-887C-4499-A0A7-11422C18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DDDDE-D903-467F-BC73-F7CFAE3F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2A59F-1E3F-4A74-8A47-DC17B3E7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12C-8136-4D2A-9479-B7C427C6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9B058-133D-47BA-B5C2-E3ED61A3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55E32-6A0F-432A-B474-100B6B6F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E6F07-6C39-4961-ACAD-6CD19BAD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B246A-964C-4B55-9831-1FD7605F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DD2A4-AA31-49D7-B4A5-8FA6159E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0B8D7-BA39-4E96-8080-D0C83142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CBA76-7BCC-4676-BEF1-5D5667CB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22EDB-EEEF-47FB-918F-82F6CADC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C725F-5F5F-4015-BC81-D80B3AD3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4DA5D-788F-4E6C-A749-E0A079BC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292-369C-4C9D-B57B-50CDDAF0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A5F2F-F968-4F95-87AB-C169CF5B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DF972-4173-4C7A-95FC-FFCCBF75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72107-92B7-4017-8EF7-4A83D1AC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80433-8A00-4020-A1DF-3F12C283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2D6B6-EA69-4E65-8F17-74D0938B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95CDE-9774-46D2-9668-3D544662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01D76-2208-4886-A7BA-55EB240B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187F5-A251-43A1-87A7-1C3EED71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0756E-F789-4297-A8BC-D3EE479B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FFEE9-7F7A-4BE2-9B9A-E997D37E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209-0F15-42C4-BD76-4A89266A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7A23C-0B8F-43A3-A921-ACF51D83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3C226-9FF3-4EF1-8C6F-B851A64B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C4702-F211-4BA0-A8D3-479BC64C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481E6-44C2-4BAF-A606-7B65973F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DC807-2C76-469C-917D-5EF32113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6087B-1AF7-4BDD-92D0-77B612CD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00711-834D-49B4-9AFA-4092E79B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46EE1-3630-433A-B640-18E5D509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14885-5A14-43DC-AE19-D85A075B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2A325-4EBD-4389-A12A-2390E359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FF36-24CD-4F8F-BA64-F8D65E4B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22606-639A-4519-A18A-C9178D5D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45D73-0742-49DB-89D4-A7CA5471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99A3F-E2FA-428A-B73C-79FC40F4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8B68A-43FF-4738-B611-F10AD764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CCB81-B2A4-45B1-B90C-360CBCE2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985F0-DD9D-4192-955A-EFD61A8E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89CC7-B7ED-4BEC-95AA-9E120BEA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C399F-2FD5-450A-9CD1-A4D2146F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C4F12-EA79-4F9A-B9DA-E7971D66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59743-66F2-4DA1-B323-1B490FFD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950-BC09-413E-944C-08FA506A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2D7C0-6055-4F0E-AB41-D7399FB5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C4D9A-82A9-4775-8F1A-0A087E67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3F469-9518-410B-BFC5-4091BA1C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D172E-FAB0-452E-9163-74E6DDE1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DD255-A970-4B9D-B0D5-325E817A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067C5-A51B-4468-9864-DAEFB310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49B08-576B-4045-8F27-EE994153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E8FC4-B81F-4582-9671-6085107E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19015-93D7-40F0-8D24-E49A1E7D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193F2-7127-42F8-A8D5-C66DAC46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786-DC4F-40EE-A0BF-8F02FA8D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D2089-99A1-47F0-B409-8102E096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AD658-D2C1-4F9D-B246-1277E566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C8271-D16E-405F-8AB8-92F57F69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6014C-C8D6-41A8-B8B0-3344B76E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A674B-8A8A-47DB-9BBA-71DDAA8E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31A6C-769D-413B-A575-FCD57B07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52360-1402-4A16-8A4B-06626CBF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C05ED-498F-4F7F-B103-2473F7E2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9662F-967D-4420-BD68-ED532FBA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57E60-7CBE-4FD9-BD0F-667BFC1A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D10-D154-45D9-998F-2FD535A0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9773E-A023-4F14-87FD-58BAAC02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6D10D-0015-4C82-B1A1-D45ACA35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2B638-5BA0-4088-B179-6B2CFAF3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A50CC-4AAF-4958-973B-8E05A566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C6ACB-86E0-4036-9049-8D5DACDA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3637F-31BE-413E-AB17-A9F3A7DD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CAB9E-7AA1-41BB-9A86-38E6B7AB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6727E-F280-42C9-8179-ECD744A7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CFDA7-A7ED-4956-AD56-19AE3F4F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15810-20A5-4944-BFF9-B0719BA3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97a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453C-0466-4F66-A5E2-E577EA71A141}" type="slidenum"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212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97a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212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A60C-7D6B-4A70-A549-63771EB9D27C}" type="slidenum"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97a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212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A873-FDF7-4EA4-97E3-6CCECE601289}" type="slidenum"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9e1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c9e1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9e1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c9e1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9e1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c9e1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9e1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c9e1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97a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9e1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c9e1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9e1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c9e1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9e1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c9e1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9e1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c9e1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5CC1-043E-4402-8BCA-1037037BCC46}" type="slidenum"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97a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212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890B-C7D0-4E5D-AF72-01A484B65378}" type="slidenum"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97a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212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D00A-2684-4E49-BAB2-66291FDF5E9E}" type="slidenum"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97a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212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0249-B3B5-471E-A690-4A2AB50ED396}" type="slidenum"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97a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212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A0B7-B4AB-4812-B824-FEA798ED7850}" type="slidenum"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97a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97a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12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2123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212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2123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e84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7717-5CBE-4D05-A499-D46890969F8B}" type="slidenum">
              <a:rPr b="0" lang="ru-RU" sz="1200" spc="-1" strike="noStrike">
                <a:solidFill>
                  <a:srgbClr val="6e849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Users\809304\Downloads\Mirilki_pdf_io\Мирилки-0.jpg"/>
          <p:cNvPicPr/>
          <p:nvPr/>
        </p:nvPicPr>
        <p:blipFill>
          <a:blip r:embed="rId1"/>
          <a:stretch/>
        </p:blipFill>
        <p:spPr>
          <a:xfrm>
            <a:off x="1258920" y="692280"/>
            <a:ext cx="69883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C:\Users\809304\Downloads\Mirilki_pdf_io\Мирилки-1.jpg"/>
          <p:cNvPicPr/>
          <p:nvPr/>
        </p:nvPicPr>
        <p:blipFill>
          <a:blip r:embed="rId1"/>
          <a:stretch/>
        </p:blipFill>
        <p:spPr>
          <a:xfrm>
            <a:off x="755640" y="476280"/>
            <a:ext cx="7839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C:\Users\809304\Downloads\Mirilki_pdf_io\Мирилки-2.jpg"/>
          <p:cNvPicPr/>
          <p:nvPr/>
        </p:nvPicPr>
        <p:blipFill>
          <a:blip r:embed="rId1"/>
          <a:stretch/>
        </p:blipFill>
        <p:spPr>
          <a:xfrm>
            <a:off x="403200" y="404640"/>
            <a:ext cx="83455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C:\Users\809304\Downloads\Mirilki_pdf_io\Мирилки-3.jpg"/>
          <p:cNvPicPr/>
          <p:nvPr/>
        </p:nvPicPr>
        <p:blipFill>
          <a:blip r:embed="rId1"/>
          <a:stretch/>
        </p:blipFill>
        <p:spPr>
          <a:xfrm>
            <a:off x="395280" y="549360"/>
            <a:ext cx="83008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Users\809304\Downloads\Mirilki_pdf_io\Мирилки-4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C:\Users\809304\Downloads\Mirilki_pdf_io\Мирилки-5.jpg"/>
          <p:cNvPicPr/>
          <p:nvPr/>
        </p:nvPicPr>
        <p:blipFill>
          <a:blip r:embed="rId1"/>
          <a:stretch/>
        </p:blipFill>
        <p:spPr>
          <a:xfrm>
            <a:off x="468360" y="333360"/>
            <a:ext cx="8055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C:\Users\809304\Downloads\Mirilki_pdf_io\Мирилки-8.jpg"/>
          <p:cNvPicPr/>
          <p:nvPr/>
        </p:nvPicPr>
        <p:blipFill>
          <a:blip r:embed="rId1"/>
          <a:stretch/>
        </p:blipFill>
        <p:spPr>
          <a:xfrm>
            <a:off x="684360" y="549360"/>
            <a:ext cx="7991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8T11:07:12Z</dcterms:created>
  <dc:creator>user</dc:creator>
  <dc:description/>
  <dc:language>en-US</dc:language>
  <cp:lastModifiedBy>809304</cp:lastModifiedBy>
  <dcterms:modified xsi:type="dcterms:W3CDTF">2020-11-24T20:40:12Z</dcterms:modified>
  <cp:revision>11</cp:revision>
  <dc:subject/>
  <dc:title>Слайд 1</dc:title>
</cp:coreProperties>
</file>