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D40-97E2-4C73-BBE6-3D34AAD7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D9A-8730-4555-B0E7-754D060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1B269-89A8-4097-B4A7-6E3AF44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D6EBC-5CD4-4292-BF18-7A31F257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84A7-9ADE-4615-8DB0-9567C55A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6E48E-00E5-4DAE-8239-42094C0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BABE5-B075-4D42-B32B-3BB54EBF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C6C76-28D1-4BFD-AEB6-E20F4FC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8EC6D-1633-44B6-A057-6544903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460C2-DA4F-4940-A358-76BA7434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5AA2-B5A2-46D6-B9D4-3E757B2E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915-3752-4987-AE3F-7397A3D4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20B-03AB-4180-BCF3-9F835776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1C8C-C5ED-4462-AD82-0CBD8566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199D-EDEC-449E-BB56-019859FB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F2BF-BF30-433F-AEB7-90EF3887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1503-9034-4A2E-A07C-14106F9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C8B-BA0B-4EC0-9E2E-0DBE0C7E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0E24-A54B-4894-B766-3F93FED6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6760-5999-42DB-9935-CA3CF93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C40-3687-41F3-8794-224680D0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F938-45E0-45CB-85FE-26C3364C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4BBE-3D41-4682-B4FC-C4D7CD0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C00-5959-4D17-B661-2B1BEBA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E37A-D576-4FC9-AE29-9446DA3E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FBAF-0A58-4967-808C-3B2DE2C3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BEF1-3173-47FD-B36D-1453D6FB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A66C-C8D1-484A-B613-959393CC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729F-DE4A-427F-A547-0DDFA5F5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779B-8DEA-4EDB-A97C-60C81AFA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AC1B-BB1E-44C3-BD04-3A949E8A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428-BEBD-45BC-8A81-2271C9BF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338F-AB00-4D12-8214-9597860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4978-2AC9-4B50-AEFB-A654D30B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861D-49F1-4B6C-AC2B-8C846D6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9197-EE7B-494C-AAAB-C51AB66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DDBB-C6BC-454A-833A-9C192D84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7166-29CB-4C82-A852-1BF5289A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7B2A-B46F-4CF7-856B-284DB52D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2FF0-C981-40DF-9AF1-2932F38A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7FA5-F6AA-4912-979A-D949CC09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F060-4E7D-4DEC-A66F-C7E1ACBC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A70-65D3-4803-BD92-AB79BB4F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30B8-76E0-4CF3-A402-7ADD9FE2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1EFB-5FAD-47B4-AE7C-E1624691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7D85-F953-469F-B51A-B95EC832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B77C-81C0-4EA8-B712-B22EDA9A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8691-6BF2-4284-8AE0-542136C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CCCB-5050-49CC-A216-0A65B04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54B2-0FFE-404B-8B8C-1739FBB8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3474-B8A3-432A-9885-3CB157BF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3E21-33A2-4A14-8BDD-99C8D811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352C6-5E2E-4E0D-AA6F-E7183EC4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570-E2CE-4B47-B3F9-2715F50A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7645-1B12-4AC8-A6CD-D7DDFF19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2365-6209-44FF-81C0-9950B62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AEDF-929C-40DA-9076-4DBF558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C529-1F5C-4E21-BEF2-381C6F92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670C-6DB0-4941-A009-26726C85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7132-B4C5-42C2-ACDB-C3827AF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BCD8-D823-4309-A0B8-24F4F5F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AE5C-6BC5-44AA-8B99-EB94E65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7E2A-7B3F-491B-B83A-9B772B23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6219-CB02-49E6-A5CE-2C9B2878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3DB-DF05-4582-84F0-EEF8AFC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29A2-1B8B-4A01-8FF4-D13DFE20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604D3-90C9-4FE1-B882-862828DB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5FB5-5253-419E-B4CF-93C55B58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51128-1134-4003-B543-73F2EA0F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68F61-E10C-4842-9D3D-AEDC944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D0088-DE4C-49A3-B1C1-C2600B95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FDE9-DF8D-49F8-AB16-943E735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9704E-CAE5-4B4B-A4BE-F0D2AD3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CC9E-B451-4FED-8B60-9373404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5DCB-A053-45E0-B172-83F139F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CF1-318F-486B-A0CD-0A24BFE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1F14-1E05-46D8-AFA1-FE96F32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027BD-ADD7-410C-872A-C8C5A850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CD33-EEA5-4DBF-8CDF-058194B9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250E8-A553-4EAF-AA76-C44EFEC4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5E38E-A777-4CBF-A126-28F245F3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4B35A-1A55-43AD-97A5-A1D351A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69B01-B66F-450C-8857-32B0B48F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2BBDB-E5C0-473C-B3C8-FBEA5D54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B7C9-00F0-44AC-9156-59C85B52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7933-094E-406F-AA7A-2B8C788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14A-7174-4750-BB8F-CE5E71DF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0D7D9-6EDA-4D56-85CE-197042BB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64BA1-904E-4DF6-BBE5-8F631D0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6AE29-C80B-49B1-88AE-0996A5C0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E156E-E339-408F-B0A1-85CAB645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4A39B-8584-4A3C-86F6-FB6808D8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0783B-120A-47BB-BE2E-51F31C2D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76E2D-E81A-4503-BED3-B0B639A0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9C6E1-D79A-4E7B-A44B-5B91B38C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DD67-87CA-493B-8A07-2A547CD3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C39D-C1A8-4DED-9ACA-5F01FF40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BA0-0A7C-46E1-9005-5F00924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6262A-DD1C-4B0E-AD48-4A748102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34A51-82C1-4222-81EB-3D5729B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863B0-1D22-4915-A462-5EAFD0F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DAC23-330E-4EB3-929F-BF56FE1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6D74F-DB4A-4A64-A030-DB13847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F12C7-0B33-4271-94A1-34358888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854D-C421-4747-975B-8422EC49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9C51A-3568-4F84-ADE8-B4AAA567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E3B8B-A385-4ED8-990E-CB69F22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1162F-073E-4EB6-9B36-1F3F740B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E94-482B-4A45-9652-DE3881631F61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84D0-61AA-469D-8CE2-FCB0FB18A208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599A-9FA9-4937-A950-782DA554998F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9e1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c9e1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FA8F-12BD-4C4D-BA80-EE1001140AD3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D899-853B-4205-B011-BC625F054E46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F84D-8B11-4734-B212-B71F2AC45A55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59D0-1C76-46FC-B455-0378E69F6D7A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EF38-761C-4E34-8413-FF7984C74945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BFA3-2620-4DDA-925B-FA78994F17EC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809304\Downloads\Mirilki_pdf_io\Мирилки-0.jpg"/>
          <p:cNvPicPr/>
          <p:nvPr/>
        </p:nvPicPr>
        <p:blipFill>
          <a:blip r:embed="rId1"/>
          <a:stretch/>
        </p:blipFill>
        <p:spPr>
          <a:xfrm>
            <a:off x="1258920" y="692280"/>
            <a:ext cx="6988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C:\Users\809304\Downloads\Mirilki_pdf_io\Мирилки-1.jpg"/>
          <p:cNvPicPr/>
          <p:nvPr/>
        </p:nvPicPr>
        <p:blipFill>
          <a:blip r:embed="rId1"/>
          <a:stretch/>
        </p:blipFill>
        <p:spPr>
          <a:xfrm>
            <a:off x="755640" y="476280"/>
            <a:ext cx="7839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Users\809304\Downloads\Mirilki_pdf_io\Мирилки-2.jpg"/>
          <p:cNvPicPr/>
          <p:nvPr/>
        </p:nvPicPr>
        <p:blipFill>
          <a:blip r:embed="rId1"/>
          <a:stretch/>
        </p:blipFill>
        <p:spPr>
          <a:xfrm>
            <a:off x="403200" y="404640"/>
            <a:ext cx="834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Users\809304\Downloads\Mirilki_pdf_io\Мирилки-3.jpg"/>
          <p:cNvPicPr/>
          <p:nvPr/>
        </p:nvPicPr>
        <p:blipFill>
          <a:blip r:embed="rId1"/>
          <a:stretch/>
        </p:blipFill>
        <p:spPr>
          <a:xfrm>
            <a:off x="395280" y="549360"/>
            <a:ext cx="83008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809304\Downloads\Mirilki_pdf_io\Мирилки-4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809304\Downloads\Mirilki_pdf_io\Мирилки-5.jpg"/>
          <p:cNvPicPr/>
          <p:nvPr/>
        </p:nvPicPr>
        <p:blipFill>
          <a:blip r:embed="rId1"/>
          <a:stretch/>
        </p:blipFill>
        <p:spPr>
          <a:xfrm>
            <a:off x="468360" y="333360"/>
            <a:ext cx="8055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Users\809304\Downloads\Mirilki_pdf_io\Мирилки-8.jpg"/>
          <p:cNvPicPr/>
          <p:nvPr/>
        </p:nvPicPr>
        <p:blipFill>
          <a:blip r:embed="rId1"/>
          <a:stretch/>
        </p:blipFill>
        <p:spPr>
          <a:xfrm>
            <a:off x="684360" y="549360"/>
            <a:ext cx="7991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1:07:12Z</dcterms:created>
  <dc:creator>user</dc:creator>
  <dc:description/>
  <dc:language>en-US</dc:language>
  <cp:lastModifiedBy>809304</cp:lastModifiedBy>
  <dcterms:modified xsi:type="dcterms:W3CDTF">2020-11-24T20:40:12Z</dcterms:modified>
  <cp:revision>11</cp:revision>
  <dc:subject/>
  <dc:title>Слайд 1</dc:title>
</cp:coreProperties>
</file>