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7E35-644F-40E9-BEB1-96840046144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ень - это переход от лета к зи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чале осени еще тепл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 время в садах и на огородах созревает много овощей и фру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олях собирают пшеницу и рожь, из которых потом пекут хле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 Поэтому осень называют порой урож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лесу тоже созревают разные плоды и ягоды: желуди (на дубе), орешки (на лещине), каштаны и ряб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цы и звери с удовольствием едят их и запасают на зи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иться все холоднее и холодне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рослые и дети одевают кофты, куртки, длинные штаны или колго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ие птицы собираются в стаи и улетают в теплые кр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тоже готовятся к зиме - они сбрасывают листву. Только елочки и сосны не расстаются со своими иголоч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листья меняют цвет - из зеленых они превращаются в желтые, красные и светло-коричнев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ные листики уже не так хорошо держатся за дерево как летом, и ветер легко сдувает их их с вет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ередина осени. Ее часто называют золотой, потому что в это время очень краси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одеваются в яркие наряды, а на земле лежит разноцветный ковер из листь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от наступает конец осени. Деревья уже сбросили свои листья и стоят обнаж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идет дождь. Дует ве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 конце осени падает сне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а ждет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ВАСИЛИЙ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ДМИТРИЕВИЧ</a:t>
            </a:r>
            <a:br>
              <a:rPr sz="1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ОЛЕН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Золотая осень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02F-C0BF-490D-8AB0-FD8E1038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F5C-BFFD-43FD-8C5E-2479A94D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6D9-5299-498D-97AC-083FC557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217-6CFB-431A-89A4-945361A7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EEB-2461-4CFA-823C-283E647D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975-3FF3-47FE-B3C2-B040B528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1ED-E5A7-4538-8A81-AF55D5F1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A92-D388-4F0A-BAE4-58F83733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F22-9EC4-4E8F-BA8C-4FFC7068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088-D9FB-4960-AE75-51CC6E9F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EE5-7C55-45A3-8C79-89C3D4B1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166-6D77-412D-9899-32C24643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152F-2227-4CB7-9CB7-B744261D27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600" y="5331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ffcc00"/>
                </a:solidFill>
                <a:latin typeface="Arial"/>
              </a:rPr>
              <a:t>СЕ</a:t>
            </a:r>
            <a:r>
              <a:rPr b="1" lang="ru-RU" sz="8000" spc="-1" strike="noStrike">
                <a:solidFill>
                  <a:srgbClr val="ff9900"/>
                </a:solidFill>
                <a:latin typeface="Arial"/>
              </a:rPr>
              <a:t>Н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ерево%20Осенью" descr=""/>
          <p:cNvPicPr/>
          <p:nvPr/>
        </p:nvPicPr>
        <p:blipFill>
          <a:blip r:embed="rId1"/>
          <a:stretch/>
        </p:blipFill>
        <p:spPr>
          <a:xfrm>
            <a:off x="47520" y="609480"/>
            <a:ext cx="4600800" cy="5943600"/>
          </a:xfrm>
          <a:prstGeom prst="rect">
            <a:avLst/>
          </a:prstGeom>
          <a:ln w="0">
            <a:noFill/>
          </a:ln>
        </p:spPr>
      </p:pic>
      <p:pic>
        <p:nvPicPr>
          <p:cNvPr id="50" name="осень2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1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ветные листики уже не так хорошо держатся за дерево как летом, и ветер легко сдувает их их с вето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36041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152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ередина осен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е часто называют золотой, потому что в это время очень красиво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одеваются в яркие наряды, а на земле лежит разноцветный ковер из листье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7040" y="228600"/>
            <a:ext cx="85820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от наступает конец осени. Деревья сбросили свои листья и стоят обнаженные. Часто идет дождь. Дует ветер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3607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 конце осени падает снег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рода ждет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36157" descr=""/>
          <p:cNvPicPr/>
          <p:nvPr/>
        </p:nvPicPr>
        <p:blipFill>
          <a:blip r:embed="rId1"/>
          <a:stretch/>
        </p:blipFill>
        <p:spPr>
          <a:xfrm>
            <a:off x="838080" y="127080"/>
            <a:ext cx="746784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5943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ень - это переход от лета к зим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Дерево%20Летом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3047760" cy="4029120"/>
          </a:xfrm>
          <a:prstGeom prst="rect">
            <a:avLst/>
          </a:prstGeom>
          <a:ln w="0">
            <a:noFill/>
          </a:ln>
        </p:spPr>
      </p:pic>
      <p:pic>
        <p:nvPicPr>
          <p:cNvPr id="53" name="Дерево%20Осенью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3067200" cy="3962520"/>
          </a:xfrm>
          <a:prstGeom prst="rect">
            <a:avLst/>
          </a:prstGeom>
          <a:ln w="0">
            <a:noFill/>
          </a:ln>
        </p:spPr>
      </p:pic>
      <p:pic>
        <p:nvPicPr>
          <p:cNvPr id="54" name="Дерево%20Зимой" descr=""/>
          <p:cNvPicPr/>
          <p:nvPr/>
        </p:nvPicPr>
        <p:blipFill>
          <a:blip r:embed="rId3"/>
          <a:stretch/>
        </p:blipFill>
        <p:spPr>
          <a:xfrm>
            <a:off x="6248520" y="1771560"/>
            <a:ext cx="28954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ВОЩИ%20ОСЕНЬЮ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859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ачале осени еще тепло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 время в садах и на огородах созревает много овощей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44960" y="518148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О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ФРУКТЫ%20ОСЕНЬЮ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692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фруктов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62240" y="5638680"/>
            <a:ext cx="21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Ф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РУ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ЛЕСНЫЕ%20ПЛОДЫ%20ОСЕНЬЮ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562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есу тоже созревают разные плоды и ягоды: желуди (на дубе), орешки (на лещине), каштаны и рябин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цы и звери с удовольствием едят их и запасают на зим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019920" y="5029200"/>
            <a:ext cx="2590560" cy="609480"/>
            <a:chOff x="6019920" y="5029200"/>
            <a:chExt cx="2590560" cy="609480"/>
          </a:xfrm>
        </p:grpSpPr>
        <p:grpSp>
          <p:nvGrpSpPr>
            <p:cNvPr id="64" name=""/>
            <p:cNvGrpSpPr/>
            <p:nvPr/>
          </p:nvGrpSpPr>
          <p:grpSpPr>
            <a:xfrm>
              <a:off x="6021360" y="5032440"/>
              <a:ext cx="2586960" cy="602280"/>
              <a:chOff x="6021360" y="5032440"/>
              <a:chExt cx="2586960" cy="60228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6021360" y="5032440"/>
                <a:ext cx="2586960" cy="360"/>
                <a:chOff x="6021360" y="5032440"/>
                <a:chExt cx="2586960" cy="3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6047280" y="5032440"/>
                  <a:ext cx="2535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021360" y="5032440"/>
                  <a:ext cx="258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021360" y="5032440"/>
                <a:ext cx="2586960" cy="602280"/>
                <a:chOff x="6021360" y="5032440"/>
                <a:chExt cx="2586960" cy="6022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6047280" y="5032440"/>
                  <a:ext cx="25351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6699ff"/>
                      </a:solidFill>
                      <a:latin typeface="Chicago"/>
                    </a:rPr>
                    <a:t>РЯ</a:t>
                  </a:r>
                  <a:r>
                    <a:rPr b="1" lang="ru-RU" sz="3600" spc="-1" strike="noStrike">
                      <a:solidFill>
                        <a:srgbClr val="000000"/>
                      </a:solidFill>
                      <a:latin typeface="Chicago"/>
                    </a:rPr>
                    <a:t>БИ</a:t>
                  </a:r>
                  <a:r>
                    <a:rPr b="1" lang="ru-RU" sz="3600" spc="-1" strike="noStrike">
                      <a:solidFill>
                        <a:srgbClr val="6699ff"/>
                      </a:solidFill>
                      <a:latin typeface="Chicago"/>
                    </a:rPr>
                    <a:t>Н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021360" y="5032440"/>
                  <a:ext cx="25869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" name=""/>
            <p:cNvSpPr/>
            <p:nvPr/>
          </p:nvSpPr>
          <p:spPr>
            <a:xfrm>
              <a:off x="6019920" y="5029200"/>
              <a:ext cx="2590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030480" y="48099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А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Ш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ТА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800" y="5335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ЖЁ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ЛУ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Д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00680" y="68580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РЕ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Ш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овиться все холоднее и холодне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одеваться теплее: кофты, куртки, длинные штаны, колгот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осень" descr=""/>
          <p:cNvPicPr/>
          <p:nvPr/>
        </p:nvPicPr>
        <p:blipFill>
          <a:blip r:embed="rId1"/>
          <a:stretch/>
        </p:blipFill>
        <p:spPr>
          <a:xfrm>
            <a:off x="2371680" y="604800"/>
            <a:ext cx="44100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ие птицы собираются в стаи и улетают в теплые кр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Birds0111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и кусты тоже готовятся к зиме - они сбрасывают листв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елочки и сосны не расстаются со своими иголочк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36034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348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листья меняют цвет - из зеленых они превращаются в желтые, красные и светло-коричневы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3601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1-31T07:12:57Z</dcterms:modified>
  <cp:revision>31</cp:revision>
  <dc:subject/>
  <dc:title>ЗИМА</dc:title>
</cp:coreProperties>
</file>