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C75-42C0-40A6-93AE-3E63DC4DC73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442-94EA-48C2-9A34-F91E486E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F4D-CF2E-4D4C-ABD0-E066753F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789-886D-4E8D-8911-8108E354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4F7-0E20-46F0-BE54-59043D17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26F-4A57-4190-8AC9-9FCADF2C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086-A32B-4C22-BE9A-031E8EE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D54-DC34-446C-87C4-8DCDA22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9FA-1096-42CA-ADA9-4BB2A33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2CB-3FCE-4715-B098-6AB27D1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808-DA79-4075-8CD4-00C6D7C4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FE5-3966-4926-BD4F-8B4428F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4FC-1AFA-4608-B0CE-FA298FF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4EC-5E71-4F2D-97EC-AC6126E3F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Осенью" descr="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осень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6041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607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6157" descr="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Летом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Осенью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Зимой" descr="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ВОЩИ%20ОСЕНЬЮ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ФРУКТЫ%20ОСЕНЬЮ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ЛЕСНЫЕ%20ПЛОДЫ%20ОСЕНЬЮ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4" name="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осень" descr="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irds011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603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601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1-31T07:12:57Z</dcterms:modified>
  <cp:revision>31</cp:revision>
  <dc:subject/>
  <dc:title>ЗИМА</dc:title>
</cp:coreProperties>
</file>