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7701-5769-4850-A5BB-8C6EDB2ED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E937-9278-46EB-9398-72F276A9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1D77-027F-42DE-AA87-53D138D6C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3AA3-F133-488C-A250-B8CFB0DF9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54B5-BB72-4FAE-A769-F23E7A5F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9C7D-6B29-49A5-89FE-59301D72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C4FA-9217-40DA-AEA2-D7043CCE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7706-653C-4999-B128-F08E2226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F84B-9330-407E-B29B-F5DABEC2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6B8E-B87C-4FF0-9D72-FC135DF7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BB02-ECE9-4DC0-A42C-407A637F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6832-5F0F-44A3-85F1-0FDBE760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D957-5CC7-4355-B317-B18AE32377E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799128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ы цифровой техники.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Цифровые приб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1"/>
          <p:cNvSpPr/>
          <p:nvPr/>
        </p:nvSpPr>
        <p:spPr>
          <a:xfrm>
            <a:off x="4716360" y="5373720"/>
            <a:ext cx="4032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692000" y="189000"/>
            <a:ext cx="727236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ногофункциональным цифровым прибором является мультимедиапроектор, позволяющий выводить на экран как аналоговую, так и цифровую видео информацию. Проектор подключается к компьютеру, что позволяет выводить на внешний экран абсолютно любую информацию (текстовую, графическую, схемы, слайды, видео, анимацию и др.). К проектору для воспроизведения видеоинформации могут подключаться: видеокамера, спутниковая ТВ – приставка, видеомагнитофон, проигрыватели видео- и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VD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дисков. Проектор имеет встроенные динамики и может воспроизводить звуковую информа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www.viptel.ru/admin/_files/catalog/proektory/mitsubishi_elect-ex200u_big.jpg"/>
          <p:cNvPicPr/>
          <p:nvPr/>
        </p:nvPicPr>
        <p:blipFill>
          <a:blip r:embed="rId1"/>
          <a:stretch/>
        </p:blipFill>
        <p:spPr>
          <a:xfrm>
            <a:off x="2556000" y="3429000"/>
            <a:ext cx="549576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476000" y="260280"/>
            <a:ext cx="7210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годня для съемки видеофильмов, фотографий все больше применение находят цифровые видеокамеры, осуществляющие запись видео- и звуковой информации на карте с полупроводниковым запоминающим устройством. Уникальные возможности мобильной связи дает сотовый телефон, без которого уже не мыслит своей повседневной жизни подавляющее большинство населения развитых стр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s://www.digitec.ru/image/cache/e/b/5/2/3/8dbe89813d780e703e8014780d5d8c40935.jpeg"/>
          <p:cNvPicPr/>
          <p:nvPr/>
        </p:nvPicPr>
        <p:blipFill>
          <a:blip r:embed="rId1"/>
          <a:srcRect l="0" t="24197" r="0" b="24401"/>
          <a:stretch/>
        </p:blipFill>
        <p:spPr>
          <a:xfrm>
            <a:off x="250920" y="2997360"/>
            <a:ext cx="3970080" cy="2041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f1call.com/blog/wp-content/uploads/2016/05/%D0%9C%D0%BE%D0%B1%D0%B8%D0%BB%D1%8C%D0%BD%D1%8B%D0%B9-%D0%B2%D0%B8%D0%B4%D0%B6%D0%B5%D1%82-%D0%BE%D0%B1%D1%80%D0%B0%D1%82%D0%BD%D0%BE%D0%B3%D0%BE-%D0%B7%D0%B2%D0%BE%D0%BD%D0%BA%D0%B0-%D0%BD%D0%BE%D0%B2%D0%BE%D0%B3%D0%BE-%D0%BF%D0%BE%D0%BA%D0%BE%D0%BB%D0%B5%D0%BD%D0%B8%D1%8F.jpg"/>
          <p:cNvPicPr/>
          <p:nvPr/>
        </p:nvPicPr>
        <p:blipFill>
          <a:blip r:embed="rId2"/>
          <a:stretch/>
        </p:blipFill>
        <p:spPr>
          <a:xfrm>
            <a:off x="4643280" y="3933720"/>
            <a:ext cx="425448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692000" y="333000"/>
            <a:ext cx="699444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временный компьютер по своим возможностям все больше отдаляется от роли только вычислительного инструмента и становится универсальным средством получения, обработки и передачи самой разнообразной информации, включая звуковую и видеоинформацию. Существуют множество моделей компьютеров, которые постоянно совершенству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digex.spb.ru/images/stories/news/Acer-Veriton-L6.jpg"/>
          <p:cNvPicPr/>
          <p:nvPr/>
        </p:nvPicPr>
        <p:blipFill>
          <a:blip r:embed="rId1"/>
          <a:stretch/>
        </p:blipFill>
        <p:spPr>
          <a:xfrm>
            <a:off x="2484360" y="2708280"/>
            <a:ext cx="583092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476360" y="188640"/>
            <a:ext cx="741672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теграция приборов благодаря цифровому представлению информации наблюдается не только в музыкальных центрах, цифровых телевизорах, мультимедиапроеторах, цифровых видеокамерах и ПК, но также и в цифровой копировальной технике. Современный универсальный цифровой копировальный аппарат выполняет печать от компьютера, копирование и сканирование документов, а также их передачу и прием по телефонным ли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служивание таких копировальных аппаратов обходится в 1,5 раза дешевле соответствующих аналоговых моделей. Их главное преимущество – экономичность при эксплуатации и высокое качество копир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лагодаря новой технологии снижено количество движущихся деталей, упрощена система переноса изображения и соответственно увеличена надежность. С подобной техникой все чаще приходиться встречаться современному деловому челове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ьте на вопрос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. Что такое АЦП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 Что такое ЦР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. Какую роль играет ЦРВ в жизни современного человечества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835280" y="476280"/>
            <a:ext cx="685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дио электроника очень плотно вошла в нашу жизнь. В каждом доме, в каждой семье имеется телевизор, магнитофоны с цифровой записью, видеомагнитофоны, видеокамеры и другая бытовая радиоэлектронная аппарату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34920" y="549000"/>
            <a:ext cx="69958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временная радиоэлектроника делится на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аналоговую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цифрову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Первоначально такого разделения не было, т.к. вся радиоэлектроника была аналоговой. Это название показывает, что электрический сигнал, используемый для передачи информации, повторял, или был аналогом, другого физического сигнала, например звука. В настоящее время все большее практическое значение получает принципиально новая система обработки, передачи и хранения информации – цифровая систем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124000" y="404280"/>
            <a:ext cx="6562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образование аналогового электрического сигнала в цифровой осуществляется специальным устройством, называемым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аналого – цифровым преобразователем (АЦП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Аналоговый сигнал, например, непрерывно меняющееся напряжение, поступающее с выхода микрофона, автоматически измеряется через равные промежутки врем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2268360" y="3429000"/>
            <a:ext cx="65232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908000" y="47628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результате каждого измерения получают определенное цифровое значение. Таким образом, непрерывно меняющееся напряжение представляется набором определенных цифр, т.е.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дискретной информацие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Нетрудно догадаться, что чем чаще проводятся такие измерения, тем точнее цифровой сигнал соответствует аналоговому. Для выполнения обратного процесса преобразования служат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цифро – аналоговые преобразователи (ЦАП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195640" y="333360"/>
            <a:ext cx="66355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помощью ЦАП можно превратить в «цифру» любой аналоговый сигнал. Что это дает? Любая информация, полученная в цифровом коде, может быть обработана компьютером, сохранена в его памяти, записана на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универсальном носителе информа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VD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универсальный цифровой диск) или передана по телекоммуникационному каналу связ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ифровые системы уже широко применяются в телефонной связи и звукозаписи. Современные лазерные проигрыватели с исключительно высоким качеством воспроизводят музыку с так называемых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омпакт – диск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Цифровые системы появились даже в телевизорах и видеомагнитофонах, о чем свидетельствует надпись на их корпусах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igital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что означает «цифровой». В каждом таком телевизоре предусмотрены свои АЦП и ЦА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627280" y="259920"/>
            <a:ext cx="60595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витие электроники и успехи в создании цифровых микросхем привели к созданию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цифровых прибор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которые используются повсеместно. Примером могут служить достаточно простые по устройству цифровые часы. В них нередко имеются дополнительные функции, например, режим будильника с подсветкой , дисплей для вывода даты, таймер, автоматическое переключение на летнее время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http://cs622729.vk.me/v622729894/1f430/_bvTz5X3AN8.jpg"/>
          <p:cNvPicPr/>
          <p:nvPr/>
        </p:nvPicPr>
        <p:blipFill>
          <a:blip r:embed="rId1"/>
          <a:srcRect l="5008" t="2798" r="3623" b="42604"/>
          <a:stretch/>
        </p:blipFill>
        <p:spPr>
          <a:xfrm>
            <a:off x="3851280" y="4005360"/>
            <a:ext cx="41781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014560" y="259920"/>
            <a:ext cx="712944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ущественно изменились так называемые музыкальные центры. Большинство из них выполняются в виде моноблоков, объединяющих в себе радиоприемник со всеми диапазонами, магнитофон для записи звука с разным качеством звучания, проигрыватели лазерных дисков, усилитель и колонки для воспроизведения зву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обходимо заметить, что сегодня музыкальные центры содержат в себе и аналоговые, и цифровые устройства, например радиоприемник – аналоговый, а проигрывател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D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ифро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blender3d.org.ua/gallery/iwe/upload/2101-untitled.jpg"/>
          <p:cNvPicPr/>
          <p:nvPr/>
        </p:nvPicPr>
        <p:blipFill>
          <a:blip r:embed="rId1"/>
          <a:srcRect l="4727" t="7242" r="4557" b="0"/>
          <a:stretch/>
        </p:blipFill>
        <p:spPr>
          <a:xfrm>
            <a:off x="3492360" y="3789360"/>
            <a:ext cx="379440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268000" y="259920"/>
            <a:ext cx="648972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Цифровое радиовещание (ЦРВ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вляется областью, в которой в настоящее время проводятся исследования и конструкторские разработки практически во всех промышленно развитых странах мира. В России ведутся работы по внедрению цифрового вещания, которое будет развиваться сначала параллельно, а затем полностью заменит аналоговое радиовещание. Намечена поэтапная стратегия перехода от аналогового к цифровому вещ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Женя01</cp:lastModifiedBy>
  <dcterms:modified xsi:type="dcterms:W3CDTF">2020-11-24T17:22:11Z</dcterms:modified>
  <cp:revision>680</cp:revision>
  <dc:subject/>
  <dc:title>Diapositiva 1</dc:title>
</cp:coreProperties>
</file>