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A4ED-8F09-4E43-B11F-B939AD87B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213D-B5DA-4FE8-BA9C-6104ED811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A070-16A7-44E4-BFB3-CC3037FC4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6BB9-9D18-41B7-A350-2839DF65D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BE62-1DF2-41F3-9BF7-A26101F30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3CE3-47A8-4CC4-9E38-075E2A372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5061-6675-4603-8C66-2EF3C684E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A04D-CEB2-4C34-9CDC-51FB63FFA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8699-1830-4D37-BB47-3022B5630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97B2-AEF1-465B-AC07-7797DC253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F30B-FEBD-4C2B-989D-7AB3A00D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D7C9-F21C-4EDC-9FD6-E6DE018AB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7C532-56AB-4332-B907-3EB0AEF9470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7991280" cy="44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сновы цифровой техники.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Цифровые прибо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61"/>
          <p:cNvSpPr/>
          <p:nvPr/>
        </p:nvSpPr>
        <p:spPr>
          <a:xfrm>
            <a:off x="4716360" y="5373720"/>
            <a:ext cx="4032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1692000" y="189000"/>
            <a:ext cx="727236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ногофункциональным цифровым прибором является мультимедиапроектор, позволяющий выводить на экран как аналоговую, так и цифровую видео информацию. Проектор подключается к компьютеру, что позволяет выводить на внешний экран абсолютно любую информацию (текстовую, графическую, схемы, слайды, видео, анимацию и др.). К проектору для воспроизведения видеоинформации могут подключаться: видеокамера, спутниковая ТВ – приставка, видеомагнитофон, проигрыватели видео- и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VD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дисков. Проектор имеет встроенные динамики и может воспроизводить звуковую информац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http://www.viptel.ru/admin/_files/catalog/proektory/mitsubishi_elect-ex200u_big.jpg"/>
          <p:cNvPicPr/>
          <p:nvPr/>
        </p:nvPicPr>
        <p:blipFill>
          <a:blip r:embed="rId1"/>
          <a:stretch/>
        </p:blipFill>
        <p:spPr>
          <a:xfrm>
            <a:off x="2556000" y="3429000"/>
            <a:ext cx="549576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1476000" y="260280"/>
            <a:ext cx="721044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егодня для съемки видеофильмов, фотографий все больше применение находят цифровые видеокамеры, осуществляющие запись видео- и звуковой информации на карте с полупроводниковым запоминающим устройством. Уникальные возможности мобильной связи дает сотовый телефон, без которого уже не мыслит своей повседневной жизни подавляющее большинство населения развитых стра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https://www.digitec.ru/image/cache/e/b/5/2/3/8dbe89813d780e703e8014780d5d8c40935.jpeg"/>
          <p:cNvPicPr/>
          <p:nvPr/>
        </p:nvPicPr>
        <p:blipFill>
          <a:blip r:embed="rId1"/>
          <a:srcRect l="0" t="24197" r="0" b="24401"/>
          <a:stretch/>
        </p:blipFill>
        <p:spPr>
          <a:xfrm>
            <a:off x="250920" y="2997360"/>
            <a:ext cx="3970080" cy="2041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http://f1call.com/blog/wp-content/uploads/2016/05/%D0%9C%D0%BE%D0%B1%D0%B8%D0%BB%D1%8C%D0%BD%D1%8B%D0%B9-%D0%B2%D0%B8%D0%B4%D0%B6%D0%B5%D1%82-%D0%BE%D0%B1%D1%80%D0%B0%D1%82%D0%BD%D0%BE%D0%B3%D0%BE-%D0%B7%D0%B2%D0%BE%D0%BD%D0%BA%D0%B0-%D0%BD%D0%BE%D0%B2%D0%BE%D0%B3%D0%BE-%D0%BF%D0%BE%D0%BA%D0%BE%D0%BB%D0%B5%D0%BD%D0%B8%D1%8F.jpg"/>
          <p:cNvPicPr/>
          <p:nvPr/>
        </p:nvPicPr>
        <p:blipFill>
          <a:blip r:embed="rId2"/>
          <a:stretch/>
        </p:blipFill>
        <p:spPr>
          <a:xfrm>
            <a:off x="4643280" y="3933720"/>
            <a:ext cx="4254480" cy="23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1692000" y="333000"/>
            <a:ext cx="699444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временный компьютер по своим возможностям все больше отдаляется от роли только вычислительного инструмента и становится универсальным средством получения, обработки и передачи самой разнообразной информации, включая звуковую и видеоинформацию. Существуют множество моделей компьютеров, которые постоянно совершенствую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http://digex.spb.ru/images/stories/news/Acer-Veriton-L6.jpg"/>
          <p:cNvPicPr/>
          <p:nvPr/>
        </p:nvPicPr>
        <p:blipFill>
          <a:blip r:embed="rId1"/>
          <a:stretch/>
        </p:blipFill>
        <p:spPr>
          <a:xfrm>
            <a:off x="2484360" y="2708280"/>
            <a:ext cx="5830920" cy="39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476360" y="188640"/>
            <a:ext cx="741672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теграция приборов благодаря цифровому представлению информации наблюдается не только в музыкальных центрах, цифровых телевизорах, мультимедиапроеторах, цифровых видеокамерах и ПК, но также и в цифровой копировальной технике. Современный универсальный цифровой копировальный аппарат выполняет печать от компьютера, копирование и сканирование документов, а также их передачу и прием по телефонным лини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служивание таких копировальных аппаратов обходится в 1,5 раза дешевле соответствующих аналоговых моделей. Их главное преимущество – экономичность при эксплуатации и высокое качество копир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лагодаря новой технологии снижено количество движущихся деталей, упрощена система переноса изображения и соответственно увеличена надежность. С подобной техникой все чаще приходиться встречаться современному деловому челове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ьте на вопрос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. Что такое АЦП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. Что такое ЦРВ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. Какую роль играет ЦРВ в жизни современного человечества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835280" y="476280"/>
            <a:ext cx="685152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дио электроника очень плотно вошла в нашу жизнь. В каждом доме, в каждой семье имеется телевизор, магнитофоны с цифровой записью, видеомагнитофоны, видеокамеры и другая бытовая радиоэлектронная аппарату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34920" y="549000"/>
            <a:ext cx="69958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временная радиоэлектроника делится на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аналоговую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цифровую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Первоначально такого разделения не было, т.к. вся радиоэлектроника была аналоговой. Это название показывает, что электрический сигнал, используемый для передачи информации, повторял, или был аналогом, другого физического сигнала, например звука. В настоящее время все большее практическое значение получает принципиально новая система обработки, передачи и хранения информации – цифровая система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124000" y="404280"/>
            <a:ext cx="65628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образование аналогового электрического сигнала в цифровой осуществляется специальным устройством, называемым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аналого – цифровым преобразователем (АЦП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Аналоговый сигнал, например, непрерывно меняющееся напряжение, поступающее с выхода микрофона, автоматически измеряется через равные промежутки време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2268360" y="3429000"/>
            <a:ext cx="652320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908000" y="47628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результате каждого измерения получают определенное цифровое значение. Таким образом, непрерывно меняющееся напряжение представляется набором определенных цифр, т.е.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дискретной информацие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Нетрудно догадаться, что чем чаще проводятся такие измерения, тем точнее цифровой сигнал соответствует аналоговому. Для выполнения обратного процесса преобразования служат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цифро – аналоговые преобразователи (ЦАП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195640" y="333360"/>
            <a:ext cx="663552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 помощью ЦАП можно превратить в «цифру» любой аналоговый сигнал. Что это дает? Любая информация, полученная в цифровом коде, может быть обработана компьютером, сохранена в его памяти, записана на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универсальном носителе информаци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VD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(универсальный цифровой диск) или передана по телекоммуникационному каналу связ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Цифровые системы уже широко применяются в телефонной связи и звукозаписи. Современные лазерные проигрыватели с исключительно высоким качеством воспроизводят музыку с так называемых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компакт – дисков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Цифровые системы появились даже в телевизорах и видеомагнитофонах, о чем свидетельствует надпись на их корпусах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digital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что означает «цифровой». В каждом таком телевизоре предусмотрены свои АЦП и ЦА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627280" y="259920"/>
            <a:ext cx="605952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витие электроники и успехи в создании цифровых микросхем привели к созданию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цифровых приборов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которые используются повсеместно. Примером могут служить достаточно простые по устройству цифровые часы. В них нередко имеются дополнительные функции, например, режим будильника с подсветкой , дисплей для вывода даты, таймер, автоматическое переключение на летнее время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http://cs622729.vk.me/v622729894/1f430/_bvTz5X3AN8.jpg"/>
          <p:cNvPicPr/>
          <p:nvPr/>
        </p:nvPicPr>
        <p:blipFill>
          <a:blip r:embed="rId1"/>
          <a:srcRect l="5008" t="2798" r="3623" b="42604"/>
          <a:stretch/>
        </p:blipFill>
        <p:spPr>
          <a:xfrm>
            <a:off x="3851280" y="4005360"/>
            <a:ext cx="41781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2014560" y="259920"/>
            <a:ext cx="7129440" cy="593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ущественно изменились так называемые музыкальные центры. Большинство из них выполняются в виде моноблоков, объединяющих в себе радиоприемник со всеми диапазонами, магнитофон для записи звука с разным качеством звучания, проигрыватели лазерных дисков, усилитель и колонки для воспроизведения зву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обходимо заметить, что сегодня музыкальные центры содержат в себе и аналоговые, и цифровые устройства, например радиоприемник – аналоговый, а проигрыватель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D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цифров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http://blender3d.org.ua/gallery/iwe/upload/2101-untitled.jpg"/>
          <p:cNvPicPr/>
          <p:nvPr/>
        </p:nvPicPr>
        <p:blipFill>
          <a:blip r:embed="rId1"/>
          <a:srcRect l="4727" t="7242" r="4557" b="0"/>
          <a:stretch/>
        </p:blipFill>
        <p:spPr>
          <a:xfrm>
            <a:off x="3492360" y="3789360"/>
            <a:ext cx="379440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2268000" y="259920"/>
            <a:ext cx="648972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Цифровое радиовещание (ЦРВ)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является областью, в которой в настоящее время проводятся исследования и конструкторские разработки практически во всех промышленно развитых странах мира. В России ведутся работы по внедрению цифрового вещания, которое будет развиваться сначала параллельно, а затем полностью заменит аналоговое радиовещание. Намечена поэтапная стратегия перехода от аналогового к цифровому веща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Женя01</cp:lastModifiedBy>
  <dcterms:modified xsi:type="dcterms:W3CDTF">2020-11-24T17:22:11Z</dcterms:modified>
  <cp:revision>680</cp:revision>
  <dc:subject/>
  <dc:title>Diapositiva 1</dc:title>
</cp:coreProperties>
</file>