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8.png" ContentType="image/png"/>
  <Override PartName="/ppt/media/image5.gif" ContentType="image/gif"/>
  <Override PartName="/ppt/media/image7.png" ContentType="image/png"/>
  <Override PartName="/ppt/media/image1.jpeg" ContentType="image/jpeg"/>
  <Override PartName="/ppt/media/image6.png" ContentType="image/png"/>
  <Override PartName="/ppt/media/image9.png" ContentType="image/png"/>
  <Override PartName="/ppt/media/image4.png" ContentType="image/png"/>
  <Override PartName="/ppt/media/image23.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098E2-806B-46B4-8370-18ABA16B1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D8385-E074-4817-ABF4-41DABFCEF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6F15B-9430-48A4-AA4E-76931FC17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12D89-49EB-45D3-8610-B7115A31C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3EC16-3031-4E51-A721-02F897375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5A67F-0A3E-4A39-AC2F-FEDEB95CB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22293-F909-4A01-A4DF-806169CE6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336FE-D459-4962-9E35-AD6B29089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BFC97-6526-4DF8-B0ED-9D46EA5B5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627F-A8FA-4848-BA55-4EA66E334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0887E-75B0-4AD8-A55A-7F6D951AA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8981-8FF8-4F6E-9650-4C2B2C28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2A40C-5804-46E9-900A-35AE7C75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DC11-0263-4FC7-BDDC-E316EB962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25950-EEB6-4E21-AB47-B5B10E440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EF611-E8C4-494D-A5C2-0CB230B9D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10F65-749E-4D75-9719-44F602F4F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E6FB-AE4E-4CD7-98EB-C08B3FA3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4B4D-DB61-4287-902C-0D32577E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37305-3C0C-499E-8699-C7D5B9FEE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BB235-FC0A-42C5-8929-09B5C014B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2378-3150-47E7-BA40-1FCE2A79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394A-05F9-4D16-A1E6-7C127846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947A5-FE8F-4277-B9E1-DD88268EA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43EB-6EFD-4A08-927E-B84F8B5BA2C0}"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288E-5807-418A-B1DE-009F2281AD15}"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285840" y="1371600"/>
            <a:ext cx="8692920" cy="22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2" descr=""/>
          <p:cNvPicPr/>
          <p:nvPr/>
        </p:nvPicPr>
        <p:blipFill>
          <a:blip r:embed="rId1"/>
          <a:stretch/>
        </p:blipFill>
        <p:spPr>
          <a:xfrm>
            <a:off x="457200" y="274680"/>
            <a:ext cx="8229600" cy="130500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Цель игры:</a:t>
            </a:r>
            <a:r>
              <a:rPr b="0" lang="ru-RU" sz="2000" spc="-1" strike="noStrike">
                <a:solidFill>
                  <a:srgbClr val="ffffff"/>
                </a:solidFill>
                <a:latin typeface="Times New Roman"/>
              </a:rPr>
              <a:t> развитие силовой выносливости, укрепление костно-мышечного аппарата ног.</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игровой площадке чертится линия. На расстоянии от нее (не более 20 м) устанавливаются флажки, стойк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грающие делятся на три-четыре команды и выст­раиваются за линией. По сигналу первые игроки команд начинают прыжки, обегают флажки и возвращаются об­ратно бегом. Затем бегут вторые и т. д.</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равила игры:</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ыигрывает команда, закончившая эстафету первой;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ыгать следует правильно, отталкиваясь обоими но­гами одновременно, помогая руками.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324000" y="274680"/>
            <a:ext cx="8575560" cy="130500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Цель игры:</a:t>
            </a:r>
            <a:r>
              <a:rPr b="0" lang="ru-RU" sz="2800" spc="-1" strike="noStrike">
                <a:solidFill>
                  <a:srgbClr val="ffffff"/>
                </a:solidFill>
                <a:latin typeface="Times New Roman"/>
              </a:rPr>
              <a:t> развитие ловкости и гибкост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землю вбивается небольшой колышек. Один из игроков держится за него правой рукой и начинает кружиться по часовой стрелке, одновременно пытаясь достать левой рукой правое ухо из-под правой рук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равила игры:</a:t>
            </a:r>
            <a:r>
              <a:rPr b="0" lang="ru-RU" sz="2800" spc="-1" strike="noStrike">
                <a:solidFill>
                  <a:srgbClr val="ffffff"/>
                </a:solidFill>
                <a:latin typeface="Times New Roman"/>
              </a:rPr>
              <a:t> выдержавшие пять-шесть кругов считаются победителями.</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549360" y="347760"/>
            <a:ext cx="8229600" cy="133488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ющих 20-30 человек, они разбиваются на 2 команды и строятся в колонны за линией старта. Для каждой команды, начиная от линии старта, рисуют непрерывные прямые линии, большие круги, спирали и т. д.</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рвые игроки команд по сигналу начинают бег по нарисованным отметкам, возвратившись, касаются руками вторых игроков команд, а сами становятся в конец колонны. Остальные пробегают это же расстояние. Выигрывает команда, закончившая эстафету первой.</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 совершенствует технику бега по прямой и с поворотом, развивает быстроту, вырабатывает точность движений.</a:t>
            </a:r>
            <a:endParaRPr b="0" lang="en-US" sz="2400" spc="-1" strike="noStrike">
              <a:solidFill>
                <a:srgbClr val="ffffff"/>
              </a:solidFill>
              <a:latin typeface="Times New Roman"/>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Rectangle 2" descr=""/>
          <p:cNvPicPr/>
          <p:nvPr/>
        </p:nvPicPr>
        <p:blipFill>
          <a:blip r:embed="rId1"/>
          <a:stretch/>
        </p:blipFill>
        <p:spPr>
          <a:xfrm>
            <a:off x="457200" y="115920"/>
            <a:ext cx="8229600" cy="130500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fontScale="96000"/>
          </a:bodyPr>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грающих 20-30 человек. Посередине площадки чертится линия. Все играющие разбиваются на 2 команды - "белую" и "черную". Игроки обеих команд располагаются на одной линии, но лицом в разные стороны. Впереди команд чертят линии "домов".</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уководитель игры называет одну из команд. Она убегает в свой "дом", другая, повернувшись кругом, бежит за ней, стараясь запятнать ее игроков. После подсчета "запятнанных" игроков команды возвращаются на свои места, игра повторяется при смене ролей команд.</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авила: 1) начинать бег можно только по команде;</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ловить убегающих можно только до черты "дома"; </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нельзя убегать от преследующих, меняя направление бега.</a:t>
            </a:r>
            <a:endParaRPr b="0" lang="en-US" sz="2400" spc="-1" strike="noStrike">
              <a:solidFill>
                <a:srgbClr val="ffffff"/>
              </a:solidFill>
              <a:latin typeface="Times New Roman"/>
            </a:endParaRPr>
          </a:p>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игре совершенствуется реакция на звуковые сигнал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Заголовок 1" descr=""/>
          <p:cNvPicPr/>
          <p:nvPr/>
        </p:nvPicPr>
        <p:blipFill>
          <a:blip r:embed="rId1"/>
          <a:stretch/>
        </p:blipFill>
        <p:spPr>
          <a:xfrm>
            <a:off x="225360" y="182520"/>
            <a:ext cx="8796240" cy="164628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игровой культуре народов Южной Сибири много игр в кости. Существуют пять тувинских и алтайских, семь хакасских вариантов игры в кости. Практикуются игры, связанные с использованием аркана, что является закономерным для скотоводов. Арканы бывают пяти видов.</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836640"/>
            <a:ext cx="8229600" cy="5472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анием аркана дети занимались с 7-8, даже с 5 лет. Цели для ловли самые разные и зависят от возраста человека. Постепенно переходят от неподвижных к движущим целям (собака, ягнята, бараны, телята, волы, жеребята, лошади).</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5" name="Picture 5" descr="showDBFile"/>
          <p:cNvPicPr/>
          <p:nvPr/>
        </p:nvPicPr>
        <p:blipFill>
          <a:blip r:embed="rId1"/>
          <a:srcRect l="0" t="12081" r="0" b="0"/>
          <a:stretch/>
        </p:blipFill>
        <p:spPr>
          <a:xfrm>
            <a:off x="2700360" y="3429000"/>
            <a:ext cx="4079880" cy="26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Заголовок 1" descr=""/>
          <p:cNvPicPr/>
          <p:nvPr/>
        </p:nvPicPr>
        <p:blipFill>
          <a:blip r:embed="rId1"/>
          <a:stretch/>
        </p:blipFill>
        <p:spPr>
          <a:xfrm>
            <a:off x="457200" y="115920"/>
            <a:ext cx="8229600" cy="1809720"/>
          </a:xfrm>
          <a:prstGeom prst="rect">
            <a:avLst/>
          </a:prstGeom>
          <a:ln w="0">
            <a:noFill/>
          </a:ln>
        </p:spPr>
      </p:pic>
      <p:sp>
        <p:nvSpPr>
          <p:cNvPr id="117" name=""/>
          <p:cNvSpPr txBox="1"/>
          <p:nvPr/>
        </p:nvSpPr>
        <p:spPr>
          <a:xfrm>
            <a:off x="457200" y="1268280"/>
            <a:ext cx="4038480" cy="532944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мысл игры заключается в точности метания аркана на сухую ветку дерева. Видимо, истоки игры - в хозяйственной деятельности, связанной с заготовкой дров.</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 одном конце аркана привязывается небольшая прямая палка (длина 20-25 см, диаметр 3-5 см). Подбирается аркан, как в обычном метании, конец с палкой свисает на 25-30 см.</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ревнующиеся дети поочередно метают аркан на сухую ветку или сук дерева. Ветки могут находиться на разных высотах. После, когда аркан с "крюком" успешно наброшен на цель, следует спутать (обвивать) крюк-палку к основной части аркана и стараться сломать ветку, потягивая ее к земле. Игра очень эффективна для развития мышц плеча. Метание аркана вверх требует специального навыка и выносливости.</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18" name="Picture 2" descr="C:\Users\User\Desktop\000044.jpg"/>
          <p:cNvPicPr/>
          <p:nvPr/>
        </p:nvPicPr>
        <p:blipFill>
          <a:blip r:embed="rId2"/>
          <a:stretch/>
        </p:blipFill>
        <p:spPr>
          <a:xfrm>
            <a:off x="4657680" y="1719360"/>
            <a:ext cx="4019760" cy="42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Заголовок 1" descr=""/>
          <p:cNvPicPr/>
          <p:nvPr/>
        </p:nvPicPr>
        <p:blipFill>
          <a:blip r:embed="rId1"/>
          <a:stretch/>
        </p:blipFill>
        <p:spPr>
          <a:xfrm>
            <a:off x="457200" y="96840"/>
            <a:ext cx="8229600" cy="171936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остязание по приручению необъезженного коня проводится ежегодно в День республики и Наадыма (праздник скотоводов). Команда состоит из трех человек. Задача - поймать неприрученного коня с помощью аркана, надеть узду, заседлать, посадить одного из членов команды верхом и отпустить коня. Конь старается сбросить седока, а он - как можно дольше удержаться в седле. Это похоже на то, как в Испании и некоторых странах Латинской Америки - удержаться на быках, доведенных до ярости. Время засекается с начала ловли коня до падения седока или смирения коня.</a:t>
            </a:r>
            <a:endParaRPr b="0" lang="en-US" sz="2600" spc="-1" strike="noStrike">
              <a:solidFill>
                <a:srgbClr val="ffffff"/>
              </a:solidFill>
              <a:latin typeface="Times New Roman"/>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Заголовок 1" descr=""/>
          <p:cNvPicPr/>
          <p:nvPr/>
        </p:nvPicPr>
        <p:blipFill>
          <a:blip r:embed="rId1"/>
          <a:stretch/>
        </p:blipFill>
        <p:spPr>
          <a:xfrm>
            <a:off x="1457280" y="165240"/>
            <a:ext cx="6222960" cy="17920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портивная игра тувинцев, так называемая </a:t>
            </a:r>
            <a:r>
              <a:rPr b="0" i="1" lang="ru-RU" sz="2000" spc="-1" strike="noStrike">
                <a:solidFill>
                  <a:srgbClr val="ffffff"/>
                </a:solidFill>
                <a:latin typeface="Times New Roman"/>
              </a:rPr>
              <a:t>"Тевектээр",</a:t>
            </a:r>
            <a:r>
              <a:rPr b="0" lang="ru-RU" sz="2000" spc="-1" strike="noStrike">
                <a:solidFill>
                  <a:srgbClr val="ffffff"/>
                </a:solidFill>
                <a:latin typeface="Times New Roman"/>
              </a:rPr>
              <a:t> одна из наиболее распространенных игр - чрезвычайно напряженная, динамичная. Кроме того, она требует от человека высокой подготовленности, определенных физических качеств, умения пространственной ориентации, точности, быстрого мышления, большой силы вол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мысл игры заключается в жонглировании воланом левой и правой ногами разными способам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лан изготавливается из свинцовой пластинки диаметром 20-25 мм, толщиной 3-5 мм, весом 12-18 г и зимней шерсти козы. Длина шерсти варьируется от 4 до 7 см.</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конце игры победитель наказывает проигравшего. Это выражается в том, что проигравший должен подкинуть волан в ноги победителю, тот отбивает его удобной ногой таким образом, чтобы подкинувший не смог поймать его.</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404280"/>
            <a:ext cx="5400720" cy="6264360"/>
          </a:xfrm>
          <a:prstGeom prst="rect">
            <a:avLst/>
          </a:prstGeom>
          <a:noFill/>
          <a:ln w="0">
            <a:noFill/>
          </a:ln>
        </p:spPr>
        <p:txBody>
          <a:bodyPr anchor="t">
            <a:normAutofit fontScale="99000"/>
          </a:bodyPr>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еселые подвижные игры – наше детство. Кто не помнит неизменных пряток, ловишек, салочек! Когда они возникли? Кто придумал эти игры?</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 этот вопрос только один ответ: они созданы народом, так же как сказки и песни. </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усские народные игры имеют многовековую историю, они сохранились и дошли до наших дней из глубокой старины, передавались из поколения в поколение, вбирая в себя лучшие национальные традиции.</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ля всех народных игр характерна любовь русского человека к веселью, удальству.</a:t>
            </a:r>
            <a:endParaRPr b="0" lang="en-US" sz="1600" spc="-1" strike="noStrike">
              <a:solidFill>
                <a:srgbClr val="ffffff"/>
              </a:solidFill>
              <a:latin typeface="Times New Roman"/>
            </a:endParaRPr>
          </a:p>
          <a:p>
            <a:pPr marL="541800" indent="-40680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усские народные игры для детей ценны в педагогическом отношении и оказывают большое влияние на воспитание ума, характера, воли. Развивают нравственно и физически, создают определенный духовный настрой, интерес к народному творчеству. И в самом деле, если даже слегка вникать в особенности детских игр у разных народов, то с первого взгляда заметно, что характер народа накладывает свой заметный оттенок на детские игры, отражаясь в них тем резче, чем дети играют с большим увлечением и непринужденностью, а вместе с тем, конечно, с большей возможностью для проявления своего национального характера. Игры это суть, так сказать, отражения разных сторон жизни данного народа, связующее звено веселья с деловой жизнью, а от того рода, веками установившиеся игры в данном народе и симпатичнее, и понятливее, и увлекательнее для детей этого народа.</a:t>
            </a:r>
            <a:endParaRPr b="0" lang="en-US" sz="1600" spc="-1" strike="noStrike">
              <a:solidFill>
                <a:srgbClr val="ffffff"/>
              </a:solidFill>
              <a:latin typeface="Times New Roman"/>
            </a:endParaRPr>
          </a:p>
          <a:p>
            <a:pPr marL="54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84" name="Picture 4" descr="C:\Users\User\Desktop\000042.jpg"/>
          <p:cNvPicPr/>
          <p:nvPr/>
        </p:nvPicPr>
        <p:blipFill>
          <a:blip r:embed="rId1"/>
          <a:stretch/>
        </p:blipFill>
        <p:spPr>
          <a:xfrm>
            <a:off x="5796000" y="1700280"/>
            <a:ext cx="285732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7200" y="274680"/>
            <a:ext cx="8229600" cy="1146240"/>
          </a:xfrm>
          <a:prstGeom prst="rect">
            <a:avLst/>
          </a:prstGeom>
          <a:ln w="0">
            <a:noFill/>
          </a:ln>
        </p:spPr>
      </p:pic>
      <p:sp>
        <p:nvSpPr>
          <p:cNvPr id="86" name="PlaceHolder 1"/>
          <p:cNvSpPr>
            <a:spLocks noGrp="1"/>
          </p:cNvSpPr>
          <p:nvPr>
            <p:ph/>
          </p:nvPr>
        </p:nvSpPr>
        <p:spPr>
          <a:xfrm>
            <a:off x="457200" y="1599840"/>
            <a:ext cx="8229600" cy="470844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таринная игра лапта, часто называемая «Русская лапта», широко распространена в России и в других бывших республиках Советского Союза, причем в разных местах она имеет свое название (например, в Таджикистане эта игра называется «Тулуф-бози», в Башкирии — «Уральский мяч», в Каракалпакии — «Кошама-ран») и некоторые различия в правилах. Приведенные ниже правила игры применяются главным образом в средней полосе России.</a:t>
            </a:r>
            <a:br>
              <a:rPr sz="2400"/>
            </a:br>
            <a:r>
              <a:rPr b="0" lang="ru-RU" sz="2400" spc="-1" strike="noStrike">
                <a:solidFill>
                  <a:srgbClr val="ffffff"/>
                </a:solidFill>
                <a:latin typeface="Times New Roman"/>
              </a:rPr>
              <a:t>В лапту играют на большой площадке, лужайке в летнее время. Участвуют в ней школьники, молодежь и взрослые, от 8 до 30 человек. Игра проводится самостоятельно. Судьями в игре обычно бывают капитаны команд, или «матки», как их часто называют в этой игре. Описание …</a:t>
            </a:r>
            <a:endParaRPr b="0" lang="en-US" sz="2400" spc="-1" strike="noStrike">
              <a:solidFill>
                <a:srgbClr val="ffffff"/>
              </a:solidFill>
              <a:latin typeface="Times New Roman"/>
            </a:endParaRPr>
          </a:p>
        </p:txBody>
      </p:sp>
      <p:sp>
        <p:nvSpPr>
          <p:cNvPr id="87" name="AutoShape 4">
            <a:hlinkClick r:id="rId2" action="ppaction://hlinksldjump"/>
          </p:cNvPr>
          <p:cNvSpPr/>
          <p:nvPr/>
        </p:nvSpPr>
        <p:spPr>
          <a:xfrm>
            <a:off x="831708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3794" y="5585"/>
                </a:moveTo>
                <a:lnTo>
                  <a:pt x="17806" y="12591"/>
                </a:lnTo>
                <a:lnTo>
                  <a:pt x="3794" y="19597"/>
                </a:lnTo>
                <a:close/>
              </a:path>
            </a:pathLst>
          </a:custGeom>
          <a:solidFill>
            <a:srgbClr val="6076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Picture 5" descr="AG00413_"/>
          <p:cNvPicPr/>
          <p:nvPr/>
        </p:nvPicPr>
        <p:blipFill>
          <a:blip r:embed="rId3"/>
          <a:stretch/>
        </p:blipFill>
        <p:spPr>
          <a:xfrm>
            <a:off x="826920" y="260280"/>
            <a:ext cx="1981440" cy="123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7" descr=""/>
          <p:cNvPicPr/>
          <p:nvPr/>
        </p:nvPicPr>
        <p:blipFill>
          <a:blip r:embed="rId1"/>
          <a:stretch/>
        </p:blipFill>
        <p:spPr>
          <a:xfrm>
            <a:off x="0" y="304920"/>
            <a:ext cx="4857840" cy="1315800"/>
          </a:xfrm>
          <a:prstGeom prst="rect">
            <a:avLst/>
          </a:prstGeom>
          <a:ln w="0">
            <a:noFill/>
          </a:ln>
        </p:spPr>
      </p:pic>
      <p:sp>
        <p:nvSpPr>
          <p:cNvPr id="90" name="PlaceHolder 1"/>
          <p:cNvSpPr>
            <a:spLocks noGrp="1"/>
          </p:cNvSpPr>
          <p:nvPr>
            <p:ph/>
          </p:nvPr>
        </p:nvSpPr>
        <p:spPr>
          <a:xfrm>
            <a:off x="457200" y="1599840"/>
            <a:ext cx="403848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личество играющих:</a:t>
            </a:r>
            <a:r>
              <a:rPr b="0" lang="ru-RU" sz="2400" spc="-1" strike="noStrike">
                <a:solidFill>
                  <a:srgbClr val="000000"/>
                </a:solidFill>
                <a:latin typeface="Times New Roman"/>
                <a:ea typeface="Times New Roman"/>
              </a:rPr>
              <a:t> 2 человека.</a:t>
            </a:r>
            <a:br>
              <a:rPr sz="2400"/>
            </a:br>
            <a:r>
              <a:rPr b="1" lang="ru-RU" sz="2400" spc="-1" strike="noStrike">
                <a:solidFill>
                  <a:srgbClr val="000000"/>
                </a:solidFill>
                <a:latin typeface="Times New Roman"/>
                <a:ea typeface="Times New Roman"/>
              </a:rPr>
              <a:t>Инвентарь:</a:t>
            </a:r>
            <a:r>
              <a:rPr b="0" lang="ru-RU" sz="2400" spc="-1" strike="noStrike">
                <a:solidFill>
                  <a:srgbClr val="000000"/>
                </a:solidFill>
                <a:latin typeface="Times New Roman"/>
                <a:ea typeface="Times New Roman"/>
              </a:rPr>
              <a:t> чиж (это такая короткая палочка с заостренными концами). Две палки.</a:t>
            </a:r>
            <a:endParaRPr b="0" lang="en-US" sz="2400" spc="-1" strike="noStrike">
              <a:solidFill>
                <a:srgbClr val="ffffff"/>
              </a:solidFill>
              <a:latin typeface="Times New Roman"/>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p:nvPr>
        </p:nvSpPr>
        <p:spPr>
          <a:xfrm>
            <a:off x="4500720" y="981000"/>
            <a:ext cx="4325760" cy="5616720"/>
          </a:xfrm>
          <a:prstGeom prst="rect">
            <a:avLst/>
          </a:prstGeom>
          <a:noFill/>
          <a:ln w="0">
            <a:noFill/>
          </a:ln>
        </p:spPr>
        <p:txBody>
          <a:bodyPr anchor="t">
            <a:normAutofit/>
          </a:bodyPr>
          <a:p>
            <a:pPr marL="547560" indent="-411120">
              <a:lnSpc>
                <a:spcPct val="115000"/>
              </a:lnSpc>
              <a:spcBef>
                <a:spcPts val="349"/>
              </a:spcBef>
              <a:spcAft>
                <a:spcPts val="1001"/>
              </a:spcAft>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земле чертят кон (круг диаметром в 1 м). В центр его кладут чижа и определяют поле, куда следует направлять его полет. Один из играющих (метальщик) ударяет палкой по заостренному концу чижа, стараясь выбить его в поле (можно сначала подбросить его вверх, а потом вторым или даже третьим ударом выбить подальше). В случае промаха, а также если чиж ляжет слишком близко от кона (на расстоянии меньше, чем длина палки), метальщик может повторить удар, но после третьего промаха меняется с водящим ролями.</a:t>
            </a:r>
            <a:br>
              <a:rPr sz="1400"/>
            </a:br>
            <a:r>
              <a:rPr b="0" lang="ru-RU" sz="1400" spc="-1" strike="noStrike">
                <a:solidFill>
                  <a:srgbClr val="000000"/>
                </a:solidFill>
                <a:latin typeface="Times New Roman"/>
                <a:ea typeface="Times New Roman"/>
              </a:rPr>
              <a:t>  Второй игрок старается поймать чижа на лету или задержать его палкой и с того места, куда упадет чиж, ударом палки забросить его обратно в кон. Метальщик препятствует этому, стараясь отбить чижа и снова направить его в поле. Если чиж попадет в круг или водящий поймает его на лету, игроки меняются ролями. </a:t>
            </a:r>
            <a:endParaRPr b="0" lang="en-US" sz="1400" spc="-1" strike="noStrike">
              <a:solidFill>
                <a:srgbClr val="ffffff"/>
              </a:solidFill>
              <a:latin typeface="Times New Roman"/>
            </a:endParaRPr>
          </a:p>
          <a:p>
            <a:pPr marL="547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Rectangle 2" descr=""/>
          <p:cNvPicPr/>
          <p:nvPr/>
        </p:nvPicPr>
        <p:blipFill>
          <a:blip r:embed="rId1"/>
          <a:stretch/>
        </p:blipFill>
        <p:spPr>
          <a:xfrm>
            <a:off x="500040" y="12600"/>
            <a:ext cx="8229600" cy="1809720"/>
          </a:xfrm>
          <a:prstGeom prst="rect">
            <a:avLst/>
          </a:prstGeom>
          <a:ln w="0">
            <a:noFill/>
          </a:ln>
        </p:spPr>
      </p:pic>
      <p:sp>
        <p:nvSpPr>
          <p:cNvPr id="93" name=""/>
          <p:cNvSpPr txBox="1"/>
          <p:nvPr/>
        </p:nvSpPr>
        <p:spPr>
          <a:xfrm>
            <a:off x="250560" y="1599840"/>
            <a:ext cx="8435880" cy="470844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игре участвуют 2 команды по 3 человека в каждой. Место для игры- ровная прямоугольная площадка размером 8х4 м. На расстоянии 2 м от одной из коротких линий прямоугольника проводят коновую линию, в 5 м от нее - линию метания (</a:t>
            </a:r>
            <a:r>
              <a:rPr b="0" lang="ru-RU" sz="1600" spc="-1" strike="noStrike" u="sng">
                <a:solidFill>
                  <a:srgbClr val="3399ff"/>
                </a:solidFill>
                <a:uFillTx/>
                <a:latin typeface="Times New Roman"/>
                <a:hlinkClick r:id="rId2" action="ppaction://hlinksldjump"/>
              </a:rPr>
              <a:t>рис.). </a:t>
            </a:r>
            <a:r>
              <a:rPr b="0" lang="ru-RU" sz="1600" spc="-1" strike="noStrike">
                <a:solidFill>
                  <a:srgbClr val="ffffff"/>
                </a:solidFill>
                <a:latin typeface="Times New Roman"/>
              </a:rPr>
              <a:t>Бабки (кости ножных суставов мелкого домашнего скота - свиней, коз, овец) - по 10 штук на каждую команду, всего 20 штук; один биток (более крупная и тяжелая бабка).</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каждой командой у коновой черты расставляют в определенном порядке и последовательности фигуры из 10 бабок (сначала ставится "забор", потом "гусек"). Каждая команда должна сбить поставленные бабки меньшим количеством битков. По жребию одна из команд начинает игру первой. Игроки этой команды по очереди бросают битком в бабки, стремясь сбить их.</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Затем бьет другая команда, потом опять первая и т. д. Побеждает команда, затратившая меньшее количество битков на то, чтобы сбить в определенном порядке установленные в игре фигуры из бабок.</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ла: 1) в игре последовательно сбиваются 2 фигуры: "забор", "гусек". "Забор" ставится вдоль коновой черты, "гусек" - перпендикулярно ей; 2) чтобы сбить 1-ю фигуру, надо, начиная с любого конца "забора", последовательно сбивать все бабки этой фигуры, но не более 2 бабок каждым броском битка. Чтобы сбить 2-ю фигуру ("гусек"), надо, начиная с последнего от коновой черты ряда "гуська", последовательно сбивать все бабки этой фигуры, но не более 2 каждым броском битка; 3) сбитые бабки убираются с площадки; 4) игрок, переступивший за черту метания до прикосновения битка к земле, теряет право на бросок, все же сбитые бабки этой фигуры ставятся на прежние места.</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274680" y="-146160"/>
            <a:ext cx="8704080" cy="18097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этого старинного соревнования нужна ровная площадка и три обыкновенных деревянных бочонка. На поверхность бочонка с разбегу вскакивает играющий и, перебирая ногами (как бы идя по бочонку), катится на нем вперед. Одновременно соревнуются 3 игрока. Побеждает тот, кто раньше достигнет на своем бочонке конца площадки.</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249120" y="182520"/>
            <a:ext cx="8742600" cy="16462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грам, одному из универсальных явлений духовной культуры человечества, присуща яркая этническая специфика. Традиционные народные развлечения и игры имеют, как правило, ритуально-обрядовые истоки: со временем обряд трансформируется в игры и функционирует в новом качестве. Или, наоборот, игра включается в обрядовое действие.</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итуально-обрядовые корни в Играх народов Севера прослеживались вплоть до недавнего прошлого. Как и у всех народов мира, у народов Севера преобладают коллективные игры, меньшую часть составляют  индивидуальные. В настоящее время наблюдаются процессы индивидуализации и унификации игр. Детские подвижные Игры народов Севера подразделяются на производственно-бытовые (ролевые); имитационно-подражательные; имеющие характер спортивных тренировок и состязаний.</a:t>
            </a:r>
            <a:endParaRPr b="0" lang="en-US" sz="2200" spc="-1" strike="noStrike">
              <a:solidFill>
                <a:srgbClr val="ffffff"/>
              </a:solidFill>
              <a:latin typeface="Times New Roman"/>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457200" y="255600"/>
            <a:ext cx="8229600" cy="1463760"/>
          </a:xfrm>
          <a:prstGeom prst="rect">
            <a:avLst/>
          </a:prstGeom>
          <a:ln w="0">
            <a:noFill/>
          </a:ln>
        </p:spPr>
      </p:pic>
      <p:pic>
        <p:nvPicPr>
          <p:cNvPr id="99" name="Picture 5" descr="G:\подвижные игры\26-08-1b.jpg"/>
          <p:cNvPicPr/>
          <p:nvPr/>
        </p:nvPicPr>
        <p:blipFill>
          <a:blip r:embed="rId2"/>
          <a:stretch/>
        </p:blipFill>
        <p:spPr>
          <a:xfrm>
            <a:off x="428760" y="1500120"/>
            <a:ext cx="3809880" cy="2857680"/>
          </a:xfrm>
          <a:prstGeom prst="rect">
            <a:avLst/>
          </a:prstGeom>
          <a:ln w="0">
            <a:noFill/>
          </a:ln>
        </p:spPr>
      </p:pic>
      <p:sp>
        <p:nvSpPr>
          <p:cNvPr id="100" name=""/>
          <p:cNvSpPr txBox="1"/>
          <p:nvPr/>
        </p:nvSpPr>
        <p:spPr>
          <a:xfrm>
            <a:off x="4714920" y="1214280"/>
            <a:ext cx="4038480" cy="275760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Традиционные состязания на празднике Сабантуй — скачки, бега, прыжки и национальная борьба — корэш.</a:t>
            </a:r>
            <a:endParaRPr b="0" lang="en-US" sz="2600" spc="-1" strike="noStrike">
              <a:solidFill>
                <a:srgbClr val="ffffff"/>
              </a:solidFill>
              <a:latin typeface="Times New Roman"/>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01" name="Picture 6" descr="G:\подвижные игры\35f14bf73aace7e3fa85539f629bc9e2.jpg"/>
          <p:cNvPicPr/>
          <p:nvPr/>
        </p:nvPicPr>
        <p:blipFill>
          <a:blip r:embed="rId3"/>
          <a:stretch/>
        </p:blipFill>
        <p:spPr>
          <a:xfrm>
            <a:off x="4500720" y="3857760"/>
            <a:ext cx="413856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457200" y="152280"/>
            <a:ext cx="8229600" cy="12686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грающих 20-30 человек. На противоположных концах площадки, на расстоянии 40-60 м проводятся 2 линии. У одной линии на полене устанавливают доску так, чтобы один ее конец был опущен на землю, а другой был бы приподнят. На опущенный конец кладут 20 палочек. Рядом стоит водящий. Остальные игроки строятся в одну шеренгу по этой же линии.</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дин из игроков нажимает ногой на верхний конец доски - палочки разлетаются. По этому сигналу игроки бегут к противоположному концу площадки и обратно. Водящий быстро собирает палочки, кладет на опущенный конец доски и старается "запятнать" любого из возвращающихся игроков.</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авила: 1) водящий должен собрать все палочки; 2) ловить игроков можно только до линии; 3) если до возвращения игроков водящий не успеет собрать палочки, то он снова выполняет роль водящего.</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гра способствует развитию скорости бега, быстроты реакции, ловкости, ориентировк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09:36:36Z</dcterms:created>
  <dc:creator>!!!</dc:creator>
  <dc:description/>
  <dc:language>en-US</dc:language>
  <cp:lastModifiedBy>acer</cp:lastModifiedBy>
  <dcterms:modified xsi:type="dcterms:W3CDTF">2020-11-24T08:26:49Z</dcterms:modified>
  <cp:revision>13</cp:revision>
  <dc:subject/>
  <dc:title>Народные подвижные игры народов Сибири и Красноярского края</dc:title>
</cp:coreProperties>
</file>