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717-B7DF-40B1-B0EB-D5B5153D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6D9-E8B3-4F90-95A1-678DEC55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F3B-FC68-4901-8288-34DD34BC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141-8E97-4776-8531-75C4B9C3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F16-2985-448A-89F3-01A81547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4FB-70F4-442B-A783-9FBD049B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036-9105-430D-8F49-738CE46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293-F808-45A0-8EB7-83BD96C1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790-9DD6-4ED5-9B1A-525D0353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B0B-AF80-4273-B6E8-9E35028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3B7-24A1-4236-8ED6-298AB2D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0D0-05CF-4BF8-9AF7-E7BD80A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b5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dcb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b5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C30B-543E-43A9-A2D8-0DBF9F1767C1}" type="slidenum">
              <a:rPr b="0" lang="en-US" sz="1200" spc="-1" strike="noStrike">
                <a:solidFill>
                  <a:srgbClr val="9dcb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4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44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560520" y="1182600"/>
            <a:ext cx="3139920" cy="4761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553080" y="4495680"/>
            <a:ext cx="259092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9"/>
          <a:stretch/>
        </p:blipFill>
        <p:spPr>
          <a:xfrm>
            <a:off x="2359080" y="1762200"/>
            <a:ext cx="5889600" cy="216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495320" y="44953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73af"/>
                </a:solidFill>
                <a:latin typeface="Calibri"/>
              </a:rPr>
              <a:t>Презентацию подготовили: Воспитатели 2 ранней группы «Кнопочки»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73af"/>
                </a:solidFill>
                <a:latin typeface="Calibri"/>
              </a:rPr>
              <a:t>Ковалёва А.В. Толкач И.А.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53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43000" y="106200"/>
            <a:ext cx="3568680" cy="127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Иятта\Рабочий стол\ЭТО СРОЧНО\ПРЕЗЕНТАЦИЯ\0_6d5e4_a4e0eb9c_L.png"/>
          <p:cNvPicPr/>
          <p:nvPr/>
        </p:nvPicPr>
        <p:blipFill>
          <a:blip r:embed="rId11"/>
          <a:stretch/>
        </p:blipFill>
        <p:spPr>
          <a:xfrm>
            <a:off x="14400" y="1063800"/>
            <a:ext cx="12762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Прямоугольник 4"/>
          <p:cNvGrpSpPr/>
          <p:nvPr/>
        </p:nvGrpSpPr>
        <p:grpSpPr>
          <a:xfrm>
            <a:off x="-6480" y="-6480"/>
            <a:ext cx="9199800" cy="6913800"/>
            <a:chOff x="-6480" y="-6480"/>
            <a:chExt cx="9199800" cy="6913800"/>
          </a:xfrm>
        </p:grpSpPr>
        <p:pic>
          <p:nvPicPr>
            <p:cNvPr id="5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99800" cy="691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3760" y="205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58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2" descr=""/>
          <p:cNvPicPr/>
          <p:nvPr/>
        </p:nvPicPr>
        <p:blipFill>
          <a:blip r:embed="rId8"/>
          <a:stretch/>
        </p:blipFill>
        <p:spPr>
          <a:xfrm>
            <a:off x="1725480" y="1378080"/>
            <a:ext cx="5570640" cy="415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23760" y="-4752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49320" y="1125360"/>
            <a:ext cx="12762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Прямоугольник 4"/>
          <p:cNvGrpSpPr/>
          <p:nvPr/>
        </p:nvGrpSpPr>
        <p:grpSpPr>
          <a:xfrm>
            <a:off x="-42840" y="-73080"/>
            <a:ext cx="9199440" cy="6912000"/>
            <a:chOff x="-42840" y="-73080"/>
            <a:chExt cx="9199440" cy="6912000"/>
          </a:xfrm>
        </p:grpSpPr>
        <p:pic>
          <p:nvPicPr>
            <p:cNvPr id="6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42840" y="-73080"/>
              <a:ext cx="919944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-14400" y="-475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70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450720" y="1322280"/>
            <a:ext cx="3140280" cy="476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2" descr=""/>
          <p:cNvPicPr/>
          <p:nvPr/>
        </p:nvPicPr>
        <p:blipFill>
          <a:blip r:embed="rId9"/>
          <a:stretch/>
        </p:blipFill>
        <p:spPr>
          <a:xfrm>
            <a:off x="2743200" y="1371600"/>
            <a:ext cx="5572080" cy="378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3760" y="-4752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Иятта\Рабочий стол\ЭТО СРОЧНО\ПРЕЗЕНТАЦИЯ\0_6d5e4_a4e0eb9c_L.png"/>
          <p:cNvPicPr/>
          <p:nvPr/>
        </p:nvPicPr>
        <p:blipFill>
          <a:blip r:embed="rId11"/>
          <a:stretch/>
        </p:blipFill>
        <p:spPr>
          <a:xfrm>
            <a:off x="49320" y="1125360"/>
            <a:ext cx="12762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8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83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10"/>
          <a:stretch/>
        </p:blipFill>
        <p:spPr>
          <a:xfrm>
            <a:off x="1378080" y="1449360"/>
            <a:ext cx="2641320" cy="2921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"/>
          <p:cNvPicPr/>
          <p:nvPr/>
        </p:nvPicPr>
        <p:blipFill>
          <a:blip r:embed="rId11"/>
          <a:stretch/>
        </p:blipFill>
        <p:spPr>
          <a:xfrm>
            <a:off x="4255920" y="2674800"/>
            <a:ext cx="32022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94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96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10"/>
          <a:stretch/>
        </p:blipFill>
        <p:spPr>
          <a:xfrm>
            <a:off x="1054080" y="1174680"/>
            <a:ext cx="2938320" cy="3648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11"/>
          <a:stretch/>
        </p:blipFill>
        <p:spPr>
          <a:xfrm>
            <a:off x="4732200" y="1839960"/>
            <a:ext cx="29368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0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09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426960" y="1195560"/>
            <a:ext cx="3144960" cy="47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7428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ма... Простое, казалось бы, слово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сколько в нем нежности, ласки, тепла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енок лопочет его бестолково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учонки раскинув, припухший от сна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ечали и в радости мы произносим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 робкое "Мама", то резкое "Мать"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рой на чужбине вдруг сердце запросит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сем незнакомую - мамой назвать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дома так часто ей делаем больн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тупками, взглядами, жестами мы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том вдалеке вспоминаем невольн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том, что прибавило ей седи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пишем на школьных листках тороплив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знанья своей запоздалой ви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на их читает, краснеет стыдливо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в горьких морщинах слезинки вид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вно без письма все обиды простила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тут ей до боли приятно прочесть: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"Спасибо, родная, за то, что растила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 то, что ты любишь, За то что ты есть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117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-160200" y="540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-28440" y="1003320"/>
            <a:ext cx="12762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20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22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10"/>
          <a:stretch/>
        </p:blipFill>
        <p:spPr>
          <a:xfrm>
            <a:off x="1479600" y="1289160"/>
            <a:ext cx="3098880" cy="35240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11"/>
          <a:stretch/>
        </p:blipFill>
        <p:spPr>
          <a:xfrm>
            <a:off x="4786200" y="2624040"/>
            <a:ext cx="3051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3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35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10"/>
          <a:stretch/>
        </p:blipFill>
        <p:spPr>
          <a:xfrm>
            <a:off x="1647720" y="1289160"/>
            <a:ext cx="2730600" cy="35607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11"/>
          <a:stretch/>
        </p:blipFill>
        <p:spPr>
          <a:xfrm>
            <a:off x="4668840" y="1994040"/>
            <a:ext cx="3124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4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48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244440" y="901800"/>
            <a:ext cx="3138480" cy="4760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6324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, как цветы от холодной вьюги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х любовь во сто крат горячей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чем друзей и любимой подруг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еринской любви не объять – в летний зной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и в пургу, и в стужу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Она все вам готова отдать, все до грамма и даже душу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– вам, их ласки никто не заменит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Среди пасмурных жизни дней кто поймет вас и кто оценит?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Кто возьмет на себя всю боль, все терзанья души и муки?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ь не даст вместо хлеба соль, 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ь всегда к вам протянет рук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Пусть она и накажет строго - матерям никогда не лгите.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м ведь надо от вас не много – только очень их берегите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как цветы от холодной вьюги, 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 сыновей заботой своей уврачуйте их все недуг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Не оставьте их без участья, берегите всегда их дети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Ведь не может быть полного счастья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если матери нет на свете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156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-12600" y="-25560"/>
            <a:ext cx="3568680" cy="127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0520" y="1236600"/>
            <a:ext cx="1276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ads</cp:lastModifiedBy>
  <dcterms:modified xsi:type="dcterms:W3CDTF">2020-11-24T15:44:56Z</dcterms:modified>
  <cp:revision>27</cp:revision>
  <dc:subject/>
  <dc:title>Слайд 1</dc:title>
</cp:coreProperties>
</file>