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639C-856C-4E33-A004-2B4966D7F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0908-7554-4FA2-AC0D-69FEAF71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C356-5750-4F3F-8CA0-DE482CD0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80C7-1543-4D37-A1C8-B1979C5E2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9960-1479-48D6-B2FF-A14FB1A1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E615-DD8B-44A9-9683-982A5F38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F9CE-F2E0-4300-9EE7-93DD715A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CA8C-8E61-482A-9BD4-89A9DF95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F024-D7CB-4171-AFD9-83ACAED6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64BF-5B8D-45CE-A4AD-4B3BA417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C97E-EB08-4390-A74F-81180305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E6A0-DA1F-41B2-B8E3-03FEE4AA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2854-6609-46C3-BF2F-83444ED63A8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hoto.pravdapskov.ru/upload/news/2010-09-22_12-58-25_991327611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Картинка 7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939960"/>
            <a:ext cx="78246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c0c0c0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да в природе может находитьс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в трёх состояни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96880" y="1916280"/>
            <a:ext cx="1986840" cy="6426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вёрд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59800" y="1916280"/>
            <a:ext cx="1834200" cy="642600"/>
          </a:xfrm>
          <a:prstGeom prst="rect">
            <a:avLst/>
          </a:prstGeom>
          <a:solidFill>
            <a:srgbClr val="ccecff"/>
          </a:solidFill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Жидк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742720" y="1916280"/>
            <a:ext cx="3144960" cy="64260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азообраз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24000" y="3141720"/>
            <a:ext cx="2376360" cy="2837160"/>
          </a:xfrm>
          <a:prstGeom prst="rect">
            <a:avLst/>
          </a:prstGeom>
          <a:solidFill>
            <a:srgbClr val="0066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да ре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кеано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р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ж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440520" y="3141720"/>
            <a:ext cx="1866240" cy="2288520"/>
          </a:xfrm>
          <a:prstGeom prst="rect">
            <a:avLst/>
          </a:prstGeom>
          <a:solidFill>
            <a:srgbClr val="ffcc99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а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ё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не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ей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6249960" y="3213000"/>
            <a:ext cx="1728720" cy="642600"/>
          </a:xfrm>
          <a:prstGeom prst="rect">
            <a:avLst/>
          </a:prstGeom>
          <a:solidFill>
            <a:srgbClr val="cc99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ар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25"/>
          <p:cNvPicPr/>
          <p:nvPr/>
        </p:nvPicPr>
        <p:blipFill>
          <a:blip r:embed="rId1"/>
          <a:stretch/>
        </p:blipFill>
        <p:spPr>
          <a:xfrm>
            <a:off x="5651640" y="4221000"/>
            <a:ext cx="3089160" cy="226224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  <p:sp>
        <p:nvSpPr>
          <p:cNvPr id="64" name="Line 11"/>
          <p:cNvSpPr/>
          <p:nvPr/>
        </p:nvSpPr>
        <p:spPr>
          <a:xfrm>
            <a:off x="1403280" y="1413000"/>
            <a:ext cx="0" cy="503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3"/>
          <p:cNvSpPr/>
          <p:nvPr/>
        </p:nvSpPr>
        <p:spPr>
          <a:xfrm>
            <a:off x="4284720" y="1413000"/>
            <a:ext cx="0" cy="503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4"/>
          <p:cNvSpPr/>
          <p:nvPr/>
        </p:nvSpPr>
        <p:spPr>
          <a:xfrm>
            <a:off x="7236000" y="1413000"/>
            <a:ext cx="0" cy="503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5"/>
          <p:cNvSpPr/>
          <p:nvPr/>
        </p:nvSpPr>
        <p:spPr>
          <a:xfrm>
            <a:off x="1332000" y="2637000"/>
            <a:ext cx="0" cy="502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>
            <a:off x="4211640" y="2637000"/>
            <a:ext cx="0" cy="502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7"/>
          <p:cNvSpPr/>
          <p:nvPr/>
        </p:nvSpPr>
        <p:spPr>
          <a:xfrm>
            <a:off x="7020000" y="2637000"/>
            <a:ext cx="0" cy="502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F:\ОКРУЖ.МИР ПРЕЗЕНТАЦИИ\image-3.jpg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777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F:\ОКРУЖ.МИР ПРЕЗЕНТАЦИИ\images (3).jpg"/>
          <p:cNvPicPr/>
          <p:nvPr/>
        </p:nvPicPr>
        <p:blipFill>
          <a:blip r:embed="rId1"/>
          <a:stretch/>
        </p:blipFill>
        <p:spPr>
          <a:xfrm>
            <a:off x="826920" y="404640"/>
            <a:ext cx="3529080" cy="3384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F:\ОКРУЖ.МИР ПРЕЗЕНТАЦИИ\images (4).jpg"/>
          <p:cNvPicPr/>
          <p:nvPr/>
        </p:nvPicPr>
        <p:blipFill>
          <a:blip r:embed="rId2"/>
          <a:stretch/>
        </p:blipFill>
        <p:spPr>
          <a:xfrm>
            <a:off x="4500720" y="3340080"/>
            <a:ext cx="3833640" cy="2873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F:\ОКРУЖ.МИР ПРЕЗЕНТАЦИИ\images (2).jpg"/>
          <p:cNvPicPr/>
          <p:nvPr/>
        </p:nvPicPr>
        <p:blipFill>
          <a:blip r:embed="rId3"/>
          <a:stretch/>
        </p:blipFill>
        <p:spPr>
          <a:xfrm>
            <a:off x="5364000" y="620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F:\ОКРУЖ.МИР ПРЕЗЕНТАЦИИ\images (5).jpg"/>
          <p:cNvPicPr/>
          <p:nvPr/>
        </p:nvPicPr>
        <p:blipFill>
          <a:blip r:embed="rId4"/>
          <a:stretch/>
        </p:blipFill>
        <p:spPr>
          <a:xfrm>
            <a:off x="684360" y="4581360"/>
            <a:ext cx="2705040" cy="16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ВОДА - ЭТО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92d050"/>
                </a:solidFill>
                <a:latin typeface="Calibri"/>
              </a:rPr>
              <a:t>ЖИЗНЬ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ДА – ЭТ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92392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92d050"/>
                </a:solidFill>
                <a:latin typeface="Calibri"/>
              </a:rPr>
              <a:t>ЗДОРОВЬЕ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ДА – ЭТ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57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92d050"/>
                </a:solidFill>
                <a:latin typeface="Calibri"/>
              </a:rPr>
              <a:t>ДРУГ И ПОМОЩНИК ЧЕЛОВЕК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F:\ОКРУЖ.МИР ПРЕЗЕНТАЦИИ\7df6c1a479636ce68aab49af147af7e4.jpg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F:\ОКРУЖ.МИР ПРЕЗЕНТАЦИИ\depositphotos_188833634-stock-photo-beautiful-scenery-with-very-clear.jpg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F:\ОКРУЖ.МИР ПРЕЗЕНТАЦИИ\images (12).jpg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F:\ОКРУЖ.МИР ПРЕЗЕНТАЦИИ\img2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2"/>
          <p:cNvSpPr/>
          <p:nvPr/>
        </p:nvSpPr>
        <p:spPr>
          <a:xfrm>
            <a:off x="826920" y="549360"/>
            <a:ext cx="1152720" cy="503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F:\ОКРУЖ.МИР ПРЕЗЕНТАЦИИ\images (13).jpg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F:\ОКРУЖ.МИР ПРЕЗЕНТАЦИИ\img4.jpg"/>
          <p:cNvPicPr/>
          <p:nvPr/>
        </p:nvPicPr>
        <p:blipFill>
          <a:blip r:embed="rId1"/>
          <a:stretch/>
        </p:blipFill>
        <p:spPr>
          <a:xfrm>
            <a:off x="549360" y="333360"/>
            <a:ext cx="804528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F:\ОКРУЖ.МИР ПРЕЗЕНТАЦИИ\5953139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F:\ОКРУЖ.МИР ПРЕЗЕНТАЦИИ\images (9).jpg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F:\ОКРУЖ.МИР ПРЕЗЕНТАЦИИ\images (14).jpg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F:\ОКРУЖ.МИР ПРЕЗЕНТАЦИИ\images (10).jpg"/>
          <p:cNvPicPr/>
          <p:nvPr/>
        </p:nvPicPr>
        <p:blipFill>
          <a:blip r:embed="rId1"/>
          <a:stretch/>
        </p:blipFill>
        <p:spPr>
          <a:xfrm>
            <a:off x="395280" y="1413000"/>
            <a:ext cx="84088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F:\ОКРУЖ.МИР ПРЕЗЕНТАЦИИ\images (15).jpg"/>
          <p:cNvPicPr/>
          <p:nvPr/>
        </p:nvPicPr>
        <p:blipFill>
          <a:blip r:embed="rId2"/>
          <a:stretch/>
        </p:blipFill>
        <p:spPr>
          <a:xfrm>
            <a:off x="324000" y="260280"/>
            <a:ext cx="85690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F:\ОКРУЖ.МИР ПРЕЗЕНТАЦИИ\images (16).jpg"/>
          <p:cNvPicPr/>
          <p:nvPr/>
        </p:nvPicPr>
        <p:blipFill>
          <a:blip r:embed="rId1"/>
          <a:stretch/>
        </p:blipFill>
        <p:spPr>
          <a:xfrm>
            <a:off x="468360" y="260280"/>
            <a:ext cx="83516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F:\ОКРУЖ.МИР ПРЕЗЕНТАЦИИ\beregitevoduki.jpg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F:\ОКРУЖ.МИР ПРЕЗЕНТАЦИИ\3718e999fed139b1b475ce5b5991fd03.jpg"/>
          <p:cNvPicPr/>
          <p:nvPr/>
        </p:nvPicPr>
        <p:blipFill>
          <a:blip r:embed="rId1"/>
          <a:stretch/>
        </p:blipFill>
        <p:spPr>
          <a:xfrm>
            <a:off x="468360" y="260280"/>
            <a:ext cx="83516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Овал 1"/>
          <p:cNvSpPr/>
          <p:nvPr/>
        </p:nvSpPr>
        <p:spPr>
          <a:xfrm>
            <a:off x="2771640" y="476280"/>
            <a:ext cx="3888000" cy="5113440"/>
          </a:xfrm>
          <a:prstGeom prst="ellipse">
            <a:avLst/>
          </a:prstGeom>
          <a:noFill/>
          <a:ln w="7632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Arial"/>
                <a:ea typeface="Arial"/>
              </a:rPr>
              <a:t>Д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F:\ОКРУЖ.МИР ПРЕЗЕНТАЦИИ\beregite-vodu-plakat-risunki_5.jpg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F:\ОКРУЖ.МИР ПРЕЗЕНТАЦИИ\e9b648e53348fed47ddd8ae2cfb036ae.jpg"/>
          <p:cNvPicPr/>
          <p:nvPr/>
        </p:nvPicPr>
        <p:blipFill>
          <a:blip r:embed="rId1"/>
          <a:stretch/>
        </p:blipFill>
        <p:spPr>
          <a:xfrm>
            <a:off x="468360" y="260280"/>
            <a:ext cx="83516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2"/>
          <a:srcRect l="0" t="0" r="6060" b="54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"/>
          <p:cNvSpPr/>
          <p:nvPr/>
        </p:nvSpPr>
        <p:spPr>
          <a:xfrm>
            <a:off x="1183680" y="1700280"/>
            <a:ext cx="675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БЕРЕГИТЕ ПРИРОДУ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2340360" y="1413000"/>
            <a:ext cx="537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  <a:ea typeface="Arial"/>
              </a:rPr>
              <a:t>ПРО ВОДУ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236960" y="1477800"/>
            <a:ext cx="716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ИССЛЕДОВАТЕ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179280" y="3105000"/>
            <a:ext cx="8713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о человек, который занимается научной деятельность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Н РАБОТЫ НАШЕГО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Изучение вопроса о свойствах в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Наблюдение за распространением воды в приро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Изучение вопроса о значении воды для растений, животных и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Обсуждение проблемы загрязнения и охраны в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ДА - ЖИДК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F:\ОКРУЖ.МИР ПРЕЗЕНТАЦИИ\images (8).jpg"/>
          <p:cNvPicPr/>
          <p:nvPr/>
        </p:nvPicPr>
        <p:blipFill>
          <a:blip r:embed="rId1"/>
          <a:stretch/>
        </p:blipFill>
        <p:spPr>
          <a:xfrm>
            <a:off x="611280" y="1557360"/>
            <a:ext cx="8064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ЁД – ЭТО ВОДА В ТВЁРДОМ СОСТОЯН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F:\ОКРУЖ.МИР ПРЕЗЕНТАЦИИ\Без названия.jpg"/>
          <p:cNvPicPr/>
          <p:nvPr/>
        </p:nvPicPr>
        <p:blipFill>
          <a:blip r:embed="rId1"/>
          <a:stretch/>
        </p:blipFill>
        <p:spPr>
          <a:xfrm>
            <a:off x="611280" y="1628640"/>
            <a:ext cx="8137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ДА – ЭТО ПА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F:\ОКРУЖ.МИР ПРЕЗЕНТАЦИИ\Без названия (2).jpg"/>
          <p:cNvPicPr/>
          <p:nvPr/>
        </p:nvPicPr>
        <p:blipFill>
          <a:blip r:embed="rId1"/>
          <a:stretch/>
        </p:blipFill>
        <p:spPr>
          <a:xfrm>
            <a:off x="539640" y="1700280"/>
            <a:ext cx="8136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16:07:20Z</dcterms:created>
  <dc:creator>111</dc:creator>
  <dc:description/>
  <dc:language>en-US</dc:language>
  <cp:lastModifiedBy>Пользователь</cp:lastModifiedBy>
  <dcterms:modified xsi:type="dcterms:W3CDTF">2019-10-14T17:09:55Z</dcterms:modified>
  <cp:revision>150</cp:revision>
  <dc:subject/>
  <dc:title>Слайд 1</dc:title>
</cp:coreProperties>
</file>