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920E-3980-41A0-B521-A51A6010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4466-9A84-4E60-A2C0-CF0B1BFD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E77D-13DB-455D-9ACA-8D940E98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8D29-D337-4D44-B045-12AD99D8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188-8A20-4C42-8810-A059267C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EE72-3F6D-4119-9446-F5B8CB93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5E4-90A7-442E-8FBE-09A5FF35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AC3-5A72-4C0E-BEE7-F7252DC1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485-DF66-4D98-B884-87CFCD65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26BA-BECC-471F-9084-ED45BD6E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68C1-1AD1-4714-B66F-43F64CE8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F2A3-C906-4ADC-A411-570D748F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135C-F459-4121-ACCB-9CD8EF25B83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hoto.pravdapskov.ru/upload/news/2010-09-22_12-58-25_991327611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Картинка 7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939960"/>
            <a:ext cx="78246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c0c0c0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да в природе может находитьс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в трёх состоя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96880" y="1916280"/>
            <a:ext cx="198684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вёрд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59800" y="1916280"/>
            <a:ext cx="1834200" cy="642600"/>
          </a:xfrm>
          <a:prstGeom prst="rect">
            <a:avLst/>
          </a:prstGeom>
          <a:solidFill>
            <a:srgbClr val="ccecff"/>
          </a:solidFill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ид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742720" y="1916280"/>
            <a:ext cx="3144960" cy="64260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азообраз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24000" y="3141720"/>
            <a:ext cx="2376360" cy="2837160"/>
          </a:xfrm>
          <a:prstGeom prst="rect">
            <a:avLst/>
          </a:prstGeom>
          <a:solidFill>
            <a:srgbClr val="0066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да ре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кеан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р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440520" y="3141720"/>
            <a:ext cx="1866240" cy="2288520"/>
          </a:xfrm>
          <a:prstGeom prst="rect">
            <a:avLst/>
          </a:prstGeom>
          <a:solidFill>
            <a:srgbClr val="ffcc99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ё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е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6249960" y="3213000"/>
            <a:ext cx="1728720" cy="642600"/>
          </a:xfrm>
          <a:prstGeom prst="rect">
            <a:avLst/>
          </a:prstGeom>
          <a:solidFill>
            <a:srgbClr val="cc99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25"/>
          <p:cNvPicPr/>
          <p:nvPr/>
        </p:nvPicPr>
        <p:blipFill>
          <a:blip r:embed="rId1"/>
          <a:stretch/>
        </p:blipFill>
        <p:spPr>
          <a:xfrm>
            <a:off x="5651640" y="4221000"/>
            <a:ext cx="3089160" cy="226224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sp>
        <p:nvSpPr>
          <p:cNvPr id="64" name="Line 11"/>
          <p:cNvSpPr/>
          <p:nvPr/>
        </p:nvSpPr>
        <p:spPr>
          <a:xfrm>
            <a:off x="1403280" y="141300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4284720" y="141300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7236000" y="141300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5"/>
          <p:cNvSpPr/>
          <p:nvPr/>
        </p:nvSpPr>
        <p:spPr>
          <a:xfrm>
            <a:off x="1332000" y="2637000"/>
            <a:ext cx="0" cy="502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>
            <a:off x="4211640" y="2637000"/>
            <a:ext cx="0" cy="502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>
            <a:off x="7020000" y="2637000"/>
            <a:ext cx="0" cy="502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F:\ОКРУЖ.МИР ПРЕЗЕНТАЦИИ\image-3.jpg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77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:\ОКРУЖ.МИР ПРЕЗЕНТАЦИИ\images (3).jpg"/>
          <p:cNvPicPr/>
          <p:nvPr/>
        </p:nvPicPr>
        <p:blipFill>
          <a:blip r:embed="rId1"/>
          <a:stretch/>
        </p:blipFill>
        <p:spPr>
          <a:xfrm>
            <a:off x="826920" y="404640"/>
            <a:ext cx="3529080" cy="3384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F:\ОКРУЖ.МИР ПРЕЗЕНТАЦИИ\images (4).jpg"/>
          <p:cNvPicPr/>
          <p:nvPr/>
        </p:nvPicPr>
        <p:blipFill>
          <a:blip r:embed="rId2"/>
          <a:stretch/>
        </p:blipFill>
        <p:spPr>
          <a:xfrm>
            <a:off x="4500720" y="3340080"/>
            <a:ext cx="3833640" cy="2873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F:\ОКРУЖ.МИР ПРЕЗЕНТАЦИИ\images (2).jpg"/>
          <p:cNvPicPr/>
          <p:nvPr/>
        </p:nvPicPr>
        <p:blipFill>
          <a:blip r:embed="rId3"/>
          <a:stretch/>
        </p:blipFill>
        <p:spPr>
          <a:xfrm>
            <a:off x="5364000" y="620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F:\ОКРУЖ.МИР ПРЕЗЕНТАЦИИ\images (5).jpg"/>
          <p:cNvPicPr/>
          <p:nvPr/>
        </p:nvPicPr>
        <p:blipFill>
          <a:blip r:embed="rId4"/>
          <a:stretch/>
        </p:blipFill>
        <p:spPr>
          <a:xfrm>
            <a:off x="684360" y="4581360"/>
            <a:ext cx="2705040" cy="16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ВОДА - ЭТ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92d050"/>
                </a:solidFill>
                <a:latin typeface="Calibri"/>
              </a:rPr>
              <a:t>ЖИЗНЬ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А – ЭТ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923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92d050"/>
                </a:solidFill>
                <a:latin typeface="Calibri"/>
              </a:rPr>
              <a:t>ЗДОРОВЬ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А – ЭТ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57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92d050"/>
                </a:solidFill>
                <a:latin typeface="Calibri"/>
              </a:rPr>
              <a:t>ДРУГ И ПОМОЩНИК ЧЕЛОВЕК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F:\ОКРУЖ.МИР ПРЕЗЕНТАЦИИ\7df6c1a479636ce68aab49af147af7e4.jpg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F:\ОКРУЖ.МИР ПРЕЗЕНТАЦИИ\depositphotos_188833634-stock-photo-beautiful-scenery-with-very-clear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F:\ОКРУЖ.МИР ПРЕЗЕНТАЦИИ\images (12).jpg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F:\ОКРУЖ.МИР ПРЕЗЕНТАЦИИ\img2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2"/>
          <p:cNvSpPr/>
          <p:nvPr/>
        </p:nvSpPr>
        <p:spPr>
          <a:xfrm>
            <a:off x="826920" y="549360"/>
            <a:ext cx="115272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F:\ОКРУЖ.МИР ПРЕЗЕНТАЦИИ\images (13)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F:\ОКРУЖ.МИР ПРЕЗЕНТАЦИИ\img4.jpg"/>
          <p:cNvPicPr/>
          <p:nvPr/>
        </p:nvPicPr>
        <p:blipFill>
          <a:blip r:embed="rId1"/>
          <a:stretch/>
        </p:blipFill>
        <p:spPr>
          <a:xfrm>
            <a:off x="549360" y="333360"/>
            <a:ext cx="804528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F:\ОКРУЖ.МИР ПРЕЗЕНТАЦИИ\5953139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F:\ОКРУЖ.МИР ПРЕЗЕНТАЦИИ\images (9).jpg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F:\ОКРУЖ.МИР ПРЕЗЕНТАЦИИ\images (14).jpg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F:\ОКРУЖ.МИР ПРЕЗЕНТАЦИИ\images (10).jpg"/>
          <p:cNvPicPr/>
          <p:nvPr/>
        </p:nvPicPr>
        <p:blipFill>
          <a:blip r:embed="rId1"/>
          <a:stretch/>
        </p:blipFill>
        <p:spPr>
          <a:xfrm>
            <a:off x="395280" y="1413000"/>
            <a:ext cx="84088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F:\ОКРУЖ.МИР ПРЕЗЕНТАЦИИ\images (15).jpg"/>
          <p:cNvPicPr/>
          <p:nvPr/>
        </p:nvPicPr>
        <p:blipFill>
          <a:blip r:embed="rId2"/>
          <a:stretch/>
        </p:blipFill>
        <p:spPr>
          <a:xfrm>
            <a:off x="324000" y="260280"/>
            <a:ext cx="85690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F:\ОКРУЖ.МИР ПРЕЗЕНТАЦИИ\images (16).jpg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F:\ОКРУЖ.МИР ПРЕЗЕНТАЦИИ\beregitevoduki.jpg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F:\ОКРУЖ.МИР ПРЕЗЕНТАЦИИ\3718e999fed139b1b475ce5b5991fd03.jpg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Овал 1"/>
          <p:cNvSpPr/>
          <p:nvPr/>
        </p:nvSpPr>
        <p:spPr>
          <a:xfrm>
            <a:off x="2771640" y="476280"/>
            <a:ext cx="3888000" cy="5113440"/>
          </a:xfrm>
          <a:prstGeom prst="ellipse">
            <a:avLst/>
          </a:prstGeom>
          <a:noFill/>
          <a:ln w="7632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  <a:ea typeface="Arial"/>
              </a:rPr>
              <a:t>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F:\ОКРУЖ.МИР ПРЕЗЕНТАЦИИ\beregite-vodu-plakat-risunki_5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F:\ОКРУЖ.МИР ПРЕЗЕНТАЦИИ\e9b648e53348fed47ddd8ae2cfb036ae.jpg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2"/>
          <a:srcRect l="0" t="0" r="6060" b="54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1183680" y="1700280"/>
            <a:ext cx="675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БЕРЕГИТЕ ПРИРОД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340360" y="1413000"/>
            <a:ext cx="537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ПРО ВОДУ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236960" y="1477800"/>
            <a:ext cx="716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ИССЛЕДОВАТЕ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179280" y="3105000"/>
            <a:ext cx="871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о человек, который занимается научной деятельность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РАБОТЫ НАШЕГО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Изучение вопроса о свойствах 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Наблюдение за распространением воды в приро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Изучение вопроса о значении воды для растений, животных и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Обсуждение проблемы загрязнения и охраны 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А - ЖИДК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F:\ОКРУЖ.МИР ПРЕЗЕНТАЦИИ\images (8).jpg"/>
          <p:cNvPicPr/>
          <p:nvPr/>
        </p:nvPicPr>
        <p:blipFill>
          <a:blip r:embed="rId1"/>
          <a:stretch/>
        </p:blipFill>
        <p:spPr>
          <a:xfrm>
            <a:off x="611280" y="1557360"/>
            <a:ext cx="8064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ЁД – ЭТО ВОДА В ТВЁРДОМ СОСТОЯН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F:\ОКРУЖ.МИР ПРЕЗЕНТАЦИИ\Без названия.jpg"/>
          <p:cNvPicPr/>
          <p:nvPr/>
        </p:nvPicPr>
        <p:blipFill>
          <a:blip r:embed="rId1"/>
          <a:stretch/>
        </p:blipFill>
        <p:spPr>
          <a:xfrm>
            <a:off x="611280" y="1628640"/>
            <a:ext cx="8137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А – ЭТО ПА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F:\ОКРУЖ.МИР ПРЕЗЕНТАЦИИ\Без названия (2).jpg"/>
          <p:cNvPicPr/>
          <p:nvPr/>
        </p:nvPicPr>
        <p:blipFill>
          <a:blip r:embed="rId1"/>
          <a:stretch/>
        </p:blipFill>
        <p:spPr>
          <a:xfrm>
            <a:off x="539640" y="1700280"/>
            <a:ext cx="813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6:07:20Z</dcterms:created>
  <dc:creator>111</dc:creator>
  <dc:description/>
  <dc:language>en-US</dc:language>
  <cp:lastModifiedBy>Пользователь</cp:lastModifiedBy>
  <dcterms:modified xsi:type="dcterms:W3CDTF">2019-10-14T17:09:55Z</dcterms:modified>
  <cp:revision>150</cp:revision>
  <dc:subject/>
  <dc:title>Слайд 1</dc:title>
</cp:coreProperties>
</file>