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C8BB-D1DD-48BB-A69D-A9AE86FD8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C534-6DAE-4B33-B1A2-63A895EB1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2E3-3FC6-4C9F-9F47-13760A6A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570-98DF-4DAF-9487-2AD7241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5AE-778A-44D7-B71F-ADC0E66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475-1540-4B21-B295-BAB725E7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995-F377-4B7F-A96F-D3294464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70D-E260-4889-A7D1-FB5B31B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5C-A1EB-4E7D-9E12-BFEDD77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7FB-3E61-40E6-81FA-AE4651F7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1DE-4086-430F-9AF7-19C3F79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486-52E5-4AAF-A5FD-BF45371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5A6-3311-48C0-9555-79A966B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36F-CF62-45A9-8EA1-C39A00D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3DC-F770-4083-B288-88CD66B2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180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imes New Roman"/>
              </a:rPr>
              <a:t>Что такое дружб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811160"/>
            <a:ext cx="648036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тихи о дру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356840"/>
            <a:ext cx="8578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С другом разделю всё в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С другом буду всегда че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Если в чём-то я не пр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Друг подскажет – он не 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В обиду друга я не 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Не променяю, не пр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От того беги 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Кто чернит свои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Обижаться не спе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Дружбой школьной дорож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 Пар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95280" y="787320"/>
            <a:ext cx="70344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это тёплый ветер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это светлый мир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солнце на рассвете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Для души весёлый пир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 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– это только счастье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 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– у людей одна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жбой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не страшны ненастья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жбой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жизнь весной полна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г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разделит боль и радость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г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поддержит и спасёт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гом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даже злая слабость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В миг растает и уйдет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Верь, храни, цени же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у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Это высший идеал.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Тебе она сослужит службу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Ведь дружба – это ценный дар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http://www.womenzone.org/wp-content/uploads/2016/03/druzya-v-zhizni-detey-1036-59034111.jpg"/>
          <p:cNvPicPr/>
          <p:nvPr/>
        </p:nvPicPr>
        <p:blipFill>
          <a:blip r:embed="rId1"/>
          <a:stretch/>
        </p:blipFill>
        <p:spPr>
          <a:xfrm>
            <a:off x="5429160" y="500040"/>
            <a:ext cx="3714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 в песнях о дружбе поетс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Я иду и пою обо всё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руг в беде не брос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ишнего не спросит.                                                     Вот, что  Вот что значит настоящий д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сли с другом вышел в путь - веселей 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Без друзей меня чуть – чуть, а с друзьями – мног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857920" y="1214280"/>
            <a:ext cx="3286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нкета «Что значит для вас настоящий друг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еловек, который тебя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руг – это тот, кто тебя не пред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еловек, с которым в разведку пойти не стра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Друг – это самый дорогой человек, которому ты доверя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Друг никогда не обма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Друг – это тот, кто выручит из любой 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Друг – это одна тайна на двоих, только на дво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Дружба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Объект 6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Анкета: «Взаимоотношения в коллекти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Объект 5"/>
          <p:cNvGraphicFramePr/>
          <p:nvPr/>
        </p:nvGraphicFramePr>
        <p:xfrm>
          <a:off x="417600" y="1577880"/>
          <a:ext cx="8331120" cy="46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577880"/>
                    <a:ext cx="833112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обманет своего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пожалеет поделиться со своим другом всем, что сам им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станет смеяться над бедой или неудачей своего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с кем всегда интересно и не ск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постарается защитить тебя от обид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57160" y="189000"/>
            <a:ext cx="81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Georgia"/>
              </a:rPr>
              <a:t>Качества настоящего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300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558120" y="1197000"/>
            <a:ext cx="2371680" cy="2803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771840" y="143208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Georgia"/>
              </a:rPr>
              <a:t>Честность</a:t>
            </a:r>
            <a:r>
              <a:rPr b="0" lang="ru-RU" sz="32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42960" y="28526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Georgia"/>
              </a:rPr>
              <a:t>Понимание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468680" y="140796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Georgia"/>
              </a:rPr>
              <a:t>Добр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786120" y="2714760"/>
            <a:ext cx="34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Бескорыстие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 flipV="1" rot="10800000">
            <a:off x="5786280" y="5142600"/>
            <a:ext cx="31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00"/>
                </a:solidFill>
                <a:latin typeface="Georgia"/>
              </a:rPr>
              <a:t>Порядо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357720" y="5369040"/>
            <a:ext cx="25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Трудолюб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 flipV="1" rot="10800000">
            <a:off x="3909600" y="41508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Georgia"/>
              </a:rPr>
              <a:t>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5840" y="333360"/>
          <a:ext cx="8643960" cy="3382920"/>
        </p:xfrm>
        <a:graphic>
          <a:graphicData uri="http://schemas.openxmlformats.org/drawingml/2006/table">
            <a:tbl>
              <a:tblPr/>
              <a:tblGrid>
                <a:gridCol w="4282920"/>
                <a:gridCol w="43610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Georgia"/>
                          <a:ea typeface="Times New Roman"/>
                        </a:rPr>
                        <a:t>Что мешает дружб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Georgia"/>
                          <a:ea typeface="Times New Roman"/>
                        </a:rPr>
                        <a:t>Что помогает сохранить дружб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Глуп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Зави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Лож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Обм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Предатель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Ненадё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Вспыль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Корыстолюбие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Довер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Милосерд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Равнопра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Своб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Чес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Искренность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38" descr="x_f7342201"/>
          <p:cNvPicPr/>
          <p:nvPr/>
        </p:nvPicPr>
        <p:blipFill>
          <a:blip r:embed="rId1"/>
          <a:stretch/>
        </p:blipFill>
        <p:spPr>
          <a:xfrm>
            <a:off x="250920" y="3857760"/>
            <a:ext cx="4321080" cy="285264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6" descr="beautiful-flowers-friend-friends-girl-Favim.com-144287.jpg"/>
          <p:cNvPicPr/>
          <p:nvPr/>
        </p:nvPicPr>
        <p:blipFill>
          <a:blip r:embed="rId2"/>
          <a:stretch/>
        </p:blipFill>
        <p:spPr>
          <a:xfrm>
            <a:off x="4714920" y="3857760"/>
            <a:ext cx="4143240" cy="27860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стоящим другом может стать не кажд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ужно самому в себе развивать положительные качества характ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тупать в жизни так, чтобы с тобой     хотели 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Настоящим друг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мож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с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жд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Законы друж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0012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дин за всех,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Дружите, не обижайте друзей и всех, кто вас окру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Уважайте друг друга и помогайте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Радуйтесь вместе с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Не оставляйте друзей в бед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 подводите их, не обманывай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-Не нарушайте своих обещ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Не давайте товарищам прозвищ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Мой настоящи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доб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пре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терпел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отзывч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692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692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4113433"/>
          <p:cNvPicPr/>
          <p:nvPr/>
        </p:nvPicPr>
        <p:blipFill>
          <a:blip r:embed="rId1"/>
          <a:stretch/>
        </p:blipFill>
        <p:spPr>
          <a:xfrm>
            <a:off x="3924360" y="1628640"/>
            <a:ext cx="4105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https://fs00.infourok.ru/images/doc/242/222257/4/310/img14.jpg"/>
          <p:cNvPicPr/>
          <p:nvPr/>
        </p:nvPicPr>
        <p:blipFill>
          <a:blip r:embed="rId2"/>
          <a:stretch/>
        </p:blipFill>
        <p:spPr>
          <a:xfrm>
            <a:off x="214200" y="214200"/>
            <a:ext cx="8813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2" descr="https://fs00.infourok.ru/images/doc/237/143136/1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ыяснить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ждый ли человек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может быть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настоящим друг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знать в справочной литературе значение слова «друж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добрать мудрые высказывания,  стихи, песни о др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ести анкетирование среди учеников шк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тавить законы др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ить понятие «настоящий дру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928880" y="13968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Georgia"/>
              </a:rPr>
              <a:t>Понятие др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75000" y="1486080"/>
            <a:ext cx="53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1800" spc="-1" strike="noStrike">
                <a:solidFill>
                  <a:srgbClr val="6600ff"/>
                </a:solidFill>
                <a:latin typeface="Georgia"/>
              </a:rPr>
              <a:t>ДРУЖБА </a:t>
            </a:r>
            <a:r>
              <a:rPr b="0" i="1" lang="ru-RU" sz="1800" spc="-1" strike="noStrike">
                <a:solidFill>
                  <a:srgbClr val="6600ff"/>
                </a:solidFill>
                <a:latin typeface="Georgia"/>
              </a:rPr>
              <a:t>–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356000" y="421452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  - близки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основанные на взаимном довер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привязанности, общности интере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                                       </a:t>
            </a:r>
            <a:r>
              <a:rPr b="1" i="1" lang="en-US" sz="2000" spc="-1" strike="noStrike">
                <a:solidFill>
                  <a:srgbClr val="cc3300"/>
                </a:solidFill>
                <a:latin typeface="Georgia"/>
              </a:rPr>
              <a:t>(</a:t>
            </a: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С.И. Ожегов</a:t>
            </a:r>
            <a:r>
              <a:rPr b="1" i="1" lang="en-US" sz="2000" spc="-1" strike="noStrike">
                <a:solidFill>
                  <a:srgbClr val="cc3300"/>
                </a:solidFill>
                <a:latin typeface="Georgi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x_1ff7f746"/>
          <p:cNvPicPr/>
          <p:nvPr/>
        </p:nvPicPr>
        <p:blipFill>
          <a:blip r:embed="rId1"/>
          <a:stretch/>
        </p:blipFill>
        <p:spPr>
          <a:xfrm>
            <a:off x="179280" y="2637000"/>
            <a:ext cx="4105440" cy="4084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286000" y="150012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это взаимная привязанность двух или более людей, бескорыстная, основанная на любви и уважении.                                                  (В.И. Да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10224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Georgia"/>
              </a:rPr>
              <a:t>ТОВАРИЩ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278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Georgia"/>
              </a:rPr>
              <a:t>ПРИ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1280" y="447840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419640" y="1022040"/>
            <a:ext cx="55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Arial"/>
              </a:rPr>
              <a:t>человек, близкий по своим взгляда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Arial"/>
              </a:rPr>
              <a:t>деятельности, по условиям жизни.</a:t>
            </a:r>
            <a:r>
              <a:rPr b="0" i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987640" y="268560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близкий и дружески расположенный знакомый.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484360" y="416664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человек, который связан с тобой друж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то есть близкими отношениями, основ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на привязанности, доверии, общности интересов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8" descr="http://img3.proshkolu.ru/content/media/pic/std/3000000/2779000/2778224-a2a1313f145658ce.gif"/>
          <p:cNvPicPr/>
          <p:nvPr/>
        </p:nvPicPr>
        <p:blipFill>
          <a:blip r:embed="rId1"/>
          <a:stretch/>
        </p:blipFill>
        <p:spPr>
          <a:xfrm>
            <a:off x="0" y="5072040"/>
            <a:ext cx="255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ЫСКАЗЫВАНИЯ ВЕЛИК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904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«Настоящий друг вез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Верен: в счастье и  в бе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Грусть твоя его тревож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Ты не спишь –он спать не може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 во всём без дальних сл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Он помочь тебе готов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нглийский поэт, драматург В. Шексп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russianpoetry.ru/images/photos/medium/article140021.jpg"/>
          <p:cNvPicPr/>
          <p:nvPr/>
        </p:nvPicPr>
        <p:blipFill>
          <a:blip r:embed="rId1"/>
          <a:stretch/>
        </p:blipFill>
        <p:spPr>
          <a:xfrm>
            <a:off x="357120" y="1500120"/>
            <a:ext cx="3500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ttps://im0-tub-ru.yandex.net/i?id=36847cc24e5d8f653f7df91957be4bee-l&amp;n=13"/>
          <p:cNvPicPr/>
          <p:nvPr/>
        </p:nvPicPr>
        <p:blipFill>
          <a:blip r:embed="rId1"/>
          <a:stretch/>
        </p:blipFill>
        <p:spPr>
          <a:xfrm>
            <a:off x="324000" y="287280"/>
            <a:ext cx="3527280" cy="61419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4140360" y="1413000"/>
            <a:ext cx="46083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…Ничто не заменит единствен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рдцами сходству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н точно я друг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горе с ним дел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н – радости со мн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сский писатель, поэт А. Пушк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54936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0066"/>
                </a:solidFill>
                <a:latin typeface="Georgia"/>
              </a:rPr>
              <a:t>Пословицы о дружбе</a:t>
            </a: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00200" y="151164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Georgia"/>
              </a:rPr>
              <a:t>Нет друга – ищи, а нашел – береги.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798560" y="24199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Не имей сто рублей, а имей сто друзей.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736560" y="323892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Georgia"/>
              </a:rPr>
              <a:t>Старый друг лучше, новых двух.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589040" y="400428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ff"/>
                </a:solidFill>
                <a:latin typeface="Georgia"/>
              </a:rPr>
              <a:t>Человек без друзей, что дерево без корн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27400" y="4823280"/>
            <a:ext cx="81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ружба – как стекло, разобьешь – не сложиш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281680" y="5659560"/>
            <a:ext cx="39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Друг познается в бед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9" descr="https://im0-tub-ru.yandex.net/i?id=8c0b42f59808458e62eeb14c1fc8b3b2&amp;n=33&amp;h=215&amp;w=158"/>
          <p:cNvPicPr/>
          <p:nvPr/>
        </p:nvPicPr>
        <p:blipFill>
          <a:blip r:embed="rId1"/>
          <a:stretch/>
        </p:blipFill>
        <p:spPr>
          <a:xfrm>
            <a:off x="6643800" y="214200"/>
            <a:ext cx="2214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8:48:09Z</dcterms:created>
  <dc:creator>User</dc:creator>
  <dc:description/>
  <dc:language>en-US</dc:language>
  <cp:lastModifiedBy>User</cp:lastModifiedBy>
  <dcterms:modified xsi:type="dcterms:W3CDTF">2020-11-24T19:05:01Z</dcterms:modified>
  <cp:revision>97</cp:revision>
  <dc:subject/>
  <dc:title>Слайд 1</dc:title>
</cp:coreProperties>
</file>