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7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394B-E3CE-430C-BB59-69B703DBD0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373D-A5C0-4F98-AE45-D5602C0253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31B-E9BB-498D-B9A8-78050398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903-3E7C-41A3-BBEC-94CAE558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74F-F493-4DAD-9894-CBCA3489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08C-A9D9-4EF3-BBCF-7669D758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62AB-7BAB-4BDE-83DE-C13C2980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DCCA-8E47-4235-88AD-35C6BECE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A23F-F085-447B-92E1-5DE2AB17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26E-A54C-4336-A5FF-4808DF6D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7D4D-062A-4A34-A3B5-AF5E1B9A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3850-01B7-4300-AEA1-491E6556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D15-D946-48BA-B6F0-1544C23E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FF6-74E4-4533-8161-8D4AD916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F34A-AA13-41CC-B7D8-71B289AE1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24000" y="-180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99"/>
                </a:solidFill>
                <a:latin typeface="Times New Roman"/>
              </a:rPr>
              <a:t>Что такое дружб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76360" y="1811160"/>
            <a:ext cx="6480360" cy="41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Стихи о друж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8000" y="1356840"/>
            <a:ext cx="85788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С другом разделю всё вмес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С другом буду всегда чест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Если в чём-то я не пра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Друг подскажет – он не вр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В обиду друга я не д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Не променяю, не пре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От того беги скор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Кто чернит своих дру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Обижаться не спеш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Дружбой школьной дорожу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. Парню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95280" y="787320"/>
            <a:ext cx="703440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Дружба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– это тёплый ветер,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Дружба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– это светлый мир,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Дружба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– солнце на рассвете,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Для души весёлый пир.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Дружба 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– это только счастье,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Дружба 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– у людей одна.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С дружбой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не страшны ненастья,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С дружбой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– жизнь весной полна.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Друг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разделит боль и радость,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Друг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поддержит и спасёт.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С другом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– даже злая слабость,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В миг растает и уйдет.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Верь, храни, цени же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дружбу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,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</a:t>
            </a:r>
            <a:r>
              <a:rPr b="1" i="1" lang="ru-RU" sz="2000" spc="-1" strike="noStrike">
                <a:solidFill>
                  <a:srgbClr val="660033"/>
                </a:solidFill>
                <a:latin typeface="Georgia"/>
              </a:rPr>
              <a:t>Это высший идеал.</a:t>
            </a: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Тебе она сослужит службу. </a:t>
            </a:r>
            <a:br>
              <a:rPr sz="2000"/>
            </a:br>
            <a:r>
              <a:rPr b="0" i="1" lang="ru-RU" sz="2000" spc="-1" strike="noStrike">
                <a:solidFill>
                  <a:srgbClr val="660033"/>
                </a:solidFill>
                <a:latin typeface="Georgia"/>
              </a:rPr>
              <a:t>         </a:t>
            </a:r>
            <a:r>
              <a:rPr b="1" i="1" lang="ru-RU" sz="2400" spc="-1" strike="noStrike">
                <a:solidFill>
                  <a:srgbClr val="660033"/>
                </a:solidFill>
                <a:latin typeface="Georgia"/>
              </a:rPr>
              <a:t>Ведь дружба – это ценный дар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http://www.womenzone.org/wp-content/uploads/2016/03/druzya-v-zhizni-detey-1036-59034111.jpg"/>
          <p:cNvPicPr/>
          <p:nvPr/>
        </p:nvPicPr>
        <p:blipFill>
          <a:blip r:embed="rId1"/>
          <a:stretch/>
        </p:blipFill>
        <p:spPr>
          <a:xfrm>
            <a:off x="5429160" y="500040"/>
            <a:ext cx="3714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И в песнях о дружбе поется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 голубого ручейка начинается река,                                                                              Ну а дружба начинается с улы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Я иду и пою обо всём хорошем.                                                                             И улыбку свою я дарю прохож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Тем, кто дружен, не страшны тревоги!                                                      Нам любые дороги дорог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Если добрый ты, то всегда легко,                                                                А когда наоборот – трудно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руг в беде не броси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Лишнего не спросит.                                                     Вот, что  Вот что значит настоящий др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Если с другом вышел в путь - веселей дор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Без друзей меня чуть – чуть, а с друзьями – мног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5857920" y="1214280"/>
            <a:ext cx="32860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Результаты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нкета «Что значит для вас настоящий друг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Человек, который тебя поним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Друг – это тот, кто тебя не преда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Человек, с которым в разведку пойти не страш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Друг – это самый дорогой человек, которому ты доверя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Друг никогда не обма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Друг – это тот, кто выручит из любой 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Друг – это одна тайна на двоих, только на дво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Дружба-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Объект 6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Анкета: «Взаимоотношения в коллектив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Объект 5"/>
          <p:cNvGraphicFramePr/>
          <p:nvPr/>
        </p:nvGraphicFramePr>
        <p:xfrm>
          <a:off x="417600" y="1577880"/>
          <a:ext cx="8331120" cy="462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1577880"/>
                    <a:ext cx="8331120" cy="46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стоящий друг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тот, кто не обманет своего д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стоящий друг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тот, кто не пожалеет поделиться со своим другом всем, что сам име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стоящий друг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тот, кто не станет смеяться над бедой или неудачей своего д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стоящий друг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тот, с кем всегда интересно и не ску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стоящий друг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тот, кто постарается защитить тебя от обидч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857160" y="189000"/>
            <a:ext cx="81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Georgia"/>
              </a:rPr>
              <a:t>Качества настоящего др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428760" y="3643200"/>
            <a:ext cx="3000240" cy="2857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6558120" y="1197000"/>
            <a:ext cx="2371680" cy="2803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771840" y="1432080"/>
            <a:ext cx="26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Georgia"/>
              </a:rPr>
              <a:t>Честность</a:t>
            </a:r>
            <a:r>
              <a:rPr b="0" lang="ru-RU" sz="3200" spc="-1" strike="noStrike">
                <a:solidFill>
                  <a:srgbClr val="0066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642960" y="285264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Georgia"/>
              </a:rPr>
              <a:t>Понимание</a:t>
            </a:r>
            <a:r>
              <a:rPr b="0" i="1" lang="ru-RU" sz="2000" spc="-1" strike="noStrike">
                <a:solidFill>
                  <a:srgbClr val="008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4468680" y="1407960"/>
            <a:ext cx="21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99"/>
                </a:solidFill>
                <a:latin typeface="Georgia"/>
              </a:rPr>
              <a:t>Добр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786120" y="2714760"/>
            <a:ext cx="344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Georgia"/>
              </a:rPr>
              <a:t>Бескорыстие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 flipV="1" rot="10800000">
            <a:off x="5786280" y="5142600"/>
            <a:ext cx="314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cc00"/>
                </a:solidFill>
                <a:latin typeface="Georgia"/>
              </a:rPr>
              <a:t>Порядоч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357720" y="5369040"/>
            <a:ext cx="257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Georgia"/>
              </a:rPr>
              <a:t>Трудолюб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1"/>
          <p:cNvSpPr/>
          <p:nvPr/>
        </p:nvSpPr>
        <p:spPr>
          <a:xfrm flipV="1" rot="10800000">
            <a:off x="3909600" y="4150800"/>
            <a:ext cx="36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Georgia"/>
              </a:rPr>
              <a:t>Справедл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85840" y="333360"/>
          <a:ext cx="8643960" cy="3382920"/>
        </p:xfrm>
        <a:graphic>
          <a:graphicData uri="http://schemas.openxmlformats.org/drawingml/2006/table">
            <a:tbl>
              <a:tblPr/>
              <a:tblGrid>
                <a:gridCol w="4282920"/>
                <a:gridCol w="436104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660033"/>
                          </a:solidFill>
                          <a:latin typeface="Georgia"/>
                          <a:ea typeface="Times New Roman"/>
                        </a:rPr>
                        <a:t>Что мешает дружбе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660033"/>
                          </a:solidFill>
                          <a:latin typeface="Georgia"/>
                          <a:ea typeface="Times New Roman"/>
                        </a:rPr>
                        <a:t>Что помогает сохранить дружб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0680">
                <a:tc>
                  <a:txBody>
                    <a:bodyPr anchor="t">
                      <a:noAutofit/>
                    </a:bodyPr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Глуп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Зави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Лож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Обма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Предатель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Ненадёж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Вспыльчив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Корыстолюбие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Довер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Надеж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Милосерд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Равноправ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Свобо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Чест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Georgia"/>
                          <a:ea typeface="Times New Roman"/>
                        </a:rPr>
                        <a:t>Искренность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Picture 38" descr="x_f7342201"/>
          <p:cNvPicPr/>
          <p:nvPr/>
        </p:nvPicPr>
        <p:blipFill>
          <a:blip r:embed="rId1"/>
          <a:stretch/>
        </p:blipFill>
        <p:spPr>
          <a:xfrm>
            <a:off x="250920" y="3857760"/>
            <a:ext cx="4321080" cy="285264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6" descr="beautiful-flowers-friend-friends-girl-Favim.com-144287.jpg"/>
          <p:cNvPicPr/>
          <p:nvPr/>
        </p:nvPicPr>
        <p:blipFill>
          <a:blip r:embed="rId2"/>
          <a:stretch/>
        </p:blipFill>
        <p:spPr>
          <a:xfrm>
            <a:off x="4714920" y="3857760"/>
            <a:ext cx="4143240" cy="2786040"/>
          </a:xfrm>
          <a:prstGeom prst="rect">
            <a:avLst/>
          </a:prstGeom>
          <a:ln w="10800">
            <a:solidFill>
              <a:srgbClr val="ffffff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стоящим другом может стать не кажд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ужно самому в себе развивать положительные качества характе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ступать в жизни так, чтобы с тобой     хотели д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Настоящим друг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мож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ст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кажд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Законы друж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00120"/>
            <a:ext cx="82296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дин за всех, и все за од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Дружите, не обижайте друзей и всех, кто вас окруж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 Уважайте друг друга и помогайте друг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Радуйтесь вместе с друзь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 Не оставляйте друзей в бед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не подводите их, не обманывай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-Не нарушайте своих обещ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Не давайте товарищам прозвищ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Мой настоящий д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Times New Roman"/>
              <a:buChar char="•"/>
              <a:tabLst>
                <a:tab algn="l" pos="1269216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добр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Times New Roman"/>
              <a:buChar char="•"/>
              <a:tabLst>
                <a:tab algn="l" pos="1269216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вер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Times New Roman"/>
              <a:buChar char="•"/>
              <a:tabLst>
                <a:tab algn="l" pos="1269216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чес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Times New Roman"/>
              <a:buChar char="•"/>
              <a:tabLst>
                <a:tab algn="l" pos="1269216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преда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Times New Roman"/>
              <a:buChar char="•"/>
              <a:tabLst>
                <a:tab algn="l" pos="1269216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терпели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Times New Roman"/>
              <a:buChar char="•"/>
              <a:tabLst>
                <a:tab algn="l" pos="1269216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отзывчи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2692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2692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24113433"/>
          <p:cNvPicPr/>
          <p:nvPr/>
        </p:nvPicPr>
        <p:blipFill>
          <a:blip r:embed="rId1"/>
          <a:stretch/>
        </p:blipFill>
        <p:spPr>
          <a:xfrm>
            <a:off x="3924360" y="1628640"/>
            <a:ext cx="41050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" descr="https://fs00.infourok.ru/images/doc/242/222257/4/310/img14.jpg"/>
          <p:cNvPicPr/>
          <p:nvPr/>
        </p:nvPicPr>
        <p:blipFill>
          <a:blip r:embed="rId2"/>
          <a:stretch/>
        </p:blipFill>
        <p:spPr>
          <a:xfrm>
            <a:off x="214200" y="214200"/>
            <a:ext cx="88138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2" descr="https://fs00.infourok.ru/images/doc/237/143136/1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Выяснить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каждый ли человек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может быть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настоящим друго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Узнать в справочной литературе значение слова «дружб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добрать мудрые высказывания,  стихи, песни о друж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овести анкетирование среди учеников шко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оставить законы друж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пределить понятие «настоящий друг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928880" y="13968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Georgia"/>
              </a:rPr>
              <a:t>Понятие друж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75000" y="1486080"/>
            <a:ext cx="53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1800" spc="-1" strike="noStrike">
                <a:solidFill>
                  <a:srgbClr val="6600ff"/>
                </a:solidFill>
                <a:latin typeface="Georgia"/>
              </a:rPr>
              <a:t>ДРУЖБА </a:t>
            </a:r>
            <a:r>
              <a:rPr b="0" i="1" lang="ru-RU" sz="1800" spc="-1" strike="noStrike">
                <a:solidFill>
                  <a:srgbClr val="6600ff"/>
                </a:solidFill>
                <a:latin typeface="Georgia"/>
              </a:rPr>
              <a:t>– 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356000" y="4214520"/>
            <a:ext cx="49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Georgia"/>
              </a:rPr>
              <a:t>ДРУЖБА</a:t>
            </a:r>
            <a:r>
              <a:rPr b="0" i="1" lang="ru-RU" sz="2000" spc="-1" strike="noStrike">
                <a:solidFill>
                  <a:srgbClr val="cc3300"/>
                </a:solidFill>
                <a:latin typeface="Georgia"/>
              </a:rPr>
              <a:t>  - близкие отно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Georgia"/>
              </a:rPr>
              <a:t>основанные на взаимном довер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Georgia"/>
              </a:rPr>
              <a:t>привязанности, общности интере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Georgia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Georgia"/>
              </a:rPr>
              <a:t>                                        </a:t>
            </a:r>
            <a:r>
              <a:rPr b="1" i="1" lang="en-US" sz="2000" spc="-1" strike="noStrike">
                <a:solidFill>
                  <a:srgbClr val="cc3300"/>
                </a:solidFill>
                <a:latin typeface="Georgia"/>
              </a:rPr>
              <a:t>(</a:t>
            </a:r>
            <a:r>
              <a:rPr b="1" i="1" lang="ru-RU" sz="2000" spc="-1" strike="noStrike">
                <a:solidFill>
                  <a:srgbClr val="cc3300"/>
                </a:solidFill>
                <a:latin typeface="Georgia"/>
              </a:rPr>
              <a:t> С.И. Ожегов</a:t>
            </a:r>
            <a:r>
              <a:rPr b="1" i="1" lang="en-US" sz="2000" spc="-1" strike="noStrike">
                <a:solidFill>
                  <a:srgbClr val="cc3300"/>
                </a:solidFill>
                <a:latin typeface="Georgia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x_1ff7f746"/>
          <p:cNvPicPr/>
          <p:nvPr/>
        </p:nvPicPr>
        <p:blipFill>
          <a:blip r:embed="rId1"/>
          <a:stretch/>
        </p:blipFill>
        <p:spPr>
          <a:xfrm>
            <a:off x="179280" y="2637000"/>
            <a:ext cx="4105440" cy="40845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2286000" y="1500120"/>
            <a:ext cx="635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это взаимная привязанность двух или более людей, бескорыстная, основанная на любви и уважении.                                                  (В.И. Да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1022400"/>
            <a:ext cx="28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Georgia"/>
              </a:rPr>
              <a:t>ТОВАРИЩ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2781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Georgia"/>
              </a:rPr>
              <a:t>ПРИЯ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11280" y="4478400"/>
            <a:ext cx="16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Georgia"/>
              </a:rPr>
              <a:t>Д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3419640" y="1022040"/>
            <a:ext cx="55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Arial"/>
              </a:rPr>
              <a:t>человек, близкий по своим взглядам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Arial"/>
              </a:rPr>
              <a:t>деятельности, по условиям жизни.</a:t>
            </a:r>
            <a:r>
              <a:rPr b="0" i="1" lang="ru-RU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987640" y="268560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6666"/>
                </a:solidFill>
                <a:latin typeface="Arial"/>
              </a:rPr>
              <a:t>близкий и дружески расположенный знакомый.</a:t>
            </a: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2484360" y="4166640"/>
            <a:ext cx="65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человек, который связан с тобой дружб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то есть близкими отношениями, основан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на привязанности, доверии, общности интересов.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8" descr="http://img3.proshkolu.ru/content/media/pic/std/3000000/2779000/2778224-a2a1313f145658ce.gif"/>
          <p:cNvPicPr/>
          <p:nvPr/>
        </p:nvPicPr>
        <p:blipFill>
          <a:blip r:embed="rId1"/>
          <a:stretch/>
        </p:blipFill>
        <p:spPr>
          <a:xfrm>
            <a:off x="0" y="5072040"/>
            <a:ext cx="2556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ВЫСКАЗЫВАНИЯ ВЕЛИКИХ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29040" y="1600200"/>
            <a:ext cx="49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«Настоящий друг везд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Верен: в счастье и  в бед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Грусть твоя его тревожи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Ты не спишь –он спать не может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И во всём без дальних слов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Он помочь тебе готов!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нглийский поэт, драматург В. Шексп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russianpoetry.ru/images/photos/medium/article140021.jpg"/>
          <p:cNvPicPr/>
          <p:nvPr/>
        </p:nvPicPr>
        <p:blipFill>
          <a:blip r:embed="rId1"/>
          <a:stretch/>
        </p:blipFill>
        <p:spPr>
          <a:xfrm>
            <a:off x="357120" y="1500120"/>
            <a:ext cx="3500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https://im0-tub-ru.yandex.net/i?id=36847cc24e5d8f653f7df91957be4bee-l&amp;n=13"/>
          <p:cNvPicPr/>
          <p:nvPr/>
        </p:nvPicPr>
        <p:blipFill>
          <a:blip r:embed="rId1"/>
          <a:stretch/>
        </p:blipFill>
        <p:spPr>
          <a:xfrm>
            <a:off x="324000" y="287280"/>
            <a:ext cx="3527280" cy="61419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5"/>
          <p:cNvSpPr/>
          <p:nvPr/>
        </p:nvSpPr>
        <p:spPr>
          <a:xfrm>
            <a:off x="4140360" y="1413000"/>
            <a:ext cx="46083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…Ничто не заменит единственного дру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ердцами сходству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н точно я друг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Я горе с ним дел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н – радости со мно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Русский писатель, поэт А. Пушк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a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24000" y="549360"/>
            <a:ext cx="63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33"/>
                </a:solidFill>
                <a:latin typeface="Georgia"/>
              </a:rPr>
              <a:t>  </a:t>
            </a:r>
            <a:r>
              <a:rPr b="1" i="1" lang="ru-RU" sz="4000" spc="-1" strike="noStrike">
                <a:solidFill>
                  <a:srgbClr val="000066"/>
                </a:solidFill>
                <a:latin typeface="Georgia"/>
              </a:rPr>
              <a:t>Пословицы о дружбе</a:t>
            </a: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00200" y="1511640"/>
            <a:ext cx="59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ff"/>
                </a:solidFill>
                <a:latin typeface="Georgia"/>
              </a:rPr>
              <a:t>Нет друга – ищи, а нашел – береги.</a:t>
            </a:r>
            <a:r>
              <a:rPr b="0" lang="ru-RU" sz="18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798560" y="2419920"/>
            <a:ext cx="68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Georgia"/>
              </a:rPr>
              <a:t>Не имей сто рублей, а имей сто друзей.</a:t>
            </a:r>
            <a:r>
              <a:rPr b="0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736560" y="3238920"/>
            <a:ext cx="56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Georgia"/>
              </a:rPr>
              <a:t>Старый друг лучше, новых двух.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589040" y="4004280"/>
            <a:ext cx="72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ff"/>
                </a:solidFill>
                <a:latin typeface="Georgia"/>
              </a:rPr>
              <a:t>Человек без друзей, что дерево без корн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527400" y="4823280"/>
            <a:ext cx="81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Дружба – как стекло, разобьешь – не сложишь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2281680" y="5659560"/>
            <a:ext cx="39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Друг познается в беде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9" descr="https://im0-tub-ru.yandex.net/i?id=8c0b42f59808458e62eeb14c1fc8b3b2&amp;n=33&amp;h=215&amp;w=158"/>
          <p:cNvPicPr/>
          <p:nvPr/>
        </p:nvPicPr>
        <p:blipFill>
          <a:blip r:embed="rId1"/>
          <a:stretch/>
        </p:blipFill>
        <p:spPr>
          <a:xfrm>
            <a:off x="6643800" y="214200"/>
            <a:ext cx="22143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08:48:09Z</dcterms:created>
  <dc:creator>User</dc:creator>
  <dc:description/>
  <dc:language>en-US</dc:language>
  <cp:lastModifiedBy>User</cp:lastModifiedBy>
  <dcterms:modified xsi:type="dcterms:W3CDTF">2020-11-24T19:05:01Z</dcterms:modified>
  <cp:revision>97</cp:revision>
  <dc:subject/>
  <dc:title>Слайд 1</dc:title>
</cp:coreProperties>
</file>