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61C5-9A53-4811-9783-20D6D128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7EE-333F-40F3-AA0F-288A365B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0BD-59FA-4938-BDEE-3F0991D5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64F5-2959-4A2F-8487-1A73B7B0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330-7626-4047-B6A8-B2321341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B7E-EC93-48AB-8CCC-1E48EF42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02F-A9A4-4F3A-B8CC-EDAAEE0D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C61B-9F3D-4066-AB73-DE56FFA2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C54-0B10-4CE2-8FBB-42A28737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855-1B22-47CA-92DF-DD62641C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6D2-F76D-4208-8045-520C2FD2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BB0-0A76-48E9-B87F-28837FD0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1534-2622-4575-B3FF-20D40A603F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501336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Monotype Corsiva"/>
              </a:rPr>
              <a:t>Развитие внима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10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543640" cy="367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2050920" y="26028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тор: Елена Юрьевна Корытникова, учитель начальных классов,            МБОУ «СОШ №17» г. Усолье-Сибирск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еречисли предметы, назови общим слов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336680" y="1981080"/>
            <a:ext cx="64692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5003640" y="5516640"/>
            <a:ext cx="367200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66"/>
                </a:solidFill>
                <a:latin typeface="Times New Roman"/>
              </a:rPr>
              <a:t>игруш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рисунок 2"/>
          <p:cNvPicPr/>
          <p:nvPr/>
        </p:nvPicPr>
        <p:blipFill>
          <a:blip r:embed="rId1"/>
          <a:stretch/>
        </p:blipFill>
        <p:spPr>
          <a:xfrm>
            <a:off x="755640" y="1341360"/>
            <a:ext cx="7704000" cy="5357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Что перепутал художник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Найди отличия»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Рисунок 16" descr=""/>
          <p:cNvPicPr/>
          <p:nvPr/>
        </p:nvPicPr>
        <p:blipFill>
          <a:blip r:embed="rId1"/>
          <a:srcRect l="0" t="6222" r="0" b="0"/>
          <a:stretch/>
        </p:blipFill>
        <p:spPr>
          <a:xfrm>
            <a:off x="611280" y="1413000"/>
            <a:ext cx="79200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Упражнение «Муха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981080"/>
          <a:ext cx="8229600" cy="4114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21" descr=""/>
          <p:cNvPicPr/>
          <p:nvPr/>
        </p:nvPicPr>
        <p:blipFill>
          <a:blip r:embed="rId1"/>
          <a:stretch/>
        </p:blipFill>
        <p:spPr>
          <a:xfrm>
            <a:off x="3203640" y="3141720"/>
            <a:ext cx="273672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Зрительные графические диктанты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7" descr="Рисунок5"/>
          <p:cNvPicPr/>
          <p:nvPr/>
        </p:nvPicPr>
        <p:blipFill>
          <a:blip r:embed="rId1"/>
          <a:stretch/>
        </p:blipFill>
        <p:spPr>
          <a:xfrm>
            <a:off x="250920" y="1628640"/>
            <a:ext cx="4038480" cy="453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Изображение 175"/>
          <p:cNvPicPr/>
          <p:nvPr/>
        </p:nvPicPr>
        <p:blipFill>
          <a:blip r:embed="rId2"/>
          <a:stretch/>
        </p:blipFill>
        <p:spPr>
          <a:xfrm>
            <a:off x="4716360" y="1628640"/>
            <a:ext cx="40338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Увеличение объема внимани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равните предметы между собой. Скажите, чем они похожи и чем отличаются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равните предметы между собой. Скажите, чем они похожи и чем отличаются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95280" y="2313000"/>
            <a:ext cx="4321080" cy="313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4503600" y="2313000"/>
            <a:ext cx="3975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смотри и запомн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Рисунок 13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537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ь на вопрос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олько вишен ты видел на картинк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Дв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ты видел, ручку или карандаш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Руч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олько конфет на картинк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Дв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предметы еще нарисованы на картинк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Книжка, свечка, звезды, птица, шарик, месяц, колп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Внимание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- это направленность и сосредоточенность нашего сознания на определенном объекте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rcRect l="0" t="12223" r="0" b="0"/>
          <a:stretch/>
        </p:blipFill>
        <p:spPr>
          <a:xfrm>
            <a:off x="4643280" y="3992400"/>
            <a:ext cx="396108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смотри внимательно и запомн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Рисунок 10" descr=""/>
          <p:cNvPicPr/>
          <p:nvPr/>
        </p:nvPicPr>
        <p:blipFill>
          <a:blip r:embed="rId1"/>
          <a:stretch/>
        </p:blipFill>
        <p:spPr>
          <a:xfrm>
            <a:off x="1522440" y="2259000"/>
            <a:ext cx="60991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ь на вопрос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ть ли на пальме банан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н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Сколько домиков нарисовано на картинк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четы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Какое выражение лица у смайлик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весел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Ножницы на рисунке открыты или закрыт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откры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Какого цвета карандаш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си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 У каждого ли домика нарисованы труб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дсчитай, сколько в шарике разных цифр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Рисунок 7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4098960" cy="5257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6732720" y="1341360"/>
            <a:ext cx="2016000" cy="518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и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о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тве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яте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Verdana"/>
              </a:rPr>
              <a:t>Тренировка 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Verdana"/>
              </a:rPr>
              <a:t>распределения внимани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0772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Каждой руке — свое дело»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чет с помехой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Чтение с помехой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орректурные задания с помех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684360" y="1341360"/>
            <a:ext cx="784836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Open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Ананьев Б.Г. Воспитание внимания школь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Open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Люблинская А.А. Учителю о психологии младшего школьн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Open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Психокоррекционная и развивающая работа с детьми/под ред. И.В.Дуброви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Open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Развиваем внимание./сост. И.Шагин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5. Упражнения на развитие внимания детей младшего школьного возраста   http://www.s_86.edu54.ru/DswM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Open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1547640" y="62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Источни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ahoma"/>
              </a:rPr>
              <a:t>Свойства вним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осредоточенност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устойчивост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объем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спределен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переключе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Развитие концентрации внимания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Корректурные зад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Сосчитай сколько букв</a:t>
            </a:r>
            <a:r>
              <a:rPr b="1" lang="ru-RU" sz="36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«А»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 Ы В А П Е П А К У А В Ы В С М А К П И М С Ч Ы В А М У К В А В С М А К А К У К А В А П М С М А В С Ч Ы У В А М П Е К А П П  И Р П М А Ж Е А П М С А С В П Е К У А П И М С Ж В А М П Ж А В К Е А М П А В А П Ш Е Р И В А П Е К А В Ч Ы У К В У В Ы С В К А М П Р А М С Ы В С М А А П И М С Ч Ы И М А Н П А В Ы В А П М С В  А В С М А К А К У К А В А П М С М А В С Ч Ы У В А С И Р П М А Р П М С М П А В К Е А П М С А С В П Е К У А П И М С В А М П А В  К Е А Р И М О В С А М П А К В А 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Корректурные зад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Сосчитай сколько цифр «5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4 2 3 6 5 8 8 8 9 6 5 3 2 4 1 0 0 2 5 8 0 1 2 3 6 0 2 5 0 9 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 3 6 9 0 5 4 8 0 2 1 8 0 5 6 8 7 9 9 0 2 3 1 0 5 0 0 3 6 5 9 8 8 5 6 3 2 4 1 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2 5 1 2 3 3 6 5 8 9 6 5 3 2 4 1 0 0 2 5 8 0 1 2 3 6 0 7 5 0 4 5 1 0 2 5 0 9 8 0 3 6 9 0 5 4 8 0 2 1 8 0 5 6 8 7 9 9 0 2 3 1 0 1 0 0 3 6 5 9 8 8 5 6 3 2 4 1 5 2 4 8 9 6 9 8 7 5 4 5 2 3 6 9 8 7 5 1 4 4 7 7 9 6 3 5 2 6 5 9 8 7 4 2 3 6 5 8 9 6 5 3 2 4 1 0 0 2 5 0 1 2 3 6 9 6 9 8 7 5 4 3 5 4 6 5 2 5 8 9 6 5 4 8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Методика Мюнстерберга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 (и ее модификации)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Найди спрятанные сло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 П Р П А В И С О Л Н Ц Е В Т А О Р Ш А Р А К Е И Г У О У Н Г Ш К В М Я Ч Л О А А П Р ОУ Ш Г К А Р Т И Н А К Н Р Ч И Т Я Б Л О К О О Р А А П Р С М И Р М С Г Ш Щ Ш Л Р Е О Ы Л Д О В Т Е Л Е Ф О Н Ф Ж Д Ы Л З О Н Т В Ш К Е Р О Ч С Т И Р В А П Р О М А Ш И Н А П И О Л Л Ю С А Д А С И Н А Р В Ы Л О А Р Н Е Г К У А И С Т У Л  Н П Р О Л Д С Н К В А Г О Н О Р П О В А И У Р О Л В Р Е Б Л Е Н  П И Н Г В И Н  Н К Р О С Т О К В П Ы Р Л Б Щ 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Чтение текста до заданного выражения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Упражнения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анные на принципе точного воспроизвед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«Найди слова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С</a:t>
            </a:r>
            <a:r>
              <a:rPr b="0" lang="ru-RU" sz="3200" spc="-1" strike="noStrike">
                <a:solidFill>
                  <a:srgbClr val="009999"/>
                </a:solidFill>
                <a:latin typeface="Tahoma"/>
              </a:rPr>
              <a:t>ме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9999"/>
                </a:solidFill>
                <a:latin typeface="Tahoma"/>
              </a:rPr>
              <a:t>во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, </a:t>
            </a:r>
            <a:r>
              <a:rPr b="0" lang="ru-RU" sz="3200" spc="-1" strike="noStrike">
                <a:solidFill>
                  <a:srgbClr val="009999"/>
                </a:solidFill>
                <a:latin typeface="Tahoma"/>
              </a:rPr>
              <a:t>сто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, к</a:t>
            </a:r>
            <a:r>
              <a:rPr b="0" lang="ru-RU" sz="3200" spc="-1" strike="noStrike">
                <a:solidFill>
                  <a:srgbClr val="009999"/>
                </a:solidFill>
                <a:latin typeface="Tahoma"/>
              </a:rPr>
              <a:t>ос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9999"/>
                </a:solidFill>
                <a:latin typeface="Tahoma"/>
              </a:rPr>
              <a:t>по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, </a:t>
            </a:r>
            <a:r>
              <a:rPr b="0" lang="ru-RU" sz="3200" spc="-1" strike="noStrike">
                <a:solidFill>
                  <a:srgbClr val="009999"/>
                </a:solidFill>
                <a:latin typeface="Tahoma"/>
              </a:rPr>
              <a:t>зуб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Распределение цифр в определенном поряд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«Перепутанные линии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Игра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пространенная у охотничьих племен индейце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Чтение с помех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Перепутанные линии»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4" descr="рисунок 3"/>
          <p:cNvPicPr/>
          <p:nvPr/>
        </p:nvPicPr>
        <p:blipFill>
          <a:blip r:embed="rId1"/>
          <a:stretch/>
        </p:blipFill>
        <p:spPr>
          <a:xfrm>
            <a:off x="250920" y="2276640"/>
            <a:ext cx="3827520" cy="343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рисунок 3"/>
          <p:cNvPicPr/>
          <p:nvPr/>
        </p:nvPicPr>
        <p:blipFill>
          <a:blip r:embed="rId2"/>
          <a:stretch/>
        </p:blipFill>
        <p:spPr>
          <a:xfrm>
            <a:off x="3741840" y="2239920"/>
            <a:ext cx="4916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1:40:42Z</dcterms:created>
  <dc:creator>Капуста</dc:creator>
  <dc:description/>
  <dc:language>en-US</dc:language>
  <cp:lastModifiedBy>Admin</cp:lastModifiedBy>
  <dcterms:modified xsi:type="dcterms:W3CDTF">2020-11-24T12:43:19Z</dcterms:modified>
  <cp:revision>19</cp:revision>
  <dc:subject/>
  <dc:title>Слайд 1</dc:title>
</cp:coreProperties>
</file>