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724-26C9-4DD2-89A3-3F64130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753-AC56-4FC8-A4BC-8820912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718-260D-4EA9-819A-C8794635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4A0-22F7-4CF5-B941-C41DE147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E27-B643-4345-961E-6EFA6EBA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562-7FCD-4067-84F1-3AE26887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C32-7BDD-4FF7-A553-31C2B813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C82-C5B2-4928-81D3-539D560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C2A-7EB7-4A89-8007-6D91A80C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0D0-17CC-4D73-8E1D-E5B880C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3C6-80E1-46C1-958C-75671B3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060-8A6F-45D0-BACD-9E9D7D6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9B0-4D61-487B-A16A-ED0879BEB2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50920" y="260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Елена Юрьевна Корытникова, учитель начальных классов,            МБОУ «СОШ №17» г. Усолье-Сибир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Упражнение «Мух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27367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мотри и запом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Рисунок 1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ь на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олько вишен ты видел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ы видел, ручку или карандаш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Ру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олько конфет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Д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предметы еще нарисованы на карти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Книжка, свечка, звезды, птица, шарик, месяц, колп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смотри внимательно и запомн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Рисунок 10" descr=""/>
          <p:cNvPicPr/>
          <p:nvPr/>
        </p:nvPicPr>
        <p:blipFill>
          <a:blip r:embed="rId1"/>
          <a:stretch/>
        </p:blipFill>
        <p:spPr>
          <a:xfrm>
            <a:off x="1522440" y="2259000"/>
            <a:ext cx="6099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ь на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 ли на пальме бан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колько домиков нарисовано на картинк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четы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ое выражение лица у смайли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есел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Ножницы на рисунке открыты или закрыт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ткры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акого цвета карандаш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и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У каждого ли домика нарисованы труб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Тренировка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Verdana"/>
              </a:rPr>
              <a:t>распределения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077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Каждой руке — свое дело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чет с помехо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ение с помехо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рректурные задания с помех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684360" y="1341360"/>
            <a:ext cx="784836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Ананьев Б.Г. Воспитание внимания школь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Люблинская А.А. Учителю о психологии младшего школьн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Психокоррекционная и развивающая работа с детьми/под ред. И.В.Дуброви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Развиваем внимание./сост. И.Шаги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5. Упражнения на развитие внимания детей младшего школьного возраста   http://www.s_86.edu54.ru/DswM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54764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Источни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Чтение текста до заданного выражения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Упражнени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ные на принципе точного воспроизве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«Найди слова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С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ме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в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ст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к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по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 </a:t>
            </a: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зу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аспределение цифр в определенном по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Иг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остраненная у охотничьих племен индейце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Чтение с помех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Admin</cp:lastModifiedBy>
  <dcterms:modified xsi:type="dcterms:W3CDTF">2020-11-24T12:43:19Z</dcterms:modified>
  <cp:revision>19</cp:revision>
  <dc:subject/>
  <dc:title>Слайд 1</dc:title>
</cp:coreProperties>
</file>