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FB7-13E8-4C9B-80C2-38E8EB5E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F06-BB11-4069-84D1-19F7F56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A87-BD0B-4846-9D34-F46FBA52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2CB-DF97-44A1-A03A-CB8F4C8D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BFC1-C3FE-469D-B812-A6E217E5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3DDB-35E1-4AE1-9589-A99DC8EA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121C-8AB7-44A0-AD9D-72469FC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EAF2-AC72-435C-9849-B2C2419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AE84-D7FF-4B4A-A88E-884EB46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5EE-CFB1-4973-91AD-DE4DBC0C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D21-57F3-4E8A-92F8-102F7F5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9BF-5E9E-4AB9-8E2D-F978A335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2A6-EBBC-41F1-BBE2-8B2DEBE9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963-6367-4B95-B449-ECA0501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C936-4FED-4130-9A00-3992703E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C13-DB15-46C9-BA59-985BE05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5DF-6871-4C41-AA4E-E74BA0B2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0AAB-475B-415F-A76C-43205DF0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B7A6-C8D2-422C-9C40-7C662F8B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76BD-E263-498A-A7F8-D34693CE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9087-1859-44F1-85EB-8A281F1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6743-91F3-422C-92CF-32653EA7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DCE-F36E-41CA-86A7-DE797A9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EDE7-6B89-4D3C-9DE7-C548A839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0CA3-C6E7-4504-BBB4-033C989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DE50-3D12-4056-8FD8-D65B055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184C-44C0-49BA-8D04-AC60BE4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2230-0265-49A0-A70D-09B4676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6616-F9BD-4554-A996-DFD8ECC8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0918-5010-4722-9B3B-488C8FCD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8CA6-925A-45A2-AE59-3EDA2090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B2B7-E466-42BB-BE22-EA52E794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142D-0B89-470C-8702-9EE757F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468-417D-478D-924A-56F68B7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82EE-798E-41B5-AD98-EEBA0F8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2B93-59F8-42E3-96C0-12BEAB90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0803-D1DD-4DD4-9B0C-3E82C4A2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657D-0492-44E4-A972-ACB45F7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C286-2A04-4AB2-B40A-3064F20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85C7-676D-446E-87A5-6437CB8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97AD-E08E-4ED5-8CA8-730D0BEB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D861-F22A-49D6-97A8-4822728D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3C40-6D55-4A6E-8838-5951CB8C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3DBA-CB32-417F-9931-B75E3FF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E5E-3A21-40B8-A227-E1905E5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981D-215E-46C3-BBE8-AB61D543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0EC3-8193-43D4-AABE-2F56BF8C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F88D-70C4-4AAD-AE34-05FF49DE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44DD-8DB3-4F0E-96E7-FE60429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3EAD-6791-4AB4-98F4-2C5363E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15160-36AB-494F-8C1B-50F4DAD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C9DD-E587-4E24-A944-C8AFC7D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27C1-2BD8-4316-A934-D4CFF2D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6A20-1F4A-455A-9F3C-8D0423B7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E613-B3B2-45F7-BE5F-570F2893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6E0-3B05-44C0-BE9C-97C1712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1AE2-647A-41E3-A6BE-A840339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5F11-7079-45B0-93C4-CA072C7B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7C01-DEBF-48B8-A4BF-46A9556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4846-E4FF-4FDE-A792-05B6ACC0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E3B5-6DF2-4463-9BA9-25ACCC2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6D2CB-22B5-4460-8E85-76C18D2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BAEF5-8BE0-4525-87EF-7DB35E3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10DB-D45D-45C1-9DC5-6EAA231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8C623-3A17-48F0-8049-88A4470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9237-0C98-4308-B381-3DEEDC1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86F-161E-4A33-93B4-7DE89D2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70BA-CD37-4DEF-AACC-C2C25AE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FCB8-3864-4B96-ACED-2F1869A8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4B0C-EA17-430E-82DE-47A9A071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827C-4813-43CF-A5E9-852CE7CA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F6B3-7B93-45AA-9946-0A54DB3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F97D-55D0-4932-8C8E-B406A4C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8931-865F-4768-A1C2-88BF27E9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30B4B-84B8-4B59-8793-36F3E0AE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853B-E210-4D0F-8018-678C3E4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53FB-3636-4F67-8BBD-166CC6B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3DF-A5CB-4951-9163-91E6946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72A7-E81F-44B1-AF7C-15B7862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7EFE-06C5-42CE-A7D8-4626BFC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1A03-9328-4865-851D-33DE280C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879E-6175-477A-949E-11A42529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18F9-5DD8-4D81-96A9-1909CDC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040-8F39-4D2A-8EB0-B88B63D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B4AC-910A-4EDE-B343-EA3831FD5A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53E6-F214-4FDB-B869-C10DD3690D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CC01-8329-4C83-8AAF-9FD3D111F0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F8E4-6170-4075-B887-7F891713B1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BB33-3BAF-46F9-A954-31DD9468B57E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F4E1-DFFC-44B8-A2AB-1719ACDB33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B62-D86C-40ED-9EA4-797EB1741F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3" descr="https://johnnyshumate.files.wordpress.com/2012/10/russian3b1.jpg"/>
          <p:cNvPicPr/>
          <p:nvPr/>
        </p:nvPicPr>
        <p:blipFill>
          <a:blip r:embed="rId1"/>
          <a:stretch/>
        </p:blipFill>
        <p:spPr>
          <a:xfrm>
            <a:off x="971640" y="4365720"/>
            <a:ext cx="1944720" cy="19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https://1.bp.blogspot.com/-zYpLch6ZRMs/V_S9gtItK6I/AAAAAAAAIJI/YP1tjjWWbgcFAR6CFqAD2NnGQ39yTyKhQCLcB/s1600/7.png"/>
          <p:cNvPicPr/>
          <p:nvPr/>
        </p:nvPicPr>
        <p:blipFill>
          <a:blip r:embed="rId2"/>
          <a:stretch/>
        </p:blipFill>
        <p:spPr>
          <a:xfrm rot="20489400">
            <a:off x="2495520" y="-793800"/>
            <a:ext cx="7093080" cy="3529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72720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  <a:ea typeface="Aharoni"/>
              </a:rPr>
              <a:t>РОССИЙСКАЯ АРМИЯ</a:t>
            </a:r>
            <a:br>
              <a:rPr sz="8000"/>
            </a:b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ОЗНАКОМЛЕНИЕ С ОКРУЖАЮЩИМ МИРОМ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571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Calibri Light"/>
              </a:rPr>
              <a:t>АВТОР: ЧЕРНЯТИНА ИННА МИХАЙЛОВ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Calibri Light"/>
              </a:rPr>
              <a:t>МКДОУ ЛАТНЕНСКИЙ ДЕТСКИЙ САД «РОДНИЧОК»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одводные силы</a:t>
            </a: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.</a:t>
            </a:r>
            <a:br>
              <a:rPr sz="3600"/>
            </a:b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2" descr="https://static.wixstatic.com/media/e159d6_32f728cd902047408289386054f548ad~mv2_d_2000_1200_s_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Морская авиация</a:t>
            </a: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.</a:t>
            </a:r>
            <a:br>
              <a:rPr sz="3600"/>
            </a:b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9" name="Picture 2" descr="http://alternathistory.com/wp-content/uploads/2019/07/lost_generation_of_steel_birds-04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Морская</a:t>
            </a: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ехота</a:t>
            </a: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1" name="Picture 2" descr="https://avatars.mds.yandex.net/get-pdb/1793884/5beceb75-d880-4a3d-b7a6-cfa41e2f2469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s://discover24.ru/wp-content/uploads/2019/12/eapucdqx4aawnov.jpg"/>
          <p:cNvPicPr/>
          <p:nvPr/>
        </p:nvPicPr>
        <p:blipFill>
          <a:blip r:embed="rId1"/>
          <a:stretch/>
        </p:blipFill>
        <p:spPr>
          <a:xfrm>
            <a:off x="3132000" y="2894040"/>
            <a:ext cx="6012000" cy="3397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372600"/>
            <a:ext cx="754380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В российской армии есть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2" action="ppaction://hlinksldjump"/>
              </a:rPr>
              <a:t>Сухопутные войска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3" action="ppaction://hlinksldjump"/>
              </a:rPr>
              <a:t>Военно-воздушные силы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4" action="ppaction://hlinksldjump"/>
              </a:rPr>
              <a:t>Военно-морской флот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3640" y="5229000"/>
            <a:ext cx="7683480" cy="920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ехота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Picture 2" descr="https://function.mil.ru/images/upload/2015/INR_27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3" descr=""/>
          <p:cNvPicPr/>
          <p:nvPr/>
        </p:nvPicPr>
        <p:blipFill>
          <a:blip r:embed="rId1"/>
          <a:stretch/>
        </p:blipFill>
        <p:spPr>
          <a:xfrm>
            <a:off x="2462040" y="-171360"/>
            <a:ext cx="6986880" cy="15127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373720"/>
            <a:ext cx="8070840" cy="8128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Танковые войска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5" name="Picture 6" descr="https://yandex.ru/images/_crpd/C10zR0317/f31383KxvImH/VG7aw_ps9VboyeLQc4jcfnj5hOSmNioLCAZmFA62P0fUOgh-OcMxPW6ufGRJc50FeNOdMD1HcWCAaQ7XBYjdlnT_SyabWWQz3I2VxfOJrQrNbGH0ksLv6zw3k0Qa17vX5OmtKjjH9Dj7iPwE6XJv99riekOP8cbXkp6aEiAdiNflKw9gGPjmJdhKdALg-ohdyhoGRYSBW4mLM4RH_XLMdeYYiW-albY4GksqUO6UblQJ4Apw78Jmx4A_OQCjjQgF4GrfUVuu91W4SmUQ0Rt5PcgKBJYE4ripm2J3Vt2g34dECplsSxWlWGibmgM8ZE93qJIZQ39wBqZy7Osyw95L9_NIzGNKbUdUmqm3cgCYaT6Y-aWWZ0KoqQkiZKU-cC10lmuofUmn1xgJG-qRXFX_V3jSGQH8gad20W5qgNO8abTSqE1weR1mVorItqKQy1ru2gkm9uXTW-rbAAbVbvBcZfR72k3rt7SbGvqbQIwlHwcpszni7kIFF6FPOiNQDkgmIrhfoknPRta7W1YQUonKDrr6NlRmwVl5aiAVdL5Tf8TXuUpdS8XmyOnrOSN8R0x1uBAqg24DRGRzHTgTImxKx0E4DKD4rEZ06Kl1ksCbqR7pS6U2ZWNZ6zvg1wUOoP1EFsrIX7nm9Rl4yClhrGWtFrpjSNLtM3QUkJza47BM-KSBiWxBK27GJFi6lqHhOZj-6GgmxGcj-hmJ0ZUF_0Bv5dYJek_IpMRZCIv5Y-wEDjSKYerhDaAlZ6Lta9DjzUu08No-QthuhJQoShVzoaiqrPlKNBaXMNipKeIFFL2z_oTkaZjvqTbVuUqLeGM_BR-UmgAoUy2CV9TjfOnQwg2phvE7HHN7rDd2ibpWYhH7Wr1oW4ZWNTDZy2miFvUds92npBkYvNiEluiJu-uzjhd-5DjjeoE_QsVX8YxaoyHtuuTBaz1BOExnZrjLphIimRr9CYgnxndgWjna4vVmo"/>
          <p:cNvPicPr/>
          <p:nvPr/>
        </p:nvPicPr>
        <p:blipFill>
          <a:blip r:embed="rId2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76280" y="5084280"/>
            <a:ext cx="8445600" cy="1514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Артиллерия (ракетные войска)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7" name="Picture 5" descr="https://img-fotki.yandex.ru/get/26001/45274921.e3/0_16dc09_67142756_ori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7589880" cy="8222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Авиация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6" descr="https://cs4.pikabu.ru/post_img/big/2015/09/16/11/1442429208_9074848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16536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Космические войска.</a:t>
            </a:r>
            <a:br>
              <a:rPr sz="6600"/>
            </a:b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1" name="Picture 2" descr="https://xn--80ahclcogc6ci4h.xn--90anlfbebar6i.xn--p1ai/images/military/military/photo/DSC_58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6165360"/>
            <a:ext cx="758988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 Light"/>
              </a:rPr>
              <a:t>Радиотехнические и специальные войска.</a:t>
            </a:r>
            <a:br>
              <a:rPr sz="3600"/>
            </a:b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2" descr="http://lotosgtrk.ru/upload/iblock/ad9/ad99bcba83ce915a93fa0179449310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5444640"/>
            <a:ext cx="758988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Надводные силы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5" name="Picture 2" descr="https://www.ridus.ru/_ah/img/AOGGdVTbzKrskHqjyNn6DA"/>
          <p:cNvPicPr/>
          <p:nvPr/>
        </p:nvPicPr>
        <p:blipFill>
          <a:blip r:embed="rId1"/>
          <a:stretch/>
        </p:blipFill>
        <p:spPr>
          <a:xfrm>
            <a:off x="0" y="0"/>
            <a:ext cx="91440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42:38Z</dcterms:created>
  <dc:creator>алексей</dc:creator>
  <dc:description/>
  <dc:language>en-US</dc:language>
  <cp:lastModifiedBy>Сервисный центр</cp:lastModifiedBy>
  <dcterms:modified xsi:type="dcterms:W3CDTF">2020-11-24T15:59:08Z</dcterms:modified>
  <cp:revision>41</cp:revision>
  <dc:subject/>
  <dc:title>Слайд 1</dc:title>
</cp:coreProperties>
</file>