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E76-1F69-4D15-A4AA-6521F89D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EBCE-C27B-49C8-91E0-915D9AB3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C1A2-1209-4C47-A4C0-A1EDFB78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79A2-05D1-4AB5-8700-BDC2C833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EBE0-82E8-499F-9736-F60DD7E6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C6A8-272B-45F6-B9E9-88E8209A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1549-55F4-4BF0-BD40-7BB3DEBF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EC08-0441-4B00-A1E7-3F7D198B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32A6-3E3D-48D3-B7EE-4240F6D7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4189-5A0B-4CD8-996C-02271CF6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821B-F6FE-44EC-AF00-94FF2C0D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5839-824E-4C71-B763-6ABD54C2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FF37-C8DA-441A-8987-2DB0DA32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3B2A-BF1D-4BF7-97C6-F7FCC523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99F3-607F-4754-8389-4415C24D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E20E-2211-4B01-8622-99344E3C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063D-4C05-4430-9DB2-2E21B4C3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52AAC-EBB6-4841-9F6B-81BEE3B9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F89C1-31DE-4412-AE6E-C0AC9A96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FC67B-1383-4458-98DD-A23898EF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8AFCB-5773-4CA9-A31E-789619C7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BEE83-315E-4FB5-B0A2-AF31A864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A625-0DF3-4504-A9B4-AA6E231B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885CE-80D1-416D-B140-5A5BDF4A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6CD77-4F77-4E48-A49E-261ECD4A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06D57-2FCF-46AE-A9FB-5994A45E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603C9-408E-43BD-9C21-90758F1A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091FA-3CDC-4F1D-905F-213FBD26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A5E47-CE21-4789-B06E-627C8C6E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5937F-581F-496D-AB40-5B0A6786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6A7EE-19C4-402D-9145-E800C0E0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5B004-B8D2-4C35-9716-A2419E58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8D203-C67A-4593-837C-5D329F9D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B395-6D8E-4F44-965C-486A0586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B7049-A516-4544-A327-DA639F99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414E8-0E89-4711-BC26-4BABFD96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30E81-7BE5-48D3-839E-C1D8C400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C5E4F-56DF-4C00-9874-75B48AB7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0846B-D339-4D97-980D-8DB7EC96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A185E-E5F0-4E49-A632-AB89472B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F21BA-B867-4DCB-A616-645647E4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57E25-0828-4CA4-ADDB-3EBB063A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BB98B-CD4D-44C9-9D4F-072E5924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75137-ED5B-4F28-A143-80CE78E0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683-FE8A-4892-AF50-13477A7A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32240-F3C6-424A-9B4C-DB4A3C39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3ED48-7BBF-47E0-A0E8-5322FD45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99D16-10E9-4FCF-A864-6CA98F97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854D3-B01B-4551-B4B1-D3F8195F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67508-0812-4AA7-8A92-562C23E6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1AAEB-5D62-4002-9C96-F70BA3DA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3D119-91BB-4F88-BC98-6E0C3661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C14E8-CF22-4BE5-A5A5-B0B6A728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BD81A-80A3-4400-895A-C7DD3827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E0126-12E3-4768-8F16-D32F2C12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B85A-33C4-40D9-A577-C1BE79FA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EE549-535D-4EDC-A49A-93612693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46E62-6C1D-4C13-8661-093E80DF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C9CE8-5CF0-4159-B77B-7A291619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EA35B-76C6-4B57-8BB7-891C9918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8BE14-AF09-40F7-A795-83CACEAF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3B642-DF78-4FE2-B811-802A93A3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13546-8FC7-491C-9F8D-8247AD8E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41B55-89BE-4811-9874-0289CA8F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1335B-5110-40FA-BB87-169A4289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A43E4-CB2B-4E30-8A73-3A5FEDB3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69E8-3DFC-4858-84B2-982F0310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89891-53A6-4325-A18D-1B8AB299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87816-6762-45E9-B44A-7C47A35E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0B33A-A5FB-4036-B2CC-F808E4A7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504A5-25DC-49CD-B508-5BDC91A2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1B37D-36A8-482B-AA82-C7546D67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4E356-3F10-4665-A8E3-D5A89679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041E1-873B-49DD-88F1-3BFC71DB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4F320-1D6E-4041-B6D3-5CC199F1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3926B-98CF-4C69-A3F1-0288EF00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E95C6-5334-4D72-A50F-7C0CBF62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B38A-9E4D-41C2-B9D2-0D33EA9D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84CA0-0898-4B95-82BB-E0E41F7E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39D76-1DD5-4DCB-A111-93229A47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DF0F9-2F3A-4ABF-84B1-8147897D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B9950-66E5-4379-AF0D-C1AD7B7C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E1545-7620-429F-93BE-09BC0B89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87A4-A8FF-4749-B44E-707E061B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B596-2D2E-438B-B37E-4474ED0EA9F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8E79-27DC-408F-85E0-B3CBEF1CF9B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7EEB-3B07-40FF-A67F-D8F98D3121D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98BE-223B-482E-9D54-3D866C3072D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671E-4E69-4758-8146-88D04C76D2FA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EFD9-CA93-45EF-9B37-F8AD48DDE9C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A06C-D385-499A-B8CB-4D949D24265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13" descr="https://johnnyshumate.files.wordpress.com/2012/10/russian3b1.jpg"/>
          <p:cNvPicPr/>
          <p:nvPr/>
        </p:nvPicPr>
        <p:blipFill>
          <a:blip r:embed="rId1"/>
          <a:stretch/>
        </p:blipFill>
        <p:spPr>
          <a:xfrm>
            <a:off x="971640" y="4365720"/>
            <a:ext cx="1944720" cy="1958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https://1.bp.blogspot.com/-zYpLch6ZRMs/V_S9gtItK6I/AAAAAAAAIJI/YP1tjjWWbgcFAR6CFqAD2NnGQ39yTyKhQCLcB/s1600/7.png"/>
          <p:cNvPicPr/>
          <p:nvPr/>
        </p:nvPicPr>
        <p:blipFill>
          <a:blip r:embed="rId2"/>
          <a:stretch/>
        </p:blipFill>
        <p:spPr>
          <a:xfrm rot="20489400">
            <a:off x="2495520" y="-793800"/>
            <a:ext cx="7093080" cy="35290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72720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 Light"/>
                <a:ea typeface="Aharoni"/>
              </a:rPr>
              <a:t>РОССИЙСКАЯ АРМИЯ</a:t>
            </a:r>
            <a:br>
              <a:rPr sz="8000"/>
            </a:br>
            <a:r>
              <a:rPr b="0" lang="ru-RU" sz="2800" spc="-1" strike="noStrike">
                <a:solidFill>
                  <a:srgbClr val="262626"/>
                </a:solidFill>
                <a:latin typeface="Calibri"/>
              </a:rPr>
              <a:t>ОЗНАКОМЛЕНИЕ С ОКРУЖАЮЩИМ МИРОМ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3571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620e"/>
                </a:solidFill>
                <a:latin typeface="Calibri Light"/>
              </a:rPr>
              <a:t>АВТОР: ЧЕРНЯТИНА ИННА МИХАЙЛОВН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620e"/>
                </a:solidFill>
                <a:latin typeface="Calibri Light"/>
              </a:rPr>
              <a:t>МКДОУ ЛАТНЕНСКИЙ ДЕТСКИЙ САД «РОДНИЧОК»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5805000"/>
            <a:ext cx="75895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 Light"/>
              </a:rPr>
              <a:t>Подводные силы</a:t>
            </a:r>
            <a:r>
              <a:rPr b="0" lang="ru-RU" sz="6000" spc="-1" strike="noStrike">
                <a:solidFill>
                  <a:srgbClr val="ffffff"/>
                </a:solidFill>
                <a:latin typeface="Calibri Light"/>
              </a:rPr>
              <a:t>.</a:t>
            </a:r>
            <a:br>
              <a:rPr sz="3600"/>
            </a:br>
            <a:endParaRPr b="0" lang="en-US" sz="6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7" name="Picture 2" descr="https://static.wixstatic.com/media/e159d6_32f728cd902047408289386054f548ad~mv2_d_2000_1200_s_2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5805000"/>
            <a:ext cx="75895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 Light"/>
              </a:rPr>
              <a:t>Морская авиация</a:t>
            </a:r>
            <a:r>
              <a:rPr b="0" lang="ru-RU" sz="6000" spc="-1" strike="noStrike">
                <a:solidFill>
                  <a:srgbClr val="ffffff"/>
                </a:solidFill>
                <a:latin typeface="Calibri Light"/>
              </a:rPr>
              <a:t>.</a:t>
            </a:r>
            <a:br>
              <a:rPr sz="3600"/>
            </a:br>
            <a:endParaRPr b="0" lang="en-US" sz="6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9" name="Picture 2" descr="http://alternathistory.com/wp-content/uploads/2019/07/lost_generation_of_steel_birds-04-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5805000"/>
            <a:ext cx="75895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 Light"/>
              </a:rPr>
              <a:t>Морская</a:t>
            </a:r>
            <a:r>
              <a:rPr b="0" lang="ru-RU" sz="3600" spc="-1" strike="noStrike">
                <a:solidFill>
                  <a:srgbClr val="ffffff"/>
                </a:solidFill>
                <a:latin typeface="Calibri Light"/>
              </a:rPr>
              <a:t> </a:t>
            </a:r>
            <a:r>
              <a:rPr b="0" lang="ru-RU" sz="6600" spc="-1" strike="noStrike">
                <a:solidFill>
                  <a:srgbClr val="ffffff"/>
                </a:solidFill>
                <a:latin typeface="Calibri Light"/>
              </a:rPr>
              <a:t>пехота</a:t>
            </a:r>
            <a:r>
              <a:rPr b="0" lang="ru-RU" sz="3600" spc="-1" strike="noStrike">
                <a:solidFill>
                  <a:srgbClr val="ffffff"/>
                </a:solidFill>
                <a:latin typeface="Calibri Light"/>
              </a:rPr>
              <a:t>. </a:t>
            </a:r>
            <a:br>
              <a:rPr sz="3600"/>
            </a:b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1" name="Picture 2" descr="https://avatars.mds.yandex.net/get-pdb/1793884/5beceb75-d880-4a3d-b7a6-cfa41e2f2469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https://discover24.ru/wp-content/uploads/2019/12/eapucdqx4aawnov.jpg"/>
          <p:cNvPicPr/>
          <p:nvPr/>
        </p:nvPicPr>
        <p:blipFill>
          <a:blip r:embed="rId1"/>
          <a:stretch/>
        </p:blipFill>
        <p:spPr>
          <a:xfrm>
            <a:off x="3132000" y="2894040"/>
            <a:ext cx="6012000" cy="33973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000" y="372600"/>
            <a:ext cx="7543800" cy="145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 Light"/>
              </a:rPr>
              <a:t>В российской армии есть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998e3"/>
                </a:solidFill>
                <a:uFillTx/>
                <a:latin typeface="Calibri"/>
                <a:hlinkClick r:id="rId2" action="ppaction://hlinksldjump"/>
              </a:rPr>
              <a:t>Сухопутные войска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;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998e3"/>
                </a:solidFill>
                <a:uFillTx/>
                <a:latin typeface="Calibri"/>
                <a:hlinkClick r:id="rId3" action="ppaction://hlinksldjump"/>
              </a:rPr>
              <a:t>Военно-воздушные силы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998e3"/>
                </a:solidFill>
                <a:uFillTx/>
                <a:latin typeface="Calibri"/>
                <a:hlinkClick r:id="rId4" action="ppaction://hlinksldjump"/>
              </a:rPr>
              <a:t>Военно-морской флот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23640" y="5229000"/>
            <a:ext cx="7683480" cy="9205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 Light"/>
              </a:rPr>
              <a:t>Пехота.</a:t>
            </a:r>
            <a:endParaRPr b="0" lang="en-US" sz="6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2" name="Picture 2" descr="https://function.mil.ru/images/upload/2015/INR_27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Прямоугольник 3" descr=""/>
          <p:cNvPicPr/>
          <p:nvPr/>
        </p:nvPicPr>
        <p:blipFill>
          <a:blip r:embed="rId1"/>
          <a:stretch/>
        </p:blipFill>
        <p:spPr>
          <a:xfrm>
            <a:off x="2462040" y="-171360"/>
            <a:ext cx="6986880" cy="151272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0560" y="5373720"/>
            <a:ext cx="8070840" cy="8128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 Light"/>
              </a:rPr>
              <a:t>Танковые войска.</a:t>
            </a:r>
            <a:endParaRPr b="0" lang="en-US" sz="6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5" name="Picture 6" descr="https://yandex.ru/images/_crpd/C10zR0317/f31383KxvImH/VG7aw_ps9VboyeLQc4jcfnj5hOSmNioLCAZmFA62P0fUOgh-OcMxPW6ufGRJc50FeNOdMD1HcWCAaQ7XBYjdlnT_SyabWWQz3I2VxfOJrQrNbGH0ksLv6zw3k0Qa17vX5OmtKjjH9Dj7iPwE6XJv99riekOP8cbXkp6aEiAdiNflKw9gGPjmJdhKdALg-ohdyhoGRYSBW4mLM4RH_XLMdeYYiW-albY4GksqUO6UblQJ4Apw78Jmx4A_OQCjjQgF4GrfUVuu91W4SmUQ0Rt5PcgKBJYE4ripm2J3Vt2g34dECplsSxWlWGibmgM8ZE93qJIZQ39wBqZy7Osyw95L9_NIzGNKbUdUmqm3cgCYaT6Y-aWWZ0KoqQkiZKU-cC10lmuofUmn1xgJG-qRXFX_V3jSGQH8gad20W5qgNO8abTSqE1weR1mVorItqKQy1ru2gkm9uXTW-rbAAbVbvBcZfR72k3rt7SbGvqbQIwlHwcpszni7kIFF6FPOiNQDkgmIrhfoknPRta7W1YQUonKDrr6NlRmwVl5aiAVdL5Tf8TXuUpdS8XmyOnrOSN8R0x1uBAqg24DRGRzHTgTImxKx0E4DKD4rEZ06Kl1ksCbqR7pS6U2ZWNZ6zvg1wUOoP1EFsrIX7nm9Rl4yClhrGWtFrpjSNLtM3QUkJza47BM-KSBiWxBK27GJFi6lqHhOZj-6GgmxGcj-hmJ0ZUF_0Bv5dYJek_IpMRZCIv5Y-wEDjSKYerhDaAlZ6Lta9DjzUu08No-QthuhJQoShVzoaiqrPlKNBaXMNipKeIFFL2z_oTkaZjvqTbVuUqLeGM_BR-UmgAoUy2CV9TjfOnQwg2phvE7HHN7rDd2ibpWYhH7Wr1oW4ZWNTDZy2miFvUds92npBkYvNiEluiJu-uzjhd-5DjjeoE_QsVX8YxaoyHtuuTBaz1BOExnZrjLphIimRr9CYgnxndgWjna4vVmo"/>
          <p:cNvPicPr/>
          <p:nvPr/>
        </p:nvPicPr>
        <p:blipFill>
          <a:blip r:embed="rId2"/>
          <a:stretch/>
        </p:blipFill>
        <p:spPr>
          <a:xfrm>
            <a:off x="0" y="0"/>
            <a:ext cx="9144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76280" y="5084280"/>
            <a:ext cx="8445600" cy="15145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 Light"/>
              </a:rPr>
              <a:t>Артиллерия (ракетные войска).</a:t>
            </a:r>
            <a:endParaRPr b="0" lang="en-US" sz="6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7" name="Picture 5" descr="https://img-fotki.yandex.ru/get/26001/45274921.e3/0_16dc09_67142756_orig"/>
          <p:cNvPicPr/>
          <p:nvPr/>
        </p:nvPicPr>
        <p:blipFill>
          <a:blip r:embed="rId1"/>
          <a:stretch/>
        </p:blipFill>
        <p:spPr>
          <a:xfrm>
            <a:off x="0" y="0"/>
            <a:ext cx="9144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94920" y="5229360"/>
            <a:ext cx="7589880" cy="8222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 Light"/>
              </a:rPr>
              <a:t>Авиация.</a:t>
            </a:r>
            <a:endParaRPr b="0" lang="en-US" sz="6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9" name="Picture 6" descr="https://cs4.pikabu.ru/post_img/big/2015/09/16/11/1442429208_9074848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6165360"/>
            <a:ext cx="75895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 Light"/>
              </a:rPr>
              <a:t>Космические войска.</a:t>
            </a:r>
            <a:br>
              <a:rPr sz="6600"/>
            </a:br>
            <a:endParaRPr b="0" lang="en-US" sz="6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1" name="Picture 2" descr="https://xn--80ahclcogc6ci4h.xn--90anlfbebar6i.xn--p1ai/images/military/military/photo/DSC_58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4920" y="6165360"/>
            <a:ext cx="758988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 Light"/>
              </a:rPr>
              <a:t>Радиотехнические и специальные войска.</a:t>
            </a:r>
            <a:br>
              <a:rPr sz="3600"/>
            </a:b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3" name="Picture 2" descr="http://lotosgtrk.ru/upload/iblock/ad9/ad99bcba83ce915a93fa0179449310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560" y="5444640"/>
            <a:ext cx="758988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 Light"/>
              </a:rPr>
              <a:t>Надводные силы.</a:t>
            </a:r>
            <a:endParaRPr b="0" lang="en-US" sz="6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5" name="Picture 2" descr="https://www.ridus.ru/_ah/img/AOGGdVTbzKrskHqjyNn6DA"/>
          <p:cNvPicPr/>
          <p:nvPr/>
        </p:nvPicPr>
        <p:blipFill>
          <a:blip r:embed="rId1"/>
          <a:stretch/>
        </p:blipFill>
        <p:spPr>
          <a:xfrm>
            <a:off x="0" y="0"/>
            <a:ext cx="914400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13:42:38Z</dcterms:created>
  <dc:creator>алексей</dc:creator>
  <dc:description/>
  <dc:language>en-US</dc:language>
  <cp:lastModifiedBy>Сервисный центр</cp:lastModifiedBy>
  <dcterms:modified xsi:type="dcterms:W3CDTF">2020-11-24T15:59:08Z</dcterms:modified>
  <cp:revision>41</cp:revision>
  <dc:subject/>
  <dc:title>Слайд 1</dc:title>
</cp:coreProperties>
</file>