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373-E752-4E42-A19F-8CD7A9BF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2B3-009F-4382-A595-1D85E3AF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1C3-7377-4FA4-9CF3-195BA0AA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69C-74B6-46CC-B8C6-6A7B3D74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986D-4D98-4311-A11F-020EDE94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BF78-5E9E-4D10-BF50-4F9C94E2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898F-9A93-4685-BE3B-0F95D32A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A679-7B6A-4931-9E78-C12491C2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C95E-3492-4B1C-B402-05AB7690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A56B-9E10-462C-9EC2-3D16E181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956E-3721-4558-B7C6-24E3F40A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202-0125-4E6F-88B5-1D4BA57F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4ABE-8AD9-45C4-8857-78F5429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6B4E-FFB0-485D-8A13-2E695507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BCFB-A51A-4680-A4DC-CB3FF3C6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A148-E413-4D29-BD8C-20CA2127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4199-26EE-4E8A-A706-35E8AC92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D5F-333A-4F28-8567-D58BF4F2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CD1-AA8D-49D6-A02E-E58B80CB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D43-4033-45A7-9876-AC57157B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6D1-4198-402E-ACBB-FA08B14F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324-D018-4466-BC11-F35E68AF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BC5-0D31-4502-9560-1D336875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1BB-749A-4C3C-A490-44BA63A6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3822-96D9-4D35-A6AC-105B3C215D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8808-F996-4671-B6B6-40A094319B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50960" y="1238400"/>
            <a:ext cx="58420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252360" y="-458640"/>
            <a:ext cx="954072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324000" y="-235080"/>
            <a:ext cx="9468000" cy="71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6720" y="4221000"/>
            <a:ext cx="382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убцов. Н.П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2181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Члены Военного совета Сталинградского фронта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672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 С Хруще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Чуян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И Еременк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hrushev_chuyanov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51847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700"/>
                            </p:stCondLst>
                            <p:childTnLst>
                              <p:par>
                                <p:cTn id="2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400"/>
                            </p:stCondLst>
                            <p:childTnLst>
                              <p:par>
                                <p:cTn id="2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.Ф.Ватут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3280" y="1981080"/>
            <a:ext cx="39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мандующ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Юго-Западным фрон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051_3_6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39092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.К.Рокоссовс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267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чале октября 1942 г. Рокоссовского назначили командующим Донским фронтом, которому предстояло сыграть важную роль в контрнаступлении под Сталинградом. Константин Константинович прилетел туда вместе с Жуков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же в критических ситуациях К. К. Рокоссовский оставался корректным с подчиненными, за что пользовался их заслуженным уваж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окружения армии фельдмаршала Фридриха Паулюса Сталин поручил Рокоссовскому командование всеми войсками, действовавшими против сталинградской группировки противника. Именно ему Паулюс при капитуляции отдал свой писто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07" descr=""/>
          <p:cNvPicPr/>
          <p:nvPr/>
        </p:nvPicPr>
        <p:blipFill>
          <a:blip r:embed="rId2"/>
          <a:stretch/>
        </p:blipFill>
        <p:spPr>
          <a:xfrm>
            <a:off x="6254640" y="1386000"/>
            <a:ext cx="2889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талинград, 1943 г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Центр город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stalingrad" descr="Сталинград, 1943 г. Центр города."/>
          <p:cNvPicPr/>
          <p:nvPr/>
        </p:nvPicPr>
        <p:blipFill>
          <a:blip r:embed="rId2"/>
          <a:stretch/>
        </p:blipFill>
        <p:spPr>
          <a:xfrm>
            <a:off x="179280" y="1460520"/>
            <a:ext cx="878544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38400" y="1119240"/>
            <a:ext cx="66672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371600" y="1376280"/>
            <a:ext cx="6400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up_2_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 rot="21280200">
            <a:off x="179280" y="2933640"/>
            <a:ext cx="8963280" cy="32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талинград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би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120" y="1009800"/>
            <a:ext cx="76197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60480"/>
            <a:ext cx="9144000" cy="685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51528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алинградская бит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1942-1943) - оборонительная (с 17 июля по 18 ноября 1942) и наступательная (с 19 ноября 1942 г. по 2 февраля 1943 г.) операции, проведенные советскими войсками с целью обороны Сталинграда и разгрома действовавшей на Сталинградском направлении группировки немецко-фашистских войс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талинградской битве в разное время участвовали войска Сталинградского (С.К. Тимошенко, с 23 июля 1942 В.Н. Гордов, с августа 1942 А.И. Еременко), Юго-Восточного (А.И. Еременко), Юго-Западного (Н.Ф. Ватутин), Донского (К.К. Рокоссовский), левого крыла Воронежского (Ф.И. Голиков) фронтов, Волжская военная флотилия и Сталинградский корпус П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аступления на Сталинградском направлении немецко-фашистское командование сначала направило 6-ю армию (Ф. Паулюс), а с 31 июля 1942 г. и 4-ю танковую армию. В оборонительной операции советские войска обескровили главную группировку противника под Сталинградом и создали условия для перехода в контрнаступл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редоточив дополнительные силы, советское командование осуществило наступательную операцию, в результате которой были окружены и разгромлены немецко-фашистские 6-я армия и 4-я танковая армия, румынские 3-я и 4-я армии, итальянская 8-я арм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.К.Жук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3149640" cy="47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2475000"/>
            <a:ext cx="453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еоргий Константинович Жуков навсегда войдёт в военную историю как великий полководец. В России после Суворова равных ему не было. Будучи членом Ставки ВГК и заместителем Верховного Главнокомандующего, командую фронтами, он был участником важнейших, ключевых событий и битв Великой Отечественной войн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.К.Жук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98560" y="1197000"/>
            <a:ext cx="554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воря словами Макиавелли, «ничто не делает полководца великим более, чем умение проникать в замысел противника». И Жуков в совершенстве владел этим искусством. Умение мысленно читать самую сложную и запутанную обстановку, как открытую книгу, не только проникать в замысел противника, но и предвосхитить возможный ход развития событий, давали ему возможность заблаговременно предпринимать необходимые меры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сталинградской эпопеи именно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у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силевский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время уловили момент, когда надо было отказаться от растраты сил на продолжение многочисленных контрударов, а копить силы и подготовить более основательную наступательную операцию. Как вы знаете, она завершилась окружением и уничтожением 300-тысячной группировки противник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zukovfot" descr=""/>
          <p:cNvPicPr/>
          <p:nvPr/>
        </p:nvPicPr>
        <p:blipFill>
          <a:blip r:embed="rId2"/>
          <a:stretch/>
        </p:blipFill>
        <p:spPr>
          <a:xfrm>
            <a:off x="428760" y="1125360"/>
            <a:ext cx="3351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.М.Василевс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632400" cy="496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11640" y="1560240"/>
            <a:ext cx="4716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 время ожесточенных оборонительных сражений под Сталинградом Жуков и Василевский работали в войсках, принимая меры для организации отражения отчаянных атак противни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дя к выводу о необходимости нанесения более мощных ударов после сосредоточения резервов и более основательной подготовки, они 12 сентября доложили Сталину наметки замысла по окружению и уничтожению неприятеля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.П.Шумил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508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35280" y="380880"/>
            <a:ext cx="50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уйков В.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92000" y="1981080"/>
            <a:ext cx="51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0" y="260280"/>
            <a:ext cx="3780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3:46:25Z</dcterms:created>
  <dc:creator>Тихонов Валерий Иванович</dc:creator>
  <dc:description/>
  <dc:language>en-US</dc:language>
  <cp:lastModifiedBy>Customer</cp:lastModifiedBy>
  <dcterms:modified xsi:type="dcterms:W3CDTF">2014-02-02T13:12:43Z</dcterms:modified>
  <cp:revision>25</cp:revision>
  <dc:subject/>
  <dc:title>Слайд 1</dc:title>
</cp:coreProperties>
</file>