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AA3-D48B-4B4D-B115-91A96FE9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963-8871-4DAF-B011-CB96A6DC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A08-FC03-4738-B04D-C57608FA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E03-AE2F-47AC-91A8-28C4404E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CCA3-00D6-4DA7-B9D7-CE0A01BF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2D34-EA71-44C3-9D5B-05EAA189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4BC1-FB12-45D7-AA35-04CD5687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7242-064D-4D1E-B1F2-0C383B22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85DD-759A-4EE6-B104-4339BEC6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43C9-195B-41C1-93DE-8279A4A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7E40-46AC-4374-83EE-BDC04438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C99-09A9-4949-BFA2-0B6BEAE0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477B-83E9-4890-A851-0A4E4651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C768-F46A-424A-A1B6-277D619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DA23-BC10-4B02-A02A-1F7E8D93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977F-1E83-45A1-BF15-2D68B0B6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DF26-6A38-42C4-AF17-B814E546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639-B82D-4F09-91FC-500B8D33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C7B-9EAA-4455-83C7-C56DF5F5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671-AFEF-43F5-8F6E-52419BE3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D17-CFB5-45AD-BF02-CFD6E66E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914-3522-41C5-A4AC-D00CF33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B24-2C6F-478B-95A3-5C52361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F81-60CF-4489-AF61-EDB674F6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0A48-E898-4EFC-A298-80169EDAAC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3AD4-F205-4067-AECB-3E54AD7E7D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50960" y="1238400"/>
            <a:ext cx="58420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252360" y="-458640"/>
            <a:ext cx="954072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324000" y="-235080"/>
            <a:ext cx="9468000" cy="71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6720" y="4221000"/>
            <a:ext cx="382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убцов. Н.П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2181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Члены Военного совета Сталинградского фронта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672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 С Хруще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Чуян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И Еременк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hrushev_chuyanov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51847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700"/>
                            </p:stCondLst>
                            <p:childTnLst>
                              <p:par>
                                <p:cTn id="2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400"/>
                            </p:stCondLst>
                            <p:childTnLst>
                              <p:par>
                                <p:cTn id="2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.Ф.Ватут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39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мандующ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го-Западным фрон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051_3_6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39092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.К.Рокоссов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октября 1942 г. Рокоссовского назначили командующим Донским фронтом, которому предстояло сыграть важную роль в контрнаступлении под Сталинградом. Константин Константинович прилетел туда вместе с Жуков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же в критических ситуациях К. К. Рокоссовский оставался корректным с подчиненными, за что пользовался их заслуженным уваж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окружения армии фельдмаршала Фридриха Паулюса Сталин поручил Рокоссовскому командование всеми войсками, действовавшими против сталинградской группировки противника. Именно ему Паулюс при капитуляции отдал свой писто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7" descr=""/>
          <p:cNvPicPr/>
          <p:nvPr/>
        </p:nvPicPr>
        <p:blipFill>
          <a:blip r:embed="rId2"/>
          <a:stretch/>
        </p:blipFill>
        <p:spPr>
          <a:xfrm>
            <a:off x="6254640" y="1386000"/>
            <a:ext cx="2889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алинград, 1943 г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Центр город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stalingrad" descr="Сталинград, 1943 г. Центр города."/>
          <p:cNvPicPr/>
          <p:nvPr/>
        </p:nvPicPr>
        <p:blipFill>
          <a:blip r:embed="rId2"/>
          <a:stretch/>
        </p:blipFill>
        <p:spPr>
          <a:xfrm>
            <a:off x="179280" y="1460520"/>
            <a:ext cx="878544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38400" y="1119240"/>
            <a:ext cx="66672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371600" y="1376280"/>
            <a:ext cx="6400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up_2_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 rot="21280200">
            <a:off x="179280" y="2933640"/>
            <a:ext cx="896328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алинград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и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1009800"/>
            <a:ext cx="76197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60480"/>
            <a:ext cx="9144000" cy="685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51528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линградская бит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1942-1943) - оборонительная (с 17 июля по 18 ноября 1942) и наступательная (с 19 ноября 1942 г. по 2 февраля 1943 г.) операции, проведенные советскими войсками с целью обороны Сталинграда и разгрома действовавшей на Сталинградском направлении группировки немецко-фашистских войс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талинградской битве в разное время участвовали войска Сталинградского (С.К. Тимошенко, с 23 июля 1942 В.Н. Гордов, с августа 1942 А.И. Еременко), Юго-Восточного (А.И. Еременко), Юго-Западного (Н.Ф. Ватутин), Донского (К.К. Рокоссовский), левого крыла Воронежского (Ф.И. Голиков) фронтов, Волжская военная флотилия и Сталинградский корпус П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аступления на Сталинградском направлении немецко-фашистское командование сначала направило 6-ю армию (Ф. Паулюс), а с 31 июля 1942 г. и 4-ю танковую армию. В оборонительной операции советские войска обескровили главную группировку противника под Сталинградом и создали условия для перехода в контрнаступл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редоточив дополнительные силы, советское командование осуществило наступательную операцию, в результате которой были окружены и разгромлены немецко-фашистские 6-я армия и 4-я танковая армия, румынские 3-я и 4-я армии, итальянская 8-я арм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.К.Жу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3149640" cy="47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2475000"/>
            <a:ext cx="453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еоргий Константинович Жуков навсегда войдёт в военную историю как великий полководец. В России после Суворова равных ему не было. Будучи членом Ставки ВГК и заместителем Верховного Главнокомандующего, командую фронтами, он был участником важнейших, ключевых событий и битв Великой Отечественной войн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.К.Жу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98560" y="1197000"/>
            <a:ext cx="554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воря словами Макиавелли, «ничто не делает полководца великим более, чем умение проникать в замысел противника». И Жуков в совершенстве владел этим искусством. Умение мысленно читать самую сложную и запутанную обстановку, как открытую книгу, не только проникать в замысел противника, но и предвосхитить возможный ход развития событий, давали ему возможность заблаговременно предпринимать необходимые меры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сталинградской эпопеи именно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у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силевски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время уловили момент, когда надо было отказаться от растраты сил на продолжение многочисленных контрударов, а копить силы и подготовить более основательную наступательную операцию. Как вы знаете, она завершилась окружением и уничтожением 300-тысячной группировки противни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zukovfot" descr=""/>
          <p:cNvPicPr/>
          <p:nvPr/>
        </p:nvPicPr>
        <p:blipFill>
          <a:blip r:embed="rId2"/>
          <a:stretch/>
        </p:blipFill>
        <p:spPr>
          <a:xfrm>
            <a:off x="428760" y="1125360"/>
            <a:ext cx="3351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.М.Василев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632400" cy="496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11640" y="1560240"/>
            <a:ext cx="471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 время ожесточенных оборонительных сражений под Сталинградом Жуков и Василевский работали в войсках, принимая меры для организации отражения отчаянных атак противни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дя к выводу о необходимости нанесения более мощных ударов после сосредоточения резервов и более основательной подготовки, они 12 сентября доложили Сталину наметки замысла по окружению и уничтожению неприятеля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.П.Шуми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508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35280" y="380880"/>
            <a:ext cx="50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уйков В.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92000" y="1981080"/>
            <a:ext cx="51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0" y="260280"/>
            <a:ext cx="3780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3:46:25Z</dcterms:created>
  <dc:creator>Тихонов Валерий Иванович</dc:creator>
  <dc:description/>
  <dc:language>en-US</dc:language>
  <cp:lastModifiedBy>Customer</cp:lastModifiedBy>
  <dcterms:modified xsi:type="dcterms:W3CDTF">2014-02-02T13:12:43Z</dcterms:modified>
  <cp:revision>25</cp:revision>
  <dc:subject/>
  <dc:title>Слайд 1</dc:title>
</cp:coreProperties>
</file>