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1699875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681-A95F-4E68-ACC1-DBF773EF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1053000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5720" y="4058640"/>
            <a:ext cx="1053000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1A8-AFB7-497A-B9B7-3F40033E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8140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5720" y="405864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81400" y="405864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EC0-D5C3-4C03-8BFB-B476A622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6120" y="163836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6520" y="163836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5720" y="405864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6120" y="405864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6520" y="405864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08B-3E20-45D0-9A2E-EA34A18F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5720" y="1638360"/>
            <a:ext cx="105300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B54-CD78-4B08-831A-EDCACB98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1053000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5BA-3116-416D-8F86-319F47D1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513828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81400" y="1638360"/>
            <a:ext cx="513828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1A1-5976-4A9B-973E-960AF584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1E2-BBDE-4395-B351-62BF5F19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5720" y="280800"/>
            <a:ext cx="1053000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8B6-98F7-4142-9A9D-E0BD39B4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1400" y="1638360"/>
            <a:ext cx="513828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5720" y="405864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9F1-2C7A-4176-AE82-FEF94FEC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513828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8140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81400" y="405864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6C5-9944-4F92-9CF4-2A7BF20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8140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5720" y="4058640"/>
            <a:ext cx="1053000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519-CD7A-47AB-AC7B-586DC312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5720" y="1638360"/>
            <a:ext cx="1053000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 fontScale="97000"/>
          </a:bodyPr>
          <a:p>
            <a:pPr marL="389520" indent="-3895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25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296360" indent="-258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15480" indent="-2584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34240" indent="-2584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34240" indent="-2584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34240" indent="-2584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5360" y="6394320"/>
            <a:ext cx="2729160" cy="4874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97440" y="6394320"/>
            <a:ext cx="3706560" cy="4874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6920" y="6394320"/>
            <a:ext cx="2728800" cy="4874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fld id="{51BE22E8-283A-47C3-A73D-C9D20A52FB65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322360" y="2359080"/>
            <a:ext cx="6050160" cy="1977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1" i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1890720" y="21430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икторина по сказкам А.С.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ля учащихся 1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4519440" y="3583080"/>
            <a:ext cx="3961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полнила: учитель начальных классов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ахтина Ольга Евгенье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ыно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мудрец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592308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олот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уш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210672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Шамахан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94" name="WordArt 8"/>
          <p:cNvSpPr txBox="1"/>
          <p:nvPr/>
        </p:nvSpPr>
        <p:spPr>
          <a:xfrm>
            <a:off x="2322360" y="453960"/>
            <a:ext cx="7029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 кем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"Сказке о золотом петушке"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ернулся из похода царь Дадон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оделом тебе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рый невеж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5851440" y="4302000"/>
            <a:ext cx="309564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Свет мой, зеркальце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кажи...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10672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Дурачина т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стофиля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585144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Чего тебе надобно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рче?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8"/>
          <p:cNvSpPr txBox="1"/>
          <p:nvPr/>
        </p:nvSpPr>
        <p:spPr>
          <a:xfrm>
            <a:off x="3114720" y="198360"/>
            <a:ext cx="63435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акими словами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"Сказке о рыбаке и рыбке"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олотая рыбка начинала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еседу со стариком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2178000" y="293544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и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бы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5923080" y="293544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оньком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у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585144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олот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уш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178000" y="423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ай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WordArt 8" descr=""/>
          <p:cNvPicPr/>
          <p:nvPr/>
        </p:nvPicPr>
        <p:blipFill>
          <a:blip r:embed="rId1"/>
          <a:stretch/>
        </p:blipFill>
        <p:spPr>
          <a:xfrm>
            <a:off x="2901960" y="328680"/>
            <a:ext cx="5894280" cy="22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2825640" y="1782720"/>
            <a:ext cx="64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е путешествие подошло к концу. Ребята, вы доказали, что являетесь знатоками и ценителями сказок А.С. Пушкина. Спасибо вам за раб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5" descr=""/>
          <p:cNvPicPr/>
          <p:nvPr/>
        </p:nvPicPr>
        <p:blipFill>
          <a:blip r:embed="rId1"/>
          <a:stretch/>
        </p:blipFill>
        <p:spPr>
          <a:xfrm rot="1162800">
            <a:off x="1654200" y="4275000"/>
            <a:ext cx="2792520" cy="2094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"/>
          <p:cNvPicPr/>
          <p:nvPr/>
        </p:nvPicPr>
        <p:blipFill>
          <a:blip r:embed="rId2"/>
          <a:stretch/>
        </p:blipFill>
        <p:spPr>
          <a:xfrm rot="20201400">
            <a:off x="5797440" y="4252680"/>
            <a:ext cx="2847960" cy="21366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2610000" y="7048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114720" y="1009800"/>
            <a:ext cx="4753080" cy="581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ила виктор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2825640" y="2359080"/>
            <a:ext cx="61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читайте задания. Рассматривайте все варианты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выбрали правильный ответ, то он поменяет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же вы указали на неправильный ответ, то он «улет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2538360" y="198360"/>
            <a:ext cx="7048440" cy="23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 каким персонажем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"Сказки о мёртвой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царевне и о семи богатырях" 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Е разговаривал королевич Елисей 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поисках царевны?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солнц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есяц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210672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ве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92308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ре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3"/>
          <p:cNvSpPr/>
          <p:nvPr/>
        </p:nvSpPr>
        <p:spPr>
          <a:xfrm>
            <a:off x="5778360" y="4302000"/>
            <a:ext cx="324036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использова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ачестве будильник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украш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олиц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5108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исполн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ела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251080" y="286236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оповещ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лучае опасност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2610000" y="270000"/>
            <a:ext cx="681984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 какой целью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"Сказке о золотом петушке"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царь Дадон приобрёл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олотого петушка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58" name="Picture 8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м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585144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10672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м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5851440" y="286236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8"/>
          <p:cNvSpPr txBox="1"/>
          <p:nvPr/>
        </p:nvSpPr>
        <p:spPr>
          <a:xfrm>
            <a:off x="3186000" y="343080"/>
            <a:ext cx="558180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кого в </a:t>
            </a:r>
            <a:endParaRPr b="0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"Сказке о царе Салтане" </a:t>
            </a:r>
            <a:endParaRPr b="0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Е превращался</a:t>
            </a:r>
            <a:endParaRPr b="0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нязь Гвидон?</a:t>
            </a:r>
            <a:endParaRPr b="0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ё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стья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б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я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592308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17800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ычиц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70" name="WordArt 8"/>
          <p:cNvSpPr txBox="1"/>
          <p:nvPr/>
        </p:nvSpPr>
        <p:spPr>
          <a:xfrm>
            <a:off x="3114720" y="270000"/>
            <a:ext cx="61149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ем НЕ смогла</a:t>
            </a:r>
            <a:endParaRPr b="1" i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ать старуха в</a:t>
            </a:r>
            <a:endParaRPr b="1" i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"Сказке о рыбаке и рыбке"?</a:t>
            </a:r>
            <a:endParaRPr b="1" i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ймать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олотую рыбку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аревну Лебед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592308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пуст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умажный кораблик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225108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бира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чертей оброк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76" name="WordArt 8"/>
          <p:cNvSpPr txBox="1"/>
          <p:nvPr/>
        </p:nvSpPr>
        <p:spPr>
          <a:xfrm>
            <a:off x="3041640" y="198360"/>
            <a:ext cx="63342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ачем в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"Сказке о попе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 о работнике его Балде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п отправил Балду к морю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3 богаты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10672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язь Гвид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592308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82" name="WordArt 8"/>
          <p:cNvSpPr txBox="1"/>
          <p:nvPr/>
        </p:nvSpPr>
        <p:spPr>
          <a:xfrm>
            <a:off x="1890720" y="270000"/>
            <a:ext cx="79916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то в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"Сказке о царе Салтане"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есенки поёт и орешки всё грызёт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3"/>
          <p:cNvSpPr/>
          <p:nvPr/>
        </p:nvSpPr>
        <p:spPr>
          <a:xfrm>
            <a:off x="5851440" y="437508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д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5923080" y="3078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шеб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106720" y="437508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106720" y="3078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88" name="WordArt 8"/>
          <p:cNvSpPr txBox="1"/>
          <p:nvPr/>
        </p:nvSpPr>
        <p:spPr>
          <a:xfrm>
            <a:off x="2682720" y="198360"/>
            <a:ext cx="649620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 помощью чего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"Сказке о мёртвой царевне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 о семи богатырях"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лая царица хотела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збавиться от царевны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6:34:40Z</dcterms:created>
  <dc:creator>user</dc:creator>
  <dc:description/>
  <dc:language>en-US</dc:language>
  <cp:lastModifiedBy>User</cp:lastModifiedBy>
  <dcterms:modified xsi:type="dcterms:W3CDTF">2020-11-24T12:19:21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90000000000010243100207f6000400038000</vt:lpwstr>
  </property>
</Properties>
</file>