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1699875" cy="7019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5EC-1D45-4E6F-98D0-B5CDE99A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5720" y="1638360"/>
            <a:ext cx="1053000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5720" y="4058640"/>
            <a:ext cx="1053000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A88-5AB8-48F5-8565-AA732D5D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5720" y="163836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81400" y="163836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5720" y="405864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81400" y="405864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C3AC-3F47-48F2-9020-117D5F79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5720" y="1638360"/>
            <a:ext cx="33904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6120" y="1638360"/>
            <a:ext cx="33904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6520" y="1638360"/>
            <a:ext cx="33904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5720" y="4058640"/>
            <a:ext cx="33904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6120" y="4058640"/>
            <a:ext cx="33904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6520" y="4058640"/>
            <a:ext cx="33904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E27-345F-41ED-B38D-396494F1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5720" y="1638360"/>
            <a:ext cx="105300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735-0CC6-47EF-9B66-4E3AC00D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5720" y="1638360"/>
            <a:ext cx="10530000" cy="4633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E44-C10D-4EB2-8B3E-4D6E7561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5720" y="1638360"/>
            <a:ext cx="5138280" cy="4633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81400" y="1638360"/>
            <a:ext cx="5138280" cy="4633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41E-D38E-4EC0-AA62-F91A8AE3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BAA-6FB2-4CE4-B9BA-23FDC060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5720" y="280800"/>
            <a:ext cx="1053000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851-F2E5-4097-919E-6DF8838B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5720" y="163836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81400" y="1638360"/>
            <a:ext cx="5138280" cy="4633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5720" y="405864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6C2-120D-4F95-B047-7D6567DB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5720" y="1638360"/>
            <a:ext cx="5138280" cy="4633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81400" y="163836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81400" y="405864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C43-AD4A-4970-9EB6-AAFC4F32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5720" y="163836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81400" y="1638360"/>
            <a:ext cx="513828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5720" y="4058640"/>
            <a:ext cx="10530000" cy="22100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6F0-EDCA-42A1-8059-EAC1CA3E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5720" y="280800"/>
            <a:ext cx="10530000" cy="11696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5720" y="1638360"/>
            <a:ext cx="10530000" cy="4633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 fontScale="97000"/>
          </a:bodyPr>
          <a:p>
            <a:pPr marL="389520" indent="-3895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250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296360" indent="-258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15480" indent="-2584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34240" indent="-2584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34240" indent="-2584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34240" indent="-2584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5360" y="6394320"/>
            <a:ext cx="2729160" cy="4874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97440" y="6394320"/>
            <a:ext cx="3706560" cy="4874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6920" y="6394320"/>
            <a:ext cx="2728800" cy="4874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fld id="{3C6A2653-E0CE-41CC-A656-6FB9636C9C22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322360" y="2359080"/>
            <a:ext cx="6050160" cy="1977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1" i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1890720" y="21430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икторина по сказкам А.С.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ля учащихся 1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4519440" y="3583080"/>
            <a:ext cx="3961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полнила: учитель начальных классов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ахтина Ольга Евгеньев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3"/>
          <p:cNvSpPr/>
          <p:nvPr/>
        </p:nvSpPr>
        <p:spPr>
          <a:xfrm>
            <a:off x="217800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сынов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592308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мудрец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5923080" y="415908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золот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уш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2106720" y="415908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Шамахан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  <p:sp>
        <p:nvSpPr>
          <p:cNvPr id="94" name="WordArt 8"/>
          <p:cNvSpPr txBox="1"/>
          <p:nvPr/>
        </p:nvSpPr>
        <p:spPr>
          <a:xfrm>
            <a:off x="2322360" y="453960"/>
            <a:ext cx="70297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 кем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"Сказке о золотом петушке"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ернулся из похода царь Дадон?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62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3"/>
          <p:cNvSpPr/>
          <p:nvPr/>
        </p:nvSpPr>
        <p:spPr>
          <a:xfrm>
            <a:off x="217800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оделом тебе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рый невеж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5851440" y="4302000"/>
            <a:ext cx="309564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Свет мой, зеркальце!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кажи...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10672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Дурачина т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стофиля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585144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Чего тебе надобно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рче?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8"/>
          <p:cNvSpPr txBox="1"/>
          <p:nvPr/>
        </p:nvSpPr>
        <p:spPr>
          <a:xfrm>
            <a:off x="3114720" y="198360"/>
            <a:ext cx="63435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акими словами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"Сказке о рыбаке и рыбке"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олотая рыбка начинала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беседу со стариком?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3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2178000" y="293544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си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бы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5923080" y="293544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оньком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у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585144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золот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уш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2178000" y="423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зай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WordArt 8" descr=""/>
          <p:cNvPicPr/>
          <p:nvPr/>
        </p:nvPicPr>
        <p:blipFill>
          <a:blip r:embed="rId1"/>
          <a:stretch/>
        </p:blipFill>
        <p:spPr>
          <a:xfrm>
            <a:off x="2901960" y="328680"/>
            <a:ext cx="5894280" cy="224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62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2825640" y="1782720"/>
            <a:ext cx="64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е путешествие подошло к концу. Ребята, вы доказали, что являетесь знатоками и ценителями сказок А.С. Пушкина. Спасибо вам за раб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5" descr=""/>
          <p:cNvPicPr/>
          <p:nvPr/>
        </p:nvPicPr>
        <p:blipFill>
          <a:blip r:embed="rId1"/>
          <a:stretch/>
        </p:blipFill>
        <p:spPr>
          <a:xfrm rot="1162800">
            <a:off x="1654200" y="4275000"/>
            <a:ext cx="2792520" cy="20941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6" descr=""/>
          <p:cNvPicPr/>
          <p:nvPr/>
        </p:nvPicPr>
        <p:blipFill>
          <a:blip r:embed="rId2"/>
          <a:stretch/>
        </p:blipFill>
        <p:spPr>
          <a:xfrm rot="20201400">
            <a:off x="5797440" y="4252680"/>
            <a:ext cx="2847960" cy="21366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2610000" y="7048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олодц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114720" y="1009800"/>
            <a:ext cx="4753080" cy="581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ила виктори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2825640" y="2359080"/>
            <a:ext cx="61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тельно читайте задания. Рассматривайте все варианты от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выбрали правильный ответ, то он поменяет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же вы указали на неправильный ответ, то он «улет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2538360" y="198360"/>
            <a:ext cx="7048440" cy="233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 каким персонажем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"Сказки о мёртвой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царевне и о семи богатырях" 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Е разговаривал королевич Елисей 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поисках царевны?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217800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солнц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592308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есяц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210672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ве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592308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ре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3"/>
          <p:cNvSpPr/>
          <p:nvPr/>
        </p:nvSpPr>
        <p:spPr>
          <a:xfrm>
            <a:off x="5778360" y="4302000"/>
            <a:ext cx="324036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использова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качестве будильник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592308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украше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олиц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25108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исполне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елан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2251080" y="286236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оповеще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лучае опасност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2610000" y="270000"/>
            <a:ext cx="6819840" cy="20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 какой целью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"Сказке о золотом петушке"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царь Дадон приобрёл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олотого петушка?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58" name="Picture 8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3"/>
          <p:cNvSpPr/>
          <p:nvPr/>
        </p:nvSpPr>
        <p:spPr>
          <a:xfrm>
            <a:off x="217800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м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585144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у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210672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м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5851440" y="286236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  <p:sp>
        <p:nvSpPr>
          <p:cNvPr id="64" name="WordArt 8"/>
          <p:cNvSpPr txBox="1"/>
          <p:nvPr/>
        </p:nvSpPr>
        <p:spPr>
          <a:xfrm>
            <a:off x="3186000" y="343080"/>
            <a:ext cx="5581800" cy="20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кого в </a:t>
            </a:r>
            <a:endParaRPr b="0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"Сказке о царе Салтане" </a:t>
            </a:r>
            <a:endParaRPr b="0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Е превращался</a:t>
            </a:r>
            <a:endParaRPr b="0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нязь Гвидон?</a:t>
            </a:r>
            <a:endParaRPr b="0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3"/>
          <p:cNvSpPr/>
          <p:nvPr/>
        </p:nvSpPr>
        <p:spPr>
          <a:xfrm>
            <a:off x="217800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ё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стья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592308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б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ря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5923080" y="415908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178000" y="415908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ычиц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ск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  <p:sp>
        <p:nvSpPr>
          <p:cNvPr id="70" name="WordArt 8"/>
          <p:cNvSpPr txBox="1"/>
          <p:nvPr/>
        </p:nvSpPr>
        <p:spPr>
          <a:xfrm>
            <a:off x="3114720" y="270000"/>
            <a:ext cx="611496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ем НЕ смогла</a:t>
            </a:r>
            <a:endParaRPr b="1" i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тать старуха в</a:t>
            </a:r>
            <a:endParaRPr b="1" i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"Сказке о рыбаке и рыбке"?</a:t>
            </a:r>
            <a:endParaRPr b="1" i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3"/>
          <p:cNvSpPr/>
          <p:nvPr/>
        </p:nvSpPr>
        <p:spPr>
          <a:xfrm>
            <a:off x="217800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ймать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олотую рыбку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592308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аревну Лебед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5923080" y="415908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пусти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умажный кораблик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2251080" y="415908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бира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чертей оброк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  <p:sp>
        <p:nvSpPr>
          <p:cNvPr id="76" name="WordArt 8"/>
          <p:cNvSpPr txBox="1"/>
          <p:nvPr/>
        </p:nvSpPr>
        <p:spPr>
          <a:xfrm>
            <a:off x="3041640" y="198360"/>
            <a:ext cx="63342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ачем в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"Сказке о попе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 о работнике его Балде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п отправил Балду к морю?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3"/>
          <p:cNvSpPr/>
          <p:nvPr/>
        </p:nvSpPr>
        <p:spPr>
          <a:xfrm>
            <a:off x="217800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5923080" y="279072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3 богаты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210672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язь Гвид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5923080" y="4302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  <p:sp>
        <p:nvSpPr>
          <p:cNvPr id="82" name="WordArt 8"/>
          <p:cNvSpPr txBox="1"/>
          <p:nvPr/>
        </p:nvSpPr>
        <p:spPr>
          <a:xfrm>
            <a:off x="1890720" y="270000"/>
            <a:ext cx="799164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то в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"Сказке о царе Салтане"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есенки поёт и орешки всё грызёт?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3"/>
          <p:cNvSpPr/>
          <p:nvPr/>
        </p:nvSpPr>
        <p:spPr>
          <a:xfrm>
            <a:off x="5851440" y="437508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д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5923080" y="3078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шеб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106720" y="4375080"/>
            <a:ext cx="2952720" cy="100800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г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2106720" y="3078000"/>
            <a:ext cx="2952720" cy="100836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Кнопка_Продолжить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99080" y="6102360"/>
            <a:ext cx="1809720" cy="504720"/>
          </a:xfrm>
          <a:prstGeom prst="rect">
            <a:avLst/>
          </a:prstGeom>
          <a:ln w="0">
            <a:noFill/>
          </a:ln>
        </p:spPr>
      </p:pic>
      <p:sp>
        <p:nvSpPr>
          <p:cNvPr id="88" name="WordArt 8"/>
          <p:cNvSpPr txBox="1"/>
          <p:nvPr/>
        </p:nvSpPr>
        <p:spPr>
          <a:xfrm>
            <a:off x="2682720" y="198360"/>
            <a:ext cx="649620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 помощью чего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"Сказке о мёртвой царевне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 о семи богатырях"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лая царица хотела 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збавиться от царевны?</a:t>
            </a:r>
            <a:endParaRPr b="1" lang="en-US" sz="2100" spc="1" strike="noStrike">
              <a:ln w="9360">
                <a:solidFill>
                  <a:srgbClr val="8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16:34:40Z</dcterms:created>
  <dc:creator>user</dc:creator>
  <dc:description/>
  <dc:language>en-US</dc:language>
  <cp:lastModifiedBy>User</cp:lastModifiedBy>
  <dcterms:modified xsi:type="dcterms:W3CDTF">2020-11-24T12:19:21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90000000000010243100207f6000400038000</vt:lpwstr>
  </property>
</Properties>
</file>