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F8D-C695-47E9-A21F-8FDC1546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B9B-7BF0-41B7-AAE8-E0D87E18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C2B-2A7E-44C9-9C81-932A04BA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8B6-9DA7-4C20-8119-A8CF5321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5DF-F88F-49CF-A8C3-53F401DA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B3B-6D50-4013-B4C4-E02AC75F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A55-1D7F-414E-BF14-CFFF269B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99F-92AE-4D12-8DDF-D93F8F7E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652-A53E-48BE-935A-8A257DB0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1CC-61AB-4073-89FC-CEB8CD5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E36-4C31-4E90-81B2-1703287F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1BC-6637-48B6-8446-128DB17B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DD93-F2D0-4DC3-B63B-A8B9BED96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42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50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87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Прямоугольник 1" descr=""/>
          <p:cNvPicPr/>
          <p:nvPr/>
        </p:nvPicPr>
        <p:blipFill>
          <a:blip r:embed="rId6"/>
          <a:stretch/>
        </p:blipFill>
        <p:spPr>
          <a:xfrm>
            <a:off x="1066680" y="-12600"/>
            <a:ext cx="6858000" cy="1566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7"/>
          <a:stretch/>
        </p:blipFill>
        <p:spPr>
          <a:xfrm>
            <a:off x="646200" y="3730680"/>
            <a:ext cx="2938320" cy="175572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6"/>
          <p:cNvSpPr/>
          <p:nvPr/>
        </p:nvSpPr>
        <p:spPr>
          <a:xfrm>
            <a:off x="3581280" y="1447920"/>
            <a:ext cx="5067360" cy="495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81280" y="1600200"/>
            <a:ext cx="48592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262673"/>
                </a:solidFill>
                <a:uFillTx/>
                <a:latin typeface="Arial"/>
              </a:rPr>
              <a:t>Thema</a:t>
            </a:r>
            <a:r>
              <a:rPr b="1" lang="ru-RU" sz="3200" spc="-1" strike="noStrike" u="sng">
                <a:solidFill>
                  <a:srgbClr val="262673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W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ir Lesen und übersetzen den Tex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читаем и переводим текст.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»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8" descr=""/>
          <p:cNvPicPr/>
          <p:nvPr/>
        </p:nvPicPr>
        <p:blipFill>
          <a:blip r:embed="rId8"/>
          <a:stretch/>
        </p:blipFill>
        <p:spPr>
          <a:xfrm>
            <a:off x="689040" y="6022800"/>
            <a:ext cx="2895480" cy="7066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"/>
          <p:cNvPicPr/>
          <p:nvPr/>
        </p:nvPicPr>
        <p:blipFill>
          <a:blip r:embed="rId9"/>
          <a:stretch/>
        </p:blipFill>
        <p:spPr>
          <a:xfrm>
            <a:off x="5132520" y="4713120"/>
            <a:ext cx="200340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24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32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69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Прямоугольник 3" descr=""/>
          <p:cNvPicPr/>
          <p:nvPr/>
        </p:nvPicPr>
        <p:blipFill>
          <a:blip r:embed="rId5"/>
          <a:stretch/>
        </p:blipFill>
        <p:spPr>
          <a:xfrm>
            <a:off x="536400" y="304920"/>
            <a:ext cx="8114040" cy="920520"/>
          </a:xfrm>
          <a:prstGeom prst="rect">
            <a:avLst/>
          </a:prstGeom>
          <a:ln w="0">
            <a:noFill/>
          </a:ln>
        </p:spPr>
      </p:pic>
      <p:sp>
        <p:nvSpPr>
          <p:cNvPr id="200" name="Скругленный прямоугольник 6"/>
          <p:cNvSpPr/>
          <p:nvPr/>
        </p:nvSpPr>
        <p:spPr>
          <a:xfrm>
            <a:off x="990720" y="1305000"/>
            <a:ext cx="7619760" cy="509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1371600" y="121932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ься с Порядком работы (слайд №3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ыучить новый материал. Выполнить письменное задание в тетр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66680" y="2971800"/>
            <a:ext cx="74678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делать фотографию выполненной в тетради работ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ить  фото на проверку учителю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товой Т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ением «В контакт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ой поч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tatandkotova@mail.r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названии фотографии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указать Фамилию, имя, класс,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боты в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hats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  отправлять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204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12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5"/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6"/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7"/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8"/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49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6"/>
          <p:cNvSpPr/>
          <p:nvPr/>
        </p:nvSpPr>
        <p:spPr>
          <a:xfrm>
            <a:off x="863640" y="228600"/>
            <a:ext cx="7594560" cy="647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1"/>
          <p:cNvSpPr/>
          <p:nvPr/>
        </p:nvSpPr>
        <p:spPr>
          <a:xfrm>
            <a:off x="990720" y="228600"/>
            <a:ext cx="746748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рядок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ежду работами отступаем 2 ли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дату в тетради (на немецком язы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ишите тему урока (слайд№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полните письменно в тетради задания из электронного учеб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.65 упр.13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пиши текст диалогов и переведи его. Выпиши профессии и переведи 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.66 упр.1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1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пиши название диаграммы и начерти диаграмму. Переведи списанный текст на русский язык).(Спиши текст диалогов и переведи е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.67 упр.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пиши 12 предложений из первого столбика таблицы. Переведи предло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ный учебник/ Тема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5:00:21Z</dcterms:created>
  <dc:creator>user</dc:creator>
  <dc:description/>
  <dc:language>en-US</dc:language>
  <cp:lastModifiedBy>home</cp:lastModifiedBy>
  <dcterms:modified xsi:type="dcterms:W3CDTF">2020-11-24T12:18:19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