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874-69AA-4058-88BB-45A6B8D2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5D6-0663-40C6-BB01-6CED5DE1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F92-920A-4502-AEE2-5FE68FDA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B6A-F830-4686-B069-39C67D81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04FE-F034-44E3-B681-60E99A79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A449-BA15-4D6E-AB04-9CF6BEEB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BD2E-D985-4AFD-8533-A5A87EE8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5A9C-E57B-423E-BCD6-52389584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FB52-A835-407E-8221-4F075DB7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E377-CBBD-4E44-AAF2-74703479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00B5-E49C-476D-89AC-6945713A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E98-1649-4416-A299-879B48E2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3CC7-1BC0-4C43-9A42-9EA1278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0E1F-0B85-4D27-8C2D-51C0B124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E531-A82C-4C61-A060-90C3E315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213E-9919-4435-AC73-B5A7C4C7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4654-BBE2-49EB-9DBB-6D8DA0BB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000-2653-44E0-BAF4-3FA11397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C8C-BB29-4868-BB2E-5661AF2B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959-D9C9-40DC-AB68-392823F4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62C-2C1C-4BCB-84F3-15E92E76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0E3-6085-439E-9167-4E48A144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F82-998C-4C30-9500-B2E92D0D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81F-20DA-4381-8E55-B8A12D6E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121C-DF8B-4325-A39F-4A05D791CD1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7D58-6966-4BBD-8ECF-1479933C95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3144600"/>
            <a:ext cx="81486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langu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française dans le monde moder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2800" y="390960"/>
            <a:ext cx="786060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УНИЦИПАЛЬНОЕ БЮДЖЕТНОЕ ОБЩЕОБРАЗОВАТЕЛЬНОЕ  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РЕДНЯЯ   ШКОЛА №3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им. С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авочкин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»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Une langue agréable à apprendre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2438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Une langue pour apprendre d’autres langues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78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La langue de l’amour et de l’esprit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2362320"/>
            <a:ext cx="55533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71560" y="871920"/>
            <a:ext cx="7705080" cy="151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fr-FR" sz="4000" spc="-1" strike="noStrike">
                <a:solidFill>
                  <a:srgbClr val="003366"/>
                </a:solidFill>
                <a:latin typeface="Arial"/>
              </a:rPr>
              <a:t>Littérature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)  Веденина Л.Г. Особенности французского языка.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.: Просвещение, 199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Литкенс К. Волшебные ключи французского языка.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.: Чистые пруды, 2010.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(Библиотечка газеты «Первое сентября», серия «Французский язык». Вы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3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)  Deniau X. La francophonie.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P.: Larousse, 200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) Histoire et géographie de la France.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P.; Nathan, 200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71280" y="2361960"/>
            <a:ext cx="817236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tude du sujet de conversation et de civilisation française représentant des raisons importantes pour l’étude de la langue française sous forme d’un voyage virtuel sociolinguistiqu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blèmes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écouvrir les liens socio-culturelles en faisant découvrir les richesses de la culture française à travers la langue 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rer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importance de la langue fra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çaise pour l’étude,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ravail, relations internat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évoquer l’intérêt à la langue et la culture françaises et à trouver les arguments pour le choix de la langue à étudier 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ésenter le goût et la curiosité de voyages et de communication dans le monde de la culture françai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Le français est  une langue parlée dans le monde enti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2481120"/>
            <a:ext cx="75610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Une langue pour trouver un emploi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2689200" cy="3724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73040" y="2363760"/>
            <a:ext cx="269892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 fran</a:t>
            </a: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ç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is est la langue d’une grande culture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2775240" cy="374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2360520" cy="187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2197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Une langue pour voyager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682800" cy="388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3240360" cy="1859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87280" y="4365720"/>
            <a:ext cx="3240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Une langue pour étudier dans les universités françaises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4578480" cy="331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6064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96000" y="4724280"/>
            <a:ext cx="3166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L’autre langue des relations internationales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2362320"/>
            <a:ext cx="2351160" cy="1785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16400" y="236232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2749680" cy="223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932360" y="4581360"/>
            <a:ext cx="3330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Une langue pour s’ouvrir sur le monde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613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20:44:16Z</dcterms:created>
  <dc:creator>Анна</dc:creator>
  <dc:description/>
  <dc:language>en-US</dc:language>
  <cp:lastModifiedBy>Анна</cp:lastModifiedBy>
  <dcterms:modified xsi:type="dcterms:W3CDTF">2016-12-12T22:56:52Z</dcterms:modified>
  <cp:revision>25</cp:revision>
  <dc:subject/>
  <dc:title>МУНИЦИПАЛЬНОЕ БЮДЖЕТНОЕ ОБЩЕОБРАЗОВАТЕЛЬНОЕ   УЧРЕЖДЕНИЕ«СРЕДНЯЯ   ШКОЛА №32  им. С.А.Лавочкина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70000000000010290110207f7000400038000</vt:lpwstr>
  </property>
</Properties>
</file>