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A3F-B044-4AC4-8B88-48E5E43D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153-C761-451B-A9AC-E217C6A3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D97-0903-4BCE-9B25-16534BEE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F5C-9F91-4402-8782-7209960A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C8C0-7BB5-4609-95EC-3265DBB8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A7E0-9FD6-434C-97C8-6D0F4E42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4100-F46D-42CB-A9B0-D52ED350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8154-685B-4772-8C76-2091BC08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0527-6DAC-42A8-A1BF-C532556A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7AAB-FFE4-4373-9457-A854E613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1588-5949-48DB-B706-50D12A32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CEE-7601-42E6-A4B2-DD773625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0E3B-4746-4255-80BC-820C3DB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CB64-BF60-43E0-9853-145D658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D9F2-43D8-46A1-BECF-93C121E8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2E13-F185-4038-A15A-EB2670ED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9C26-2780-4D2D-A3BF-F1A108CE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41E-2F35-4598-8333-D84E336E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5E9-B1A9-44E3-8D24-FCE70778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C35-C702-4979-BE27-B8EE2A94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ECA-E19C-421A-8133-659277CB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8CA-09D9-4AC7-9809-FDC31D14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DFB-5A25-4F9C-AADA-70AE0E7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AD9-F89C-42F9-8B3B-DF7C0A8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7B91-B303-4535-B74D-8F9F8339600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FF07-25A4-4341-BF46-BDB95646A4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3144600"/>
            <a:ext cx="81486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langu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française dans le monde moder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2800" y="390960"/>
            <a:ext cx="786060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УНИЦИПАЛЬНОЕ БЮДЖЕТНОЕ ОБЩЕОБРАЗОВАТЕЛЬНОЕ  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СРЕДНЯЯ   ШКОЛА №32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им. С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авочки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»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Une langue agréable à apprendre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2438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Une langue pour apprendre d’autres langues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78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La langue de l’amour et de l’esprit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2362320"/>
            <a:ext cx="55533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71560" y="871920"/>
            <a:ext cx="7705080" cy="151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fr-FR" sz="4000" spc="-1" strike="noStrike">
                <a:solidFill>
                  <a:srgbClr val="003366"/>
                </a:solidFill>
                <a:latin typeface="Arial"/>
              </a:rPr>
              <a:t>Littérature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)  Веденина Л.Г. Особенности французского языка.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.: Просвещение, 199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Литкенс К. Волшебные ключи французского языка.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.: Чистые пруды, 2010.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(Библиотечка газеты «Первое сентября», серия «Французский язык». Вы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3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)  Deniau X. La francophonie.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P.: Larousse, 200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) Histoire et géographie de la France.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P.; Nathan, 200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71280" y="2361960"/>
            <a:ext cx="817236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tude du sujet de conversation et de civilisation française représentant des raisons importantes pour l’étude de la langue française sous forme d’un voyage virtuel sociolinguistiqu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blèmes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écouvrir les liens socio-culturelles en faisant découvrir les richesses de la culture française à travers la langue 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rer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mportance de la langue fra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çaise pour l’étude,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ravail, relations internat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évoquer l’intérêt à la langue et la culture françaises et à trouver les arguments pour le choix de la langue à étudier 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ésenter le goût et la curiosité de voyages et de communication dans le monde de la culture françai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Le français est  une langue parlée dans le monde enti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2481120"/>
            <a:ext cx="75610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Une langue pour trouver un emploi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2689200" cy="3724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73040" y="2363760"/>
            <a:ext cx="269892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 fran</a:t>
            </a: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ç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is est la langue d’une grande culture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2775240" cy="374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2360520" cy="1871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2197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Une langue pour voyager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682800" cy="388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3240360" cy="1859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87280" y="4365720"/>
            <a:ext cx="3240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Une langue pour étudier dans les universités françaises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4578480" cy="331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6064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96000" y="4724280"/>
            <a:ext cx="3166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L’autre langue des relations internationales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47640" y="2362320"/>
            <a:ext cx="2351160" cy="1785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16400" y="2362320"/>
            <a:ext cx="2857680" cy="1785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2749680" cy="223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932360" y="4581360"/>
            <a:ext cx="3330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Une langue pour s’ouvrir sur le monde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613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20:44:16Z</dcterms:created>
  <dc:creator>Анна</dc:creator>
  <dc:description/>
  <dc:language>en-US</dc:language>
  <cp:lastModifiedBy>Анна</cp:lastModifiedBy>
  <dcterms:modified xsi:type="dcterms:W3CDTF">2016-12-12T22:56:52Z</dcterms:modified>
  <cp:revision>25</cp:revision>
  <dc:subject/>
  <dc:title>МУНИЦИПАЛЬНОЕ БЮДЖЕТНОЕ ОБЩЕОБРАЗОВАТЕЛЬНОЕ   УЧРЕЖДЕНИЕ«СРЕДНЯЯ   ШКОЛА №32  им. С.А.Лавочкина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70000000000010290110207f7000400038000</vt:lpwstr>
  </property>
</Properties>
</file>