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3C4-C429-4D51-A0F8-46D0485B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DD0-DD0F-4E62-AC8A-0DB92F8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14C-9143-4626-83B6-79A1A80A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200-307F-4FA1-ACDB-486857F9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879-2716-41A6-8372-6656C95A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CDB-E447-4511-B4CC-4C2FCA9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30B7-8972-4DEC-A867-BAA717A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CA05-D8BA-46BD-882C-DCD1DF05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D4A9-0247-4119-8649-EC3A87A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BF9-7429-4339-A07F-7D72BAD6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D987-C31E-4241-8B3E-A905653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E5C-AD8A-4C3E-9C7C-6E169654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1E1-1BAE-4733-8BC7-3FEB505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4A8-D9DD-4422-9AA2-A9DCF69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421-FC45-4113-967C-46EA48B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06F-BEAA-4DF3-9F4F-1606E8CE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8927-07A1-4F50-BE07-24C345A6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DAD8E-05DC-41C5-8EB3-AE3836EA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958FF-23E9-4AE2-87FB-55ACA30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6AE1E-9FCF-4B10-8E8A-DF2928CB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2A98D-0C30-437D-B41E-7288F54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FA743-A798-4C28-874E-AC3AB2F5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F21-8F81-4B60-AEEB-03764E6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62502-07B8-4339-A468-FEC908A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05A08-D4C1-4BF9-BE1D-DFF1C51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CDBBA-5247-480A-B3D2-CCB3120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FDE98-187B-41DF-8150-6577EA8E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DB59D-010A-4623-998F-D5DF860B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76E1D-AFBA-4BF5-9166-26768541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167DC-FF6B-47B9-B571-440F1641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DA0-147C-41CE-9306-B4FA31EA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6E2-5D3D-46F8-A172-2FB79B33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A2A-A7C7-42F7-9856-63D238C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AF1-3ABD-4B53-ACE9-B8E451F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BC1-F0A4-4E8C-A2D1-2E31FF1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81E-D795-4EB2-BE58-0560495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5D7-0585-48E0-B4E8-5804ADA4706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FF4-F4BF-4B80-9BC2-16D7437B140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ED2-A9B5-4217-BA9D-22C04FACB1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ardio.ru/images2/cor12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1773360"/>
            <a:ext cx="8207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ри острой сердечной недостаточности и инсульте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755640" y="26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Кровенос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914560" cy="532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Картинка 36 из 1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989000"/>
            <a:ext cx="2305080" cy="1784520"/>
          </a:xfrm>
          <a:prstGeom prst="rect">
            <a:avLst/>
          </a:prstGeom>
          <a:ln w="9360">
            <a:solidFill>
              <a:srgbClr val="a5b592"/>
            </a:solidFill>
            <a:miter/>
          </a:ln>
        </p:spPr>
      </p:pic>
      <p:pic>
        <p:nvPicPr>
          <p:cNvPr id="130" name="Picture 12" descr="krovsys"/>
          <p:cNvPicPr/>
          <p:nvPr/>
        </p:nvPicPr>
        <p:blipFill>
          <a:blip r:embed="rId4"/>
          <a:stretch/>
        </p:blipFill>
        <p:spPr>
          <a:xfrm>
            <a:off x="5148360" y="1052640"/>
            <a:ext cx="3520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68360" y="18900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страя сердечная недостаточность</a:t>
            </a: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 это неспособность сердца обеспечить полноценное кровоснабжение тканей, органов и систем организма из-за ослабления сократительной функции сердечной мышц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1125360"/>
            <a:ext cx="8209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Острая сердечная недостаточность в большинстве случаев возникает при ослаблении деятельности сердечной мышцы (миокарда), реже при нарушении сердечного рит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95280" y="404640"/>
            <a:ext cx="8424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ервая медицинская помощ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ри острой сердечной недостаточно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50920" y="2852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ложить больного на спин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поднять ему голову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беспечить доступ свежего воздух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спокоить, вызвать врач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k221</cp:lastModifiedBy>
  <dcterms:modified xsi:type="dcterms:W3CDTF">2018-06-06T08:18:19Z</dcterms:modified>
  <cp:revision>22</cp:revision>
  <dc:subject/>
  <dc:title>Лесков</dc:title>
</cp:coreProperties>
</file>