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8C9-929B-42AA-AF23-DED0A6ED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210-788D-44DE-9EB8-78557AC1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0DF-7677-4EF0-9814-0FFC794A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284-79AC-480F-A702-381BE011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9785-290D-4E83-A827-75B3B861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2C83-60AE-4AC1-87EE-0920C917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3FC3-D7F5-4BA7-906A-05D5A6DF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662E-90B0-42F3-B489-57F93781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12B0-2076-4406-8B5C-004C7F1C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757D-D547-4959-BDCE-9C00C9CB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0D5E-E022-41AD-BE1B-B3FCC93D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5E9-A335-43DC-ACE5-3BE7D2A3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C1E0-A873-4682-B32C-848CB769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1197-6794-4BA4-AE22-BF017282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D29F-DF7D-4E03-90D8-BAEA8019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59F3-E76B-436E-B27B-76C787DF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1BCC-8322-42BF-B896-01180678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058A91-0613-4805-8DC3-DD96AB92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7ED3F0-1AD6-4AC7-86E3-434ABE1E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FFD532-B362-46CC-945E-109BBA6B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82400-3100-4A09-8D8D-700FE214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2578BA-6D89-4E8B-950E-0E9ED9CB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D871-BCA8-4729-8D7F-85DBB882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10893C-3945-4866-8F5E-173F0155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25BF05-D1F0-43D8-8393-D8DAA932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9FB0A2-2F32-45D2-A279-EC9183A9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B0DC2-16C5-41EA-A554-F98C2477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449F0C-7F2E-4729-8ED8-85586292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21A284-80D9-4B7A-A0DD-67203A6E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4D4E2-F182-49E8-83CB-A82CC33D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F2F-2A4C-43E8-B8C3-1A4AF3E7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527-9E15-4544-902C-3D692F43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3EB-A232-42D0-9B2F-8F201891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55B-E025-4EC4-BBE2-943966FC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C7D-1AAE-42E0-BEF6-423DBFB7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2E8-8D94-420B-A021-F1E1B16A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A6D6-6EB3-4B3F-8A1C-B7A0946578A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A070-2DAF-4757-8AF7-4FADCFE6704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8EC3-5E52-4062-B615-71337F975DC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kardio.ru/images2/cor12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одзаголовок 2"/>
          <p:cNvSpPr/>
          <p:nvPr/>
        </p:nvSpPr>
        <p:spPr>
          <a:xfrm>
            <a:off x="468360" y="1773360"/>
            <a:ext cx="82072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Первая медицинская помощь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при острой сердечной недостаточности и инсульте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755640" y="260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fac9"/>
                </a:solidFill>
                <a:latin typeface="Times New Roman"/>
              </a:rPr>
              <a:t>Кровеносн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914560" cy="532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Картинка 36 из 14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1989000"/>
            <a:ext cx="2305080" cy="1784520"/>
          </a:xfrm>
          <a:prstGeom prst="rect">
            <a:avLst/>
          </a:prstGeom>
          <a:ln w="9360">
            <a:solidFill>
              <a:srgbClr val="a5b592"/>
            </a:solidFill>
            <a:miter/>
          </a:ln>
        </p:spPr>
      </p:pic>
      <p:pic>
        <p:nvPicPr>
          <p:cNvPr id="130" name="Picture 12" descr="krovsys"/>
          <p:cNvPicPr/>
          <p:nvPr/>
        </p:nvPicPr>
        <p:blipFill>
          <a:blip r:embed="rId4"/>
          <a:stretch/>
        </p:blipFill>
        <p:spPr>
          <a:xfrm>
            <a:off x="5148360" y="1052640"/>
            <a:ext cx="3520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468360" y="189000"/>
            <a:ext cx="8351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Острая сердечная недостаточность</a:t>
            </a:r>
            <a:r>
              <a:rPr b="1" i="1" lang="ru-RU" sz="4000" spc="-1" strike="noStrike">
                <a:solidFill>
                  <a:srgbClr val="fefac9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4000" spc="-1" strike="noStrike">
                <a:solidFill>
                  <a:srgbClr val="fefac9"/>
                </a:solidFill>
                <a:latin typeface="Times New Roman"/>
              </a:rPr>
              <a:t> это неспособность сердца обеспечить полноценное кровоснабжение тканей, органов и систем организма из-за ослабления сократительной функции сердечной мышц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дзаголовок 2"/>
          <p:cNvSpPr/>
          <p:nvPr/>
        </p:nvSpPr>
        <p:spPr>
          <a:xfrm>
            <a:off x="539640" y="476280"/>
            <a:ext cx="8353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39640" y="1125360"/>
            <a:ext cx="820908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fac9"/>
                </a:solidFill>
                <a:latin typeface="Times New Roman"/>
              </a:rPr>
              <a:t>Острая сердечная недостаточность в большинстве случаев возникает при ослаблении деятельности сердечной мышцы (миокарда), реже при нарушении сердечного ритм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одзаголовок 2"/>
          <p:cNvSpPr/>
          <p:nvPr/>
        </p:nvSpPr>
        <p:spPr>
          <a:xfrm>
            <a:off x="539640" y="476280"/>
            <a:ext cx="8353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395280" y="404640"/>
            <a:ext cx="8424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fac9"/>
                </a:solidFill>
                <a:latin typeface="Times New Roman"/>
              </a:rPr>
              <a:t>Первая медицинская помощ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fac9"/>
                </a:solidFill>
                <a:latin typeface="Times New Roman"/>
              </a:rPr>
              <a:t>при острой сердечной недостаточност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116000" y="2852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50920" y="2852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уложить больного на спину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–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риподнять ему голову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обеспечить доступ свежего воздуха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успокоить, вызвать врач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Admin</dc:creator>
  <dc:description/>
  <dc:language>en-US</dc:language>
  <cp:lastModifiedBy>k221</cp:lastModifiedBy>
  <dcterms:modified xsi:type="dcterms:W3CDTF">2018-06-06T08:18:19Z</dcterms:modified>
  <cp:revision>22</cp:revision>
  <dc:subject/>
  <dc:title>Лесков</dc:title>
</cp:coreProperties>
</file>