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C92-463A-4FF4-A84F-A5E21C0B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74C-898C-4F82-B636-E0914254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366-8588-46F8-88E5-4F09905A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07F-A6AE-4C7C-9B70-B21AE06E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D7DE-4E44-434F-8F6C-A0069D59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EB59-9F80-4F51-87BE-9390DF7C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F579-CA81-4227-B776-BD453A46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D48-0B47-4421-A5AC-7DE58F56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7D5-BE7A-40F8-95FC-EC7D6D2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C976-CB12-45DB-8F24-DE16EAEE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BCB8-9D6D-4986-958D-E2D1B4E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032-B22A-4875-B930-80EF81E6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66B7-5986-4461-9648-C35C3DE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EC4D-A8EE-42B4-BEAB-6178FCC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620D-0D98-4E2C-BEDE-908FB6B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0A8-CF5D-40E6-A48A-197AAD30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869-FE5E-4D1B-A6CA-DB49FA6D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81866-CFE1-4DC4-9676-8898529C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05AB2-92EA-41A2-ADFA-98D75CB2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87814-C672-4D88-8F3E-8845F5B1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A9800-64A2-4FED-9976-4FD1941F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8E1A4-62AB-484C-92DC-8FAE858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5C1-00EB-4686-9CF0-F2ADC64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42230-AAD7-4B60-9B71-FC378560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12A36-AAFC-42B8-9FD0-BEA9AAF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E4D54-6478-4883-B0FD-F862A48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19439-D552-4A6A-BB33-8C3882BA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6D89C-6965-48EB-AC73-17113D47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6BA68-D457-4D34-92EB-BBD6C13A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CF9AC-586B-401C-9EDE-9C36BCF2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7A7-3A05-4A32-A144-31FB2E5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591-96B1-4CA7-BE9F-9A78B72C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471-B017-444B-BB1E-19EB1427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E44-D304-4BA2-801D-C95BDC9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BF2-5355-468C-9CD3-E0EE028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EB3-2A57-4958-A477-14AE10D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DB8-FCDC-429F-B82D-E13C47B40B9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254D-7AD3-445E-B12F-C0C6796EE74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92F-ABA0-4DF3-BB70-54EBF292FFC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68360" y="404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ульт</a:t>
            </a:r>
            <a:r>
              <a:rPr b="1" i="1" lang="ru-RU" sz="32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fefac9"/>
                </a:solidFill>
                <a:latin typeface="Times New Roman"/>
              </a:rPr>
              <a:t> это внезапное прекращение деятельности мозга или отдельных его частей из-за острого нарушения кровообращения или кровоизлия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52908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3203640" y="6165000"/>
            <a:ext cx="13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b592"/>
                </a:solidFill>
                <a:latin typeface="Arial"/>
              </a:rPr>
              <a:t>www.minclinic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АЛКОГОЛЬ+ТАБАК=ИНСУЛЬТ"/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900000" y="3141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шемический инсуль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85928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моррагический инсуль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7309080" y="60922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b592"/>
                </a:solidFill>
                <a:latin typeface="Arial"/>
              </a:rPr>
              <a:t>www.trezvost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insult2"/>
          <p:cNvPicPr/>
          <p:nvPr/>
        </p:nvPicPr>
        <p:blipFill>
          <a:blip r:embed="rId1"/>
          <a:stretch/>
        </p:blipFill>
        <p:spPr>
          <a:xfrm>
            <a:off x="900000" y="620640"/>
            <a:ext cx="3672000" cy="293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nsult4"/>
          <p:cNvPicPr/>
          <p:nvPr/>
        </p:nvPicPr>
        <p:blipFill>
          <a:blip r:embed="rId2"/>
          <a:stretch/>
        </p:blipFill>
        <p:spPr>
          <a:xfrm>
            <a:off x="4643280" y="620640"/>
            <a:ext cx="3652920" cy="292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insult3"/>
          <p:cNvPicPr/>
          <p:nvPr/>
        </p:nvPicPr>
        <p:blipFill>
          <a:blip r:embed="rId3"/>
          <a:stretch/>
        </p:blipFill>
        <p:spPr>
          <a:xfrm>
            <a:off x="4643280" y="364500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insult5"/>
          <p:cNvPicPr/>
          <p:nvPr/>
        </p:nvPicPr>
        <p:blipFill>
          <a:blip r:embed="rId4"/>
          <a:stretch/>
        </p:blipFill>
        <p:spPr>
          <a:xfrm>
            <a:off x="900000" y="3645000"/>
            <a:ext cx="3672000" cy="2936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4"/>
          <p:cNvSpPr/>
          <p:nvPr/>
        </p:nvSpPr>
        <p:spPr>
          <a:xfrm>
            <a:off x="6948360" y="6582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b592"/>
                </a:solidFill>
                <a:latin typeface="Arial"/>
              </a:rPr>
              <a:t>www.minclinic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Симптомы инсульта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539640" y="47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Первая помощь при инсуль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96360" y="1531800"/>
            <a:ext cx="888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обеспечить больному постель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ежи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ледить за его мочеиспускани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 дефекацией, состоянием полости р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Требуется срочная госпитализа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 только в сопровождении медработ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k221</cp:lastModifiedBy>
  <dcterms:modified xsi:type="dcterms:W3CDTF">2018-06-06T08:16:17Z</dcterms:modified>
  <cp:revision>22</cp:revision>
  <dc:subject/>
  <dc:title>Лесков</dc:title>
</cp:coreProperties>
</file>