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54C-507E-412A-9D2A-98215107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554-63CB-4DEC-9E1C-AE7A4D42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04A-A621-4AA6-ADF3-0F9905A3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A73-5D56-4AAC-8A51-4D1C9F6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FE2B-51A4-41F1-B919-A6DE21DD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6D24-8302-4703-A69B-54DC958F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C12-6D41-46A2-8F77-770BC6E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EEE7-2A26-4DC9-BAF6-ADD0091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8A12-7C7F-4553-B56C-60A3ACC6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2F9-3979-48DF-923C-529FB8B9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8FEE-6EB5-4E6A-81E6-A0CA6DC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5C5-BFC9-4FA0-BAB6-6063385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D4CC-2ACE-46C6-AF3F-5F6A180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EE8-D64B-4E03-8714-8166F87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7A92-5B6E-4FAD-A1CB-EC223885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54A-905A-4D1E-9B67-406F0DB0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FF95-6AD2-4EA4-B8EF-03321A8F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22B1F-57DC-4D05-8E67-8A53F421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18E4C-E061-4A84-8D3E-DB81135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9F8C3-694F-4C03-B941-B918985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D4AAF-9532-40FD-9BD5-C15F331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D445C-85B3-47AB-AE98-219E29D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BA1-999D-465A-8908-09977EC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5B103-DC2F-4FBE-8286-0C5B14E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0A8E3-021C-4609-B513-D7A58A0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178F5-98CB-47DE-9A0A-4ED0E692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7A3AE-74C1-460F-8B09-E6CD61B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C2928-0913-48FF-8C42-05E74BB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332A9-9287-4586-94B1-DDA24D6D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EF38E-A0DB-4F7D-89AD-B3D9466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206-9E81-4C3F-AA6C-C68732A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42B-E0D2-4C84-AD35-989E293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057-7613-4E12-BC71-8F3058B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BBF-B680-4557-A1C8-0D6DA083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2FF-5323-4BAE-AAAE-120550A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C69-1AAD-476F-837E-3347BEB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976-BDE3-4F7A-AD9E-E3AF3255A6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B0F2-2D52-4A8B-8897-34EC5763824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552-EA17-4672-8277-8158438BCDA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68360" y="404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ульт</a:t>
            </a:r>
            <a:r>
              <a:rPr b="1" i="1" lang="ru-RU" sz="32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fefac9"/>
                </a:solidFill>
                <a:latin typeface="Times New Roman"/>
              </a:rPr>
              <a:t> это внезапное прекращение деятельности мозга или отдельных его частей из-за острого нарушения кровообращения или кровоизли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52908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3203640" y="616500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minclinic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8" descr="АЛКОГОЛЬ+ТАБАК=ИНСУЛЬТ"/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900000" y="3141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шемический инс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85928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моррагический инс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7309080" y="60922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trezvost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insult2"/>
          <p:cNvPicPr/>
          <p:nvPr/>
        </p:nvPicPr>
        <p:blipFill>
          <a:blip r:embed="rId1"/>
          <a:stretch/>
        </p:blipFill>
        <p:spPr>
          <a:xfrm>
            <a:off x="900000" y="620640"/>
            <a:ext cx="3672000" cy="293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nsult4"/>
          <p:cNvPicPr/>
          <p:nvPr/>
        </p:nvPicPr>
        <p:blipFill>
          <a:blip r:embed="rId2"/>
          <a:stretch/>
        </p:blipFill>
        <p:spPr>
          <a:xfrm>
            <a:off x="4643280" y="620640"/>
            <a:ext cx="3652920" cy="292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insult3"/>
          <p:cNvPicPr/>
          <p:nvPr/>
        </p:nvPicPr>
        <p:blipFill>
          <a:blip r:embed="rId3"/>
          <a:stretch/>
        </p:blipFill>
        <p:spPr>
          <a:xfrm>
            <a:off x="4643280" y="364500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insult5"/>
          <p:cNvPicPr/>
          <p:nvPr/>
        </p:nvPicPr>
        <p:blipFill>
          <a:blip r:embed="rId4"/>
          <a:stretch/>
        </p:blipFill>
        <p:spPr>
          <a:xfrm>
            <a:off x="900000" y="364500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6948360" y="6582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b592"/>
                </a:solidFill>
                <a:latin typeface="Arial"/>
              </a:rPr>
              <a:t>www.minclinic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Симптомы инсульта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39640" y="47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fac9"/>
                </a:solidFill>
                <a:latin typeface="Times New Roman"/>
              </a:rPr>
              <a:t>Первая помощь при инсуль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96360" y="1531800"/>
            <a:ext cx="888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обеспечить больному постель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ежи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ледить за его мочеиспускани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 дефекацией, состоянием полости р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Требуется срочная госпитализа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 только в сопровождении медработ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k221</cp:lastModifiedBy>
  <dcterms:modified xsi:type="dcterms:W3CDTF">2018-06-06T08:16:17Z</dcterms:modified>
  <cp:revision>22</cp:revision>
  <dc:subject/>
  <dc:title>Лесков</dc:title>
</cp:coreProperties>
</file>