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19.jpeg" ContentType="image/jpeg"/>
  <Override PartName="/ppt/media/image20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1D5-BB4D-4832-9BEC-8C8F97A0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6C9-C0B8-4CD3-9609-EE6CE29F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438-4B5A-42A6-BE71-A9992C8E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649-E0C8-435D-AC20-0EC3764A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F49B-563A-4743-9FC1-62D450F3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74F0-6A2A-46B3-91ED-4239D870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3E47-B75C-4904-ACFE-5F0E5E28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08CB-536D-4EBD-904B-3CF5DD01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5C57-BEBB-4462-A15C-17CD89A3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2F62-45DB-474E-9B1D-33AFADC6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2960-C943-4A71-B28B-36D04C7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439-369B-45B9-9311-3B216EA9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C8A1-5908-42A6-98C2-7318DE89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89A8-6F23-420C-9C5A-ABD4C08F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480D-CFCD-4F24-AF03-379DA210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4349-AE91-4CC7-9CAE-7D58F906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C11E-9591-4CDD-BEA9-3D75EF7F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37E6-CDBC-43D5-8048-AFBF7EC2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BE464-D812-499A-9B0E-9AE57958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1353-9BD0-4AE4-8DB7-E4A96881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3E95-7D65-4C71-B7BA-C5A9777A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F69D-27CD-4FFC-9D67-BEFE144D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A01-81E2-4272-8565-433431FB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2E29-88AA-45B7-A339-E11AE6E8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43D7-CE33-436B-9424-4D062B33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7327-91DC-410F-A6CB-9FB13032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5E149-ECF2-4413-A85F-4012E0EB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F922-498B-496F-83E2-79059DF8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C5372-1146-4F6B-AAE8-EE15B1F2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B6DC9-59D7-4575-9018-646A914F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652-C1DA-43B3-9CAE-EBA017A8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7E1-0169-4A3B-9879-351F4A97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69F-0D9A-412B-B9C0-89ACC054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C9F-77CB-41CB-AEAC-7853F6FC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2BD-C57A-45EF-93A1-47C80139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1AE-E805-4523-B98C-D0274F4C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FEA0-2C9E-4DF7-BACC-622AE93FF1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442B-48F2-4945-82EA-EC9E701AD2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entury Schoolbook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61A9-892D-4313-B338-C05CBDC0FC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54007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7c80"/>
                </a:solidFill>
                <a:latin typeface="Century Schoolbook"/>
              </a:rPr>
              <a:t>Изучение свойств белков.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йства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работке хлоридом натрия белки высаливаются из раствора. Этот процесс обрат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" name="Picture 7" descr="02"/>
          <p:cNvPicPr/>
          <p:nvPr/>
        </p:nvPicPr>
        <p:blipFill>
          <a:blip r:embed="rId1"/>
          <a:stretch/>
        </p:blipFill>
        <p:spPr>
          <a:xfrm>
            <a:off x="5076720" y="1989000"/>
            <a:ext cx="33829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дратация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49228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астворимые белки образуют коллоидные раство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7" descr="L1p07p0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нообразование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пенообразования–это способность белков образовывать высококонцентрированные системы «жидкость–газ»,называемые пен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в качестве пенообразователей широко используются в кондитерской промышленности(пастила, зефир, суфле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пены имеет хлеб, а это влияет на его вкусовые свой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дролиз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pic>
        <p:nvPicPr>
          <p:cNvPr id="162" name="Объект 4" descr="23-1.gif"/>
          <p:cNvPicPr/>
          <p:nvPr/>
        </p:nvPicPr>
        <p:blipFill>
          <a:blip r:embed="rId1"/>
          <a:stretch/>
        </p:blipFill>
        <p:spPr>
          <a:xfrm>
            <a:off x="108000" y="1916280"/>
            <a:ext cx="5543640" cy="41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Рисунок 4" descr="image011.jpg"/>
          <p:cNvPicPr/>
          <p:nvPr/>
        </p:nvPicPr>
        <p:blipFill>
          <a:blip r:embed="rId2"/>
          <a:stretch/>
        </p:blipFill>
        <p:spPr>
          <a:xfrm>
            <a:off x="6012000" y="1773360"/>
            <a:ext cx="2724120" cy="4408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Администратор\Рабочий стол\белки\nb1046.jpg"/>
          <p:cNvPicPr/>
          <p:nvPr/>
        </p:nvPicPr>
        <p:blipFill>
          <a:blip r:embed="rId3"/>
          <a:stretch/>
        </p:blipFill>
        <p:spPr>
          <a:xfrm>
            <a:off x="6156360" y="3933720"/>
            <a:ext cx="25192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атурация 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pic>
        <p:nvPicPr>
          <p:cNvPr id="166" name="Picture 3" descr="Необратимая денатурация белка куриного яйца под воздействием высокой температуры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Денатурация белка"/>
          <p:cNvPicPr/>
          <p:nvPr/>
        </p:nvPicPr>
        <p:blipFill>
          <a:blip r:embed="rId2"/>
          <a:stretch/>
        </p:blipFill>
        <p:spPr>
          <a:xfrm>
            <a:off x="4932360" y="2205000"/>
            <a:ext cx="3600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ные реакции белков </a:t>
            </a:r>
            <a:br>
              <a:rPr sz="4400"/>
            </a:br>
            <a:r>
              <a:rPr b="1" lang="ru-RU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сантопротеиновая реакц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стите кусочек прессованного творога в пробирку и добавьте несколько капель азотной кислоты. Осторожно нагрей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" name="Picture 7" descr="L24p8p00"/>
          <p:cNvPicPr/>
          <p:nvPr/>
        </p:nvPicPr>
        <p:blipFill>
          <a:blip r:embed="rId1"/>
          <a:stretch/>
        </p:blipFill>
        <p:spPr>
          <a:xfrm>
            <a:off x="5508720" y="2205000"/>
            <a:ext cx="2054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иуретовая реакция 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йте в пробирк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иллилитра яичного белка,  2 миллилитра концентрированного раствора гидроксида натрия и несколько капель раствора сульфата мед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" name="Picture 7" descr="GCH_3C24_07Nd"/>
          <p:cNvPicPr/>
          <p:nvPr/>
        </p:nvPicPr>
        <p:blipFill>
          <a:blip r:embed="rId1"/>
          <a:stretch/>
        </p:blipFill>
        <p:spPr>
          <a:xfrm>
            <a:off x="4648320" y="2211480"/>
            <a:ext cx="403848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ение белка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орении животных белков ощущается характерный запах «жжёного рога». В значительной степени этот запах определяется содержанием серы в белк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х белков – запахом жженой бумаг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" name="Picture 8" descr="горит2"/>
          <p:cNvPicPr/>
          <p:nvPr/>
        </p:nvPicPr>
        <p:blipFill>
          <a:blip r:embed="rId1"/>
          <a:stretch/>
        </p:blipFill>
        <p:spPr>
          <a:xfrm>
            <a:off x="4716360" y="2133720"/>
            <a:ext cx="39816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нкции белков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немного биологии)</a:t>
            </a:r>
            <a:br>
              <a:rPr sz="4400"/>
            </a:b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600200"/>
            <a:ext cx="3035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спорт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талитическ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тор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цептор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гатель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нергетическ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5" descr="C:\Users\Катя\Desktop\Human_skeleton_front[1].png"/>
          <p:cNvPicPr/>
          <p:nvPr/>
        </p:nvPicPr>
        <p:blipFill>
          <a:blip r:embed="rId1"/>
          <a:stretch/>
        </p:blipFill>
        <p:spPr>
          <a:xfrm>
            <a:off x="3348000" y="1628640"/>
            <a:ext cx="2625840" cy="5069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5" descr="dnamodel.jpg"/>
          <p:cNvPicPr/>
          <p:nvPr/>
        </p:nvPicPr>
        <p:blipFill>
          <a:blip r:embed="rId2"/>
          <a:stretch/>
        </p:blipFill>
        <p:spPr>
          <a:xfrm>
            <a:off x="6045120" y="1628640"/>
            <a:ext cx="30988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нспортная функц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связывании и доставке (транспорте) различных веществ от одного органа к друго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оглобин соединяется в легких с кислородом, превращаясь в оксигемоглоби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гая с током крови органов и тканей, оксигемоглобин расщепляется и отдает кислоро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3" name="Содержимое 3" descr="41132128_gemoglobin.jpg"/>
          <p:cNvPicPr/>
          <p:nvPr/>
        </p:nvPicPr>
        <p:blipFill>
          <a:blip r:embed="rId1"/>
          <a:stretch/>
        </p:blipFill>
        <p:spPr>
          <a:xfrm>
            <a:off x="4886280" y="2077920"/>
            <a:ext cx="3562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лки в природе</a:t>
            </a:r>
            <a:br>
              <a:rPr sz="4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ходятся в протоплазме и ядре всех растительных и животных  клеток, являются главными носителями жизни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988640"/>
            <a:ext cx="40384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умин (в курином яйц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оглобин (в крови человек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ин (в коровьем молок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глобин и миозин (в мышцах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4" descr="08010501"/>
          <p:cNvPicPr/>
          <p:nvPr/>
        </p:nvPicPr>
        <p:blipFill>
          <a:blip r:embed="rId5"/>
          <a:stretch/>
        </p:blipFill>
        <p:spPr>
          <a:xfrm>
            <a:off x="684360" y="1844640"/>
            <a:ext cx="3671640" cy="25210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9"/>
          <p:cNvSpPr/>
          <p:nvPr/>
        </p:nvSpPr>
        <p:spPr>
          <a:xfrm>
            <a:off x="900000" y="5373720"/>
            <a:ext cx="7056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–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N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N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│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щитная функция</a:t>
            </a:r>
            <a:br>
              <a:rPr sz="4400"/>
            </a:b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ла обезвреживают вещества, поступающие в организм или появляющиеся в результате жизнедеятельности бактерий и вирус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 плазмы крови фибриноген, участвуя в свертывании крови, уменьшает кровопотер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алитическая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нкц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700280"/>
            <a:ext cx="7758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увеличении скорости различных реакций обмена веществ и энергии в организ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ная функция</a:t>
            </a:r>
            <a:br>
              <a:rPr sz="4400"/>
            </a:b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4038480" cy="14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идролизованный коллаген (белок соединительной ткани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Рисунок 6" descr="30.jpg"/>
          <p:cNvPicPr/>
          <p:nvPr/>
        </p:nvPicPr>
        <p:blipFill>
          <a:blip r:embed="rId1"/>
          <a:stretch/>
        </p:blipFill>
        <p:spPr>
          <a:xfrm>
            <a:off x="900000" y="3068640"/>
            <a:ext cx="3024360" cy="319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648320" y="1600200"/>
            <a:ext cx="40384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составляют основу строения клет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Рисунок 5" descr="animalheader.jpg"/>
          <p:cNvPicPr/>
          <p:nvPr/>
        </p:nvPicPr>
        <p:blipFill>
          <a:blip r:embed="rId2"/>
          <a:stretch/>
        </p:blipFill>
        <p:spPr>
          <a:xfrm>
            <a:off x="4788000" y="3068640"/>
            <a:ext cx="421488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уляторная функция</a:t>
            </a:r>
            <a:br>
              <a:rPr sz="4400"/>
            </a:b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403848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белка-регулятора (гормон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48320" y="1600200"/>
            <a:ext cx="403848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внутренней секре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Рисунок 7" descr="82_1.jpg"/>
          <p:cNvPicPr/>
          <p:nvPr/>
        </p:nvPicPr>
        <p:blipFill>
          <a:blip r:embed="rId1"/>
          <a:stretch/>
        </p:blipFill>
        <p:spPr>
          <a:xfrm>
            <a:off x="3214800" y="2571840"/>
            <a:ext cx="3571920" cy="80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цепторная функц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2060280"/>
            <a:ext cx="36716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-рецепторы служат для восприятия и преобразования различных сигн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торецептор-родопсин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3" descr="devils_eye1_1.jpg"/>
          <p:cNvPicPr/>
          <p:nvPr/>
        </p:nvPicPr>
        <p:blipFill>
          <a:blip r:embed="rId1"/>
          <a:stretch/>
        </p:blipFill>
        <p:spPr>
          <a:xfrm>
            <a:off x="3851280" y="1989000"/>
            <a:ext cx="482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игательная функц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зи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4" descr="C:\Users\Катя\Desktop\b17f7_ORIG-Ideal_2[1].jpg"/>
          <p:cNvPicPr/>
          <p:nvPr/>
        </p:nvPicPr>
        <p:blipFill>
          <a:blip r:embed="rId3"/>
          <a:stretch/>
        </p:blipFill>
        <p:spPr>
          <a:xfrm>
            <a:off x="5076720" y="1773360"/>
            <a:ext cx="325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белков в различных тканях человека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256500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цы до 8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гкие-72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-63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-57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-1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овая и костная ткани, зубы-14-2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Рисунок 5" descr="Digestive_system_diagram_edit.png"/>
          <p:cNvPicPr/>
          <p:nvPr/>
        </p:nvPicPr>
        <p:blipFill>
          <a:blip r:embed="rId1"/>
          <a:stretch/>
        </p:blipFill>
        <p:spPr>
          <a:xfrm>
            <a:off x="826920" y="2205000"/>
            <a:ext cx="32385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остав белков входят: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–  50 – 52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0 – 8,0%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– 19 – 24%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5 – 18%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,5 – 2,0%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3" name="Рисунок 12" descr="Farm_Fresh_Chicken_Eggs.jpg"/>
          <p:cNvPicPr/>
          <p:nvPr/>
        </p:nvPicPr>
        <p:blipFill>
          <a:blip r:embed="rId1"/>
          <a:stretch/>
        </p:blipFill>
        <p:spPr>
          <a:xfrm>
            <a:off x="4067280" y="1989000"/>
            <a:ext cx="4352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Белк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простые                        сложные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остоят только                                 содержат белковую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из аминокислот                               и небелковую част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(альбумин, фибрин)                        (липиды, углеводы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ионы металлов –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отеолипиды,     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емоглобин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Line 7"/>
          <p:cNvSpPr/>
          <p:nvPr/>
        </p:nvSpPr>
        <p:spPr>
          <a:xfrm flipH="1">
            <a:off x="2627280" y="2060640"/>
            <a:ext cx="1092240" cy="19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7"/>
          <p:cNvSpPr/>
          <p:nvPr/>
        </p:nvSpPr>
        <p:spPr>
          <a:xfrm flipH="1" flipV="1">
            <a:off x="5148360" y="2069640"/>
            <a:ext cx="107928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2627280" y="2079720"/>
            <a:ext cx="0" cy="43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6227640" y="2050920"/>
            <a:ext cx="0" cy="43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9" descr="C:\Users\Илья\Desktop\hhhhhhhhhhhhh.jpg"/>
          <p:cNvPicPr/>
          <p:nvPr/>
        </p:nvPicPr>
        <p:blipFill>
          <a:blip r:embed="rId1"/>
          <a:stretch/>
        </p:blipFill>
        <p:spPr>
          <a:xfrm>
            <a:off x="1138320" y="4653000"/>
            <a:ext cx="242388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L23p10p01"/>
          <p:cNvPicPr/>
          <p:nvPr/>
        </p:nvPicPr>
        <p:blipFill>
          <a:blip r:embed="rId2"/>
          <a:stretch/>
        </p:blipFill>
        <p:spPr>
          <a:xfrm>
            <a:off x="6788160" y="5089680"/>
            <a:ext cx="23572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белков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створимос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створимы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растворимы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агрегатному состояни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Жидк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верды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4" name="Picture 9" descr="01"/>
          <p:cNvPicPr/>
          <p:nvPr/>
        </p:nvPicPr>
        <p:blipFill>
          <a:blip r:embed="rId1"/>
          <a:stretch/>
        </p:blipFill>
        <p:spPr>
          <a:xfrm>
            <a:off x="4427640" y="1700280"/>
            <a:ext cx="4356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птидная теория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3 году немецкий ученый Э.Г.Фишер предложил пептидную теорию, которая стала ключом к тайне строения белка. Фишер предположил, что белки представляют собой полимеры из остатков аминокислот, соединенных пептидной связью NH–C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о том, что белки – это полимерные образования, высказывалась еще в 1888 году русским ученым А.Я.Данилевск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5" descr="мужик"/>
          <p:cNvPicPr/>
          <p:nvPr/>
        </p:nvPicPr>
        <p:blipFill>
          <a:blip r:embed="rId3"/>
          <a:stretch/>
        </p:blipFill>
        <p:spPr>
          <a:xfrm>
            <a:off x="684360" y="1844640"/>
            <a:ext cx="1468440" cy="187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мужик 21"/>
          <p:cNvPicPr/>
          <p:nvPr/>
        </p:nvPicPr>
        <p:blipFill>
          <a:blip r:embed="rId4"/>
          <a:stretch/>
        </p:blipFill>
        <p:spPr>
          <a:xfrm>
            <a:off x="684360" y="4502160"/>
            <a:ext cx="15001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1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 – это высокомолекулярное органическое  соединение, представляющее собой    биополимер, состоящий из мономеров,  которыми являются</a:t>
            </a:r>
            <a:r>
              <a:rPr b="0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i="1" lang="el-G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аминокислоты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ные пептидной связь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5" descr="Копия Общие сведения"/>
          <p:cNvPicPr/>
          <p:nvPr/>
        </p:nvPicPr>
        <p:blipFill>
          <a:blip r:embed="rId1"/>
          <a:stretch/>
        </p:blipFill>
        <p:spPr>
          <a:xfrm>
            <a:off x="360360" y="4724280"/>
            <a:ext cx="56516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ение белковой молекулы</a:t>
            </a:r>
            <a:endParaRPr b="1" lang="en-US" sz="4400" spc="-1" strike="noStrike">
              <a:solidFill>
                <a:srgbClr val="f2f2f2"/>
              </a:solidFill>
              <a:latin typeface="Century Schoolbook"/>
            </a:endParaRPr>
          </a:p>
        </p:txBody>
      </p:sp>
      <p:pic>
        <p:nvPicPr>
          <p:cNvPr id="152" name="Picture 5" descr="08010502"/>
          <p:cNvPicPr/>
          <p:nvPr/>
        </p:nvPicPr>
        <p:blipFill>
          <a:blip r:embed="rId1"/>
          <a:stretch/>
        </p:blipFill>
        <p:spPr>
          <a:xfrm>
            <a:off x="539640" y="1773360"/>
            <a:ext cx="813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7:55:14Z</dcterms:created>
  <dc:creator>ирина</dc:creator>
  <dc:description/>
  <dc:language>en-US</dc:language>
  <cp:lastModifiedBy>Юлия</cp:lastModifiedBy>
  <dcterms:modified xsi:type="dcterms:W3CDTF">2020-11-25T16:48:09Z</dcterms:modified>
  <cp:revision>41</cp:revision>
  <dc:subject/>
  <dc:title>Заголовок слайда</dc:title>
</cp:coreProperties>
</file>