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19.jpeg" ContentType="image/jpeg"/>
  <Override PartName="/ppt/media/image20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05F-5EC6-4D18-8B42-61F05C0D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ECE-D113-4174-B36D-9EEBBE38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70C-643D-4AF7-90C8-6A79F3FD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CB65-9FDF-46C4-9B00-454740A5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2F89-B2CD-4008-91BE-5AEAB3BC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FC25-3ECE-4620-8613-5D2A4526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DE5F-D363-42CF-9E51-7C1E239C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EE81-85FE-41E7-A480-49B813F9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CF51-2D20-4CE5-8F46-2CD4CA87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FAEC-CF9E-4F5B-ACB2-D12D8FD1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E138-541F-4B13-B5FD-821BBA9B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30E-E73D-42AB-9910-6BFF24E4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DD63-F61F-4332-8CE8-FF1E3FC0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B646-84E5-475F-8E00-9A96C33E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BE2F-C988-475E-9027-08FAE3CF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99C4-5D45-412B-937B-96C74CFF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3C0D-906F-4A48-BCFF-C93F532A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910C8-8CFD-430D-900C-272C671F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4215E-856C-4377-93D0-C3523732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C97C-5A46-4839-A3B7-91EDB86C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46DD0-1A0A-48F7-AD6E-1083D09C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47FE-7141-4E8D-A335-EF2A3795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FF6-1746-4069-BC03-57FEFC61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97C22-0F6F-41D5-B5A7-7C5EAB5F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4982-646B-41EA-B4BA-EBB00E36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71D18-3966-4922-BDBD-FF3484B7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5607B-0E66-4FD2-BB33-C0CDC33F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B8019-B4EE-4B24-BA21-425A8DB3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17F6B-04F1-44D4-B69B-25AC864B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85022-542A-439C-906E-B506B7BE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D43-F6C0-4186-B8C8-EE08A854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9B3-B918-438B-9D30-2566128E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0FDE-7D67-422F-AFC7-0F3AFDB4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256-7F00-4D21-A528-1B99F29E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5DC-E52C-4A48-A7CF-200EAFC1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868-8CAC-43A5-A34E-40AC25F6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256D-5E57-438F-877F-F946874E24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CB1E-868A-4098-ADDF-670CB7AB31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BC28-A631-4245-99A9-EEC94CDBA3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54007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7c80"/>
                </a:solidFill>
                <a:latin typeface="Century Schoolbook"/>
              </a:rPr>
              <a:t>Изучение свойств белков.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ойства белков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работке хлоридом натрия белки высаливаются из раствора. Этот процесс обрати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5" name="Picture 7" descr="02"/>
          <p:cNvPicPr/>
          <p:nvPr/>
        </p:nvPicPr>
        <p:blipFill>
          <a:blip r:embed="rId1"/>
          <a:stretch/>
        </p:blipFill>
        <p:spPr>
          <a:xfrm>
            <a:off x="5076720" y="1989000"/>
            <a:ext cx="338292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дратация белков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2492280"/>
            <a:ext cx="40384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астворимые белки образуют коллоидные раствор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7" descr="L1p07p0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нообразование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пенообразования–это способность белков образовывать высококонцентрированные системы «жидкость–газ»,называемые пен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 в качестве пенообразователей широко используются в кондитерской промышленности(пастила, зефир, суфле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у пены имеет хлеб, а это влияет на его вкусовые свой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дролиз белков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pic>
        <p:nvPicPr>
          <p:cNvPr id="162" name="Объект 4" descr="23-1.gif"/>
          <p:cNvPicPr/>
          <p:nvPr/>
        </p:nvPicPr>
        <p:blipFill>
          <a:blip r:embed="rId1"/>
          <a:stretch/>
        </p:blipFill>
        <p:spPr>
          <a:xfrm>
            <a:off x="108000" y="1916280"/>
            <a:ext cx="5543640" cy="41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3" name="Рисунок 4" descr="image011.jpg"/>
          <p:cNvPicPr/>
          <p:nvPr/>
        </p:nvPicPr>
        <p:blipFill>
          <a:blip r:embed="rId2"/>
          <a:stretch/>
        </p:blipFill>
        <p:spPr>
          <a:xfrm>
            <a:off x="6012000" y="1773360"/>
            <a:ext cx="2724120" cy="4408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Администратор\Рабочий стол\белки\nb1046.jpg"/>
          <p:cNvPicPr/>
          <p:nvPr/>
        </p:nvPicPr>
        <p:blipFill>
          <a:blip r:embed="rId3"/>
          <a:stretch/>
        </p:blipFill>
        <p:spPr>
          <a:xfrm>
            <a:off x="6156360" y="3933720"/>
            <a:ext cx="251928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атурация  белков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pic>
        <p:nvPicPr>
          <p:cNvPr id="166" name="Picture 3" descr="Необратимая денатурация белка куриного яйца под воздействием высокой температуры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Денатурация белка"/>
          <p:cNvPicPr/>
          <p:nvPr/>
        </p:nvPicPr>
        <p:blipFill>
          <a:blip r:embed="rId2"/>
          <a:stretch/>
        </p:blipFill>
        <p:spPr>
          <a:xfrm>
            <a:off x="4932360" y="2205000"/>
            <a:ext cx="3600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ветные реакции белков </a:t>
            </a:r>
            <a:br>
              <a:rPr sz="4400"/>
            </a:br>
            <a:r>
              <a:rPr b="1" lang="ru-RU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сантопротеиновая реакция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стите кусочек прессованного творога в пробирку и добавьте несколько капель азотной кислоты. Осторожно нагрей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0" name="Picture 7" descr="L24p8p00"/>
          <p:cNvPicPr/>
          <p:nvPr/>
        </p:nvPicPr>
        <p:blipFill>
          <a:blip r:embed="rId1"/>
          <a:stretch/>
        </p:blipFill>
        <p:spPr>
          <a:xfrm>
            <a:off x="5508720" y="2205000"/>
            <a:ext cx="2054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иуретовая реакция 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ейте в пробирк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иллилитра яичного белка,  2 миллилитра концентрированного раствора гидроксида натрия и несколько капель раствора сульфата мед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" name="Picture 7" descr="GCH_3C24_07Nd"/>
          <p:cNvPicPr/>
          <p:nvPr/>
        </p:nvPicPr>
        <p:blipFill>
          <a:blip r:embed="rId1"/>
          <a:stretch/>
        </p:blipFill>
        <p:spPr>
          <a:xfrm>
            <a:off x="4648320" y="2211480"/>
            <a:ext cx="403848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ение белка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орении животных белков ощущается характерный запах «жжёного рога». В значительной степени этот запах определяется содержанием серы в белк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х белков – запахом жженой бумаг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6" name="Picture 8" descr="горит2"/>
          <p:cNvPicPr/>
          <p:nvPr/>
        </p:nvPicPr>
        <p:blipFill>
          <a:blip r:embed="rId1"/>
          <a:stretch/>
        </p:blipFill>
        <p:spPr>
          <a:xfrm>
            <a:off x="4716360" y="2133720"/>
            <a:ext cx="39816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ункции белков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немного биологии)</a:t>
            </a:r>
            <a:br>
              <a:rPr sz="4400"/>
            </a:b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600200"/>
            <a:ext cx="3035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нспорт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тна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талитическа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на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гуляторна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цепторна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гатель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нергетическ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Picture 5" descr="C:\Users\Катя\Desktop\Human_skeleton_front[1].png"/>
          <p:cNvPicPr/>
          <p:nvPr/>
        </p:nvPicPr>
        <p:blipFill>
          <a:blip r:embed="rId1"/>
          <a:stretch/>
        </p:blipFill>
        <p:spPr>
          <a:xfrm>
            <a:off x="3348000" y="1628640"/>
            <a:ext cx="2625840" cy="50691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5" descr="dnamodel.jpg"/>
          <p:cNvPicPr/>
          <p:nvPr/>
        </p:nvPicPr>
        <p:blipFill>
          <a:blip r:embed="rId2"/>
          <a:stretch/>
        </p:blipFill>
        <p:spPr>
          <a:xfrm>
            <a:off x="6045120" y="1628640"/>
            <a:ext cx="30988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анспортная функция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связывании и доставке (транспорте) различных веществ от одного органа к другом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моглобин соединяется в легких с кислородом, превращаясь в оксигемоглобин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гая с током крови органов и тканей, оксигемоглобин расщепляется и отдает кислоро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3" name="Содержимое 3" descr="41132128_gemoglobin.jpg"/>
          <p:cNvPicPr/>
          <p:nvPr/>
        </p:nvPicPr>
        <p:blipFill>
          <a:blip r:embed="rId1"/>
          <a:stretch/>
        </p:blipFill>
        <p:spPr>
          <a:xfrm>
            <a:off x="4886280" y="2077920"/>
            <a:ext cx="3562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лки в природе</a:t>
            </a:r>
            <a:br>
              <a:rPr sz="4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ходятся в протоплазме и ядре всех растительных и животных  клеток, являются главными носителями жизни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988640"/>
            <a:ext cx="40384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умин (в курином яйц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моглобин (в крови человек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ин (в коровьем молок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глобин и миозин (в мышцах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4" descr="08010501"/>
          <p:cNvPicPr/>
          <p:nvPr/>
        </p:nvPicPr>
        <p:blipFill>
          <a:blip r:embed="rId5"/>
          <a:stretch/>
        </p:blipFill>
        <p:spPr>
          <a:xfrm>
            <a:off x="684360" y="1844640"/>
            <a:ext cx="3671640" cy="25210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9"/>
          <p:cNvSpPr/>
          <p:nvPr/>
        </p:nvSpPr>
        <p:spPr>
          <a:xfrm>
            <a:off x="900000" y="5373720"/>
            <a:ext cx="7056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CH –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N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CH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N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CH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│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║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║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щитная функция</a:t>
            </a:r>
            <a:br>
              <a:rPr sz="4400"/>
            </a:b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ла обезвреживают вещества, поступающие в организм или появляющиеся в результате жизнедеятельности бактерий и вирус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к плазмы крови фибриноген, участвуя в свертывании крови, уменьшает кровопотер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алитическая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ункция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700280"/>
            <a:ext cx="7758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увеличении скорости различных реакций обмена веществ и энергии в организм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ная функция</a:t>
            </a:r>
            <a:br>
              <a:rPr sz="4400"/>
            </a:b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4038480" cy="14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идролизованный коллаген (белок соединительной ткани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Рисунок 6" descr="30.jpg"/>
          <p:cNvPicPr/>
          <p:nvPr/>
        </p:nvPicPr>
        <p:blipFill>
          <a:blip r:embed="rId1"/>
          <a:stretch/>
        </p:blipFill>
        <p:spPr>
          <a:xfrm>
            <a:off x="900000" y="3068640"/>
            <a:ext cx="3024360" cy="319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648320" y="1600200"/>
            <a:ext cx="40384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 составляют основу строения клет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3" name="Рисунок 5" descr="animalheader.jpg"/>
          <p:cNvPicPr/>
          <p:nvPr/>
        </p:nvPicPr>
        <p:blipFill>
          <a:blip r:embed="rId2"/>
          <a:stretch/>
        </p:blipFill>
        <p:spPr>
          <a:xfrm>
            <a:off x="4788000" y="3068640"/>
            <a:ext cx="421488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гуляторная функция</a:t>
            </a:r>
            <a:br>
              <a:rPr sz="4400"/>
            </a:b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403848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белка-регулятора (гормон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48320" y="1600200"/>
            <a:ext cx="403848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внутренней секре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Рисунок 7" descr="82_1.jpg"/>
          <p:cNvPicPr/>
          <p:nvPr/>
        </p:nvPicPr>
        <p:blipFill>
          <a:blip r:embed="rId1"/>
          <a:stretch/>
        </p:blipFill>
        <p:spPr>
          <a:xfrm>
            <a:off x="3214800" y="2571840"/>
            <a:ext cx="3571920" cy="80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цепторная функция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2060280"/>
            <a:ext cx="36716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-рецепторы служат для восприятия и преобразования различных сигна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торецептор-родопсин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Рисунок 3" descr="devils_eye1_1.jpg"/>
          <p:cNvPicPr/>
          <p:nvPr/>
        </p:nvPicPr>
        <p:blipFill>
          <a:blip r:embed="rId1"/>
          <a:stretch/>
        </p:blipFill>
        <p:spPr>
          <a:xfrm>
            <a:off x="3851280" y="1989000"/>
            <a:ext cx="482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игательная функция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зи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4" descr="C:\Users\Катя\Desktop\b17f7_ORIG-Ideal_2[1].jpg"/>
          <p:cNvPicPr/>
          <p:nvPr/>
        </p:nvPicPr>
        <p:blipFill>
          <a:blip r:embed="rId3"/>
          <a:stretch/>
        </p:blipFill>
        <p:spPr>
          <a:xfrm>
            <a:off x="5076720" y="1773360"/>
            <a:ext cx="325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 белков в различных тканях человека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256500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цы до 8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гкие-72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-63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-57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-1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овая и костная ткани, зубы-14-2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0" name="Рисунок 5" descr="Digestive_system_diagram_edit.png"/>
          <p:cNvPicPr/>
          <p:nvPr/>
        </p:nvPicPr>
        <p:blipFill>
          <a:blip r:embed="rId1"/>
          <a:stretch/>
        </p:blipFill>
        <p:spPr>
          <a:xfrm>
            <a:off x="826920" y="2205000"/>
            <a:ext cx="32385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состав белков входят: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–  50 – 52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0 – 8,0%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– 19 – 24%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5 – 18%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0,5 – 2,0%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3" name="Рисунок 12" descr="Farm_Fresh_Chicken_Eggs.jpg"/>
          <p:cNvPicPr/>
          <p:nvPr/>
        </p:nvPicPr>
        <p:blipFill>
          <a:blip r:embed="rId1"/>
          <a:stretch/>
        </p:blipFill>
        <p:spPr>
          <a:xfrm>
            <a:off x="4067280" y="1989000"/>
            <a:ext cx="43527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я белков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Белки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простые                        сложные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состоят только                                 содержат белковую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из аминокислот                               и небелковую части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(альбумин, фибрин)                        (липиды, углеводы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ионы металлов –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отеолипиды,     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гемоглобин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Line 7"/>
          <p:cNvSpPr/>
          <p:nvPr/>
        </p:nvSpPr>
        <p:spPr>
          <a:xfrm flipH="1">
            <a:off x="2627280" y="2060640"/>
            <a:ext cx="1092240" cy="19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7"/>
          <p:cNvSpPr/>
          <p:nvPr/>
        </p:nvSpPr>
        <p:spPr>
          <a:xfrm flipH="1" flipV="1">
            <a:off x="5148360" y="2069640"/>
            <a:ext cx="1079280" cy="3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2627280" y="2079720"/>
            <a:ext cx="0" cy="43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6227640" y="2050920"/>
            <a:ext cx="0" cy="432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9" descr="C:\Users\Илья\Desktop\hhhhhhhhhhhhh.jpg"/>
          <p:cNvPicPr/>
          <p:nvPr/>
        </p:nvPicPr>
        <p:blipFill>
          <a:blip r:embed="rId1"/>
          <a:stretch/>
        </p:blipFill>
        <p:spPr>
          <a:xfrm>
            <a:off x="1138320" y="4653000"/>
            <a:ext cx="2423880" cy="171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L23p10p01"/>
          <p:cNvPicPr/>
          <p:nvPr/>
        </p:nvPicPr>
        <p:blipFill>
          <a:blip r:embed="rId2"/>
          <a:stretch/>
        </p:blipFill>
        <p:spPr>
          <a:xfrm>
            <a:off x="6788160" y="5089680"/>
            <a:ext cx="23572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я белков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астворимос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створимы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ерастворимы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агрегатному состояни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Жидк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верды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4" name="Picture 9" descr="01"/>
          <p:cNvPicPr/>
          <p:nvPr/>
        </p:nvPicPr>
        <p:blipFill>
          <a:blip r:embed="rId1"/>
          <a:stretch/>
        </p:blipFill>
        <p:spPr>
          <a:xfrm>
            <a:off x="4427640" y="1700280"/>
            <a:ext cx="43560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птидная теория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3 году немецкий ученый Э.Г.Фишер предложил пептидную теорию, которая стала ключом к тайне строения белка. Фишер предположил, что белки представляют собой полимеры из остатков аминокислот, соединенных пептидной связью NH–C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о том, что белки – это полимерные образования, высказывалась еще в 1888 году русским ученым А.Я.Данилевски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7" name="Picture 5" descr="мужик"/>
          <p:cNvPicPr/>
          <p:nvPr/>
        </p:nvPicPr>
        <p:blipFill>
          <a:blip r:embed="rId3"/>
          <a:stretch/>
        </p:blipFill>
        <p:spPr>
          <a:xfrm>
            <a:off x="684360" y="1844640"/>
            <a:ext cx="1468440" cy="1878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мужик 21"/>
          <p:cNvPicPr/>
          <p:nvPr/>
        </p:nvPicPr>
        <p:blipFill>
          <a:blip r:embed="rId4"/>
          <a:stretch/>
        </p:blipFill>
        <p:spPr>
          <a:xfrm>
            <a:off x="684360" y="4502160"/>
            <a:ext cx="15001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1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к – это высокомолекулярное органическое  соединение, представляющее собой    биополимер, состоящий из мономеров,  которыми являются</a:t>
            </a:r>
            <a:r>
              <a:rPr b="0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i="1" lang="el-G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α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аминокислоты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ные пептидной связь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Picture 5" descr="Копия Общие сведения"/>
          <p:cNvPicPr/>
          <p:nvPr/>
        </p:nvPicPr>
        <p:blipFill>
          <a:blip r:embed="rId1"/>
          <a:stretch/>
        </p:blipFill>
        <p:spPr>
          <a:xfrm>
            <a:off x="360360" y="4724280"/>
            <a:ext cx="56516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ение белковой молекулы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pic>
        <p:nvPicPr>
          <p:cNvPr id="152" name="Picture 5" descr="08010502"/>
          <p:cNvPicPr/>
          <p:nvPr/>
        </p:nvPicPr>
        <p:blipFill>
          <a:blip r:embed="rId1"/>
          <a:stretch/>
        </p:blipFill>
        <p:spPr>
          <a:xfrm>
            <a:off x="539640" y="1773360"/>
            <a:ext cx="813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7:55:14Z</dcterms:created>
  <dc:creator>ирина</dc:creator>
  <dc:description/>
  <dc:language>en-US</dc:language>
  <cp:lastModifiedBy>Юлия</cp:lastModifiedBy>
  <dcterms:modified xsi:type="dcterms:W3CDTF">2020-11-25T16:48:09Z</dcterms:modified>
  <cp:revision>41</cp:revision>
  <dc:subject/>
  <dc:title>Заголовок слайда</dc:title>
</cp:coreProperties>
</file>