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E25-2ABF-40D8-94F5-12A9E14C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D40-681C-4776-8A2F-D0BDDC28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955-2CD0-4E3E-B8DA-DBD26CC9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2E3-9B03-420D-8A10-09C19543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F4C-A640-4218-9C62-5B9E608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496-5A55-4AAA-9A9B-32E6362B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D83-6F98-484E-B2D1-955EB9F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8FF-73B8-4ED2-9DE5-6918042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1C3-2D2E-440A-8142-AA97D8C6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598-9A76-42F8-9433-766E0F0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620-361B-4C68-B557-D3DF273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B76-0196-4D3B-835C-B8CBAEA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C7C-A874-42E6-9317-83F47E9E66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домашний питомец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 старшей группы Пономаре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1201680" y="1600200"/>
            <a:ext cx="254952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7" descr=""/>
          <p:cNvPicPr/>
          <p:nvPr/>
        </p:nvPicPr>
        <p:blipFill>
          <a:blip r:embed="rId2"/>
          <a:stretch/>
        </p:blipFill>
        <p:spPr>
          <a:xfrm>
            <a:off x="4932360" y="2746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Объект 7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Объект 9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3035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9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Объект 13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7" descr=""/>
          <p:cNvPicPr/>
          <p:nvPr/>
        </p:nvPicPr>
        <p:blipFill>
          <a:blip r:embed="rId1"/>
          <a:stretch/>
        </p:blipFill>
        <p:spPr>
          <a:xfrm>
            <a:off x="457200" y="28404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9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8" descr=""/>
          <p:cNvPicPr/>
          <p:nvPr/>
        </p:nvPicPr>
        <p:blipFill>
          <a:blip r:embed="rId1"/>
          <a:stretch/>
        </p:blipFill>
        <p:spPr>
          <a:xfrm>
            <a:off x="826920" y="1165320"/>
            <a:ext cx="208944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10" descr=""/>
          <p:cNvPicPr/>
          <p:nvPr/>
        </p:nvPicPr>
        <p:blipFill>
          <a:blip r:embed="rId2"/>
          <a:stretch/>
        </p:blipFill>
        <p:spPr>
          <a:xfrm>
            <a:off x="6875640" y="358920"/>
            <a:ext cx="20890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"/>
          <p:cNvPicPr/>
          <p:nvPr/>
        </p:nvPicPr>
        <p:blipFill>
          <a:blip r:embed="rId3"/>
          <a:stretch/>
        </p:blipFill>
        <p:spPr>
          <a:xfrm>
            <a:off x="3432240" y="981000"/>
            <a:ext cx="3165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10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13" descr=""/>
          <p:cNvPicPr/>
          <p:nvPr/>
        </p:nvPicPr>
        <p:blipFill>
          <a:blip r:embed="rId2"/>
          <a:stretch/>
        </p:blipFill>
        <p:spPr>
          <a:xfrm>
            <a:off x="779400" y="33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9" descr=""/>
          <p:cNvPicPr/>
          <p:nvPr/>
        </p:nvPicPr>
        <p:blipFill>
          <a:blip r:embed="rId1"/>
          <a:stretch/>
        </p:blipFill>
        <p:spPr>
          <a:xfrm>
            <a:off x="4970520" y="274680"/>
            <a:ext cx="339084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8" descr="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8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12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3394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33562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7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2547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Юлия Пономарева</cp:lastModifiedBy>
  <dcterms:modified xsi:type="dcterms:W3CDTF">2020-11-25T16:33:18Z</dcterms:modified>
  <cp:revision>117</cp:revision>
  <dc:subject/>
  <dc:title>Diapositiva 1</dc:title>
</cp:coreProperties>
</file>