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984-48B3-495C-AB6B-43D96A66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320A-7747-493C-B244-C4B31A48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1E24-2B36-4E1A-8B4C-EB12740F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1CE-0EF0-45D5-8896-9D011E9A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3084-181B-49B2-81FA-3B2C932A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EB5D-A2B3-4608-8E1E-540D16A5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5689-7D42-4FAB-8892-00B4C808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BD3C-407D-4A16-ABED-DC9F876A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346A-E729-4E0D-95CC-3D66F64C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CF10-CC41-4EDA-BC8E-51669D08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7C33-D078-4113-94DD-1840CF92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CA78-7EE3-4CE0-85F7-ABE20B71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D07E-933A-4558-B0DA-C0E57B96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4E1A-933A-41A1-8A11-4382D90E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51C0-AD87-4826-96BF-4BEFDE6B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0A54-F849-4216-AD20-30745862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1CA2-AE29-4EFC-BFB3-FABD5E88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B3EF-B43C-4C83-910E-7426F85F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021-C835-4259-A315-79BE1AFB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FC0-BFFA-408F-8217-706E26E7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60E-7E64-43CB-9F5D-1C967566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B5D-74F7-42A8-910B-ECE1AD6C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DF88-F758-4824-8E42-EED1FBEE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A67-BE52-4377-A93E-765ED2C9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06F910-BD6B-4193-8E3C-82F47588C92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B8378F-6B84-4762-8022-E896C9514AC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411640" y="2061000"/>
            <a:ext cx="4260240" cy="3571560"/>
          </a:xfrm>
          <a:prstGeom prst="rect">
            <a:avLst/>
          </a:prstGeom>
          <a:ln w="9525">
            <a:noFill/>
          </a:ln>
        </p:spPr>
      </p:pic>
      <p:sp>
        <p:nvSpPr>
          <p:cNvPr id="83" name="Прямоугольник 3"/>
          <p:cNvSpPr/>
          <p:nvPr/>
        </p:nvSpPr>
        <p:spPr>
          <a:xfrm>
            <a:off x="0" y="357120"/>
            <a:ext cx="937440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800" spc="-1" strike="noStrike" cap="all">
                <a:solidFill>
                  <a:schemeClr val="accent1"/>
                </a:solidFill>
                <a:latin typeface="Times New Roman"/>
              </a:rPr>
              <a:t>Основы домашнего приготовления пищ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00040" y="500040"/>
            <a:ext cx="822924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линари́я или кулина́рия (от лат. «кухонное ремесло») — область человеческой деятельности, связанная с приготовлением пищи. Включает в себя комплекс технологий, оборудования и рецепто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857160" y="3071880"/>
            <a:ext cx="3142800" cy="3438000"/>
          </a:xfrm>
          <a:prstGeom prst="rect">
            <a:avLst/>
          </a:prstGeom>
          <a:ln w="9525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857840" y="3095640"/>
            <a:ext cx="3809520" cy="376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Основные способы приготовления пищ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34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I. 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Термическая обработк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1) </a:t>
            </a:r>
            <a:r>
              <a:rPr b="1" i="1" lang="ru-RU" sz="28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Жа́рка</a:t>
            </a:r>
            <a:r>
              <a:rPr b="0" i="1" lang="ru-RU" sz="28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 — процесс, при котором продукты подвергаются термической обработке при непосредственном соприкосновении с жиром или без жира на металлической поверхности или на открытом огн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1999800" cy="1999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28760" y="428760"/>
            <a:ext cx="8229240" cy="17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2) 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Варка</a:t>
            </a:r>
            <a:r>
              <a:rPr b="0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 - доведение продукта до готовности в большом количестве вод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357280" y="1714320"/>
            <a:ext cx="4142880" cy="4912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28760" y="500040"/>
            <a:ext cx="82292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3) 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Выпекание</a:t>
            </a:r>
            <a:r>
              <a:rPr b="0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 — метод длительного приготовления пищи под действием сухого тепл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428840" y="2143080"/>
            <a:ext cx="6714720" cy="4473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28760" y="571320"/>
            <a:ext cx="8229240" cy="23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4) 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Тушение </a:t>
            </a:r>
            <a:r>
              <a:rPr b="0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— процесс готовки посредством нагревания продуктов в малом количестве жидкости, среднее между варкой и жарко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000160" y="2589480"/>
            <a:ext cx="5285880" cy="3964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57120" y="500040"/>
            <a:ext cx="822924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5) 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Копче́ние</a:t>
            </a:r>
            <a:r>
              <a:rPr b="0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 — это вид тепловой обработки продуктов, придающий аромат и оказывающий консервирующее действие. Продукты, подвергнутые копчению, пропитываются бактериостатическими веществами коптильного дыма и частично обезвоживаются, благодаря чему срок хранения их многократно увеличиваетс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357280" y="3915720"/>
            <a:ext cx="4428720" cy="2941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00040" y="500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I. 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Химическая обработ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1) </a:t>
            </a:r>
            <a:r>
              <a:rPr b="1" i="1" lang="ru-RU" sz="28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Маринование</a:t>
            </a:r>
            <a:r>
              <a:rPr b="0" i="1" lang="ru-RU" sz="28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 — способ консервирования пищевых продуктов, основанный на действии кислоты, которая в определённых концентрациях подавляет жизнедеятельность многих микроорганизмо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857160" y="3571920"/>
            <a:ext cx="3543120" cy="2857320"/>
          </a:xfrm>
          <a:prstGeom prst="rect">
            <a:avLst/>
          </a:prstGeom>
          <a:ln w="9525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4714920" y="3571920"/>
            <a:ext cx="3762000" cy="2821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85840" y="4287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2) 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Квашение</a:t>
            </a:r>
            <a:r>
              <a:rPr b="0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 - консервирование овощей путём молочнокислого брожения, в процессе которого образуется молочная кислота, оказывающая на продукты консервирующее действи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214720" y="3143160"/>
            <a:ext cx="4643280" cy="3482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  <Words>181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16:38:45Z</dcterms:created>
  <dc:creator>Антон</dc:creator>
  <dc:description/>
  <dc:language>en-US</dc:language>
  <cp:lastModifiedBy>Юлия</cp:lastModifiedBy>
  <dcterms:modified xsi:type="dcterms:W3CDTF">2020-11-25T17:54:51Z</dcterms:modified>
  <cp:revision>15</cp:revision>
  <dc:subject/>
  <dc:title>КУЛИНА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