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528-7C73-4783-ADF9-84008156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947-ECB9-4F22-BDA6-A899870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380-54FF-4EE5-B073-F0CD8BD1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A70-1360-4426-B620-1518898D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4922-721D-4FED-AD55-5A5FD589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D9BD-3705-40BC-ABE5-BAE2EBB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D222-A3C1-4309-90C9-22E322BE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46FA-18E6-4C1A-9AAD-11EBEA0F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DB44-4F43-46AA-8B28-60340C7E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0676-34D4-4ED0-A282-DD925D54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F43E-74CB-4202-AC1E-DD307C4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AA0-DBBF-4314-860E-303E2232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FD5B-AD4A-4F57-AF39-264D7FE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3991-1E47-4C54-9DD7-AE54063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EB10-4D8E-41C7-862D-1D67F54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0FE0-B963-4BB7-9EDF-2C4979CF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9E2D-0A25-41B8-B60B-EDE3181D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BEE-E7EE-48E5-AD6D-93E31D6C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3D2-530D-4A00-A096-FA71BC7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EDF-4989-4FFD-8BCE-CD577BC6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3F5-615D-406B-A9D7-8A0DB245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6D2-8AEF-44F9-A0B2-2FD8A7A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B9C-2662-41DA-AB5B-F4DA0A7E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128-4AB5-41D0-AB04-C29D943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A97F62-7BEE-4AB6-9B48-51BEF7CF908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BACC29-6777-4A41-AAB1-7490156E927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411640" y="2061000"/>
            <a:ext cx="4260240" cy="3571560"/>
          </a:xfrm>
          <a:prstGeom prst="rect">
            <a:avLst/>
          </a:prstGeom>
          <a:ln w="9525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0" y="357120"/>
            <a:ext cx="93744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1"/>
                </a:solidFill>
                <a:latin typeface="Times New Roman"/>
              </a:rPr>
              <a:t>Основы домашнего приготовления пищ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2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инари́я или кулина́рия (от лат. «кухонное ремесло») — область человеческой деятельности, связанная с приготовлением пищи. Включает в себя комплекс технологий, оборудования и рецепт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57160" y="3071880"/>
            <a:ext cx="3142800" cy="343800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857840" y="3095640"/>
            <a:ext cx="3809520" cy="376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Основные способы приготовления пищ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I.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Термическая обработ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1) </a:t>
            </a:r>
            <a:r>
              <a:rPr b="1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Жа́рка</a:t>
            </a: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процесс, при котором продукты подвергаются термической обработке при непосредственном соприкосновении с жиром или без жира на металлической поверхности или на открытом огн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199980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28760" y="428760"/>
            <a:ext cx="822924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Варка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- доведение продукта до готовности в большом количестве вод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357280" y="1714320"/>
            <a:ext cx="4142880" cy="4912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292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3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Выпекание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метод длительного приготовления пищи под действием сухого теп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714720" cy="4473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229240" cy="23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4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Тушение 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— процесс готовки посредством нагревания продуктов в малом количестве жидкости, среднее между варкой и жарк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000160" y="2589480"/>
            <a:ext cx="5285880" cy="396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57120" y="500040"/>
            <a:ext cx="82292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5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Копче́ние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это вид тепловой обработки продуктов, придающий аромат и оказывающий консервирующее действие. Продукты, подвергнутые копчению, пропитываются бактериостатическими веществами коптильного дыма и частично обезвоживаются, благодаря чему срок хранения их многократно увеличиваетс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57280" y="3915720"/>
            <a:ext cx="4428720" cy="2941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I.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Химическая обработ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1) </a:t>
            </a:r>
            <a:r>
              <a:rPr b="1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Маринование</a:t>
            </a:r>
            <a:r>
              <a:rPr b="0" i="1" lang="ru-RU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— способ консервирования пищевых продуктов, основанный на действии кислоты, которая в определённых концентрациях подавляет жизнедеятельность многих микроорганизм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57160" y="3571920"/>
            <a:ext cx="35431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714920" y="3571920"/>
            <a:ext cx="3762000" cy="2821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Квашение</a:t>
            </a:r>
            <a:r>
              <a:rPr b="0" i="1" lang="ru-RU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 - консервирование овощей путём молочнокислого брожения, в процессе которого образуется молочная кислота, оказывающая на продукты консервирующее действи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214720" y="3143160"/>
            <a:ext cx="4643280" cy="3482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181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6:38:45Z</dcterms:created>
  <dc:creator>Антон</dc:creator>
  <dc:description/>
  <dc:language>en-US</dc:language>
  <cp:lastModifiedBy>Юлия</cp:lastModifiedBy>
  <dcterms:modified xsi:type="dcterms:W3CDTF">2020-11-25T17:54:51Z</dcterms:modified>
  <cp:revision>15</cp:revision>
  <dc:subject/>
  <dc:title>КУЛИНА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