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5BF9-DF4C-4EFE-9D45-67D709D17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A15E-D85A-47CB-A686-1741E5F76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944-37F5-41A5-AE63-9F3C600F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624-B759-4956-8E00-29878D51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193-16C4-46A7-86F4-6AE1F586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2F5-EE6C-44D2-B7C7-64A65F48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7F74-0948-407D-B74D-1AF92ABE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1D63-48BF-4502-B7AA-B1F788B9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B84D-5874-4636-81FB-024EDE85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84E9-27EF-4E0C-A78D-60DD00BE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9C09-51A1-4ACE-A994-FD605327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7E49-3B61-42E4-B786-B21E8E23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8FE7-A68E-47C0-9589-E9FDFF25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4B5-A9D4-4C75-950C-8F6B3FE2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CD43-9682-444F-B39E-E1C2C245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E740-BD83-44C7-A1A5-3C69649E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29A4-7BBD-4A97-81F3-A231870C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2DD0-4D69-4C7D-8BDE-6E5AF02B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7103-DA74-4260-BD95-3EC8399B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1CB-A882-42EA-808D-1F3DAAE0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115-A912-4825-A577-751A91F8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12F-1170-4FCD-9B5F-D61C268C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062-5ACC-475E-8FDF-59B29C59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1DE-ACDA-45B1-89C8-76D8673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945-E597-4A50-9660-2CE433B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34F-B5CC-4DB2-A353-D530AEE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7A36-F6B2-4F5E-80BA-1CC2688BE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F758-15DC-4BB9-B22F-9E38505BE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611280" y="620640"/>
            <a:ext cx="792144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0" y="762120"/>
            <a:ext cx="3384720" cy="115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ГНИ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143000" y="19051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Гниение -  разложение сложных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азотсодержащих органических соединений (преимущественно белков) п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действием гнилостных микроорганизмов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86000" y="-30700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8421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Задачи урока: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основные понятия теори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окислительно- восстановительные реакции, степень окисления, электроотрицательность, окислитель, восстановитель, окисление, восстано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классификацию ОВ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 возможность протекания О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ать умение расставлять коэффициенты в уравнениях ОВ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ами электронного и электронно- ионного балан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влияние среды на протекание О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Основные понятия теории окислительно- восстановительных реакций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14320"/>
            <a:ext cx="769608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 - восстановительные реакц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протекающие с изменением степеней окисления реагирующи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кисления (СО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ный заряд атома данного элемента в химическом соединении, вычисленный если предположить, что соединение состоит только из и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отрицательнос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атома химического элемента смещать к себе общую электронную п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Основные понятия теории окислительно- восстановительных реакций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ислител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ца (атом, молекула, ион), которая принимает электроны (акцептор электрон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становител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ца, которая отдает электроны (донор электрон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исл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 отдачи электронов данной частицей (СО повыш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становл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 принятия электронов частицей (СО пониж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Правила определения функции соединения в окислительно – восстановительных реакциях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элемент проявляет в соединении высшую степень окисления, то это соединение может быть только окислителем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элемент проявляет в соединении низшую степень окисления, то это соединение может быть только восстановител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элемент проявляет в соединении промежуточную степень окисления, то это соединение может быть как окислителем, так и восстановителем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сстановление, 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окисление,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восстановление,1)                                                                                                     4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7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4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восстановление,3)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4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окисление,8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окисление,3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79280" y="476280"/>
          <a:ext cx="8964720" cy="6245280"/>
        </p:xfrm>
        <a:graphic>
          <a:graphicData uri="http://schemas.openxmlformats.org/drawingml/2006/table">
            <a:tbl>
              <a:tblPr/>
              <a:tblGrid>
                <a:gridCol w="2987640"/>
                <a:gridCol w="2773440"/>
                <a:gridCol w="3203640"/>
              </a:tblGrid>
              <a:tr h="15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молекулярные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молекулярные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99"/>
                        </a:gs>
                        <a:gs pos="100000">
                          <a:srgbClr val="3366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и диспропорцион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cc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ем и восстановителем являются разные вещества, простые или сло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с изменением степени  окисления атомов в одной и той же молеку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99"/>
                        </a:gs>
                        <a:gs pos="100000">
                          <a:srgbClr val="3366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вождаются одновременным уменьшением и увеличением степени окисления одного и того же эле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cc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K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K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C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K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4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99"/>
                        </a:gs>
                        <a:gs pos="100000">
                          <a:srgbClr val="3366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KCl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3KCl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K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cc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ь – дихромат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становитель – сульфит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ь – хром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 C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становитель 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99"/>
                        </a:gs>
                        <a:gs pos="100000">
                          <a:srgbClr val="3366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ь и восстановитель – хлор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C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C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cc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Возможность протекания окислительно – восстановительных реакций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Br + Pb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4H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 Pb(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B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2K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68360" y="3068640"/>
            <a:ext cx="8229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B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2K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Br + Pb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4HN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7620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43440" y="4581360"/>
            <a:ext cx="77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―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27040" y="5445000"/>
            <a:ext cx="763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9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Возможность протекания окислительно – восстановительных реакций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K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7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KMn</a:t>
            </a:r>
            <a:r>
              <a:rPr b="0" lang="ru-RU" sz="27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Cl</a:t>
            </a:r>
            <a:r>
              <a:rPr b="0" lang="ru-RU" sz="27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/2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=1,36 B &gt;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M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/ M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-0,54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C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N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/Co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= -0,28 B &lt;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N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 N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)= 0,23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Fe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Cl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)= 1,77 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-0,77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 KM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M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1,28 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 S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0,90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1692360" y="333360"/>
            <a:ext cx="5545080" cy="129528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Методы сост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уравнений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55640" y="5013360"/>
            <a:ext cx="2951280" cy="122220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Электр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4788000" y="4941720"/>
            <a:ext cx="3097080" cy="129564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Электр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ионного баланса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 flipH="1">
            <a:off x="7235280" y="1125360"/>
            <a:ext cx="1618920" cy="4319640"/>
          </a:xfrm>
          <a:custGeom>
            <a:avLst/>
            <a:gdLst>
              <a:gd name="textAreaLeft" fmla="*/ 216720 w 1618920"/>
              <a:gd name="textAreaRight" fmla="*/ 1402200 w 1618920"/>
              <a:gd name="textAreaTop" fmla="*/ 756000 h 4319640"/>
              <a:gd name="textAreaBottom" fmla="*/ 3132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179280" y="1341360"/>
            <a:ext cx="1943280" cy="3816360"/>
          </a:xfrm>
          <a:custGeom>
            <a:avLst/>
            <a:gdLst>
              <a:gd name="textAreaLeft" fmla="*/ 260280 w 1943280"/>
              <a:gd name="textAreaRight" fmla="*/ 1683000 w 1943280"/>
              <a:gd name="textAreaTop" fmla="*/ 667800 h 3816360"/>
              <a:gd name="textAreaBottom" fmla="*/ 276696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Расстановка коэффициентов в уравнениях</a:t>
            </a:r>
            <a:br>
              <a:rPr sz="2500"/>
            </a:b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 ОВР методом электронного баланса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+6                   +                       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 + 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– е 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31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8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сстановител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+6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 8e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окислител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11280" y="620640"/>
            <a:ext cx="799308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68360" y="765000"/>
            <a:ext cx="3384720" cy="115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БР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87280" y="2852640"/>
            <a:ext cx="6878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Брожение представляет особый химический процесс,            вызываемый ферментами.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При процессе брожения сложная частица органического вещества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распадается на более простые, т.е. заключающие меньшее число ато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2C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OH + 2CO</a:t>
            </a:r>
            <a:r>
              <a:rPr b="1" lang="en-US" sz="1800" spc="-1" strike="noStrike" baseline="-2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6324480" y="685800"/>
            <a:ext cx="17337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 + 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8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+4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ок - 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 – 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 +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+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"/>
              </a:rPr>
              <a:t>Расстановка коэффициентов в уравнениях</a:t>
            </a:r>
            <a:br>
              <a:rPr sz="2500"/>
            </a:br>
            <a:r>
              <a:rPr b="0" lang="ru-RU" sz="2500" spc="-1" strike="noStrike">
                <a:solidFill>
                  <a:srgbClr val="336666"/>
                </a:solidFill>
                <a:latin typeface="Arial"/>
              </a:rPr>
              <a:t> ОВР методом электронно- ионного баланса (полуреакций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cxnSp>
        <p:nvCxnSpPr>
          <p:cNvPr id="183" name=""/>
          <p:cNvCxnSpPr>
            <a:stCxn id="181" idx="0"/>
            <a:endCxn id="181" idx="0"/>
          </p:cNvCxnSpPr>
          <p:nvPr/>
        </p:nvCxnSpPr>
        <p:spPr>
          <a:xfrm>
            <a:off x="4603320" y="1915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1692360" y="333360"/>
            <a:ext cx="5545080" cy="129528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Методы сост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уравнений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755640" y="5013360"/>
            <a:ext cx="2951280" cy="122220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Электр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4788000" y="4941720"/>
            <a:ext cx="3097080" cy="129564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Электр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ионного баланса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 flipH="1">
            <a:off x="7235280" y="1125360"/>
            <a:ext cx="1618920" cy="4319640"/>
          </a:xfrm>
          <a:custGeom>
            <a:avLst/>
            <a:gdLst>
              <a:gd name="textAreaLeft" fmla="*/ 216720 w 1618920"/>
              <a:gd name="textAreaRight" fmla="*/ 1402200 w 1618920"/>
              <a:gd name="textAreaTop" fmla="*/ 756000 h 4319640"/>
              <a:gd name="textAreaBottom" fmla="*/ 3132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1341360"/>
            <a:ext cx="1943280" cy="3816360"/>
          </a:xfrm>
          <a:custGeom>
            <a:avLst/>
            <a:gdLst>
              <a:gd name="textAreaLeft" fmla="*/ 260280 w 1943280"/>
              <a:gd name="textAreaRight" fmla="*/ 1683000 w 1943280"/>
              <a:gd name="textAreaTop" fmla="*/ 667800 h 3816360"/>
              <a:gd name="textAreaBottom" fmla="*/ 276696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Organization Chart 2"/>
          <p:cNvGrpSpPr/>
          <p:nvPr/>
        </p:nvGrpSpPr>
        <p:grpSpPr>
          <a:xfrm>
            <a:off x="1258920" y="548640"/>
            <a:ext cx="6913440" cy="5760360"/>
            <a:chOff x="1258920" y="548640"/>
            <a:chExt cx="6913440" cy="5760360"/>
          </a:xfrm>
        </p:grpSpPr>
        <p:cxnSp>
          <p:nvCxnSpPr>
            <p:cNvPr id="190" name="_s1028"/>
            <p:cNvCxnSpPr>
              <a:stCxn id="191" idx="1"/>
            </p:cNvCxnSpPr>
            <p:nvPr/>
          </p:nvCxnSpPr>
          <p:spPr>
            <a:xfrm rot="10800000">
              <a:off x="2339280" y="3789360"/>
              <a:ext cx="629280" cy="187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1029"/>
            <p:cNvCxnSpPr>
              <a:stCxn id="193" idx="1"/>
              <a:endCxn id="194" idx="2"/>
            </p:cNvCxnSpPr>
            <p:nvPr/>
          </p:nvCxnSpPr>
          <p:spPr>
            <a:xfrm rot="10800000">
              <a:off x="2377440" y="1247040"/>
              <a:ext cx="699120" cy="254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30"/>
            <p:cNvCxnSpPr>
              <a:stCxn id="196" idx="1"/>
              <a:endCxn id="194" idx="2"/>
            </p:cNvCxnSpPr>
            <p:nvPr/>
          </p:nvCxnSpPr>
          <p:spPr>
            <a:xfrm rot="10800000">
              <a:off x="2377440" y="1247040"/>
              <a:ext cx="721440" cy="88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1031"/>
            <p:cNvSpPr/>
            <p:nvPr/>
          </p:nvSpPr>
          <p:spPr>
            <a:xfrm>
              <a:off x="1258920" y="548640"/>
              <a:ext cx="2236680" cy="680400"/>
            </a:xfrm>
            <a:prstGeom prst="roundRect">
              <a:avLst>
                <a:gd name="adj" fmla="val 0"/>
              </a:avLst>
            </a:prstGeom>
            <a:solidFill>
              <a:srgbClr val="ff33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M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32"/>
            <p:cNvSpPr/>
            <p:nvPr/>
          </p:nvSpPr>
          <p:spPr>
            <a:xfrm>
              <a:off x="3117960" y="1483920"/>
              <a:ext cx="4983120" cy="130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в кислой сред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+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 бесцветный раств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3095640" y="3139920"/>
              <a:ext cx="4932360" cy="1297080"/>
            </a:xfrm>
            <a:prstGeom prst="roundRect">
              <a:avLst>
                <a:gd name="adj" fmla="val 16667"/>
              </a:avLst>
            </a:prstGeom>
            <a:solidFill>
              <a:srgbClr val="9966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в нейтральной сре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n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бурый осад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034"/>
            <p:cNvSpPr/>
            <p:nvPr/>
          </p:nvSpPr>
          <p:spPr>
            <a:xfrm>
              <a:off x="2987640" y="5013360"/>
              <a:ext cx="5184720" cy="129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в щелочной сре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Mn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-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зеленый раств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26920" y="620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"/>
              </a:rPr>
              <a:t>Расстановка коэффициентов в уравнениях</a:t>
            </a:r>
            <a:br>
              <a:rPr sz="2500"/>
            </a:br>
            <a:r>
              <a:rPr b="0" lang="ru-RU" sz="2500" spc="-1" strike="noStrike">
                <a:solidFill>
                  <a:srgbClr val="336666"/>
                </a:solidFill>
                <a:latin typeface="Arial"/>
              </a:rPr>
              <a:t> ОВР методом электронно- ионного баланса (полуреакций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62120" y="1557360"/>
          <a:ext cx="7696080" cy="5056200"/>
        </p:xfrm>
        <a:graphic>
          <a:graphicData uri="http://schemas.openxmlformats.org/drawingml/2006/table">
            <a:tbl>
              <a:tblPr/>
              <a:tblGrid>
                <a:gridCol w="3168360"/>
                <a:gridCol w="4527720"/>
              </a:tblGrid>
              <a:tr h="21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окислитель, восстановитель, вещество - среду и продукты их взаимодействия. При этом помнить: электролиты  записывать в виде ионов, а электролиты, осадки и газы – в виде молеку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итель –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становитель –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–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Mn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 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0e0"/>
                        </a:gs>
                      </a:gsLst>
                      <a:lin ang="5400000"/>
                    </a:gradFill>
                  </a:tcPr>
                </a:tc>
              </a:tr>
              <a:tr h="23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ить электронно-ионные уравнения  для процессов окисления и восстановления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риобретенных электронов должно быть равно числу молей отданных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8H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5e- → Mn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4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    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 2e- → 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H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           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2Mn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5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 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0e0"/>
                        </a:gs>
                      </a:gsLst>
                      <a:lin ang="5400000"/>
                    </a:gradFill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ать молекулярное уравн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n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+ 5K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→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n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K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H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0e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7885080" y="429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4360" y="522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62064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83664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05264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79280" y="765000"/>
          <a:ext cx="8713800" cy="5247000"/>
        </p:xfrm>
        <a:graphic>
          <a:graphicData uri="http://schemas.openxmlformats.org/drawingml/2006/table">
            <a:tbl>
              <a:tblPr/>
              <a:tblGrid>
                <a:gridCol w="2592360"/>
                <a:gridCol w="3024360"/>
                <a:gridCol w="3097080"/>
              </a:tblGrid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я среды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465f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к атомов кислорода(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50000">
                          <a:srgbClr val="ffffff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ов кислорода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ая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465f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+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 nH2O + .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50000">
                          <a:srgbClr val="ffffff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2O →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+ +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альная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465f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2O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 2nOH- + …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50000">
                          <a:srgbClr val="ffffff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2O →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+ +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4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елочная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465f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2O → 2nOH- +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50000">
                          <a:srgbClr val="ffffff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OH- →nH2O + 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Organization Chart 2"/>
          <p:cNvGrpSpPr/>
          <p:nvPr/>
        </p:nvGrpSpPr>
        <p:grpSpPr>
          <a:xfrm>
            <a:off x="1042920" y="404640"/>
            <a:ext cx="7632360" cy="6048360"/>
            <a:chOff x="1042920" y="404640"/>
            <a:chExt cx="7632360" cy="6048360"/>
          </a:xfrm>
        </p:grpSpPr>
        <p:cxnSp>
          <p:nvCxnSpPr>
            <p:cNvPr id="208" name="_s66564"/>
            <p:cNvCxnSpPr/>
            <p:nvPr/>
          </p:nvCxnSpPr>
          <p:spPr>
            <a:xfrm rot="10800000">
              <a:off x="2338920" y="3789360"/>
              <a:ext cx="629640" cy="187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66565"/>
            <p:cNvCxnSpPr>
              <a:stCxn id="210" idx="1"/>
              <a:endCxn id="211" idx="2"/>
            </p:cNvCxnSpPr>
            <p:nvPr/>
          </p:nvCxnSpPr>
          <p:spPr>
            <a:xfrm rot="10800000">
              <a:off x="2350800" y="1215360"/>
              <a:ext cx="247320" cy="273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66566"/>
            <p:cNvCxnSpPr>
              <a:stCxn id="213" idx="1"/>
              <a:endCxn id="211" idx="2"/>
            </p:cNvCxnSpPr>
            <p:nvPr/>
          </p:nvCxnSpPr>
          <p:spPr>
            <a:xfrm rot="10800000">
              <a:off x="2350800" y="1215360"/>
              <a:ext cx="247320" cy="98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_s66567"/>
            <p:cNvSpPr/>
            <p:nvPr/>
          </p:nvSpPr>
          <p:spPr>
            <a:xfrm>
              <a:off x="1042920" y="404640"/>
              <a:ext cx="2614320" cy="791640"/>
            </a:xfrm>
            <a:prstGeom prst="roundRect">
              <a:avLst>
                <a:gd name="adj" fmla="val 0"/>
              </a:avLst>
            </a:prstGeom>
            <a:solidFill>
              <a:srgbClr val="e42e0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r>
                <a:rPr b="1" lang="en-US" sz="2300" spc="-1" strike="noStrike" baseline="-25000">
                  <a:solidFill>
                    <a:srgbClr val="000000"/>
                  </a:solidFill>
                  <a:latin typeface="Tahoma"/>
                </a:rPr>
                <a:t>2 </a:t>
              </a: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1" lang="en-US" sz="2300" spc="-1" strike="noStrike" baseline="-25000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1" lang="en-US" sz="2300" spc="-1" strike="noStrike" baseline="30000">
                  <a:solidFill>
                    <a:srgbClr val="000000"/>
                  </a:solidFill>
                  <a:latin typeface="Tahoma"/>
                </a:rPr>
                <a:t>2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66568"/>
            <p:cNvSpPr/>
            <p:nvPr/>
          </p:nvSpPr>
          <p:spPr>
            <a:xfrm>
              <a:off x="2616120" y="1437840"/>
              <a:ext cx="5823360" cy="1515600"/>
            </a:xfrm>
            <a:prstGeom prst="roundRect">
              <a:avLst>
                <a:gd name="adj" fmla="val 16667"/>
              </a:avLst>
            </a:prstGeom>
            <a:solidFill>
              <a:srgbClr val="0c9c1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в кислой сред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r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ahoma"/>
                </a:rPr>
                <a:t>3+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зеленый раст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66569"/>
            <p:cNvSpPr/>
            <p:nvPr/>
          </p:nvSpPr>
          <p:spPr>
            <a:xfrm>
              <a:off x="2616120" y="3195000"/>
              <a:ext cx="5763960" cy="1509120"/>
            </a:xfrm>
            <a:prstGeom prst="roundRect">
              <a:avLst>
                <a:gd name="adj" fmla="val 16667"/>
              </a:avLst>
            </a:prstGeom>
            <a:solidFill>
              <a:srgbClr val="38706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в нейтральной сре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(OH)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ahoma"/>
                </a:rPr>
                <a:t>3 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осад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66570"/>
            <p:cNvSpPr/>
            <p:nvPr/>
          </p:nvSpPr>
          <p:spPr>
            <a:xfrm>
              <a:off x="2616120" y="4945680"/>
              <a:ext cx="6059160" cy="1507320"/>
            </a:xfrm>
            <a:prstGeom prst="roundRect">
              <a:avLst>
                <a:gd name="adj" fmla="val 16667"/>
              </a:avLst>
            </a:prstGeom>
            <a:solidFill>
              <a:srgbClr val="38706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в щелочной сре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(OH)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) раст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Задачи урока: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основные понятия теори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окислительно- восстановительные реакции, степень окисления, электроотрицательность, окислитель, восстановитель, окисление, восстано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классификацию ОВ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 возможность протекания О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ать умение расставлять коэффициенты в уравнениях ОВ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ами электронного и электронно- ионного балан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влияние среды на протекание О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Готовимся к ЕГЭ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-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ь окисления атома хлора в молек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(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-1       2)+3        3)+1       4)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-2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ромид-ионы являются восстановителями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бромоводородной кислоты с гидроксидом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бромоводорода с хл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створов бромида натрия и нитрата сер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бромида цинка с водным раств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овод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"/>
              </a:rPr>
              <a:t>Готовимся к ЕГЭ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формулой  соли и продуктами, образующимися в катодном пространстве при электролизе ее водного рас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а вещества            Продукты на кат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                                   1)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u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2) Na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                               3) 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4)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K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"/>
              </a:rPr>
              <a:t>Готовимся к ЕГЭ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уравнение окислительно-восстановительной реакции методом электронного балан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окислитель и восстано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вещества: азотная кислота, уголь, оксид мед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ммиак. Напишите уравнения четырех возможных реакций между этими веще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539640" y="476280"/>
            <a:ext cx="813600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438280" y="762120"/>
            <a:ext cx="3384720" cy="143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ФОТОСИНТЕ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32000" y="242100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omic Sans MS"/>
              </a:rPr>
              <a:t>Постоянный приток энергии необходим для любого проявления жизнедеятельности, и световая энергия, которую фотосинтез преобразует в химическую потенциальную энергию органических веществ и использует на выделение свободного кислорода, – это единственно важный первичный источник энергии для всего жив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6CO</a:t>
            </a:r>
            <a:r>
              <a:rPr b="1" lang="en-US" sz="1800" spc="-1" strike="noStrike" baseline="-2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1800" spc="-1" strike="noStrike" baseline="-2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+ 6H</a:t>
            </a:r>
            <a:r>
              <a:rPr b="1" lang="en-US" sz="1800" spc="-1" strike="noStrike" baseline="-2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O  -&gt;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1800" spc="-1" strike="noStrike" baseline="-2000">
                <a:solidFill>
                  <a:srgbClr val="ff99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1800" spc="-1" strike="noStrike" baseline="-2000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1800" spc="-1" strike="noStrike" baseline="-2000">
                <a:solidFill>
                  <a:srgbClr val="ff99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+ 6O</a:t>
            </a:r>
            <a:r>
              <a:rPr b="1" lang="en-US" sz="1800" spc="-1" strike="noStrike" baseline="-2000">
                <a:solidFill>
                  <a:srgbClr val="ff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943600" y="762120"/>
            <a:ext cx="2286000" cy="1542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332000" y="2421000"/>
            <a:ext cx="655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Задания для самостоятельного выполне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nO2 + KBr + H2SO4 → Br2 + MnSO4 + K2SO4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2Cr2O7  + K2S +HCl → CrCl3 + S + KCl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 + KBrO3 + HCl → I2 + KBr + KCl + H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MnO4 + H2O2 + H2SO4 → O2 + MnSO4 + K2SO4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2O3 + Br2 + NaOH → Na2CrO4 + NaBr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2(SO4)3 + H2O2 +KOH → K2CrO4 + H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Br + MnO2 + H2SO4 →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nSO4 + NaSO4 + Br2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 + H2SO4 → I2 + S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Задания для самостоятельного выполне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2H5OH + K2Cr2O7 +  H2SO4 → CH3 – CH = O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2(SO4)3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6H5NH2 + O2 → CO2 + N2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6H5OH + K2Cr2O7 +  H2SO4 → C6H4O2 + Cr2(SO4)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3H7OH + K2Cr2O7 +  H2SO4 → C3H6O + Cr2(SO4)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6H5NO2 + (NH4)2S → C6H5NH2 + S + NH3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6H5NO2 + Fe +H2O → C6H5NH2 + Fe3O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2H4O + [Ag(NH3)2]OH → CH3COONH4 + Ag +NH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Задания для самостоятельного выполне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O2 + … + H2SO4 → Br2 + MnSO4 + K2SO4 +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 + K2S +HCl → CrCl3 + S + KCl +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+ KBrO3 + HCl → I2 + KBr + KCl + H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MnO4 + H2O2 + … → O2 + MnSO4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2O3 + …+ NaOH → Na2CrO4 + NaBr +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2(SO4)3 + H2O2 +KOH → K2CrO4 + H2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 + H2SO4 → I2 + S + K2SO4 + H2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2H5OH + K2Cr2O7 +  H2SO4 → CH3 – CH = O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2(SO4)3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Задания для самостоятельного выполне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6H5OH + K2Cr2O7 +  H2SO4 → C6H4O2 + Cr2(SO4)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3H7OH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пано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2) + K2Cr2O7 +  H2SO4 → C3H6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Cr2(SO4)3 + K2SO4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6H5NO2 + (NH4)2S → C6H5NH2 + S + NH3 +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2H4O + [Ag(NH3)2]OH → CH3COONH4 + Ag +NH3 +H2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H6 + KMnO4 + H2O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H6 + KMnO4  + H2SO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3C(CH3)=CH2 + K2Cr2O7 +  H2SO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2H2 + KMnO4  + H2SO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7H8 + K2Cr2O7 +  H2SO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Темы проектов: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Р в органической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озия: в царстве рыжего дья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Р и металл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л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чистка на д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Р и живая кл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611280" y="620640"/>
            <a:ext cx="806436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63640" y="2349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Горение – реакция, сопровождающая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выделением тепла и света: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Mg + O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MgO +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835280" y="5013360"/>
            <a:ext cx="42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showfoxphoto"/>
          <p:cNvPicPr/>
          <p:nvPr/>
        </p:nvPicPr>
        <p:blipFill>
          <a:blip r:embed="rId1"/>
          <a:stretch/>
        </p:blipFill>
        <p:spPr>
          <a:xfrm>
            <a:off x="3668760" y="3476520"/>
            <a:ext cx="2017800" cy="1111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2916360" y="1052640"/>
            <a:ext cx="3168360" cy="107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Г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>
            <a:hlinkClick r:id="rId2" action="ppaction://hlinksldjump"/>
          </p:cNvPr>
          <p:cNvSpPr/>
          <p:nvPr/>
        </p:nvSpPr>
        <p:spPr>
          <a:xfrm>
            <a:off x="6659640" y="5084640"/>
            <a:ext cx="1081080" cy="792360"/>
          </a:xfrm>
          <a:prstGeom prst="leftArrow">
            <a:avLst>
              <a:gd name="adj1" fmla="val 50000"/>
              <a:gd name="adj2" fmla="val 34109"/>
            </a:avLst>
          </a:prstGeom>
          <a:solidFill>
            <a:srgbClr val="fbf9c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6" descr="showfoxphoto"/>
          <p:cNvPicPr/>
          <p:nvPr/>
        </p:nvPicPr>
        <p:blipFill>
          <a:blip r:embed="rId3"/>
          <a:stretch/>
        </p:blipFill>
        <p:spPr>
          <a:xfrm>
            <a:off x="3564000" y="3357720"/>
            <a:ext cx="2160360" cy="1252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showfoxphoto"/>
          <p:cNvPicPr/>
          <p:nvPr/>
        </p:nvPicPr>
        <p:blipFill>
          <a:blip r:embed="rId4"/>
          <a:stretch/>
        </p:blipFill>
        <p:spPr>
          <a:xfrm>
            <a:off x="3564000" y="3357720"/>
            <a:ext cx="2160360" cy="125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showfoxphoto"/>
          <p:cNvPicPr/>
          <p:nvPr/>
        </p:nvPicPr>
        <p:blipFill>
          <a:blip r:embed="rId5"/>
          <a:stretch/>
        </p:blipFill>
        <p:spPr>
          <a:xfrm>
            <a:off x="1692360" y="3068640"/>
            <a:ext cx="604836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971640" y="620640"/>
            <a:ext cx="741672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16000" y="1700280"/>
            <a:ext cx="72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ВЗРЫВ —процесс быстрого превращения веществ из твердого (жидкого) состояния в газообразное. При этом происходит реакция соединения кислорода с горючими элементами, сопровождающаяся выделением в короткое время большого количества энер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H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+ 2O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+ 2H</a:t>
            </a: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O +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2987640" y="620640"/>
            <a:ext cx="5400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8388360" y="692280"/>
            <a:ext cx="0" cy="5616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H="1">
            <a:off x="1042920" y="6237360"/>
            <a:ext cx="7416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971640" y="3716280"/>
            <a:ext cx="0" cy="289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971640" y="4581360"/>
            <a:ext cx="0" cy="1656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484360" y="620640"/>
            <a:ext cx="316872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ВЗРЫ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V="1">
            <a:off x="971640" y="1628280"/>
            <a:ext cx="0" cy="1079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971640" y="620640"/>
            <a:ext cx="1512720" cy="115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2484360" y="620640"/>
            <a:ext cx="503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1"/>
          <p:cNvPicPr/>
          <p:nvPr/>
        </p:nvPicPr>
        <p:blipFill>
          <a:blip r:embed="rId1"/>
          <a:stretch/>
        </p:blipFill>
        <p:spPr>
          <a:xfrm>
            <a:off x="1849320" y="3390840"/>
            <a:ext cx="5721480" cy="2392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2484360" y="620640"/>
            <a:ext cx="316872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ВЗРЫ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755640" y="404640"/>
            <a:ext cx="7416720" cy="5616720"/>
          </a:xfrm>
          <a:prstGeom prst="flowChartPunchedCard">
            <a:avLst/>
          </a:prstGeom>
          <a:solidFill>
            <a:srgbClr val="ffff81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987640" y="765000"/>
            <a:ext cx="338472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ЭЛЕКТР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87280" y="198900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Электролиз — это  процесс, протекающий на электродах при прохождении постоянного электрического тока через раствор или расплав электролитов: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2NaCl + 2 H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O </a:t>
            </a:r>
            <a:r>
              <a:rPr b="1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H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+ 2NaOH + Cl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755640" y="1844640"/>
            <a:ext cx="0" cy="719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755640" y="573408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755640" y="6021360"/>
            <a:ext cx="7416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8172360" y="549360"/>
            <a:ext cx="0" cy="5472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 flipH="1">
            <a:off x="2195280" y="404640"/>
            <a:ext cx="5903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 flipH="1">
            <a:off x="755640" y="404640"/>
            <a:ext cx="1512720" cy="115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electrolys-water"/>
          <p:cNvPicPr/>
          <p:nvPr/>
        </p:nvPicPr>
        <p:blipFill>
          <a:blip r:embed="rId1"/>
          <a:stretch/>
        </p:blipFill>
        <p:spPr>
          <a:xfrm>
            <a:off x="1781280" y="3251160"/>
            <a:ext cx="59925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3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 2C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H + 2C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6C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6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  -&gt; C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2Mg + 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2Mg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+ 2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C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 + 2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2NaCl + 2 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2NaOH + C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KMnO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16 HCl </a:t>
            </a:r>
            <a:r>
              <a:rPr b="0" lang="en-US" sz="31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2MnC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+ C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 + 2KCl + 8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O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val 2"/>
          <p:cNvSpPr/>
          <p:nvPr/>
        </p:nvSpPr>
        <p:spPr>
          <a:xfrm>
            <a:off x="1763640" y="1341360"/>
            <a:ext cx="5545080" cy="129564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Хим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1547640" y="4437000"/>
            <a:ext cx="2951280" cy="122256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Окисл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восстанов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572000" y="4437000"/>
            <a:ext cx="3097080" cy="1295640"/>
          </a:xfrm>
          <a:prstGeom prst="ellipse">
            <a:avLst/>
          </a:pr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Без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степени ок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 flipH="1">
            <a:off x="7308000" y="1557360"/>
            <a:ext cx="1546200" cy="3887640"/>
          </a:xfrm>
          <a:custGeom>
            <a:avLst/>
            <a:gdLst>
              <a:gd name="textAreaLeft" fmla="*/ 207000 w 1546200"/>
              <a:gd name="textAreaRight" fmla="*/ 1339200 w 1546200"/>
              <a:gd name="textAreaTop" fmla="*/ 680400 h 3887640"/>
              <a:gd name="textAreaBottom" fmla="*/ 281880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79280" y="1773360"/>
            <a:ext cx="1584360" cy="360036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630000 h 3600360"/>
              <a:gd name="textAreaBottom" fmla="*/ 26103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6792"/>
                <a:lnTo>
                  <a:pt x="14563" y="21188"/>
                </a:lnTo>
                <a:lnTo>
                  <a:pt x="21600" y="17280"/>
                </a:lnTo>
                <a:lnTo>
                  <a:pt x="14563" y="12548"/>
                </a:lnTo>
                <a:lnTo>
                  <a:pt x="14563" y="14708"/>
                </a:lnTo>
                <a:arcTo wR="21600" hR="7560" stAng="8073208" swAng="236935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666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24000" y="260280"/>
            <a:ext cx="88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 признаку изменения степени окисления атомов элементов в составе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676520"/>
            <a:ext cx="87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6666"/>
                </a:solidFill>
                <a:latin typeface="Arial Black"/>
              </a:rPr>
              <a:t>ОКИСЛИТЕЛЬНО-ВОССТАНОВИТЕЛЬНЫЕ РЕАКЦИИ</a:t>
            </a:r>
            <a:endParaRPr b="0" lang="en-US" sz="3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4" name="Picture 3" descr="J0198021"/>
          <p:cNvPicPr/>
          <p:nvPr/>
        </p:nvPicPr>
        <p:blipFill>
          <a:blip r:embed="rId1"/>
          <a:stretch/>
        </p:blipFill>
        <p:spPr>
          <a:xfrm>
            <a:off x="6443640" y="4267080"/>
            <a:ext cx="2500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1:39:11Z</dcterms:created>
  <dc:creator>Пользователь</dc:creator>
  <dc:description/>
  <dc:language>en-US</dc:language>
  <cp:lastModifiedBy>Пользователь</cp:lastModifiedBy>
  <dcterms:modified xsi:type="dcterms:W3CDTF">2010-12-16T19:12:30Z</dcterms:modified>
  <cp:revision>72</cp:revision>
  <dc:subject/>
  <dc:title>Слайд 1</dc:title>
</cp:coreProperties>
</file>