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B682-E4B4-480F-8AA9-732667C1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33AA-F755-494C-B3F3-393986E3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640-B0A3-4149-8850-F40C05D7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A7DA-FBC9-4817-A577-9134A55F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2846-4F7F-4723-938B-D4E301FD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5545-A8A5-4E63-9866-9A26B15D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AE5B-19FE-42E1-8A81-808231BF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03AB-4F7B-43B2-99F0-FADA5614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D442-3811-4386-9307-876C378C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845E-51F7-4C9D-AFC2-42FE156B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9DB0-EAB9-484F-A426-F8E2FCA0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E0AB-4E89-4A90-8F6D-F64B32A0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5D46-63FC-4A65-999E-6E8F7CE675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6192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Муниципальное бюджетное дошкольное образовательное учреждение  «Детский сад «Рябин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3280" y="2060640"/>
            <a:ext cx="7380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Лего -конструирования для развития волевых качеств личности и навыков партнёрского взаимодейств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ила: Калинина О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333"/>
          <p:cNvPicPr/>
          <p:nvPr/>
        </p:nvPicPr>
        <p:blipFill>
          <a:blip r:embed="rId1"/>
          <a:stretch/>
        </p:blipFill>
        <p:spPr>
          <a:xfrm>
            <a:off x="6516720" y="0"/>
            <a:ext cx="2627280" cy="1946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4"/>
          <p:cNvPicPr/>
          <p:nvPr/>
        </p:nvPicPr>
        <p:blipFill>
          <a:blip r:embed="rId2"/>
          <a:stretch/>
        </p:blipFill>
        <p:spPr>
          <a:xfrm>
            <a:off x="395280" y="4365720"/>
            <a:ext cx="438948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5338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руппе устанавливается правило – все игровые действия с фигурками конструктора LEGO  проговариваются для своих партнеров по игре: что делаю? Что хочу сделать? Как буду делать? В ходе игровых действий организованных с использованием установленных правил дети учатся договариваться друг с другом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1604933251175"/>
          <p:cNvPicPr/>
          <p:nvPr/>
        </p:nvPicPr>
        <p:blipFill>
          <a:blip r:embed="rId1"/>
          <a:stretch/>
        </p:blipFill>
        <p:spPr>
          <a:xfrm>
            <a:off x="5940360" y="1341360"/>
            <a:ext cx="256860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1604933155358"/>
          <p:cNvPicPr/>
          <p:nvPr/>
        </p:nvPicPr>
        <p:blipFill>
          <a:blip r:embed="rId1"/>
          <a:stretch/>
        </p:blipFill>
        <p:spPr>
          <a:xfrm>
            <a:off x="1116000" y="1413000"/>
            <a:ext cx="669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го- конструирование является одним из наиболее естественных для ребенка любимых им заня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1604920974393"/>
          <p:cNvPicPr/>
          <p:nvPr/>
        </p:nvPicPr>
        <p:blipFill>
          <a:blip r:embed="rId1"/>
          <a:stretch/>
        </p:blipFill>
        <p:spPr>
          <a:xfrm>
            <a:off x="2050920" y="1341360"/>
            <a:ext cx="415944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6040" y="138240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йствовать развитию у детей волевых качеств личности и навыков партнерского взаимодействия посредством ЛЕГО-конструир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1604920974452"/>
          <p:cNvPicPr/>
          <p:nvPr/>
        </p:nvPicPr>
        <p:blipFill>
          <a:blip r:embed="rId1"/>
          <a:stretch/>
        </p:blipFill>
        <p:spPr>
          <a:xfrm>
            <a:off x="2268360" y="2801880"/>
            <a:ext cx="4032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24000" y="4222080"/>
            <a:ext cx="8369280" cy="1920600"/>
          </a:xfrm>
          <a:prstGeom prst="rect">
            <a:avLst/>
          </a:prstGeom>
          <a:solidFill>
            <a:srgbClr val="fff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рукторы производства компании LEGO  способствуют развитию волевых качеств ребенка. Усидчивость, настойчивость, сосредоточенность, самоконтроль, внимание и терпение, а также умение решать проблемы (если что-то пошло не так и нужно разобрать собранное или перестроить) — все это необходимо ребенку, чтобы собрать из конструктора LEGO что-либо по инструкции или по своей задумк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99"/>
          <p:cNvPicPr/>
          <p:nvPr/>
        </p:nvPicPr>
        <p:blipFill>
          <a:blip r:embed="rId1"/>
          <a:stretch/>
        </p:blipFill>
        <p:spPr>
          <a:xfrm>
            <a:off x="1763640" y="836640"/>
            <a:ext cx="583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голке строительно-конструктивных игр находятся строительные наборы и конструкторы разного вида. Свободное пространство на полу дает возможность сооружать различные построй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1604921481969"/>
          <p:cNvPicPr/>
          <p:nvPr/>
        </p:nvPicPr>
        <p:blipFill>
          <a:blip r:embed="rId1"/>
          <a:stretch/>
        </p:blipFill>
        <p:spPr>
          <a:xfrm>
            <a:off x="395280" y="357336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1604921481898"/>
          <p:cNvPicPr/>
          <p:nvPr/>
        </p:nvPicPr>
        <p:blipFill>
          <a:blip r:embed="rId2"/>
          <a:stretch/>
        </p:blipFill>
        <p:spPr>
          <a:xfrm>
            <a:off x="4859280" y="189000"/>
            <a:ext cx="3241800" cy="2431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1604921481926"/>
          <p:cNvPicPr/>
          <p:nvPr/>
        </p:nvPicPr>
        <p:blipFill>
          <a:blip r:embed="rId3"/>
          <a:stretch/>
        </p:blipFill>
        <p:spPr>
          <a:xfrm>
            <a:off x="4716360" y="3213000"/>
            <a:ext cx="35989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Участник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270792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ети 3-5 лет         Воспита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 rot="2374800">
            <a:off x="1566360" y="1372680"/>
            <a:ext cx="1536840" cy="1366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 rot="20071200">
            <a:off x="5651280" y="1442880"/>
            <a:ext cx="1422360" cy="1214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5"/>
          <p:cNvPicPr/>
          <p:nvPr/>
        </p:nvPicPr>
        <p:blipFill>
          <a:blip r:embed="rId1"/>
          <a:stretch/>
        </p:blipFill>
        <p:spPr>
          <a:xfrm>
            <a:off x="1258920" y="3645000"/>
            <a:ext cx="63374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1604920974408"/>
          <p:cNvPicPr/>
          <p:nvPr/>
        </p:nvPicPr>
        <p:blipFill>
          <a:blip r:embed="rId1"/>
          <a:stretch/>
        </p:blipFill>
        <p:spPr>
          <a:xfrm>
            <a:off x="2195640" y="404640"/>
            <a:ext cx="5256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ение со сверстн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отношение со сверстниками характеризуется избирательностью, которая выражается в предпочтении одних детей другим. Появляются постоянные партнеры по играм. В группе начинают появляться лидеры. Появляется конкурентность, соревновательность. Последняя важна для сравнения себя с другим, что ведет к развитию образа Я ребенка, его дет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maxresdefault"/>
          <p:cNvPicPr/>
          <p:nvPr/>
        </p:nvPicPr>
        <p:blipFill>
          <a:blip r:embed="rId1"/>
          <a:stretch/>
        </p:blipFill>
        <p:spPr>
          <a:xfrm>
            <a:off x="5364000" y="4221000"/>
            <a:ext cx="3527640" cy="244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35989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067280" y="691920"/>
            <a:ext cx="446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есные игры с использованием конструктора LEGO способствуют обогащению лексического запаса, актуализации пассивного словаря, новых слов и понятий, развитию словообразования. К таким играм относятся игры «Большой – маленький», «Один – много», «Четвертый лишн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1604920974408"/>
          <p:cNvPicPr/>
          <p:nvPr/>
        </p:nvPicPr>
        <p:blipFill>
          <a:blip r:embed="rId1"/>
          <a:stretch/>
        </p:blipFill>
        <p:spPr>
          <a:xfrm>
            <a:off x="395280" y="3789360"/>
            <a:ext cx="2448000" cy="2736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3168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8T15:58:30Z</dcterms:created>
  <dc:creator>007</dc:creator>
  <dc:description/>
  <dc:language>en-US</dc:language>
  <cp:lastModifiedBy>007</cp:lastModifiedBy>
  <dcterms:modified xsi:type="dcterms:W3CDTF">2020-11-25T12:50:14Z</dcterms:modified>
  <cp:revision>11</cp:revision>
  <dc:subject/>
  <dc:title>Муниципальное бюджетное дошкольное образовательное учреждение  «Детский сад «Рябинка»</dc:title>
</cp:coreProperties>
</file>