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082-FD50-444A-A92D-3ECFB95B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C26-FFDD-43DF-AAFA-7AA0EE09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008-5660-4F20-859C-4A94DC50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653-9ACD-449F-ACA5-4CD1E615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921-140E-4E1B-A3BC-B2E506BC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1F8-5D50-4734-914F-8BACEA05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7A6-D0D6-464E-88C5-40255045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42E-C047-4F8E-BBF7-C67FE9E5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B5B-490F-4BE4-8C36-BBEAA0A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263-FBA0-444A-AA86-C4BBCD2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F83-EF1B-44D9-A007-87ADA2C6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64B-1054-478A-B99A-D8584C3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6555-8D6E-4129-BA4D-6554E3E8F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униципальное бюджетное дошкольное образовательное учреждение  «Детский сад «Ряби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2060640"/>
            <a:ext cx="73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Лего -конструирования для развития волевых качеств личности и навыков партнёрского взаимодейств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Калинина О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33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94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"/>
          <p:cNvPicPr/>
          <p:nvPr/>
        </p:nvPicPr>
        <p:blipFill>
          <a:blip r:embed="rId2"/>
          <a:stretch/>
        </p:blipFill>
        <p:spPr>
          <a:xfrm>
            <a:off x="395280" y="4365720"/>
            <a:ext cx="4389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338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устанавливается правило – все игровые действия с фигурками конструктора LEGO  проговариваются для своих партнеров по игре: что делаю? Что хочу сделать? Как буду делать? В ходе игровых действий организованных с использованием установленных правил дети учатся договариваться друг с другом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604933251175"/>
          <p:cNvPicPr/>
          <p:nvPr/>
        </p:nvPicPr>
        <p:blipFill>
          <a:blip r:embed="rId1"/>
          <a:stretch/>
        </p:blipFill>
        <p:spPr>
          <a:xfrm>
            <a:off x="5940360" y="1341360"/>
            <a:ext cx="25686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604933155358"/>
          <p:cNvPicPr/>
          <p:nvPr/>
        </p:nvPicPr>
        <p:blipFill>
          <a:blip r:embed="rId1"/>
          <a:stretch/>
        </p:blipFill>
        <p:spPr>
          <a:xfrm>
            <a:off x="1116000" y="141300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о- конструирование является одним из наиболее естественных для ребенка любимых им заня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604920974393"/>
          <p:cNvPicPr/>
          <p:nvPr/>
        </p:nvPicPr>
        <p:blipFill>
          <a:blip r:embed="rId1"/>
          <a:stretch/>
        </p:blipFill>
        <p:spPr>
          <a:xfrm>
            <a:off x="2050920" y="1341360"/>
            <a:ext cx="41594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6040" y="13824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витию у детей волевых качеств личности и навыков партнерского взаимодействия посредством ЛЕГО-констру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604920974452"/>
          <p:cNvPicPr/>
          <p:nvPr/>
        </p:nvPicPr>
        <p:blipFill>
          <a:blip r:embed="rId1"/>
          <a:stretch/>
        </p:blipFill>
        <p:spPr>
          <a:xfrm>
            <a:off x="2268360" y="280188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4000" y="4222080"/>
            <a:ext cx="8369280" cy="1920600"/>
          </a:xfrm>
          <a:prstGeom prst="rect">
            <a:avLst/>
          </a:prstGeom>
          <a:solidFill>
            <a:srgbClr val="fff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ы производства компании LEGO  способствуют развитию волевых качеств ребенка. Усидчивость, настойчивость, сосредоточенность, самоконтроль, внимание и терпение, а также умение решать проблемы (если что-то пошло не так и нужно разобрать собранное или перестроить) — все это необходимо ребенку, чтобы собрать из конструктора LEGO что-либо по инструкции или по своей задум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9"/>
          <p:cNvPicPr/>
          <p:nvPr/>
        </p:nvPicPr>
        <p:blipFill>
          <a:blip r:embed="rId1"/>
          <a:stretch/>
        </p:blipFill>
        <p:spPr>
          <a:xfrm>
            <a:off x="1763640" y="836640"/>
            <a:ext cx="583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голке строительно-конструктивных игр находятся строительные наборы и конструкторы разного вида. Свободное пространство на полу дает возможность сооружать различные постро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604921481969"/>
          <p:cNvPicPr/>
          <p:nvPr/>
        </p:nvPicPr>
        <p:blipFill>
          <a:blip r:embed="rId1"/>
          <a:stretch/>
        </p:blipFill>
        <p:spPr>
          <a:xfrm>
            <a:off x="395280" y="357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604921481898"/>
          <p:cNvPicPr/>
          <p:nvPr/>
        </p:nvPicPr>
        <p:blipFill>
          <a:blip r:embed="rId2"/>
          <a:stretch/>
        </p:blipFill>
        <p:spPr>
          <a:xfrm>
            <a:off x="4859280" y="189000"/>
            <a:ext cx="3241800" cy="243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604921481926"/>
          <p:cNvPicPr/>
          <p:nvPr/>
        </p:nvPicPr>
        <p:blipFill>
          <a:blip r:embed="rId3"/>
          <a:stretch/>
        </p:blipFill>
        <p:spPr>
          <a:xfrm>
            <a:off x="4716360" y="321300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ти 3-5 лет         Воспит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 rot="2374800">
            <a:off x="1566360" y="1372680"/>
            <a:ext cx="1536840" cy="1366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 rot="20071200">
            <a:off x="5651280" y="1442880"/>
            <a:ext cx="1422360" cy="1214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5"/>
          <p:cNvPicPr/>
          <p:nvPr/>
        </p:nvPicPr>
        <p:blipFill>
          <a:blip r:embed="rId1"/>
          <a:stretch/>
        </p:blipFill>
        <p:spPr>
          <a:xfrm>
            <a:off x="1258920" y="3645000"/>
            <a:ext cx="6337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04920974408"/>
          <p:cNvPicPr/>
          <p:nvPr/>
        </p:nvPicPr>
        <p:blipFill>
          <a:blip r:embed="rId1"/>
          <a:stretch/>
        </p:blipFill>
        <p:spPr>
          <a:xfrm>
            <a:off x="2195640" y="404640"/>
            <a:ext cx="525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ние со сверстн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е со сверстниками характеризуется избирательностью, которая выражается в предпочтении одних детей другим. Появляются постоянные партнеры по играм. В группе начинают появляться лидеры. Появляется конкурентность, соревновательность. Последняя важна для сравнения себя с другим, что ведет к развитию образа Я ребенка, его дет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axresdefault"/>
          <p:cNvPicPr/>
          <p:nvPr/>
        </p:nvPicPr>
        <p:blipFill>
          <a:blip r:embed="rId1"/>
          <a:stretch/>
        </p:blipFill>
        <p:spPr>
          <a:xfrm>
            <a:off x="5364000" y="4221000"/>
            <a:ext cx="352764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067280" y="691920"/>
            <a:ext cx="446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есные игры с использованием конструктора LEGO способствуют обогащению лексического запаса, актуализации пассивного словаря, новых слов и понятий, развитию словообразования. К таким играм относятся игры «Большой – маленький», «Один – много», «Четвертый лиш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604920974408"/>
          <p:cNvPicPr/>
          <p:nvPr/>
        </p:nvPicPr>
        <p:blipFill>
          <a:blip r:embed="rId1"/>
          <a:stretch/>
        </p:blipFill>
        <p:spPr>
          <a:xfrm>
            <a:off x="395280" y="378936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5:58:30Z</dcterms:created>
  <dc:creator>007</dc:creator>
  <dc:description/>
  <dc:language>en-US</dc:language>
  <cp:lastModifiedBy>007</cp:lastModifiedBy>
  <dcterms:modified xsi:type="dcterms:W3CDTF">2020-11-25T12:50:14Z</dcterms:modified>
  <cp:revision>11</cp:revision>
  <dc:subject/>
  <dc:title>Муниципальное бюджетное дошкольное образовательное учреждение  «Детский сад «Рябинка»</dc:title>
</cp:coreProperties>
</file>