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682-C535-40E8-A41E-0F451BFE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A28-F00C-47CC-BE4C-8B52386D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387-7994-4F37-B9D9-1D255E9A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7A4-2E83-4059-A422-D9530133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A13-9A8D-49AC-84C2-158AA303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72F-FEAE-4963-BB00-8DD9F202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C56-580A-42D9-8310-D9B5A1D3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E7A-D72F-4EE0-BEB4-1F62F573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188-BD19-4FCD-B172-E4BB864E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84C-F793-4F79-BAC0-D36C8030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743-2FD6-43B5-A9C1-3F111BF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398-10B0-4BB3-BD43-DAD72E22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7BC8-3E8D-476F-905A-3A48C8F9E96F}" type="slidenum"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" y="231480"/>
            <a:ext cx="39672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38680" y="836280"/>
            <a:ext cx="400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Медведев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Татьян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Анатольевн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Учитель английского языка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МБОУ  гимназии №1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г. Светлограда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Петровского района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Ставропольского края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43" name="Picture 4" descr="C:\Users\Nemo\Desktop\мои фотки\image м.jpeg"/>
          <p:cNvPicPr/>
          <p:nvPr/>
        </p:nvPicPr>
        <p:blipFill>
          <a:blip r:embed="rId1"/>
          <a:stretch/>
        </p:blipFill>
        <p:spPr>
          <a:xfrm>
            <a:off x="674640" y="598320"/>
            <a:ext cx="3189240" cy="45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28560" y="412560"/>
            <a:ext cx="78868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фронтальн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 обучения: коммуника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найдя антонимы, использовать их при описании одежды людей на картинке с употреблением новой лексик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регулятивные (умение работать индивидуально)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93320"/>
            <a:ext cx="87454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02a"/>
                </a:solidFill>
                <a:latin typeface="Monotype Corsiva"/>
              </a:rPr>
              <a:t>ИГРА. Поиграйте в командах. Одна команда описывает погоду, а другая предлагает, какую одежду надеть.</a:t>
            </a: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2460600"/>
            <a:ext cx="914400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78000" y="268200"/>
            <a:ext cx="8137440" cy="62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группов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интерактивный, игрово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осуществить диалог между группами согласно предложенным правилам с употреблением новой лексик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коммуникативные, познавательные, личност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02a"/>
                </a:solidFill>
                <a:latin typeface="Monotype Corsiva"/>
              </a:rPr>
              <a:t>Работа в парах. Один из партнеров задает вопрос по поводу своей внешности, а другой отвечает на него, используя примеры из таблицы. </a:t>
            </a: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85640" y="1941480"/>
            <a:ext cx="7023240" cy="3202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528480" y="5511960"/>
            <a:ext cx="59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02a"/>
                </a:solidFill>
                <a:latin typeface="Monotype Corsiva"/>
              </a:rPr>
              <a:t>A: What do you think of my new dress?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02a"/>
                </a:solidFill>
                <a:latin typeface="Monotype Corsiva"/>
              </a:rPr>
              <a:t>B: Oh, it looks great on you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31920" y="284040"/>
            <a:ext cx="8183520" cy="628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в парах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продук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осуществить диалог в парах с целью нахождения запрашиваемой информации с употреблением новой лексик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коммуникативные, регулятив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599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Представьте, что вы – современные дизайнеры одежды. Создайте  образ к следующим ситуациям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1)  идем на дискотеку;</a:t>
            </a:r>
            <a:br>
              <a:rPr sz="4400"/>
            </a:b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2) идем в театр;</a:t>
            </a:r>
            <a:br>
              <a:rPr sz="4400"/>
            </a:b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3) идем гулять с друзьями;</a:t>
            </a:r>
            <a:br>
              <a:rPr sz="4400"/>
            </a:b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4) идем в школу 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Nemo\Desktop\режиссура урока конкурс\режиссура урока\режиссура  идеи\набор бумажных кукол\1.jpg"/>
          <p:cNvPicPr/>
          <p:nvPr/>
        </p:nvPicPr>
        <p:blipFill>
          <a:blip r:embed="rId1"/>
          <a:stretch/>
        </p:blipFill>
        <p:spPr>
          <a:xfrm>
            <a:off x="-19080" y="268200"/>
            <a:ext cx="9163080" cy="63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77640" y="236160"/>
            <a:ext cx="840420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в группах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продуктивный, использование метода проектной  технологи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составить наряд и описать его с употреблением новой лексики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коммуникативные, регулятивные, познаватель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6280" y="166320"/>
            <a:ext cx="83743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02a"/>
                </a:solidFill>
                <a:latin typeface="Monotype Corsiva"/>
                <a:ea typeface="Times New Roman"/>
              </a:rPr>
              <a:t>Put these words into one or both columns</a:t>
            </a:r>
            <a:r>
              <a:rPr b="1" lang="en-US" sz="3200" spc="-1" strike="noStrike">
                <a:solidFill>
                  <a:srgbClr val="39302a"/>
                </a:solidFill>
                <a:latin typeface="Monotype Corsiva"/>
              </a:rPr>
              <a:t>./</a:t>
            </a:r>
            <a:r>
              <a:rPr b="1" lang="ru-RU" sz="3200" spc="-1" strike="noStrike">
                <a:solidFill>
                  <a:srgbClr val="39302a"/>
                </a:solidFill>
                <a:latin typeface="Monotype Corsiva"/>
              </a:rPr>
              <a:t>Распределите слова по колонкам</a:t>
            </a:r>
            <a:br>
              <a:rPr sz="3200"/>
            </a:b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5760" y="2095560"/>
          <a:ext cx="8777160" cy="2776320"/>
        </p:xfrm>
        <a:graphic>
          <a:graphicData uri="http://schemas.openxmlformats.org/drawingml/2006/table">
            <a:tbl>
              <a:tblPr/>
              <a:tblGrid>
                <a:gridCol w="4714920"/>
                <a:gridCol w="2000160"/>
                <a:gridCol w="20620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9302a"/>
                          </a:solidFill>
                          <a:latin typeface="Times New Roman"/>
                          <a:ea typeface="Times New Roman"/>
                        </a:rPr>
                        <a:t>Clothes</a:t>
                      </a:r>
                      <a:endParaRPr b="0" lang="en-US" sz="24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5760">
                      <a:solidFill>
                        <a:srgbClr val="39302a"/>
                      </a:solidFill>
                    </a:lnT>
                    <a:lnB w="18720">
                      <a:solidFill>
                        <a:srgbClr val="39302a"/>
                      </a:solidFill>
                    </a:lnB>
                    <a:solidFill>
                      <a:srgbClr val="ffdf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9302a"/>
                          </a:solidFill>
                          <a:latin typeface="Times New Roman"/>
                          <a:ea typeface="Times New Roman"/>
                        </a:rPr>
                        <a:t>Men</a:t>
                      </a:r>
                      <a:endParaRPr b="0" lang="en-US" sz="24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5760">
                      <a:solidFill>
                        <a:srgbClr val="39302a"/>
                      </a:solidFill>
                    </a:lnT>
                    <a:lnB w="18720">
                      <a:solidFill>
                        <a:srgbClr val="39302a"/>
                      </a:solidFill>
                    </a:lnB>
                    <a:solidFill>
                      <a:srgbClr val="ffdf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9302a"/>
                          </a:solidFill>
                          <a:latin typeface="Times New Roman"/>
                          <a:ea typeface="Times New Roman"/>
                        </a:rPr>
                        <a:t>Women</a:t>
                      </a:r>
                      <a:endParaRPr b="0" lang="en-US" sz="24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5760">
                      <a:solidFill>
                        <a:srgbClr val="39302a"/>
                      </a:solidFill>
                    </a:lnT>
                    <a:lnB w="18720">
                      <a:solidFill>
                        <a:srgbClr val="39302a"/>
                      </a:solidFill>
                    </a:lnB>
                    <a:solidFill>
                      <a:srgbClr val="ffdf6a"/>
                    </a:solidFill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9302a"/>
                          </a:solidFill>
                          <a:latin typeface="Times New Roman"/>
                          <a:ea typeface="Times New Roman"/>
                        </a:rPr>
                        <a:t>Coat, jacket, dress, tie, jumper, shirt, shoes, hat, skirt, boots, T-shirt, umbrella, trousers, blouse, bag, trainers, high heels</a:t>
                      </a:r>
                      <a:endParaRPr b="0" lang="en-US" sz="24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18720">
                      <a:solidFill>
                        <a:srgbClr val="39302a"/>
                      </a:solidFill>
                    </a:lnT>
                    <a:lnB w="5760">
                      <a:solidFill>
                        <a:srgbClr val="39302a"/>
                      </a:solidFill>
                    </a:lnB>
                    <a:solidFill>
                      <a:srgbClr val="ff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18720">
                      <a:solidFill>
                        <a:srgbClr val="39302a"/>
                      </a:solidFill>
                    </a:lnT>
                    <a:lnB w="5760">
                      <a:solidFill>
                        <a:srgbClr val="39302a"/>
                      </a:solidFill>
                    </a:lnB>
                    <a:solidFill>
                      <a:srgbClr val="fff3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9302a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39302a"/>
                      </a:solidFill>
                    </a:lnL>
                    <a:lnR w="5760">
                      <a:solidFill>
                        <a:srgbClr val="39302a"/>
                      </a:solidFill>
                    </a:lnR>
                    <a:lnT w="18720">
                      <a:solidFill>
                        <a:srgbClr val="39302a"/>
                      </a:solidFill>
                    </a:lnT>
                    <a:lnB w="5760">
                      <a:solidFill>
                        <a:srgbClr val="39302a"/>
                      </a:solidFill>
                    </a:lnB>
                    <a:solidFill>
                      <a:srgbClr val="fff3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28560" y="412560"/>
            <a:ext cx="78868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фронтальн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интерак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правильно распределить новую лексику по колонкам таблицы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регулятивные, коммуникатив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33angl\Desktop\картинки одежды\афиша картинки\афиша 6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 rot="20119800">
            <a:off x="436320" y="1362240"/>
            <a:ext cx="274788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9302a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arn English</a:t>
            </a:r>
            <a:endParaRPr b="0" lang="en-US" sz="1800" spc="1" strike="noStrike">
              <a:ln w="0">
                <a:noFill/>
              </a:ln>
              <a:solidFill>
                <a:srgbClr val="39302a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 rot="1084200">
            <a:off x="4838760" y="1533240"/>
            <a:ext cx="39290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d0d0d"/>
                </a:solidFill>
                <a:latin typeface="Times New Roman"/>
              </a:rPr>
              <a:t>Be always with modern trends</a:t>
            </a:r>
            <a:endParaRPr b="1" lang="en-US" sz="1800" spc="1" strike="noStrike">
              <a:ln w="0">
                <a:noFill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357880" y="2857680"/>
            <a:ext cx="36432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9302a"/>
                </a:solidFill>
                <a:uFillTx/>
                <a:latin typeface="Calibri"/>
              </a:rPr>
              <a:t>Режиссура урока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8 апреля 2016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Классический традиционный урок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Медведева Татьяна Анатольевна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Учитель английского языка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МБОУ гимназии №1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г. Светлограда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Петровского района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02a"/>
                </a:solidFill>
                <a:latin typeface="Calibri"/>
              </a:rPr>
              <a:t>Ставропольского края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8" name="WordArt 5"/>
          <p:cNvSpPr txBox="1"/>
          <p:nvPr/>
        </p:nvSpPr>
        <p:spPr>
          <a:xfrm rot="20538600">
            <a:off x="101520" y="3533400"/>
            <a:ext cx="31384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9302a"/>
                </a:solidFill>
                <a:latin typeface="Times New Roman"/>
              </a:rPr>
              <a:t>Как научиться стать успешным </a:t>
            </a:r>
            <a:endParaRPr b="1" lang="en-US" sz="1800" spc="1" strike="noStrike">
              <a:ln w="0">
                <a:noFill/>
              </a:ln>
              <a:solidFill>
                <a:srgbClr val="39302a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WordArt 5" descr=""/>
          <p:cNvPicPr/>
          <p:nvPr/>
        </p:nvPicPr>
        <p:blipFill>
          <a:blip r:embed="rId2"/>
          <a:stretch/>
        </p:blipFill>
        <p:spPr>
          <a:xfrm>
            <a:off x="-6480" y="4425840"/>
            <a:ext cx="2762280" cy="52416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 rot="1417200">
            <a:off x="-82080" y="5589360"/>
            <a:ext cx="3730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9302a"/>
                </a:solidFill>
                <a:latin typeface="Times New Roman"/>
              </a:rPr>
              <a:t>всегда хорошо выглядеть</a:t>
            </a:r>
            <a:endParaRPr b="1" lang="en-US" sz="1800" spc="1" strike="noStrike">
              <a:ln w="0">
                <a:noFill/>
              </a:ln>
              <a:solidFill>
                <a:srgbClr val="39302a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1080" y="166320"/>
            <a:ext cx="878184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Look at the photos. Describe the people  using the example:  He/She is wearing a …   </a:t>
            </a: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(Посмотрите на фотографии. Опишите этих людей, используя образец: На нем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/</a:t>
            </a: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ней надеты …)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83" name="Picture 3" descr="C:\Users\Nemo\Desktop\рабочий стол\ЕГЭ говорение картинки моё\задание 3\использованные картинки\путешественики.jpg"/>
          <p:cNvPicPr/>
          <p:nvPr/>
        </p:nvPicPr>
        <p:blipFill>
          <a:blip r:embed="rId1"/>
          <a:stretch/>
        </p:blipFill>
        <p:spPr>
          <a:xfrm>
            <a:off x="733320" y="1441440"/>
            <a:ext cx="7836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Nemo\Desktop\рабочий стол\Оскар\Screen-shot-2014-03-02-at-10.35.45-PM.png"/>
          <p:cNvPicPr/>
          <p:nvPr/>
        </p:nvPicPr>
        <p:blipFill>
          <a:blip r:embed="rId1"/>
          <a:stretch/>
        </p:blipFill>
        <p:spPr>
          <a:xfrm>
            <a:off x="2143080" y="15840"/>
            <a:ext cx="50212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Nemo\Desktop\рабочий стол\ЕГЭ говорение картинки моё\задание 3\использованные картинки\w28yfcfx091nathde_3388719_familie_schnee.jpg"/>
          <p:cNvPicPr/>
          <p:nvPr/>
        </p:nvPicPr>
        <p:blipFill>
          <a:blip r:embed="rId1"/>
          <a:stretch/>
        </p:blipFill>
        <p:spPr>
          <a:xfrm>
            <a:off x="214200" y="68400"/>
            <a:ext cx="87678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78000" y="345600"/>
            <a:ext cx="84340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а работы: фронтальная, индивидуальн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ы обучения: коммуникативный, интерак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описать предложенные картинки, используя новую лексику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коммуникатив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1" lang="ru-RU" sz="4400" spc="-1" strike="noStrike">
                <a:solidFill>
                  <a:srgbClr val="39302a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Новые слова и выражения;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пр. 2, 4, с. 54 (р.т.)  - для всех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Создать  свой  мини-показ моделей одежды и коротко прокомментировать его (составить мини-монолог с использованием изученной лексики) – повышенный уровень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Рефлексия 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Какая цель была поставлена в начале урока?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Как вы думаете, удалось ли нам ее достичь?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Что вам понравилось на уроке больше всего?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Что удалось, а над чем еще следует поработать?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Какие чувства</a:t>
            </a: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/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эмоции вызвал у вас сегодняшний урок?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2360" y="220680"/>
            <a:ext cx="8623440" cy="635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33angl\Desktop\картинки одежды\7.jpg"/>
          <p:cNvPicPr/>
          <p:nvPr/>
        </p:nvPicPr>
        <p:blipFill>
          <a:blip r:embed="rId2"/>
          <a:stretch/>
        </p:blipFill>
        <p:spPr>
          <a:xfrm rot="19518000">
            <a:off x="439560" y="1052640"/>
            <a:ext cx="1778040" cy="157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33angl\Desktop\картинки одежды\6.jpg"/>
          <p:cNvPicPr/>
          <p:nvPr/>
        </p:nvPicPr>
        <p:blipFill>
          <a:blip r:embed="rId3"/>
          <a:stretch/>
        </p:blipFill>
        <p:spPr>
          <a:xfrm rot="20868000">
            <a:off x="2468520" y="108000"/>
            <a:ext cx="1204920" cy="175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33angl\Desktop\картинки одежды\4.jpg"/>
          <p:cNvPicPr/>
          <p:nvPr/>
        </p:nvPicPr>
        <p:blipFill>
          <a:blip r:embed="rId4"/>
          <a:stretch/>
        </p:blipFill>
        <p:spPr>
          <a:xfrm rot="279600">
            <a:off x="4319640" y="78840"/>
            <a:ext cx="2041560" cy="186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33angl\Desktop\картинки одежды\5.jpg"/>
          <p:cNvPicPr/>
          <p:nvPr/>
        </p:nvPicPr>
        <p:blipFill>
          <a:blip r:embed="rId5"/>
          <a:stretch/>
        </p:blipFill>
        <p:spPr>
          <a:xfrm rot="1113000">
            <a:off x="6957720" y="468360"/>
            <a:ext cx="1649520" cy="219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33angl\Desktop\картинки одежды\3.jpg"/>
          <p:cNvPicPr/>
          <p:nvPr/>
        </p:nvPicPr>
        <p:blipFill>
          <a:blip r:embed="rId6"/>
          <a:stretch/>
        </p:blipFill>
        <p:spPr>
          <a:xfrm>
            <a:off x="7251840" y="4351320"/>
            <a:ext cx="1671480" cy="25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33angl\Desktop\картинки одежды\2.jpg"/>
          <p:cNvPicPr/>
          <p:nvPr/>
        </p:nvPicPr>
        <p:blipFill>
          <a:blip r:embed="rId7"/>
          <a:stretch/>
        </p:blipFill>
        <p:spPr>
          <a:xfrm>
            <a:off x="182520" y="4519440"/>
            <a:ext cx="1963800" cy="233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:\Users\33angl\Desktop\картинки одежды\1.jpg"/>
          <p:cNvPicPr/>
          <p:nvPr/>
        </p:nvPicPr>
        <p:blipFill>
          <a:blip r:embed="rId8"/>
          <a:stretch/>
        </p:blipFill>
        <p:spPr>
          <a:xfrm>
            <a:off x="2475000" y="2585880"/>
            <a:ext cx="41781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Nemo\Desktop\режиссура урока конкурс\режиссура урока\фото на исторические факты\статус по одежде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560" y="4882680"/>
            <a:ext cx="788688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9302a"/>
                </a:solidFill>
                <a:latin typeface="Monotype Corsiva"/>
              </a:rPr>
              <a:t>  “</a:t>
            </a:r>
            <a:r>
              <a:rPr b="1" i="1" lang="ru-RU" sz="2800" spc="-1" strike="noStrike">
                <a:solidFill>
                  <a:srgbClr val="39302a"/>
                </a:solidFill>
                <a:latin typeface="Monotype Corsiva"/>
              </a:rPr>
              <a:t>Оденьтесь плохо, и запомнят вашу одежду; оденьтесь безупречно, и запомнят женщину.”</a:t>
            </a:r>
            <a:r>
              <a:rPr b="0" lang="ru-RU" sz="2800" spc="-1" strike="noStrike">
                <a:solidFill>
                  <a:srgbClr val="39302a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0240" indent="-21024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Monotype Corsiva"/>
              </a:rPr>
              <a:t>Коко Шанель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2" name="Picture 2" descr="C:\Users\Nemo\Desktop\режиссура урока конкурс\режиссура урока\коко шанель.jpg"/>
          <p:cNvPicPr/>
          <p:nvPr/>
        </p:nvPicPr>
        <p:blipFill>
          <a:blip r:embed="rId1"/>
          <a:stretch/>
        </p:blipFill>
        <p:spPr>
          <a:xfrm>
            <a:off x="949320" y="349200"/>
            <a:ext cx="71550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28560" y="498240"/>
            <a:ext cx="78868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Тема урока: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“</a:t>
            </a: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Введение новой лексики по теме “Одежда”. Выражение мнения по поводу внешности.</a:t>
            </a:r>
            <a:r>
              <a:rPr b="1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Цель урока: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Введение в актив новой лексики по теме урока. Формирование умения высказывать свое мнение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урок введения новых знаний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5480" y="213840"/>
            <a:ext cx="8705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Blouse             [blauz]                  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блуз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kirt                 [skɜ: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юб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High heels       [haɩ  ˊhi:l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туфли на высоком каблуке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Cap                  [kæp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кеп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-shirt              [ˊti: ʃɜ: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футбол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horts              [ʃɔ:ts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шорты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ocks               [sɒks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нос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rainers           [treɩnǝ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кроссов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carf                [ska:f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шарф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Gloves              [glʌv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перчат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Jacket               [ˊʤækɩ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курт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rousers           [ˊtraʊzɩ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брю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Boots                [bu:ts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ботинк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hirt                 [ʃɜ: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 рубашка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ie                    [taɩ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  галстук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Coat                  [kǝʊt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пальто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Umbrella          [ ʌm ˊbrelǝ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зонт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39302a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hoes               [ʃu:z]</a:t>
            </a:r>
            <a:r>
              <a:rPr b="0" lang="ru-RU" sz="20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            туфли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28560" y="412560"/>
            <a:ext cx="78868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Формы работы: фронтальная, индивидуальная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Метод обучения: репродуктивный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Задача: научить правильно читать и произносить в дальнейшем изучаемую новую лексику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02a"/>
                </a:solidFill>
                <a:latin typeface="Monotype Corsiva"/>
              </a:rPr>
              <a:t>УУД: регулятивные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Упр. 2. Соотнесите антонимы. Используйте их при описании одежды людей в упр. 1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Long                        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длинный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Heavy     [ˊhevɩ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тяжелый (по весу)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Tight       [ˊtaɩt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узкий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Light       [ˊlaɩt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легкий (по весу)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Short       [ʃɔ:t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короткий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Loose      [lu:s]</a:t>
            </a:r>
            <a:r>
              <a:rPr b="0" lang="ru-RU" sz="2800" spc="-1" strike="noStrike">
                <a:solidFill>
                  <a:srgbClr val="39302a"/>
                </a:solidFill>
                <a:latin typeface="Times New Roman"/>
                <a:ea typeface="Times New Roman"/>
              </a:rPr>
              <a:t>        свободный (об одежде)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2:50:46Z</dcterms:created>
  <dc:creator>Инна</dc:creator>
  <dc:description/>
  <dc:language>en-US</dc:language>
  <cp:lastModifiedBy>Nemo</cp:lastModifiedBy>
  <dcterms:modified xsi:type="dcterms:W3CDTF">2016-04-07T13:19:55Z</dcterms:modified>
  <cp:revision>172</cp:revision>
  <dc:subject/>
  <dc:title>Презентация PowerPoint</dc:title>
</cp:coreProperties>
</file>