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505-137D-4A01-A960-3A8F0A4E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805-0FB3-4B10-BE08-68C1349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899-0F2F-4B6D-92C3-3DC2CB88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2F7-2BE3-4D11-A258-74740CD5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6E3-1F30-4A06-9B3C-6009FF3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ACF-4C9E-4A96-ABF7-F99F3A4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6C7-1F8B-4B1C-8136-88D77D1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9F9-DFAF-4B64-AE48-7A3D780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2A2-4F24-4CAD-8F9A-80F745B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207-003B-4D76-9BB7-8F73296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6D0-ABD6-48FC-AE06-C841A67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006-AF85-4521-9858-137CDD9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FF2-D2B2-443B-8017-3C77B6C10D37}" type="slidenum"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" y="231480"/>
            <a:ext cx="39672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38680" y="836280"/>
            <a:ext cx="40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Медведев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Татья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Анатольев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Учитель английского язык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МБОУ  гимназии №1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г. Светлоград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Петровского район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тавропольского края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3" name="Picture 4" descr="C:\Users\Nemo\Desktop\мои фотки\image м.jpeg"/>
          <p:cNvPicPr/>
          <p:nvPr/>
        </p:nvPicPr>
        <p:blipFill>
          <a:blip r:embed="rId1"/>
          <a:stretch/>
        </p:blipFill>
        <p:spPr>
          <a:xfrm>
            <a:off x="674640" y="598320"/>
            <a:ext cx="3189240" cy="45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 обучения: коммуника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найдя антонимы, использовать их при описании одежды людей на картинке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 (умение работать индивидуально)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93320"/>
            <a:ext cx="87454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ИГРА. Поиграйте в командах. Одна команда описывает погоду, а другая предлагает, какую одежду надеть.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460600"/>
            <a:ext cx="914400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78000" y="268200"/>
            <a:ext cx="8137440" cy="62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группов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, игрово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существить диалог между группами согласно предложенным правилам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познавательные, личност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Работа в парах. Один из партнеров задает вопрос по поводу своей внешности, а другой отвечает на него, используя примеры из таблицы. 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85640" y="1941480"/>
            <a:ext cx="7023240" cy="3202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28480" y="551196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02a"/>
                </a:solidFill>
                <a:latin typeface="Monotype Corsiva"/>
              </a:rPr>
              <a:t>A: What do you think of my new dress?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02a"/>
                </a:solidFill>
                <a:latin typeface="Monotype Corsiva"/>
              </a:rPr>
              <a:t>B: Oh, it looks great on you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31920" y="284040"/>
            <a:ext cx="8183520" cy="628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в пара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проду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существить диалог в парах с целью нахождения запрашиваемой информации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регуля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599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Представьте, что вы – современные дизайнеры одежды. Создайте  образ к следующим ситуациям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1)  идем на дискотеку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2) идем в театр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3) идем гулять с друзьями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4) идем в школу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Nemo\Desktop\режиссура урока конкурс\режиссура урока\режиссура  идеи\набор бумажных кукол\1.jpg"/>
          <p:cNvPicPr/>
          <p:nvPr/>
        </p:nvPicPr>
        <p:blipFill>
          <a:blip r:embed="rId1"/>
          <a:stretch/>
        </p:blipFill>
        <p:spPr>
          <a:xfrm>
            <a:off x="-19080" y="268200"/>
            <a:ext cx="9163080" cy="63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77640" y="236160"/>
            <a:ext cx="840420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в группа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продуктивный, использование метода проектной  технологи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составить наряд и описать его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регулятивные, познаватель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6280" y="166320"/>
            <a:ext cx="83743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02a"/>
                </a:solidFill>
                <a:latin typeface="Monotype Corsiva"/>
                <a:ea typeface="Times New Roman"/>
              </a:rPr>
              <a:t>Put these words into one or both columns</a:t>
            </a:r>
            <a:r>
              <a:rPr b="1" lang="en-US" sz="3200" spc="-1" strike="noStrike">
                <a:solidFill>
                  <a:srgbClr val="39302a"/>
                </a:solidFill>
                <a:latin typeface="Monotype Corsiva"/>
              </a:rPr>
              <a:t>./</a:t>
            </a: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Распределите слова по колонкам</a:t>
            </a:r>
            <a:br>
              <a:rPr sz="3200"/>
            </a:b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5760" y="2095560"/>
          <a:ext cx="8777160" cy="2776320"/>
        </p:xfrm>
        <a:graphic>
          <a:graphicData uri="http://schemas.openxmlformats.org/drawingml/2006/table">
            <a:tbl>
              <a:tblPr/>
              <a:tblGrid>
                <a:gridCol w="4714920"/>
                <a:gridCol w="2000160"/>
                <a:gridCol w="20620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Men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Women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Coat, jacket, dress, tie, jumper, shirt, shoes, hat, skirt, boots, T-shirt, umbrella, trousers, blouse, bag, trainers, high heels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правильно распределить новую лексику по колонкам таблицы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, коммуника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33angl\Desktop\картинки одежды\афиша картинки\афиша 6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 rot="20119800">
            <a:off x="436320" y="1362240"/>
            <a:ext cx="27478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9302a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arn English</a:t>
            </a:r>
            <a:endParaRPr b="0" lang="en-US" sz="1800" spc="1" strike="noStrike">
              <a:ln w="0">
                <a:noFill/>
              </a:ln>
              <a:solidFill>
                <a:srgbClr val="39302a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 rot="1084200">
            <a:off x="4838760" y="1533240"/>
            <a:ext cx="3929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Times New Roman"/>
              </a:rPr>
              <a:t>Be always with modern trends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357880" y="2857680"/>
            <a:ext cx="3643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9302a"/>
                </a:solidFill>
                <a:uFillTx/>
                <a:latin typeface="Calibri"/>
              </a:rPr>
              <a:t>Режиссура урок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8 апреля 2016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Классический традиционный урок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Медведева Татьяна Анатольевн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МБОУ гимназии №1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г. Светлоград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Петровского район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Ставропольского края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8" name="WordArt 5"/>
          <p:cNvSpPr txBox="1"/>
          <p:nvPr/>
        </p:nvSpPr>
        <p:spPr>
          <a:xfrm rot="20538600">
            <a:off x="101520" y="3533400"/>
            <a:ext cx="31384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9302a"/>
                </a:solidFill>
                <a:latin typeface="Times New Roman"/>
              </a:rPr>
              <a:t>Как научиться стать успешным </a:t>
            </a:r>
            <a:endParaRPr b="1" lang="en-US" sz="1800" spc="1" strike="noStrike">
              <a:ln w="0">
                <a:noFill/>
              </a:ln>
              <a:solidFill>
                <a:srgbClr val="39302a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WordArt 5" descr=""/>
          <p:cNvPicPr/>
          <p:nvPr/>
        </p:nvPicPr>
        <p:blipFill>
          <a:blip r:embed="rId2"/>
          <a:stretch/>
        </p:blipFill>
        <p:spPr>
          <a:xfrm>
            <a:off x="-6480" y="4425840"/>
            <a:ext cx="2762280" cy="52416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 rot="1417200">
            <a:off x="-82080" y="5589360"/>
            <a:ext cx="3730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9302a"/>
                </a:solidFill>
                <a:latin typeface="Times New Roman"/>
              </a:rPr>
              <a:t>всегда хорошо выглядеть</a:t>
            </a:r>
            <a:endParaRPr b="1" lang="en-US" sz="1800" spc="1" strike="noStrike">
              <a:ln w="0">
                <a:noFill/>
              </a:ln>
              <a:solidFill>
                <a:srgbClr val="39302a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080" y="166320"/>
            <a:ext cx="87818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Look at the photos. Describe the people  using the example:  He/She is wearing a …   </a:t>
            </a: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(Посмотрите на фотографии. Опишите этих людей, используя образец: На нем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/</a:t>
            </a: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ней надеты …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83" name="Picture 3" descr="C:\Users\Nemo\Desktop\рабочий стол\ЕГЭ говорение картинки моё\задание 3\использованные картинки\путешественики.jpg"/>
          <p:cNvPicPr/>
          <p:nvPr/>
        </p:nvPicPr>
        <p:blipFill>
          <a:blip r:embed="rId1"/>
          <a:stretch/>
        </p:blipFill>
        <p:spPr>
          <a:xfrm>
            <a:off x="733320" y="1441440"/>
            <a:ext cx="7836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Nemo\Desktop\рабочий стол\Оскар\Screen-shot-2014-03-02-at-10.35.45-PM.png"/>
          <p:cNvPicPr/>
          <p:nvPr/>
        </p:nvPicPr>
        <p:blipFill>
          <a:blip r:embed="rId1"/>
          <a:stretch/>
        </p:blipFill>
        <p:spPr>
          <a:xfrm>
            <a:off x="2143080" y="15840"/>
            <a:ext cx="50212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Nemo\Desktop\рабочий стол\ЕГЭ говорение картинки моё\задание 3\использованные картинки\w28yfcfx091nathde_3388719_familie_schnee.jpg"/>
          <p:cNvPicPr/>
          <p:nvPr/>
        </p:nvPicPr>
        <p:blipFill>
          <a:blip r:embed="rId1"/>
          <a:stretch/>
        </p:blipFill>
        <p:spPr>
          <a:xfrm>
            <a:off x="214200" y="68400"/>
            <a:ext cx="8767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78000" y="345600"/>
            <a:ext cx="84340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, индивиду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писать предложенные картинки, используя новую лексику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Новые слова и выражения;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пр. 2, 4, с. 54 (р.т.)  - для все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Создать  свой  мини-показ моделей одежды и коротко прокомментировать его (составить мини-монолог с использованием изученной лексики) – повышенный уровень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Рефлексия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ая цель была поставлена в начале урока?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 вы думаете, удалось ли нам ее достичь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Что вам понравилось на уроке больше всего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Что удалось, а над чем еще следует поработать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ие чувства</a:t>
            </a: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/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эмоции вызвал у вас сегодняшний урок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2360" y="220680"/>
            <a:ext cx="8623440" cy="635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33angl\Desktop\картинки одежды\7.jpg"/>
          <p:cNvPicPr/>
          <p:nvPr/>
        </p:nvPicPr>
        <p:blipFill>
          <a:blip r:embed="rId2"/>
          <a:stretch/>
        </p:blipFill>
        <p:spPr>
          <a:xfrm rot="19518000">
            <a:off x="439560" y="1052640"/>
            <a:ext cx="1778040" cy="157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33angl\Desktop\картинки одежды\6.jpg"/>
          <p:cNvPicPr/>
          <p:nvPr/>
        </p:nvPicPr>
        <p:blipFill>
          <a:blip r:embed="rId3"/>
          <a:stretch/>
        </p:blipFill>
        <p:spPr>
          <a:xfrm rot="20868000">
            <a:off x="2468520" y="108000"/>
            <a:ext cx="1204920" cy="175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33angl\Desktop\картинки одежды\4.jpg"/>
          <p:cNvPicPr/>
          <p:nvPr/>
        </p:nvPicPr>
        <p:blipFill>
          <a:blip r:embed="rId4"/>
          <a:stretch/>
        </p:blipFill>
        <p:spPr>
          <a:xfrm rot="279600">
            <a:off x="4319640" y="78840"/>
            <a:ext cx="2041560" cy="186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33angl\Desktop\картинки одежды\5.jpg"/>
          <p:cNvPicPr/>
          <p:nvPr/>
        </p:nvPicPr>
        <p:blipFill>
          <a:blip r:embed="rId5"/>
          <a:stretch/>
        </p:blipFill>
        <p:spPr>
          <a:xfrm rot="1113000">
            <a:off x="6957720" y="468360"/>
            <a:ext cx="1649520" cy="219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33angl\Desktop\картинки одежды\3.jpg"/>
          <p:cNvPicPr/>
          <p:nvPr/>
        </p:nvPicPr>
        <p:blipFill>
          <a:blip r:embed="rId6"/>
          <a:stretch/>
        </p:blipFill>
        <p:spPr>
          <a:xfrm>
            <a:off x="7251840" y="4351320"/>
            <a:ext cx="167148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33angl\Desktop\картинки одежды\2.jpg"/>
          <p:cNvPicPr/>
          <p:nvPr/>
        </p:nvPicPr>
        <p:blipFill>
          <a:blip r:embed="rId7"/>
          <a:stretch/>
        </p:blipFill>
        <p:spPr>
          <a:xfrm>
            <a:off x="182520" y="4519440"/>
            <a:ext cx="1963800" cy="233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Users\33angl\Desktop\картинки одежды\1.jpg"/>
          <p:cNvPicPr/>
          <p:nvPr/>
        </p:nvPicPr>
        <p:blipFill>
          <a:blip r:embed="rId8"/>
          <a:stretch/>
        </p:blipFill>
        <p:spPr>
          <a:xfrm>
            <a:off x="2475000" y="2585880"/>
            <a:ext cx="41781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Nemo\Desktop\режиссура урока конкурс\режиссура урока\фото на исторические факты\статус по одежде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4882680"/>
            <a:ext cx="788688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9302a"/>
                </a:solidFill>
                <a:latin typeface="Monotype Corsiva"/>
              </a:rPr>
              <a:t>  “</a:t>
            </a:r>
            <a:r>
              <a:rPr b="1" i="1" lang="ru-RU" sz="2800" spc="-1" strike="noStrike">
                <a:solidFill>
                  <a:srgbClr val="39302a"/>
                </a:solidFill>
                <a:latin typeface="Monotype Corsiva"/>
              </a:rPr>
              <a:t>Оденьтесь плохо, и запомнят вашу одежду; оденьтесь безупречно, и запомнят женщину.”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Коко Шанель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2" name="Picture 2" descr="C:\Users\Nemo\Desktop\режиссура урока конкурс\режиссура урока\коко шанель.jpg"/>
          <p:cNvPicPr/>
          <p:nvPr/>
        </p:nvPicPr>
        <p:blipFill>
          <a:blip r:embed="rId1"/>
          <a:stretch/>
        </p:blipFill>
        <p:spPr>
          <a:xfrm>
            <a:off x="949320" y="349200"/>
            <a:ext cx="7155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498240"/>
            <a:ext cx="78868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“</a:t>
            </a: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Введение новой лексики по теме “Одежда”. Выражение мнения по поводу внешности.</a:t>
            </a:r>
            <a:r>
              <a:rPr b="1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Цель урока: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Введение в актив новой лексики по теме урока. Формирование умения высказывать свое мнение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урок введения новых знан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480" y="213840"/>
            <a:ext cx="8705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Blouse             [blauz]                  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блуз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kirt                 [sk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юб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High heels       [haɩ  ˊhi:l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туфли на высоком каблуке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Cap                  [kæp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кеп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-shirt              [ˊti: ʃ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футбол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rts              [ʃɔ:t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шорты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ocks               [sɒk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нос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rainers           [treɩnǝ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кроссов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carf                [ska:f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шарф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Gloves              [glʌv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перчат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Jacket               [ˊʤækɩ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курт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rousers           [ˊtraʊzɩ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брю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Boots                [bu:t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ботин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irt                 [ʃ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 рубаш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ie                    [taɩ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  галстук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Coat                  [kǝʊ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пальто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Umbrella          [ ʌm ˊbrelǝ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зонт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es               [ʃu: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туфл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ы работы: фронтальная, индивиду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 обучения: репроду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научить правильно читать и произносить в дальнейшем изучаемую новую лексику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Упр. 2. Соотнесите антонимы. Используйте их при описании одежды людей в упр. 1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ong                        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длинны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Heavy     [ˊhevɩ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тяжелый (по весу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ight       [ˊtaɩ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узк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ight       [ˊlaɩ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легкий (по весу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rt       [ʃɔ: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коротк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oose      [lu:s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свободный (об одежде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Nemo</cp:lastModifiedBy>
  <dcterms:modified xsi:type="dcterms:W3CDTF">2016-04-07T13:19:55Z</dcterms:modified>
  <cp:revision>172</cp:revision>
  <dc:subject/>
  <dc:title>Презентация PowerPoint</dc:title>
</cp:coreProperties>
</file>