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87F-5A26-4D6D-BBC3-C239261B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EB6-5C85-4459-ADCF-EE6E6B88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2E7-746E-4BE3-A1DD-EAAA1393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766-9931-4C63-B145-D7ED8DF8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3568-3931-4EB1-869D-5C99DE58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C41F-8C87-421F-ABF5-6DAB243B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085E-2BA9-4323-9B89-0D996FAF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F9E0-3B7E-465F-92EC-49C7F21E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4532-D264-460B-B21D-3738B802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1ACE-F0CB-4158-B5DC-2194E7F3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E8E9-5081-408B-8D3A-F3859935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F30-9453-4DD8-9365-1F976F9C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AC4C-4692-4390-AF2E-8CD7C8F1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7041-4EED-4699-93F3-20EBFAAF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3EF4-EEF6-41C4-A003-43FE66A8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DF52-0244-4B91-A667-5BBDF287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46FC-1868-4BEC-80A8-16BB45A2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2E9-6D8B-4E49-8CD2-650CCA11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516-5823-42C1-984D-0743CA07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5CA-3689-4F67-9520-C00D0B10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DD1D-33BA-4D9C-BCAB-6A877A5E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C59-2178-4730-ACE1-DE552E0D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3DD-1B82-42B8-B17C-F6D3E249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77A-A43B-4696-8C48-22212F5F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3063-FC09-49B5-BF9A-C92C5E8942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FDCA-5B36-461E-ADF7-7CE2B67741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742968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Применение жиров, биологическая роль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Picture 5" descr="Изображение 361"/>
          <p:cNvPicPr/>
          <p:nvPr/>
        </p:nvPicPr>
        <p:blipFill>
          <a:blip r:embed="rId1"/>
          <a:stretch/>
        </p:blipFill>
        <p:spPr>
          <a:xfrm>
            <a:off x="324000" y="2852640"/>
            <a:ext cx="691200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арфюмер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период Новой Империи (1580-1085 годы до н.э.) ароматы стали объектом светского применения. Женщины использовали мази и парфюмированные масла для своих туалетов или для омоложения, не обходились без них и во время любовных ритуалов. Мази и бальзамы применялись не только для ароматизации, но и в лечебных и косметических целях: ими лечили ожоги, раны, смягчали и очищали кожу. Как уже было сказано, спирта древние египтяне не знали, поэтому в качестве основы для мазей использовали растительные масла и животный жир. В бальзамы и мази часто добавляли красители, чтобы придать им более эстетичный вид. Хранились они в вазах или керамических флакончиках в виде животных. Позднее флаконы стали делать из стекл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31088"/>
          <p:cNvPicPr/>
          <p:nvPr/>
        </p:nvPicPr>
        <p:blipFill>
          <a:blip r:embed="rId1"/>
          <a:stretch/>
        </p:blipFill>
        <p:spPr>
          <a:xfrm>
            <a:off x="4716360" y="2205000"/>
            <a:ext cx="29419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с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рхеологи утверждают, что краскам не много, не мало… 17000 тысяч лет. Для придания наскальному рисунку цвета первобытные люди использовали охру - желтый пигмент, в составе которого содержится глина и гидроксид железа. Мы не склонны думать, что в разговорах неандертальцев присутствовали эти слова, и беседы после охоты на мамонта сводились к химическому анализу красящего вещества, но применялись краски умело и их оттенки могли меняться в зависимости от количества добавленного в них древесного угля. Уже в те времена "живописцы" понимали, что для удержания краски на камне необходим связующий элемент. Таким элементом стал животный жир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302"/>
          <p:cNvPicPr/>
          <p:nvPr/>
        </p:nvPicPr>
        <p:blipFill>
          <a:blip r:embed="rId1"/>
          <a:stretch/>
        </p:blipFill>
        <p:spPr>
          <a:xfrm>
            <a:off x="4932360" y="2347920"/>
            <a:ext cx="3527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рм для животны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ельные количества твердых и мягких технических жиров добавляют в корма животных, чтобы улучшить вкус кормов и облегчить их гранулиро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ры входят как обязательные компоненты в состав протоплазмы и играют важную роль в клеточном обмене. Они являются наиболее концентрированными источниками энергии для организма птицы, Содержание жира в кормах колеблется в очень широких пределах. Например, кукуруза и овес содержат 5—6 % жира, а в семенах пшеницы и ржи его всего 1—2 %, очень много жира содержится в семенах льна и подсолнечника, 30—40 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лицери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Glycerin (глицерин) – органическое соединение, относящееся к полиолам — спиртам, содержащим в молекуле несколько гидроксильных групп. Это прозрачная, сиропообразная жидкость, полученная путем химического соединения воды и жира. Глицерин - основа всех жи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ицерин с его уникальными физическими и химическими свойствами имеет широкое применение в различных областях промышленности. Наибольшее количество глицерина используют для производства пластических масс, медицинских препаратов, табачных изделий, моющих и косметических сред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IMG_0137"/>
          <p:cNvPicPr/>
          <p:nvPr/>
        </p:nvPicPr>
        <p:blipFill>
          <a:blip r:embed="rId1"/>
          <a:stretch/>
        </p:blipFill>
        <p:spPr>
          <a:xfrm>
            <a:off x="5003640" y="1052640"/>
            <a:ext cx="28213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жиров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2" name="Organization Chart 7"/>
          <p:cNvGrpSpPr/>
          <p:nvPr/>
        </p:nvGrpSpPr>
        <p:grpSpPr>
          <a:xfrm>
            <a:off x="611280" y="1700280"/>
            <a:ext cx="7780680" cy="4257720"/>
            <a:chOff x="611280" y="1700280"/>
            <a:chExt cx="7780680" cy="4257720"/>
          </a:xfrm>
        </p:grpSpPr>
        <p:cxnSp>
          <p:nvCxnSpPr>
            <p:cNvPr id="153" name="_s1028"/>
            <p:cNvCxnSpPr>
              <a:stCxn id="154" idx="0"/>
              <a:endCxn id="155" idx="2"/>
            </p:cNvCxnSpPr>
            <p:nvPr/>
          </p:nvCxnSpPr>
          <p:spPr>
            <a:xfrm flipH="1" flipV="1" rot="5400000">
              <a:off x="3409200" y="3546360"/>
              <a:ext cx="1256400" cy="1092240"/>
            </a:xfrm>
            <a:prstGeom prst="bentConnector3">
              <a:avLst>
                <a:gd name="adj1" fmla="val 905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56" name="_s1029"/>
            <p:cNvCxnSpPr>
              <a:stCxn id="157" idx="0"/>
              <a:endCxn id="155" idx="2"/>
            </p:cNvCxnSpPr>
            <p:nvPr/>
          </p:nvCxnSpPr>
          <p:spPr>
            <a:xfrm flipV="1" rot="16200000">
              <a:off x="4417920" y="3629160"/>
              <a:ext cx="1256400" cy="925920"/>
            </a:xfrm>
            <a:prstGeom prst="bentConnector3">
              <a:avLst>
                <a:gd name="adj1" fmla="val 905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58" name="_s1030"/>
            <p:cNvCxnSpPr>
              <a:stCxn id="159" idx="0"/>
              <a:endCxn id="155" idx="2"/>
            </p:cNvCxnSpPr>
            <p:nvPr/>
          </p:nvCxnSpPr>
          <p:spPr>
            <a:xfrm rot="5400000">
              <a:off x="5279040" y="1217520"/>
              <a:ext cx="1550880" cy="2943720"/>
            </a:xfrm>
            <a:prstGeom prst="bentConnector5">
              <a:avLst>
                <a:gd name="adj1" fmla="val -7360"/>
                <a:gd name="adj2" fmla="val 43786"/>
                <a:gd name="adj3" fmla="val 1147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60" name="_s1031"/>
            <p:cNvCxnSpPr>
              <a:stCxn id="161" idx="0"/>
              <a:endCxn id="155" idx="2"/>
            </p:cNvCxnSpPr>
            <p:nvPr/>
          </p:nvCxnSpPr>
          <p:spPr>
            <a:xfrm rot="5400000">
              <a:off x="6036120" y="1974600"/>
              <a:ext cx="36720" cy="2943720"/>
            </a:xfrm>
            <a:prstGeom prst="bentConnector5">
              <a:avLst>
                <a:gd name="adj1" fmla="val -312871"/>
                <a:gd name="adj2" fmla="val 43762"/>
                <a:gd name="adj3" fmla="val 72574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62" name="_s1032"/>
            <p:cNvCxnSpPr>
              <a:stCxn id="163" idx="0"/>
              <a:endCxn id="155" idx="2"/>
            </p:cNvCxnSpPr>
            <p:nvPr/>
          </p:nvCxnSpPr>
          <p:spPr>
            <a:xfrm flipH="1" rot="16200000">
              <a:off x="2365200" y="1245240"/>
              <a:ext cx="1330200" cy="3107160"/>
            </a:xfrm>
            <a:prstGeom prst="bentConnector5">
              <a:avLst>
                <a:gd name="adj1" fmla="val -8581"/>
                <a:gd name="adj2" fmla="val 43962"/>
                <a:gd name="adj3" fmla="val 11716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64" name="_s1033"/>
            <p:cNvCxnSpPr>
              <a:stCxn id="165" idx="0"/>
              <a:endCxn id="155" idx="2"/>
            </p:cNvCxnSpPr>
            <p:nvPr/>
          </p:nvCxnSpPr>
          <p:spPr>
            <a:xfrm flipV="1" rot="16200000">
              <a:off x="5426640" y="2620440"/>
              <a:ext cx="1256400" cy="2943720"/>
            </a:xfrm>
            <a:prstGeom prst="bentConnector3">
              <a:avLst>
                <a:gd name="adj1" fmla="val 908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66" name="_s1034"/>
            <p:cNvCxnSpPr>
              <a:stCxn id="167" idx="0"/>
              <a:endCxn id="155" idx="2"/>
            </p:cNvCxnSpPr>
            <p:nvPr/>
          </p:nvCxnSpPr>
          <p:spPr>
            <a:xfrm flipH="1" flipV="1" rot="5400000">
              <a:off x="2401920" y="2538720"/>
              <a:ext cx="1256400" cy="3107160"/>
            </a:xfrm>
            <a:prstGeom prst="bentConnector3">
              <a:avLst>
                <a:gd name="adj1" fmla="val 908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68" name="_s1035"/>
            <p:cNvCxnSpPr>
              <a:stCxn id="169" idx="0"/>
              <a:endCxn id="155" idx="2"/>
            </p:cNvCxnSpPr>
            <p:nvPr/>
          </p:nvCxnSpPr>
          <p:spPr>
            <a:xfrm flipH="1" rot="16200000">
              <a:off x="3012120" y="1892880"/>
              <a:ext cx="36720" cy="3107160"/>
            </a:xfrm>
            <a:prstGeom prst="bentConnector5">
              <a:avLst>
                <a:gd name="adj1" fmla="val -312871"/>
                <a:gd name="adj2" fmla="val 43962"/>
                <a:gd name="adj3" fmla="val 725742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55" name="_s1036"/>
            <p:cNvSpPr/>
            <p:nvPr/>
          </p:nvSpPr>
          <p:spPr>
            <a:xfrm>
              <a:off x="3349080" y="1700280"/>
              <a:ext cx="2468520" cy="176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Жи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7"/>
            <p:cNvSpPr/>
            <p:nvPr/>
          </p:nvSpPr>
          <p:spPr>
            <a:xfrm>
              <a:off x="611280" y="3428280"/>
              <a:ext cx="1728720" cy="11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н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 пищ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38"/>
            <p:cNvSpPr/>
            <p:nvPr/>
          </p:nvSpPr>
          <p:spPr>
            <a:xfrm>
              <a:off x="611280" y="4720320"/>
              <a:ext cx="1728720" cy="113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извод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ыл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39"/>
            <p:cNvSpPr/>
            <p:nvPr/>
          </p:nvSpPr>
          <p:spPr>
            <a:xfrm>
              <a:off x="6660720" y="4720320"/>
              <a:ext cx="1728000" cy="113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извод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рас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40"/>
            <p:cNvSpPr/>
            <p:nvPr/>
          </p:nvSpPr>
          <p:spPr>
            <a:xfrm>
              <a:off x="611280" y="2134800"/>
              <a:ext cx="1728720" cy="113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 медицин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41"/>
            <p:cNvSpPr/>
            <p:nvPr/>
          </p:nvSpPr>
          <p:spPr>
            <a:xfrm>
              <a:off x="6660720" y="3428280"/>
              <a:ext cx="1728000" cy="11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орм дл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животны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42"/>
            <p:cNvSpPr/>
            <p:nvPr/>
          </p:nvSpPr>
          <p:spPr>
            <a:xfrm>
              <a:off x="6660720" y="1914120"/>
              <a:ext cx="1731240" cy="1237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изводство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вече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43"/>
            <p:cNvSpPr/>
            <p:nvPr/>
          </p:nvSpPr>
          <p:spPr>
            <a:xfrm>
              <a:off x="4642920" y="4720320"/>
              <a:ext cx="1728720" cy="1237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изводство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лицери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44"/>
            <p:cNvSpPr/>
            <p:nvPr/>
          </p:nvSpPr>
          <p:spPr>
            <a:xfrm>
              <a:off x="2625840" y="4720320"/>
              <a:ext cx="1728720" cy="1237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арфюмер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9440" y="137880"/>
            <a:ext cx="740412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ЖИРЫ,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ЭНЕРГИЯ И ПИТАН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ры наряду с белками и углеводами составляют основу питания человека. Они — самый эффективный источник энерги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 жиров при полном окислении в клетках организма дает 9,5 ккал (40 кДж) энергии. Это вдвое больше, чем можно получить из белков или углеводов. Для сравнения: сгорание 1 г бензина даёт 42 кДж, 1 г каменного угля — 31 кДж, 1 г сухой древесины — 15 кДж. Так что жир по праву следует считать высококалорийным «топливом». Оно расходуется преимущественно для поддержания нормальной температуры нашего тела, а также на работу различных мышц. Даже когда человек спит, ему на покрытие энергетических расходов (так называемый основной об­мен) каждый час требуется около 350 кДж энергии; примерно такова ж мощность электрической 100-ваттной лампоч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рная пища с незапамятных времён ассоциировалась с богатством, благополучием. В Библии она упоминается под названием «тук», причём нередко в иносказательном смысле — для обозначения отборных продуктов. «...Я дам вам. лучшее в земле Египетской, — говорит фараон Иосифу, — и вы будете есть тук земли» (Быт. 45.18). На средневековых пирах основным блюдом было жирное мясо. Согласно словарю В. И. Даля. т. 'Руси тучными называли упитанных здоровых людей, а также обильные плодоносные поля и луга. На кар­тинах Рубенса можно видеть множество тучных фигур,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оли­цетворявших красоту, богатство и благополучие. Прошло время, и вкусы изменились: на порог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летия эталоном красоты и здоровья служат не тучные, как сотни лет назад, а стройные спортивные фиг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КОЛЬКО И КАКИХ ЖИРОВ НАДО ЧЕЛОВЕКУ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64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отребление пищи без жира ведёт к нарушениям деятельности центральной нервной системы, ослаблению иммунит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равильном питании примерно треть потребляемых человеком жиров должны составлять жидкие растительные — в них содержатся ненасыщенные жирные кислоты, которые  обладают наибольшей биологической активностью. Организм человека синтезировать такие кислоты не может и должен получать их готовые с пищей (как витамины). По аналогии с аминокислотами полиненасыщенные жирные кислоты получили название «незаменимых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в жирах полезные компоненты. Например, подсолнечное масло  богато токоферолом (витамином Е).  В сливочном масле, особенно из «летнего» молока, немало оранжево-жёлтого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каротина (это предшественник витамина А в организме).. У неочищенного (нерафинированного) растительного масла образуется осадок, содержащий очень полезные вещества — фосфолипи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Изображение 355"/>
          <p:cNvPicPr/>
          <p:nvPr/>
        </p:nvPicPr>
        <p:blipFill>
          <a:blip r:embed="rId1"/>
          <a:stretch/>
        </p:blipFill>
        <p:spPr>
          <a:xfrm>
            <a:off x="900000" y="4653000"/>
            <a:ext cx="4896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ОКОЛА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1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лавная составная часть шоколада — масло, которое выделяют из какао-бобов. Плоды этого диковинного дерева были завезены в Европу из Америки Христофором Колумбом. Ацтеки использовали их для приготовления особого напитка «чокоатль» («горькой воды»), отсюда и название «шоколад». Его употребляли в пищу с перцем. Испанские кондитеры уже в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. научились готовить и какао, и шоколад.  Сначала высушенные на солнце какао-бобы очищают — полируют специальными машинами или ступнями ног (у народов островов Атлантического океана эта процедура получила название «танец макао»). В мельницах бобы истирают в порошок и прессуют его — так выделяют какао-масло. В среднем какао-бобы содержат 53—57 % масла. Остаток от прессования, содержащий около 20 % масла, перерабатывают в какао-порошок. Полученное 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масло очищают и используют для производства шоколад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ао-масло при нормальных условиях твёрдое,   плавится около 34 °С в очень узком температурном интервале. Все знают, что хороший шоколад «тает во рту, а не в руках». Действительно, при нагреве почти до температуры плавления он сохраняет хрупкость, а, попадая в рот, легко тае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асто, когда плитки шоколада долго хранят, они рассыпаются или покрываются сероватым налётом, похожим на плесень. Однако это не означает» что шоколад не пригоден: химический состав его не изменился. Просто какао-масло перешло в другую модификацию (или же на поверхности проступили кристаллики сахара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0" descr="i"/>
          <p:cNvPicPr/>
          <p:nvPr/>
        </p:nvPicPr>
        <p:blipFill>
          <a:blip r:embed="rId1"/>
          <a:stretch/>
        </p:blipFill>
        <p:spPr>
          <a:xfrm>
            <a:off x="4643280" y="2205000"/>
            <a:ext cx="42498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ЕМ СЛАДКОЕ ЛУЧШЕ ЖИРНОГО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1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Физиологи установили, что при физической нагрузке, которая в 10 раз превышает привычную, человек, соблюдающий жировую диету» лишается сил уже через полтора часа. А вот углеводная диета позволяет выдержать такую же нагрузи в течение четырёх часов. Оказывается, получение организмом энергии из жиров — процесс длительный. Это объясняется малой реакционной способностью жиров, особенно их углеводородных цепей. Углеводы же, хотя и лают меньше энергии, чем жиры, однако выделяют её намного быстрее. Поэтому, если предстоит основательная физическая нагрузка, предпочтительнее подкрепиться сладким, а не жирны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p116729s"/>
          <p:cNvPicPr/>
          <p:nvPr/>
        </p:nvPicPr>
        <p:blipFill>
          <a:blip r:embed="rId1"/>
          <a:stretch/>
        </p:blipFill>
        <p:spPr>
          <a:xfrm>
            <a:off x="1042920" y="1844640"/>
            <a:ext cx="3024360" cy="1798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ny08_1_2"/>
          <p:cNvPicPr/>
          <p:nvPr/>
        </p:nvPicPr>
        <p:blipFill>
          <a:blip r:embed="rId2"/>
          <a:stretch/>
        </p:blipFill>
        <p:spPr>
          <a:xfrm>
            <a:off x="5572080" y="1643040"/>
            <a:ext cx="212904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ыл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е раннее описание мыловарения было обнаружено учеными на шумерских табличках, датируемых 2500 годом до н.э. Судя по этим записям мыло изготавливалось путем смеси воды и древесной золы, которую кипятили и в последствии растапливали в ней жир, получая тем самым мыльный раствор. Но, к сожалению, свидетельств применения данного раствора не сохрани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оссии мыло начали делать во времена Петра I, но вплоть до середины XIX века им пользовалась только знать. Крестьяне стирали и мылись щелоком - древесную золу заливали кипятком и распаривали в печке. Главным центром мыловарения был город Шуя, на его гербе даже изображен кусок мыла.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3966_s"/>
          <p:cNvPicPr/>
          <p:nvPr/>
        </p:nvPicPr>
        <p:blipFill>
          <a:blip r:embed="rId1"/>
          <a:stretch/>
        </p:blipFill>
        <p:spPr>
          <a:xfrm>
            <a:off x="5148360" y="2133720"/>
            <a:ext cx="3744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ополи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одиной применения прополиса в медицине считают Древний Египет. За несколько тысячелетий до нашей эры прополис хорошо был известен египетским жрецам, в чьих руках были сосредоточены медицина, химия и искусство мумифицировать трупы. Греки и римляне тоже применяли прополис как лечебное средство при некоторых заболевания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полис имеет очень сложный химический состав – более 284 соединений. Он обладает антибактериальными свойствами, укрепляет зубную эмаль и предотвращает появления кариеса. Также в прополисе содержится более 300 компонентов, по составу он близок к жирам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42443"/>
          <p:cNvPicPr/>
          <p:nvPr/>
        </p:nvPicPr>
        <p:blipFill>
          <a:blip r:embed="rId1"/>
          <a:stretch/>
        </p:blipFill>
        <p:spPr>
          <a:xfrm>
            <a:off x="4932360" y="2276640"/>
            <a:ext cx="3600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веч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спользование свечей происходит еще от древней арийской религии, которая использовала их в праздничной церемонии для того, чтобы отогнать богов грома, штормов и бури. Свечи сжигали, чтобы отогнать ведьм. Они приняли христианство через православную или католическую церковь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Китае и Японии свечи производили из воска. Его получали из насекомых и семян растений, а затем эту массу формовали в бумажные трубочки. В получившуюся восковую форму помещали фитиль, который изготавливали из волокон растений. Много столетий спустя, в 18 веке, фитиль стал хлопковым, и его заливали жиром или воском, а не вставляли в готовую свечу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степенно человечество перешло к использованию животного жира для получения воска. Также начали использовать и пчелиный воск, в основном из-за его аромата. Эти свечи были довольно дорогим удовольствием, но горели намного ярче, чем их собратья из жира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300x199_svechi2"/>
          <p:cNvPicPr/>
          <p:nvPr/>
        </p:nvPicPr>
        <p:blipFill>
          <a:blip r:embed="rId1"/>
          <a:stretch/>
        </p:blipFill>
        <p:spPr>
          <a:xfrm>
            <a:off x="4757760" y="2349360"/>
            <a:ext cx="40622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35-01-28T13:38:35Z</dcterms:created>
  <dc:creator>Peter</dc:creator>
  <dc:description/>
  <dc:language>en-US</dc:language>
  <cp:lastModifiedBy>Юлия</cp:lastModifiedBy>
  <dcterms:modified xsi:type="dcterms:W3CDTF">2020-11-25T06:51:51Z</dcterms:modified>
  <cp:revision>32</cp:revision>
  <dc:subject/>
  <dc:title>История открытия жиров</dc:title>
</cp:coreProperties>
</file>