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5E07-3703-40B6-9466-51B0F49A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7515-005F-43FC-811C-51C6D31B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6E9B-43B0-46DD-A71C-A936EC10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19E7-3752-4CE7-8A82-AF9BB00D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BCB5-2839-417A-8E89-A5B7FE4B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E8F6-52C0-4258-B866-E874B48B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DD74-5BAD-4A28-BD72-4B5963BF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0E30-D173-4D66-9F0E-D513AA7C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A114-6188-441B-985F-7484C001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2598-5721-4075-8BBA-11B31A96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26E2-65D3-4E57-861C-6C784C38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1A84-1E51-43D5-AC01-61AFECCF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67C7-E1C3-452F-AE5E-87FE6EF2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4C1C-81ED-4933-BAEA-FF317C93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FAB7-0A37-4E2B-82E2-1D704BD2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5A06-1E69-469D-9A6F-E7A55839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805F-C63E-43DA-8697-D553B194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8AA4-858C-45A7-B547-CE5E1344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4D1B-FCF9-4410-AF28-E051D979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FFEB-5B61-47ED-B3B7-DC02C280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1DE5-A6EB-4DAF-9084-890DDC92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A5A6-E58D-4AB6-AF00-53C49B8B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5B36-092B-4171-B4CC-101EF809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0743-9298-4E07-8AD2-75BF7EA0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17D9-53E6-468F-B16E-25D00E8190F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D123-7C52-4F6C-8F9D-5906041F54A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742968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Применение жиров, биологическая роль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Picture 5" descr="Изображение 361"/>
          <p:cNvPicPr/>
          <p:nvPr/>
        </p:nvPicPr>
        <p:blipFill>
          <a:blip r:embed="rId1"/>
          <a:stretch/>
        </p:blipFill>
        <p:spPr>
          <a:xfrm>
            <a:off x="324000" y="2852640"/>
            <a:ext cx="691200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арфюмер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 период Новой Империи (1580-1085 годы до н.э.) ароматы стали объектом светского применения. Женщины использовали мази и парфюмированные масла для своих туалетов или для омоложения, не обходились без них и во время любовных ритуалов. Мази и бальзамы применялись не только для ароматизации, но и в лечебных и косметических целях: ими лечили ожоги, раны, смягчали и очищали кожу. Как уже было сказано, спирта древние египтяне не знали, поэтому в качестве основы для мазей использовали растительные масла и животный жир. В бальзамы и мази часто добавляли красители, чтобы придать им более эстетичный вид. Хранились они в вазах или керамических флакончиках в виде животных. Позднее флаконы стали делать из стекл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31088"/>
          <p:cNvPicPr/>
          <p:nvPr/>
        </p:nvPicPr>
        <p:blipFill>
          <a:blip r:embed="rId1"/>
          <a:stretch/>
        </p:blipFill>
        <p:spPr>
          <a:xfrm>
            <a:off x="4716360" y="2205000"/>
            <a:ext cx="294192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ас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Археологи утверждают, что краскам не много, не мало… 17000 тысяч лет. Для придания наскальному рисунку цвета первобытные люди использовали охру - желтый пигмент, в составе которого содержится глина и гидроксид железа. Мы не склонны думать, что в разговорах неандертальцев присутствовали эти слова, и беседы после охоты на мамонта сводились к химическому анализу красящего вещества, но применялись краски умело и их оттенки могли меняться в зависимости от количества добавленного в них древесного угля. Уже в те времена "живописцы" понимали, что для удержания краски на камне необходим связующий элемент. Таким элементом стал животный жир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302"/>
          <p:cNvPicPr/>
          <p:nvPr/>
        </p:nvPicPr>
        <p:blipFill>
          <a:blip r:embed="rId1"/>
          <a:stretch/>
        </p:blipFill>
        <p:spPr>
          <a:xfrm>
            <a:off x="4932360" y="2347920"/>
            <a:ext cx="3527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рм для животны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ительные количества твердых и мягких технических жиров добавляют в корма животных, чтобы улучшить вкус кормов и облегчить их гранулиров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ры входят как обязательные компоненты в состав протоплазмы и играют важную роль в клеточном обмене. Они являются наиболее концентрированными источниками энергии для организма птицы, Содержание жира в кормах колеблется в очень широких пределах. Например, кукуруза и овес содержат 5—6 % жира, а в семенах пшеницы и ржи его всего 1—2 %, очень много жира содержится в семенах льна и подсолнечника, 30—40 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Глицери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Glycerin (глицерин) – органическое соединение, относящееся к полиолам — спиртам, содержащим в молекуле несколько гидроксильных групп. Это прозрачная, сиропообразная жидкость, полученная путем химического соединения воды и жира. Глицерин - основа всех жи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ицерин с его уникальными физическими и химическими свойствами имеет широкое применение в различных областях промышленности. Наибольшее количество глицерина используют для производства пластических масс, медицинских препаратов, табачных изделий, моющих и косметических сред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9" descr="IMG_0137"/>
          <p:cNvPicPr/>
          <p:nvPr/>
        </p:nvPicPr>
        <p:blipFill>
          <a:blip r:embed="rId1"/>
          <a:stretch/>
        </p:blipFill>
        <p:spPr>
          <a:xfrm>
            <a:off x="5003640" y="1052640"/>
            <a:ext cx="282132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менение жиров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52" name="Organization Chart 7"/>
          <p:cNvGrpSpPr/>
          <p:nvPr/>
        </p:nvGrpSpPr>
        <p:grpSpPr>
          <a:xfrm>
            <a:off x="611280" y="1700280"/>
            <a:ext cx="7780680" cy="4257720"/>
            <a:chOff x="611280" y="1700280"/>
            <a:chExt cx="7780680" cy="4257720"/>
          </a:xfrm>
        </p:grpSpPr>
        <p:cxnSp>
          <p:nvCxnSpPr>
            <p:cNvPr id="153" name="_s1028"/>
            <p:cNvCxnSpPr>
              <a:stCxn id="154" idx="0"/>
              <a:endCxn id="155" idx="2"/>
            </p:cNvCxnSpPr>
            <p:nvPr/>
          </p:nvCxnSpPr>
          <p:spPr>
            <a:xfrm flipH="1" flipV="1" rot="5400000">
              <a:off x="3409200" y="3546360"/>
              <a:ext cx="1256400" cy="1092240"/>
            </a:xfrm>
            <a:prstGeom prst="bentConnector3">
              <a:avLst>
                <a:gd name="adj1" fmla="val 9057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56" name="_s1029"/>
            <p:cNvCxnSpPr>
              <a:stCxn id="157" idx="0"/>
              <a:endCxn id="155" idx="2"/>
            </p:cNvCxnSpPr>
            <p:nvPr/>
          </p:nvCxnSpPr>
          <p:spPr>
            <a:xfrm flipV="1" rot="16200000">
              <a:off x="4417920" y="3629160"/>
              <a:ext cx="1256400" cy="925920"/>
            </a:xfrm>
            <a:prstGeom prst="bentConnector3">
              <a:avLst>
                <a:gd name="adj1" fmla="val 9057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58" name="_s1030"/>
            <p:cNvCxnSpPr>
              <a:stCxn id="159" idx="0"/>
              <a:endCxn id="155" idx="2"/>
            </p:cNvCxnSpPr>
            <p:nvPr/>
          </p:nvCxnSpPr>
          <p:spPr>
            <a:xfrm rot="5400000">
              <a:off x="5279040" y="1217520"/>
              <a:ext cx="1550880" cy="2943720"/>
            </a:xfrm>
            <a:prstGeom prst="bentConnector5">
              <a:avLst>
                <a:gd name="adj1" fmla="val -7360"/>
                <a:gd name="adj2" fmla="val 43786"/>
                <a:gd name="adj3" fmla="val 11472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60" name="_s1031"/>
            <p:cNvCxnSpPr>
              <a:stCxn id="161" idx="0"/>
              <a:endCxn id="155" idx="2"/>
            </p:cNvCxnSpPr>
            <p:nvPr/>
          </p:nvCxnSpPr>
          <p:spPr>
            <a:xfrm rot="5400000">
              <a:off x="6036120" y="1974600"/>
              <a:ext cx="36720" cy="2943720"/>
            </a:xfrm>
            <a:prstGeom prst="bentConnector5">
              <a:avLst>
                <a:gd name="adj1" fmla="val -312871"/>
                <a:gd name="adj2" fmla="val 43762"/>
                <a:gd name="adj3" fmla="val 725742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62" name="_s1032"/>
            <p:cNvCxnSpPr>
              <a:stCxn id="163" idx="0"/>
              <a:endCxn id="155" idx="2"/>
            </p:cNvCxnSpPr>
            <p:nvPr/>
          </p:nvCxnSpPr>
          <p:spPr>
            <a:xfrm flipH="1" rot="16200000">
              <a:off x="2365200" y="1245240"/>
              <a:ext cx="1330200" cy="3107160"/>
            </a:xfrm>
            <a:prstGeom prst="bentConnector5">
              <a:avLst>
                <a:gd name="adj1" fmla="val -8581"/>
                <a:gd name="adj2" fmla="val 43962"/>
                <a:gd name="adj3" fmla="val 117162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64" name="_s1033"/>
            <p:cNvCxnSpPr>
              <a:stCxn id="165" idx="0"/>
              <a:endCxn id="155" idx="2"/>
            </p:cNvCxnSpPr>
            <p:nvPr/>
          </p:nvCxnSpPr>
          <p:spPr>
            <a:xfrm flipV="1" rot="16200000">
              <a:off x="5426640" y="2620440"/>
              <a:ext cx="1256400" cy="2943720"/>
            </a:xfrm>
            <a:prstGeom prst="bentConnector3">
              <a:avLst>
                <a:gd name="adj1" fmla="val 9085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66" name="_s1034"/>
            <p:cNvCxnSpPr>
              <a:stCxn id="167" idx="0"/>
              <a:endCxn id="155" idx="2"/>
            </p:cNvCxnSpPr>
            <p:nvPr/>
          </p:nvCxnSpPr>
          <p:spPr>
            <a:xfrm flipH="1" flipV="1" rot="5400000">
              <a:off x="2401920" y="2538720"/>
              <a:ext cx="1256400" cy="3107160"/>
            </a:xfrm>
            <a:prstGeom prst="bentConnector3">
              <a:avLst>
                <a:gd name="adj1" fmla="val 9085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68" name="_s1035"/>
            <p:cNvCxnSpPr>
              <a:stCxn id="169" idx="0"/>
              <a:endCxn id="155" idx="2"/>
            </p:cNvCxnSpPr>
            <p:nvPr/>
          </p:nvCxnSpPr>
          <p:spPr>
            <a:xfrm flipH="1" rot="16200000">
              <a:off x="3012120" y="1892880"/>
              <a:ext cx="36720" cy="3107160"/>
            </a:xfrm>
            <a:prstGeom prst="bentConnector5">
              <a:avLst>
                <a:gd name="adj1" fmla="val -312871"/>
                <a:gd name="adj2" fmla="val 43962"/>
                <a:gd name="adj3" fmla="val 725742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55" name="_s1036"/>
            <p:cNvSpPr/>
            <p:nvPr/>
          </p:nvSpPr>
          <p:spPr>
            <a:xfrm>
              <a:off x="3349080" y="1700280"/>
              <a:ext cx="2468520" cy="176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Жи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37"/>
            <p:cNvSpPr/>
            <p:nvPr/>
          </p:nvSpPr>
          <p:spPr>
            <a:xfrm>
              <a:off x="611280" y="3428280"/>
              <a:ext cx="1728720" cy="1132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н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 пищ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038"/>
            <p:cNvSpPr/>
            <p:nvPr/>
          </p:nvSpPr>
          <p:spPr>
            <a:xfrm>
              <a:off x="611280" y="4720320"/>
              <a:ext cx="1728720" cy="113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оизводств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мыл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039"/>
            <p:cNvSpPr/>
            <p:nvPr/>
          </p:nvSpPr>
          <p:spPr>
            <a:xfrm>
              <a:off x="6660720" y="4720320"/>
              <a:ext cx="1728000" cy="113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оизводств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крас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40"/>
            <p:cNvSpPr/>
            <p:nvPr/>
          </p:nvSpPr>
          <p:spPr>
            <a:xfrm>
              <a:off x="611280" y="2134800"/>
              <a:ext cx="1728720" cy="113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 медицин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041"/>
            <p:cNvSpPr/>
            <p:nvPr/>
          </p:nvSpPr>
          <p:spPr>
            <a:xfrm>
              <a:off x="6660720" y="3428280"/>
              <a:ext cx="1728000" cy="1132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Корм дл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животных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042"/>
            <p:cNvSpPr/>
            <p:nvPr/>
          </p:nvSpPr>
          <p:spPr>
            <a:xfrm>
              <a:off x="6660720" y="1914120"/>
              <a:ext cx="1731240" cy="1237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оизводство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вече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43"/>
            <p:cNvSpPr/>
            <p:nvPr/>
          </p:nvSpPr>
          <p:spPr>
            <a:xfrm>
              <a:off x="4642920" y="4720320"/>
              <a:ext cx="1728720" cy="1237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оизводство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глицери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44"/>
            <p:cNvSpPr/>
            <p:nvPr/>
          </p:nvSpPr>
          <p:spPr>
            <a:xfrm>
              <a:off x="2625840" y="4720320"/>
              <a:ext cx="1728720" cy="1237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арфюмери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9440" y="137880"/>
            <a:ext cx="740412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ЖИРЫ,</a:t>
            </a:r>
            <a:br>
              <a:rPr sz="3500"/>
            </a:b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ЭНЕРГИЯ И ПИТАНИ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ры наряду с белками и углеводами составляют основу питания человека. Они — самый эффективный источник энергии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 жиров при полном окислении в клетках организма дает 9,5 ккал (40 кДж) энергии. Это вдвое больше, чем можно получить из белков или углеводов. Для сравнения: сгорание 1 г бензина даёт 42 кДж, 1 г каменного угля — 31 кДж, 1 г сухой древесины — 15 кДж. Так что жир по праву следует считать высококалорийным «топливом». Оно расходуется преимущественно для поддержания нормальной температуры нашего тела, а также на работу различных мышц. Даже когда человек спит, ему на покрытие энергетических расходов (так называемый основной об­мен) каждый час требуется около 350 кДж энергии; примерно такова ж мощность электрической 100-ваттной лампоч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рная пища с незапамятных времён ассоциировалась с богатством, благополучием. В Библии она упоминается под названием «тук», причём нередко в иносказательном смысле — для обозначения отборных продуктов. «...Я дам вам. лучшее в земле Египетской, — говорит фараон Иосифу, — и вы будете есть тук земли» (Быт. 45.18). На средневековых пирах основным блюдом было жирное мясо. Согласно словарю В. И. Даля. т. 'Руси тучными называли упитанных здоровых людей, а также обильные плодоносные поля и луга. На кар­тинах Рубенса можно видеть множество тучных фигур,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оли­цетворявших красоту, богатство и благополучие. Прошло время, и вкусы изменились: на порог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X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летия эталоном красоты и здоровья служат не тучные, как сотни лет назад, а стройные спортивные фиг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КОЛЬКО И КАКИХ ЖИРОВ НАДО ЧЕЛОВЕКУ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0643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отребление пищи без жира ведёт к нарушениям деятельности центральной нервной системы, ослаблению иммунит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правильном питании примерно треть потребляемых человеком жиров должны составлять жидкие растительные — в них содержатся ненасыщенные жирные кислоты, которые  обладают наибольшей биологической активностью. Организм человека синтезировать такие кислоты не может и должен получать их готовые с пищей (как витамины). По аналогии с аминокислотами полиненасыщенные жирные кислоты получили название «незаменимых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ь в жирах полезные компоненты. Например, подсолнечное масло  богато токоферолом (витамином Е).  В сливочном масле, особенно из «летнего» молока, немало оранжево-жёлтого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каротина (это предшественник витамина А в организме).. У неочищенного (нерафинированного) растительного масла образуется осадок, содержащий очень полезные вещества — фосфолипи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Изображение 355"/>
          <p:cNvPicPr/>
          <p:nvPr/>
        </p:nvPicPr>
        <p:blipFill>
          <a:blip r:embed="rId1"/>
          <a:stretch/>
        </p:blipFill>
        <p:spPr>
          <a:xfrm>
            <a:off x="900000" y="4653000"/>
            <a:ext cx="4896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ОКОЛАД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41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лавная составная часть шоколада — масло, которое выделяют из какао-бобов. Плоды этого диковинного дерева были завезены в Европу из Америки Христофором Колумбом. Ацтеки использовали их для приготовления особого напитка «чокоатль» («горькой воды»), отсюда и название «шоколад». Его употребляли в пищу с перцем. Испанские кондитеры уже в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. научились готовить и какао, и шоколад.  Сначала высушенные на солнце какао-бобы очищают — полируют специальными машинами или ступнями ног (у народов островов Атлантического океана эта процедура получила название «танец макао»). В мельницах бобы истирают в порошок и прессуют его — так выделяют какао-масло. В среднем какао-бобы содержат 53—57 % масла. Остаток от прессования, содержащий около 20 % масла, перерабатывают в какао-порошок. Полученное 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масло очищают и используют для производства шоколад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као-масло при нормальных условиях твёрдое,   плавится около 34 °С в очень узком температурном интервале. Все знают, что хороший шоколад «тает во рту, а не в руках». Действительно, при нагреве почти до температуры плавления он сохраняет хрупкость, а, попадая в рот, легко тае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асто, когда плитки шоколада долго хранят, они рассыпаются или покрываются сероватым налётом, похожим на плесень. Однако это не означает» что шоколад не пригоден: химический состав его не изменился. Просто какао-масло перешло в другую модификацию (или же на поверхности проступили кристаллики сахара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0" descr="i"/>
          <p:cNvPicPr/>
          <p:nvPr/>
        </p:nvPicPr>
        <p:blipFill>
          <a:blip r:embed="rId1"/>
          <a:stretch/>
        </p:blipFill>
        <p:spPr>
          <a:xfrm>
            <a:off x="4643280" y="2205000"/>
            <a:ext cx="42498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ЧЕМ СЛАДКОЕ ЛУЧШЕ ЖИРНОГО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1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Физиологи установили, что при физической нагрузке, которая в 10 раз превышает привычную, человек, соблюдающий жировую диету» лишается сил уже через полтора часа. А вот углеводная диета позволяет выдержать такую же нагрузи в течение четырёх часов. Оказывается, получение организмом энергии из жиров — процесс длительный. Это объясняется малой реакционной способностью жиров, особенно их углеводородных цепей. Углеводы же, хотя и лают меньше энергии, чем жиры, однако выделяют её намного быстрее. Поэтому, если предстоит основательная физическая нагрузка, предпочтительнее подкрепиться сладким, а не жирны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p116729s"/>
          <p:cNvPicPr/>
          <p:nvPr/>
        </p:nvPicPr>
        <p:blipFill>
          <a:blip r:embed="rId1"/>
          <a:stretch/>
        </p:blipFill>
        <p:spPr>
          <a:xfrm>
            <a:off x="1042920" y="1844640"/>
            <a:ext cx="3024360" cy="1798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ny08_1_2"/>
          <p:cNvPicPr/>
          <p:nvPr/>
        </p:nvPicPr>
        <p:blipFill>
          <a:blip r:embed="rId2"/>
          <a:stretch/>
        </p:blipFill>
        <p:spPr>
          <a:xfrm>
            <a:off x="5572080" y="1643040"/>
            <a:ext cx="212904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ыл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е раннее описание мыловарения было обнаружено учеными на шумерских табличках, датируемых 2500 годом до н.э. Судя по этим записям мыло изготавливалось путем смеси воды и древесной золы, которую кипятили и в последствии растапливали в ней жир, получая тем самым мыльный раствор. Но, к сожалению, свидетельств применения данного раствора не сохранило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России мыло начали делать во времена Петра I, но вплоть до середины XIX века им пользовалась только знать. Крестьяне стирали и мылись щелоком - древесную золу заливали кипятком и распаривали в печке. Главным центром мыловарения был город Шуя, на его гербе даже изображен кусок мыла.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3966_s"/>
          <p:cNvPicPr/>
          <p:nvPr/>
        </p:nvPicPr>
        <p:blipFill>
          <a:blip r:embed="rId1"/>
          <a:stretch/>
        </p:blipFill>
        <p:spPr>
          <a:xfrm>
            <a:off x="5148360" y="2133720"/>
            <a:ext cx="37447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ополи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одиной применения прополиса в медицине считают Древний Египет. За несколько тысячелетий до нашей эры прополис хорошо был известен египетским жрецам, в чьих руках были сосредоточены медицина, химия и искусство мумифицировать трупы. Греки и римляне тоже применяли прополис как лечебное средство при некоторых заболевания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полис имеет очень сложный химический состав – более 284 соединений. Он обладает антибактериальными свойствами, укрепляет зубную эмаль и предотвращает появления кариеса. Также в прополисе содержится более 300 компонентов, по составу он близок к жирам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42443"/>
          <p:cNvPicPr/>
          <p:nvPr/>
        </p:nvPicPr>
        <p:blipFill>
          <a:blip r:embed="rId1"/>
          <a:stretch/>
        </p:blipFill>
        <p:spPr>
          <a:xfrm>
            <a:off x="4932360" y="2276640"/>
            <a:ext cx="3600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веч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Использование свечей происходит еще от древней арийской религии, которая использовала их в праздничной церемонии для того, чтобы отогнать богов грома, штормов и бури. Свечи сжигали, чтобы отогнать ведьм. Они приняли христианство через православную или католическую церковь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 Китае и Японии свечи производили из воска. Его получали из насекомых и семян растений, а затем эту массу формовали в бумажные трубочки. В получившуюся восковую форму помещали фитиль, который изготавливали из волокон растений. Много столетий спустя, в 18 веке, фитиль стал хлопковым, и его заливали жиром или воском, а не вставляли в готовую свечу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остепенно человечество перешло к использованию животного жира для получения воска. Также начали использовать и пчелиный воск, в основном из-за его аромата. Эти свечи были довольно дорогим удовольствием, но горели намного ярче, чем их собратья из жира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" descr="300x199_svechi2"/>
          <p:cNvPicPr/>
          <p:nvPr/>
        </p:nvPicPr>
        <p:blipFill>
          <a:blip r:embed="rId1"/>
          <a:stretch/>
        </p:blipFill>
        <p:spPr>
          <a:xfrm>
            <a:off x="4757760" y="2349360"/>
            <a:ext cx="40622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35-01-28T13:38:35Z</dcterms:created>
  <dc:creator>Peter</dc:creator>
  <dc:description/>
  <dc:language>en-US</dc:language>
  <cp:lastModifiedBy>Юлия</cp:lastModifiedBy>
  <dcterms:modified xsi:type="dcterms:W3CDTF">2020-11-25T06:51:51Z</dcterms:modified>
  <cp:revision>32</cp:revision>
  <dc:subject/>
  <dc:title>История открытия жиров</dc:title>
</cp:coreProperties>
</file>