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FDEE-6C54-4B27-9894-17A9402C2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552B-62A7-4A6D-BE7A-CC0B256EE6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430-2929-4BC3-9AE2-21C18E0E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C93-3AF8-42CE-8250-A6385233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673-C3D8-4D9B-B030-9290BC55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05C-B205-4CE2-A6C2-90EA7E07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EAD3-39A5-44FE-9E01-6F473591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A430-1F93-4C47-B675-6A719DBE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06D2-5D27-41A2-97B9-A62322AE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6215-E801-46EF-ABE2-16ABB8E2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651D-A1A7-4D92-9D11-561E8611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68E1-A495-4572-AA7E-722A58AF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8E77-2D97-4B15-B42F-98082912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C6C-D094-43E0-848C-581305E9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50F8-7F9A-45CA-BBF9-6016C990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603F-D8A8-4EF1-B2E3-A9217014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97C1-C4B2-4B99-B935-10BE0704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B53B-F442-4817-914F-ADEEE458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F414-C833-4B57-BFAF-B611B227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DA4-A2AB-4C47-A2A1-43AEE3C8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B6A-E235-4690-A0C4-15ABCD24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586-85CC-4629-81F6-C0243DE4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3C9-2DF4-4A8B-A7AF-226D0F1F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FAB-0E3F-4638-9CC3-DBA2777D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D07-E904-4337-8DF3-2705761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70A-100B-4044-8540-FCB970AF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5C7E-F2EE-4E46-A22E-08597D02F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1A5E-F663-41B6-A4F6-6858AA20F8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ff"/>
            </a:gs>
            <a:gs pos="5000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547560"/>
            <a:ext cx="8001000" cy="96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  <a:ea typeface="Arial"/>
              </a:rPr>
              <a:t>Методы оживления организма и поддержания жизни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85800" y="265284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ремя, в течение которого человек при нормальной температуре тела может жить без кровообращения, составляет лишь 4 – 5 мину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6781680" y="6019920"/>
            <a:ext cx="712800" cy="16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7086600" y="5638680"/>
            <a:ext cx="46080" cy="389160"/>
          </a:xfrm>
          <a:custGeom>
            <a:avLst/>
            <a:gdLst>
              <a:gd name="textAreaLeft" fmla="*/ 0 w 46080"/>
              <a:gd name="textAreaRight" fmla="*/ 46440 w 4608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72" h="612">
                <a:moveTo>
                  <a:pt x="27" y="0"/>
                </a:moveTo>
                <a:cubicBezTo>
                  <a:pt x="72" y="136"/>
                  <a:pt x="9" y="256"/>
                  <a:pt x="3" y="384"/>
                </a:cubicBezTo>
                <a:cubicBezTo>
                  <a:pt x="0" y="460"/>
                  <a:pt x="3" y="536"/>
                  <a:pt x="3" y="612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934320" y="5546880"/>
            <a:ext cx="450720" cy="91800"/>
          </a:xfrm>
          <a:custGeom>
            <a:avLst/>
            <a:gdLst>
              <a:gd name="textAreaLeft" fmla="*/ 0 w 450720"/>
              <a:gd name="textAreaRight" fmla="*/ 451080 w 4507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710" h="146">
                <a:moveTo>
                  <a:pt x="35" y="15"/>
                </a:moveTo>
                <a:cubicBezTo>
                  <a:pt x="45" y="22"/>
                  <a:pt x="58" y="24"/>
                  <a:pt x="67" y="31"/>
                </a:cubicBezTo>
                <a:cubicBezTo>
                  <a:pt x="101" y="58"/>
                  <a:pt x="53" y="39"/>
                  <a:pt x="93" y="52"/>
                </a:cubicBezTo>
                <a:cubicBezTo>
                  <a:pt x="108" y="62"/>
                  <a:pt x="117" y="72"/>
                  <a:pt x="134" y="78"/>
                </a:cubicBezTo>
                <a:cubicBezTo>
                  <a:pt x="151" y="94"/>
                  <a:pt x="169" y="97"/>
                  <a:pt x="192" y="104"/>
                </a:cubicBezTo>
                <a:cubicBezTo>
                  <a:pt x="235" y="118"/>
                  <a:pt x="279" y="132"/>
                  <a:pt x="322" y="146"/>
                </a:cubicBezTo>
                <a:cubicBezTo>
                  <a:pt x="381" y="142"/>
                  <a:pt x="428" y="136"/>
                  <a:pt x="484" y="125"/>
                </a:cubicBezTo>
                <a:cubicBezTo>
                  <a:pt x="524" y="117"/>
                  <a:pt x="496" y="124"/>
                  <a:pt x="526" y="114"/>
                </a:cubicBezTo>
                <a:cubicBezTo>
                  <a:pt x="536" y="111"/>
                  <a:pt x="557" y="104"/>
                  <a:pt x="557" y="104"/>
                </a:cubicBezTo>
                <a:cubicBezTo>
                  <a:pt x="566" y="96"/>
                  <a:pt x="661" y="59"/>
                  <a:pt x="682" y="52"/>
                </a:cubicBezTo>
                <a:cubicBezTo>
                  <a:pt x="698" y="36"/>
                  <a:pt x="710" y="30"/>
                  <a:pt x="682" y="21"/>
                </a:cubicBezTo>
                <a:cubicBezTo>
                  <a:pt x="566" y="26"/>
                  <a:pt x="450" y="32"/>
                  <a:pt x="333" y="36"/>
                </a:cubicBezTo>
                <a:cubicBezTo>
                  <a:pt x="224" y="29"/>
                  <a:pt x="130" y="20"/>
                  <a:pt x="25" y="0"/>
                </a:cubicBezTo>
                <a:cubicBezTo>
                  <a:pt x="0" y="8"/>
                  <a:pt x="4" y="3"/>
                  <a:pt x="35" y="15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6553080" y="4648320"/>
            <a:ext cx="1187280" cy="1853640"/>
            <a:chOff x="6553080" y="4648320"/>
            <a:chExt cx="1187280" cy="1853640"/>
          </a:xfrm>
        </p:grpSpPr>
        <p:sp>
          <p:nvSpPr>
            <p:cNvPr id="159" name="Oval 8"/>
            <p:cNvSpPr/>
            <p:nvPr/>
          </p:nvSpPr>
          <p:spPr>
            <a:xfrm>
              <a:off x="6781680" y="4724280"/>
              <a:ext cx="685800" cy="914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>
              <a:off x="7588080" y="4728960"/>
              <a:ext cx="0" cy="1531440"/>
            </a:xfrm>
            <a:prstGeom prst="line">
              <a:avLst/>
            </a:prstGeom>
            <a:ln w="31680">
              <a:solidFill>
                <a:srgbClr val="c285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6672240" y="4728960"/>
              <a:ext cx="0" cy="1531440"/>
            </a:xfrm>
            <a:prstGeom prst="line">
              <a:avLst/>
            </a:prstGeom>
            <a:ln w="31680">
              <a:solidFill>
                <a:srgbClr val="c285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6553080" y="6179760"/>
              <a:ext cx="1187280" cy="322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6553080" y="4648320"/>
              <a:ext cx="1187280" cy="240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3"/>
            <p:cNvSpPr/>
            <p:nvPr/>
          </p:nvSpPr>
          <p:spPr>
            <a:xfrm>
              <a:off x="7468920" y="4889160"/>
              <a:ext cx="0" cy="1612800"/>
            </a:xfrm>
            <a:prstGeom prst="line">
              <a:avLst/>
            </a:prstGeom>
            <a:ln w="31680">
              <a:solidFill>
                <a:srgbClr val="c285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6877080" y="5454360"/>
              <a:ext cx="474480" cy="80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6778440" y="6130800"/>
              <a:ext cx="677880" cy="29160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1069" h="461">
                  <a:moveTo>
                    <a:pt x="15" y="33"/>
                  </a:moveTo>
                  <a:cubicBezTo>
                    <a:pt x="32" y="77"/>
                    <a:pt x="36" y="140"/>
                    <a:pt x="73" y="174"/>
                  </a:cubicBezTo>
                  <a:cubicBezTo>
                    <a:pt x="87" y="218"/>
                    <a:pt x="133" y="263"/>
                    <a:pt x="167" y="294"/>
                  </a:cubicBezTo>
                  <a:cubicBezTo>
                    <a:pt x="179" y="333"/>
                    <a:pt x="264" y="389"/>
                    <a:pt x="302" y="404"/>
                  </a:cubicBezTo>
                  <a:cubicBezTo>
                    <a:pt x="328" y="428"/>
                    <a:pt x="363" y="435"/>
                    <a:pt x="396" y="445"/>
                  </a:cubicBezTo>
                  <a:cubicBezTo>
                    <a:pt x="412" y="450"/>
                    <a:pt x="443" y="461"/>
                    <a:pt x="443" y="461"/>
                  </a:cubicBezTo>
                  <a:cubicBezTo>
                    <a:pt x="554" y="457"/>
                    <a:pt x="652" y="448"/>
                    <a:pt x="756" y="414"/>
                  </a:cubicBezTo>
                  <a:cubicBezTo>
                    <a:pt x="785" y="405"/>
                    <a:pt x="761" y="406"/>
                    <a:pt x="782" y="393"/>
                  </a:cubicBezTo>
                  <a:cubicBezTo>
                    <a:pt x="799" y="383"/>
                    <a:pt x="821" y="368"/>
                    <a:pt x="840" y="362"/>
                  </a:cubicBezTo>
                  <a:cubicBezTo>
                    <a:pt x="875" y="323"/>
                    <a:pt x="821" y="379"/>
                    <a:pt x="866" y="346"/>
                  </a:cubicBezTo>
                  <a:cubicBezTo>
                    <a:pt x="876" y="339"/>
                    <a:pt x="883" y="329"/>
                    <a:pt x="892" y="320"/>
                  </a:cubicBezTo>
                  <a:cubicBezTo>
                    <a:pt x="897" y="315"/>
                    <a:pt x="907" y="304"/>
                    <a:pt x="907" y="304"/>
                  </a:cubicBezTo>
                  <a:cubicBezTo>
                    <a:pt x="915" y="283"/>
                    <a:pt x="935" y="280"/>
                    <a:pt x="949" y="258"/>
                  </a:cubicBezTo>
                  <a:cubicBezTo>
                    <a:pt x="955" y="237"/>
                    <a:pt x="971" y="220"/>
                    <a:pt x="986" y="205"/>
                  </a:cubicBezTo>
                  <a:cubicBezTo>
                    <a:pt x="992" y="187"/>
                    <a:pt x="1004" y="167"/>
                    <a:pt x="1017" y="153"/>
                  </a:cubicBezTo>
                  <a:cubicBezTo>
                    <a:pt x="1024" y="132"/>
                    <a:pt x="1038" y="116"/>
                    <a:pt x="1048" y="96"/>
                  </a:cubicBezTo>
                  <a:cubicBezTo>
                    <a:pt x="1060" y="72"/>
                    <a:pt x="1063" y="44"/>
                    <a:pt x="1069" y="18"/>
                  </a:cubicBezTo>
                  <a:cubicBezTo>
                    <a:pt x="1048" y="10"/>
                    <a:pt x="1036" y="25"/>
                    <a:pt x="1012" y="33"/>
                  </a:cubicBezTo>
                  <a:cubicBezTo>
                    <a:pt x="958" y="50"/>
                    <a:pt x="907" y="58"/>
                    <a:pt x="850" y="64"/>
                  </a:cubicBezTo>
                  <a:cubicBezTo>
                    <a:pt x="713" y="103"/>
                    <a:pt x="563" y="95"/>
                    <a:pt x="422" y="101"/>
                  </a:cubicBezTo>
                  <a:cubicBezTo>
                    <a:pt x="361" y="94"/>
                    <a:pt x="301" y="79"/>
                    <a:pt x="240" y="70"/>
                  </a:cubicBezTo>
                  <a:cubicBezTo>
                    <a:pt x="195" y="53"/>
                    <a:pt x="150" y="51"/>
                    <a:pt x="104" y="38"/>
                  </a:cubicBezTo>
                  <a:cubicBezTo>
                    <a:pt x="88" y="34"/>
                    <a:pt x="73" y="28"/>
                    <a:pt x="57" y="23"/>
                  </a:cubicBezTo>
                  <a:cubicBezTo>
                    <a:pt x="52" y="21"/>
                    <a:pt x="41" y="18"/>
                    <a:pt x="41" y="18"/>
                  </a:cubicBezTo>
                  <a:cubicBezTo>
                    <a:pt x="27" y="3"/>
                    <a:pt x="20" y="0"/>
                    <a:pt x="0" y="7"/>
                  </a:cubicBezTo>
                  <a:cubicBezTo>
                    <a:pt x="6" y="27"/>
                    <a:pt x="1" y="19"/>
                    <a:pt x="15" y="33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"/>
            <p:cNvSpPr/>
            <p:nvPr/>
          </p:nvSpPr>
          <p:spPr>
            <a:xfrm>
              <a:off x="6781680" y="5638680"/>
              <a:ext cx="685800" cy="761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6858000" y="4876560"/>
              <a:ext cx="0" cy="1612440"/>
            </a:xfrm>
            <a:prstGeom prst="line">
              <a:avLst/>
            </a:prstGeom>
            <a:ln w="31680">
              <a:solidFill>
                <a:srgbClr val="c285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8"/>
            <p:cNvSpPr/>
            <p:nvPr/>
          </p:nvSpPr>
          <p:spPr>
            <a:xfrm>
              <a:off x="7003800" y="5871960"/>
              <a:ext cx="266760" cy="1868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68" h="118">
                  <a:moveTo>
                    <a:pt x="65" y="3"/>
                  </a:moveTo>
                  <a:cubicBezTo>
                    <a:pt x="72" y="23"/>
                    <a:pt x="70" y="12"/>
                    <a:pt x="65" y="45"/>
                  </a:cubicBezTo>
                  <a:cubicBezTo>
                    <a:pt x="64" y="49"/>
                    <a:pt x="62" y="61"/>
                    <a:pt x="62" y="57"/>
                  </a:cubicBezTo>
                  <a:cubicBezTo>
                    <a:pt x="62" y="47"/>
                    <a:pt x="66" y="39"/>
                    <a:pt x="69" y="30"/>
                  </a:cubicBezTo>
                  <a:cubicBezTo>
                    <a:pt x="61" y="0"/>
                    <a:pt x="70" y="22"/>
                    <a:pt x="46" y="30"/>
                  </a:cubicBezTo>
                  <a:cubicBezTo>
                    <a:pt x="36" y="46"/>
                    <a:pt x="29" y="61"/>
                    <a:pt x="19" y="76"/>
                  </a:cubicBezTo>
                  <a:cubicBezTo>
                    <a:pt x="18" y="81"/>
                    <a:pt x="0" y="108"/>
                    <a:pt x="12" y="110"/>
                  </a:cubicBezTo>
                  <a:cubicBezTo>
                    <a:pt x="42" y="116"/>
                    <a:pt x="104" y="118"/>
                    <a:pt x="104" y="118"/>
                  </a:cubicBezTo>
                  <a:cubicBezTo>
                    <a:pt x="119" y="117"/>
                    <a:pt x="135" y="118"/>
                    <a:pt x="150" y="114"/>
                  </a:cubicBezTo>
                  <a:cubicBezTo>
                    <a:pt x="168" y="108"/>
                    <a:pt x="130" y="68"/>
                    <a:pt x="119" y="64"/>
                  </a:cubicBezTo>
                  <a:cubicBezTo>
                    <a:pt x="101" y="37"/>
                    <a:pt x="112" y="46"/>
                    <a:pt x="92" y="33"/>
                  </a:cubicBezTo>
                  <a:cubicBezTo>
                    <a:pt x="84" y="20"/>
                    <a:pt x="74" y="15"/>
                    <a:pt x="65" y="3"/>
                  </a:cubicBez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9"/>
            <p:cNvSpPr/>
            <p:nvPr/>
          </p:nvSpPr>
          <p:spPr>
            <a:xfrm>
              <a:off x="7095960" y="5657760"/>
              <a:ext cx="17640" cy="242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11" h="153">
                  <a:moveTo>
                    <a:pt x="0" y="0"/>
                  </a:moveTo>
                  <a:cubicBezTo>
                    <a:pt x="4" y="11"/>
                    <a:pt x="7" y="23"/>
                    <a:pt x="11" y="34"/>
                  </a:cubicBezTo>
                  <a:cubicBezTo>
                    <a:pt x="4" y="97"/>
                    <a:pt x="7" y="57"/>
                    <a:pt x="7" y="153"/>
                  </a:cubicBezTo>
                </a:path>
              </a:pathLst>
            </a:custGeom>
            <a:noFill/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E:\from work\ДОКУМЕНТЫ\Мои new док\Сумин\новая схемы\8.jpg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3905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1752480" y="762120"/>
            <a:ext cx="586764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ужный массаж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666880" y="36576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6705720" y="2590920"/>
            <a:ext cx="533160" cy="533160"/>
          </a:xfrm>
          <a:prstGeom prst="ellipse">
            <a:avLst/>
          </a:prstGeom>
          <a:noFill/>
          <a:ln w="28440">
            <a:solidFill>
              <a:srgbClr val="e8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E:\from work\ДОКУМЕНТЫ\Мои new док\Сумин\новая схемы\4.jpg"/>
          <p:cNvPicPr/>
          <p:nvPr/>
        </p:nvPicPr>
        <p:blipFill>
          <a:blip r:embed="rId1"/>
          <a:stretch/>
        </p:blipFill>
        <p:spPr>
          <a:xfrm>
            <a:off x="685800" y="2666880"/>
            <a:ext cx="7848720" cy="21672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"/>
          <p:cNvSpPr/>
          <p:nvPr/>
        </p:nvSpPr>
        <p:spPr>
          <a:xfrm>
            <a:off x="2286000" y="838080"/>
            <a:ext cx="51814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E:\from work\ДОКУМЕНТЫ\Мои new док\Сумин\новая схемы\8.jpg"/>
          <p:cNvPicPr/>
          <p:nvPr/>
        </p:nvPicPr>
        <p:blipFill>
          <a:blip r:embed="rId1"/>
          <a:stretch/>
        </p:blipFill>
        <p:spPr>
          <a:xfrm>
            <a:off x="914400" y="1844640"/>
            <a:ext cx="7391520" cy="36417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752480" y="762120"/>
            <a:ext cx="586764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ужный массаж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E:\from work\ДОКУМЕНТЫ\Мои new док\Сумин\новая схемы\6.jpg"/>
          <p:cNvPicPr/>
          <p:nvPr/>
        </p:nvPicPr>
        <p:blipFill>
          <a:blip r:embed="rId1"/>
          <a:stretch/>
        </p:blipFill>
        <p:spPr>
          <a:xfrm>
            <a:off x="2133720" y="1436760"/>
            <a:ext cx="5029200" cy="4748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143000" y="609480"/>
            <a:ext cx="6934320" cy="581400"/>
          </a:xfrm>
          <a:prstGeom prst="rect">
            <a:avLst/>
          </a:prstGeom>
          <a:solidFill>
            <a:srgbClr val="89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хание «ото рта ко рту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3810600" y="2284560"/>
            <a:ext cx="2004840" cy="368280"/>
          </a:xfrm>
          <a:prstGeom prst="rect">
            <a:avLst/>
          </a:prstGeom>
          <a:solidFill>
            <a:srgbClr val="06f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ть тяже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438280" y="3276720"/>
            <a:ext cx="1828800" cy="1191240"/>
          </a:xfrm>
          <a:prstGeom prst="rect">
            <a:avLst/>
          </a:prstGeom>
          <a:solidFill>
            <a:srgbClr val="fe92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яжел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стру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неэффекти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шел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34120" y="3276720"/>
            <a:ext cx="1828800" cy="1191240"/>
          </a:xfrm>
          <a:prstGeom prst="rect">
            <a:avLst/>
          </a:prstGeom>
          <a:solidFill>
            <a:srgbClr val="06f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р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тру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эффекти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шел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29000" y="4724280"/>
            <a:ext cx="175248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зн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ударов по спин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сдавлений в эпигаст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268360" y="3349800"/>
            <a:ext cx="2159280" cy="1191240"/>
          </a:xfrm>
          <a:prstGeom prst="rect">
            <a:avLst/>
          </a:prstGeom>
          <a:solidFill>
            <a:srgbClr val="fead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жел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тру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еэффекти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шел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676520" y="4724280"/>
            <a:ext cx="167616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созн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ть СЛ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334120" y="4707000"/>
            <a:ext cx="2057400" cy="1465560"/>
          </a:xfrm>
          <a:prstGeom prst="rect">
            <a:avLst/>
          </a:prstGeom>
          <a:solidFill>
            <a:srgbClr val="06f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ировать кашель до улучшения 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E:\from_old\from_e\ДОКУМЕНТЫ\Мои new док\ВР\Инструкция ПМП\прием Геймлиха.jpg"/>
          <p:cNvPicPr/>
          <p:nvPr/>
        </p:nvPicPr>
        <p:blipFill>
          <a:blip r:embed="rId1"/>
          <a:stretch/>
        </p:blipFill>
        <p:spPr>
          <a:xfrm>
            <a:off x="5308560" y="76320"/>
            <a:ext cx="2463840" cy="6705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685800" y="304920"/>
            <a:ext cx="3581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ием Геймли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09680" y="1447920"/>
            <a:ext cx="20574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й 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209680" y="3505320"/>
            <a:ext cx="2057400" cy="459720"/>
          </a:xfrm>
          <a:prstGeom prst="rect">
            <a:avLst/>
          </a:prstGeom>
          <a:solidFill>
            <a:srgbClr val="89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й 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838080" y="2895480"/>
            <a:ext cx="37339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ем Геймлих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 у пострадавшего без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62120" y="304920"/>
            <a:ext cx="3733560" cy="947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ородное тело в дыхательных пут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E:\from_old\from_e\ДОКУМЕНТЫ\Мои new док\Сумин\Сумин 2004\Глава 26 рисунки\13.JPG"/>
          <p:cNvPicPr/>
          <p:nvPr/>
        </p:nvPicPr>
        <p:blipFill>
          <a:blip r:embed="rId1"/>
          <a:stretch/>
        </p:blipFill>
        <p:spPr>
          <a:xfrm>
            <a:off x="5105520" y="76320"/>
            <a:ext cx="3136680" cy="3578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E:\from_old\from_e\ДОКУМЕНТЫ\Мои new док\Сумин\Сумин 2004\Глава 26 рисунки\12.JPG"/>
          <p:cNvPicPr/>
          <p:nvPr/>
        </p:nvPicPr>
        <p:blipFill>
          <a:blip r:embed="rId2"/>
          <a:stretch/>
        </p:blipFill>
        <p:spPr>
          <a:xfrm>
            <a:off x="5122800" y="3733920"/>
            <a:ext cx="3057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реанимобиль 2"/>
          <p:cNvPicPr/>
          <p:nvPr/>
        </p:nvPicPr>
        <p:blipFill>
          <a:blip r:embed="rId1"/>
          <a:stretch/>
        </p:blipFill>
        <p:spPr>
          <a:xfrm>
            <a:off x="3962520" y="1447920"/>
            <a:ext cx="1218960" cy="1179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5181480" y="15238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95280" y="1600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800600" y="1600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334120" y="1463760"/>
            <a:ext cx="3504960" cy="1191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валифицированная сердечно-легочная реани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33520" y="1403280"/>
            <a:ext cx="327636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ичный реанимационный компле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BLS"/>
          <p:cNvPicPr/>
          <p:nvPr/>
        </p:nvPicPr>
        <p:blipFill>
          <a:blip r:embed="rId2"/>
          <a:stretch/>
        </p:blipFill>
        <p:spPr>
          <a:xfrm>
            <a:off x="533520" y="2743200"/>
            <a:ext cx="3363840" cy="3429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9"/>
          <p:cNvSpPr/>
          <p:nvPr/>
        </p:nvSpPr>
        <p:spPr>
          <a:xfrm>
            <a:off x="4191120" y="2666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0" descr="ACLS"/>
          <p:cNvPicPr/>
          <p:nvPr/>
        </p:nvPicPr>
        <p:blipFill>
          <a:blip r:embed="rId3"/>
          <a:stretch/>
        </p:blipFill>
        <p:spPr>
          <a:xfrm>
            <a:off x="5389560" y="2763720"/>
            <a:ext cx="3449520" cy="226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2133720"/>
            <a:ext cx="8153280" cy="550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Первичный реанимационный комплек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380880"/>
            <a:ext cx="8153280" cy="1221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бедиться в отсутствии сознания у пострадавш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E:\from work\ДОКУМЕНТЫ\Мои new док\ВР\для иностранцев\сознание.jpg"/>
          <p:cNvPicPr/>
          <p:nvPr/>
        </p:nvPicPr>
        <p:blipFill>
          <a:blip r:embed="rId1"/>
          <a:stretch/>
        </p:blipFill>
        <p:spPr>
          <a:xfrm>
            <a:off x="457200" y="2119320"/>
            <a:ext cx="4495680" cy="35877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5105520" y="2349360"/>
            <a:ext cx="38098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куратно потрясти пострадавшего за плечи и громким голосом попросить его открыть гла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2c00"/>
                </a:solidFill>
                <a:latin typeface="Arial"/>
              </a:rPr>
              <a:t>Если пострадавший не реагирует – вызвать помощ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E:\from work\ДОКУМЕНТЫ\Мои new док\Сумин\новая схемы\2.jpg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5343480"/>
          </a:xfrm>
          <a:prstGeom prst="rect">
            <a:avLst/>
          </a:prstGeom>
          <a:ln w="0">
            <a:noFill/>
          </a:ln>
        </p:spPr>
      </p:pic>
      <p:sp>
        <p:nvSpPr>
          <p:cNvPr id="185" name="Oval 3"/>
          <p:cNvSpPr/>
          <p:nvPr/>
        </p:nvSpPr>
        <p:spPr>
          <a:xfrm>
            <a:off x="2895480" y="2057400"/>
            <a:ext cx="609840" cy="6094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5791320" y="4572000"/>
            <a:ext cx="685800" cy="685800"/>
          </a:xfrm>
          <a:prstGeom prst="ellipse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914400" y="533520"/>
            <a:ext cx="7238880" cy="5814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ткрыть дыхательные пу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E:\from work\ДОКУМЕНТЫ\Мои new док\Сумин\новая схемы\5.jpg"/>
          <p:cNvPicPr/>
          <p:nvPr/>
        </p:nvPicPr>
        <p:blipFill>
          <a:blip r:embed="rId1"/>
          <a:stretch/>
        </p:blipFill>
        <p:spPr>
          <a:xfrm>
            <a:off x="1447920" y="1371600"/>
            <a:ext cx="5715000" cy="4684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14400" y="304920"/>
            <a:ext cx="7238880" cy="5814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ценить дых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743200" y="3352680"/>
            <a:ext cx="380880" cy="914400"/>
          </a:xfrm>
          <a:prstGeom prst="upDownArrow">
            <a:avLst>
              <a:gd name="adj1" fmla="val 50000"/>
              <a:gd name="adj2" fmla="val 47793"/>
            </a:avLst>
          </a:prstGeom>
          <a:solidFill>
            <a:srgbClr val="00ffff"/>
          </a:solidFill>
          <a:ln w="28440">
            <a:solidFill>
              <a:srgbClr val="535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E:\from work\ДОКУМЕНТЫ\Мои new док\Сумин\новая схемы\4.jpg"/>
          <p:cNvPicPr/>
          <p:nvPr/>
        </p:nvPicPr>
        <p:blipFill>
          <a:blip r:embed="rId1"/>
          <a:stretch/>
        </p:blipFill>
        <p:spPr>
          <a:xfrm>
            <a:off x="685800" y="2666880"/>
            <a:ext cx="7848720" cy="21672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2286000" y="838080"/>
            <a:ext cx="51814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133720" y="380880"/>
            <a:ext cx="51814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3" descr="E:\from work\ДОКУМЕНТЫ\Мои new док\ВР\восст.полож. 1.jpg"/>
          <p:cNvPicPr/>
          <p:nvPr/>
        </p:nvPicPr>
        <p:blipFill>
          <a:blip r:embed="rId1"/>
          <a:stretch/>
        </p:blipFill>
        <p:spPr>
          <a:xfrm>
            <a:off x="1752480" y="1371600"/>
            <a:ext cx="5715000" cy="4116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E:\from work\ДОКУМЕНТЫ\Мои new док\ВР\восст.полож. 2.jpg"/>
          <p:cNvPicPr/>
          <p:nvPr/>
        </p:nvPicPr>
        <p:blipFill>
          <a:blip r:embed="rId2"/>
          <a:stretch/>
        </p:blipFill>
        <p:spPr>
          <a:xfrm>
            <a:off x="1143000" y="1371600"/>
            <a:ext cx="7162920" cy="4111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E:\from work\ДОКУМЕНТЫ\Мои new док\ВР\восст.полож. 3.jpg"/>
          <p:cNvPicPr/>
          <p:nvPr/>
        </p:nvPicPr>
        <p:blipFill>
          <a:blip r:embed="rId3"/>
          <a:stretch/>
        </p:blipFill>
        <p:spPr>
          <a:xfrm>
            <a:off x="1143000" y="1371600"/>
            <a:ext cx="7162920" cy="4113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6229440"/>
            <a:ext cx="2095560" cy="419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7257960" y="6029280"/>
            <a:ext cx="1886040" cy="82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tretch/>
        </p:blipFill>
        <p:spPr>
          <a:xfrm>
            <a:off x="1278000" y="1509840"/>
            <a:ext cx="6588000" cy="38401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79280" y="6678720"/>
            <a:ext cx="8783640" cy="1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pyright ©2005 American Heart Associ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79280" y="546120"/>
            <a:ext cx="8783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covery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15:51:04Z</dcterms:created>
  <dc:creator>s</dc:creator>
  <dc:description/>
  <dc:language>en-US</dc:language>
  <cp:lastModifiedBy>k221</cp:lastModifiedBy>
  <dcterms:modified xsi:type="dcterms:W3CDTF">2018-06-06T08:28:54Z</dcterms:modified>
  <cp:revision>37</cp:revision>
  <dc:subject/>
  <dc:title>Первая медицинская помощь (ПМП) - это комплекс срочных, максимально простых, но достаточных мер, оказываемых на месте происшествия или вблизи его лицами не имеющими медицинского образования, но обученных приемам и методам оказания ПМП. </dc:title>
</cp:coreProperties>
</file>