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BD0C-DFC7-4190-8905-FAC2AF978016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4CA7-B422-4CE0-8D08-E21A62CD8512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A0A1-8F8E-4D97-BDA7-A20CEE1ED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AD06-7B53-4E73-B70E-E7984DF0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3BEF-DA42-4AFD-8661-65183BFA2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0D0D-376E-4C68-8B19-9855FC20B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C585-B06C-4E0C-9841-31B9308D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2782-4D32-45C5-93A3-85CF6FF2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182B-1AB0-45FF-A4B8-DAF60F1B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1D3B-55E5-485C-B5EB-5CB421F8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FEA8-F4DC-4998-BDAE-7B6C5A97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4E47-E42C-408B-892F-068D75C8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A3C4-BB3D-4210-89A2-0DFE16DE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3F0B-3C2C-4D7B-81F1-97D8C1B3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2CF5-589F-46D0-8D5E-C9202ADF5B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Загляни в глаза цвет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ena_1325"/>
          <p:cNvPicPr/>
          <p:nvPr/>
        </p:nvPicPr>
        <p:blipFill>
          <a:blip r:embed="rId2"/>
          <a:stretch/>
        </p:blipFill>
        <p:spPr>
          <a:xfrm>
            <a:off x="2411280" y="1484280"/>
            <a:ext cx="3679920" cy="480240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асная книга.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банавичюс  Ег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– б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н - тра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3" descr=""/>
          <p:cNvPicPr/>
          <p:nvPr/>
        </p:nvPicPr>
        <p:blipFill>
          <a:blip r:embed="rId1"/>
          <a:stretch/>
        </p:blipFill>
        <p:spPr>
          <a:xfrm>
            <a:off x="828720" y="1755720"/>
            <a:ext cx="8334360" cy="5102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3744720" cy="49924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6699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5796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ивительное растение зацвело в сосновом лесу! Похожее на колокольчик. Но хотя лепестки и фиолетовые, между собой они совсем не срастаются, как это бывает у колокольчика. Всюду на растении нежный серебристый пушок. Листья тоже необычные – рассечены на множество долек, как будто прострелены. Нет, не колокольчик это. Прострел весенний, или сон-трав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Photo-0815"/>
          <p:cNvPicPr/>
          <p:nvPr/>
        </p:nvPicPr>
        <p:blipFill>
          <a:blip r:embed="rId1"/>
          <a:stretch/>
        </p:blipFill>
        <p:spPr>
          <a:xfrm>
            <a:off x="4724280" y="2133720"/>
            <a:ext cx="4151520" cy="39621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дивительное  раст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рия названия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родное имя – сон-трава – родилось из поверья: цветок этот будто бы навевает сны. Медицина подтвердила: в сон-траве действительно содержатся вещества, обладающие успокаивающим и снотворным  действием. Кое-где цветок называют сон - дрёмой, сончиком . Этим именам есть ещё одно объяснение: цветок, особенно молодой, почти всегда стоит поникшим, как будто спит. С возрастом он поднимается, раскрывает свои лепестки и становится похожим на большую фиолетовую звез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Photo-0978"/>
          <p:cNvPicPr/>
          <p:nvPr/>
        </p:nvPicPr>
        <p:blipFill>
          <a:blip r:embed="rId2"/>
          <a:stretch/>
        </p:blipFill>
        <p:spPr>
          <a:xfrm>
            <a:off x="4865760" y="1676520"/>
            <a:ext cx="3817800" cy="4030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у нас оно растё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н-трава, прострел раскрытый растет на солнечных склонах холмов, пустошах, в светлых ле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растение можно встретить в европейской части России и в Западной Сиби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Photo-0825"/>
          <p:cNvPicPr/>
          <p:nvPr/>
        </p:nvPicPr>
        <p:blipFill>
          <a:blip r:embed="rId2"/>
          <a:stretch/>
        </p:blipFill>
        <p:spPr>
          <a:xfrm>
            <a:off x="458640" y="1755720"/>
            <a:ext cx="4038840" cy="3951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емена - вин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2520" y="152388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ветёт сон-трава в апреле-начале мая. Опыляют её шмели, пчёлы и другие насекомые. После опыления образуются плодики, о которых нельзя не рассказать. Эти плодики «умеют» ползать и зарываться в землю, не говоря уже о том, что они прекрасно лет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Photo-1019"/>
          <p:cNvPicPr/>
          <p:nvPr/>
        </p:nvPicPr>
        <p:blipFill>
          <a:blip r:embed="rId1"/>
          <a:stretch/>
        </p:blipFill>
        <p:spPr>
          <a:xfrm>
            <a:off x="457200" y="1676520"/>
            <a:ext cx="4343400" cy="3757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обенность сем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крет здесь такой: каждый плодик имеет вырост-ость, снабженный длинными волосками. Благодаря волоскам плодик летает -легко переносится ветром. А ость очень чутко реагирует на изменения влажности. При этом она  закручивается, перемещает плодик и как бы ввинчивает его в землю. Вот такие чудеса!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Photo-0817"/>
          <p:cNvPicPr/>
          <p:nvPr/>
        </p:nvPicPr>
        <p:blipFill>
          <a:blip r:embed="rId1"/>
          <a:stretch/>
        </p:blipFill>
        <p:spPr>
          <a:xfrm>
            <a:off x="4653000" y="1693800"/>
            <a:ext cx="4033800" cy="39196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угрожает сон-траве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н-трава – вид, охраняемый 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бка лесов негативно сказывается на распространенности сон-трав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 и красота самого цветка порой не идет ему на пользу, потому что мало  кто из нас  может удержаться и не сорвать его. Загляните  цветку глаза… Он, как и вы, хочет расти и радоваться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Photo-0826"/>
          <p:cNvPicPr/>
          <p:nvPr/>
        </p:nvPicPr>
        <p:blipFill>
          <a:blip r:embed="rId2"/>
          <a:stretch/>
        </p:blipFill>
        <p:spPr>
          <a:xfrm>
            <a:off x="4654440" y="1682640"/>
            <a:ext cx="4032360" cy="3867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14:47:16Z</dcterms:created>
  <dc:creator>user25</dc:creator>
  <dc:description/>
  <dc:language>en-US</dc:language>
  <cp:lastModifiedBy>User</cp:lastModifiedBy>
  <dcterms:modified xsi:type="dcterms:W3CDTF">2020-11-25T06:32:26Z</dcterms:modified>
  <cp:revision>18</cp:revision>
  <dc:subject/>
  <dc:title>Растение Красной Книги РК, произрастающее в Сосногорске.</dc:title>
</cp:coreProperties>
</file>