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C01-89B0-4827-AFEE-CA6C8BE62A6D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C55-3706-410D-BEED-7EEBFF53C2E3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993-E1E8-4BD2-9D85-52758EC9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E0F-0A1C-497D-A86F-2326E9D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6FF-D404-448C-9C53-4B64C5E0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01E-7B77-448C-8EEE-ECFD2F7A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70B-9F66-46B2-9FF4-E2D1F1B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E49-0AE9-4A13-987F-AEB7745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4EB-8693-471C-A90A-35DA5BE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443-FDBC-4893-935B-5A63242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B99-3D66-4529-AE25-D93D237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BB0-E793-40A3-A26C-85E3C46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40B-54E3-438E-8E25-D15D75A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2ED-AA03-4C8A-8BF9-87F71C9A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79D-C67F-4BB0-9534-8550F71FF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Загляни в глаза цв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na_1325"/>
          <p:cNvPicPr/>
          <p:nvPr/>
        </p:nvPicPr>
        <p:blipFill>
          <a:blip r:embed="rId2"/>
          <a:stretch/>
        </p:blipFill>
        <p:spPr>
          <a:xfrm>
            <a:off x="2411280" y="1484280"/>
            <a:ext cx="3679920" cy="4802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 книга.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банавичюс 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– б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н - т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828720" y="1755720"/>
            <a:ext cx="8334360" cy="510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744720" cy="4992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99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7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ивительное растение зацвело в сосновом лесу! Похожее на колокольчик. Но хотя лепестки и фиолетовые, между собой они совсем не срастаются, как это бывает у колокольчика. Всюду на растении нежный серебристый пушок. Листья тоже необычные – рассечены на множество долек, как будто прострелены. Нет, не колокольчик это. Прострел весенний, или сон-тра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hoto-0815"/>
          <p:cNvPicPr/>
          <p:nvPr/>
        </p:nvPicPr>
        <p:blipFill>
          <a:blip r:embed="rId1"/>
          <a:stretch/>
        </p:blipFill>
        <p:spPr>
          <a:xfrm>
            <a:off x="4724280" y="2133720"/>
            <a:ext cx="4151520" cy="3962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ивительное  рас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названия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ое имя – сон-трава – родилось из поверья: цветок этот будто бы навевает сны. Медицина подтвердила: в сон-траве действительно содержатся вещества, обладающие успокаивающим и снотворным  действием. Кое-где цветок называют сон - дрёмой, сончиком . Этим именам есть ещё одно объяснение: цветок, особенно молодой, почти всегда стоит поникшим, как будто спит. С возрастом он поднимается, раскрывает свои лепестки и становится похожим на большую фиолетовую звез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hoto-0978"/>
          <p:cNvPicPr/>
          <p:nvPr/>
        </p:nvPicPr>
        <p:blipFill>
          <a:blip r:embed="rId2"/>
          <a:stretch/>
        </p:blipFill>
        <p:spPr>
          <a:xfrm>
            <a:off x="4865760" y="1676520"/>
            <a:ext cx="3817800" cy="40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у нас оно раст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-трава, прострел раскрытый растет на солнечных склонах холмов, пустошах, в светлых л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тение можно встретить в европейской части России и в Западной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hoto-0825"/>
          <p:cNvPicPr/>
          <p:nvPr/>
        </p:nvPicPr>
        <p:blipFill>
          <a:blip r:embed="rId2"/>
          <a:stretch/>
        </p:blipFill>
        <p:spPr>
          <a:xfrm>
            <a:off x="458640" y="1755720"/>
            <a:ext cx="4038840" cy="395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ена - вин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ёт сон-трава в апреле-начале мая. Опыляют её шмели, пчёлы и другие насекомые. После опыления образуются плодики, о которых нельзя не рассказать. Эти плодики «умеют» ползать и зарываться в землю, не говоря уже о том, что они прекрасно ле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hoto-1019"/>
          <p:cNvPicPr/>
          <p:nvPr/>
        </p:nvPicPr>
        <p:blipFill>
          <a:blip r:embed="rId1"/>
          <a:stretch/>
        </p:blipFill>
        <p:spPr>
          <a:xfrm>
            <a:off x="457200" y="1676520"/>
            <a:ext cx="4343400" cy="37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ь сем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 здесь такой: каждый плодик имеет вырост-ость, снабженный длинными волосками. Благодаря волоскам плодик летает -легко переносится ветром. А ость очень чутко реагирует на изменения влажности. При этом она  закручивается, перемещает плодик и как бы ввинчивает его в землю. Вот такие чудеса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hoto-0817"/>
          <p:cNvPicPr/>
          <p:nvPr/>
        </p:nvPicPr>
        <p:blipFill>
          <a:blip r:embed="rId1"/>
          <a:stretch/>
        </p:blipFill>
        <p:spPr>
          <a:xfrm>
            <a:off x="4653000" y="1693800"/>
            <a:ext cx="4033800" cy="391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угрожает сон-трав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н-трава – вид, охраняемый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ка лесов негативно сказывается на распространенности сон-тр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и красота самого цветка порой не идет ему на пользу, потому что мало  кто из нас  может удержаться и не сорвать его. Загляните  цветку глаза… Он, как и вы, хочет расти и радоватьс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hoto-0826"/>
          <p:cNvPicPr/>
          <p:nvPr/>
        </p:nvPicPr>
        <p:blipFill>
          <a:blip r:embed="rId2"/>
          <a:stretch/>
        </p:blipFill>
        <p:spPr>
          <a:xfrm>
            <a:off x="4654440" y="1682640"/>
            <a:ext cx="40323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4:47:16Z</dcterms:created>
  <dc:creator>user25</dc:creator>
  <dc:description/>
  <dc:language>en-US</dc:language>
  <cp:lastModifiedBy>User</cp:lastModifiedBy>
  <dcterms:modified xsi:type="dcterms:W3CDTF">2020-11-25T06:32:26Z</dcterms:modified>
  <cp:revision>18</cp:revision>
  <dc:subject/>
  <dc:title>Растение Красной Книги РК, произрастающее в Сосногорске.</dc:title>
</cp:coreProperties>
</file>