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63A-2F89-4BEE-A5DA-9EB9C278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7B6-605B-44E1-BA16-2DAA710B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969-11BC-404E-BD9C-8F98FB76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10B-6218-4F5D-B2ED-4B3887E3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DCA-0E2A-470E-A10E-FF5E3DD0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84B-BD65-48B5-9BE8-C6757DAB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4AA-43F9-4D7F-9112-26E4BA73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D97-AD7F-4290-8DBE-0339F042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70B-E4E6-432E-94B0-86A12CFA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6BB-F729-4784-8D7C-AEDF5682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EA6-7B7A-4C7D-B6AC-48977CB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ED2-C766-41CE-841B-57B0C2D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D730-9243-436E-B0AD-AFB64AC716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908000" y="228600"/>
            <a:ext cx="58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ранспортировка пострадавши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9760" y="243000"/>
            <a:ext cx="28404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395280" y="134136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Транспортные полож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4" descr="SDC17091"/>
          <p:cNvPicPr/>
          <p:nvPr/>
        </p:nvPicPr>
        <p:blipFill>
          <a:blip r:embed="rId1"/>
          <a:stretch/>
        </p:blipFill>
        <p:spPr>
          <a:xfrm>
            <a:off x="1547640" y="2421000"/>
            <a:ext cx="5785200" cy="4052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6"/>
          <p:cNvGraphicFramePr/>
          <p:nvPr/>
        </p:nvGraphicFramePr>
        <p:xfrm>
          <a:off x="1763640" y="4724280"/>
          <a:ext cx="626436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724280"/>
                    <a:ext cx="626436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8"/>
          <p:cNvGrpSpPr/>
          <p:nvPr/>
        </p:nvGrpSpPr>
        <p:grpSpPr>
          <a:xfrm>
            <a:off x="60480" y="198360"/>
            <a:ext cx="1654920" cy="563760"/>
            <a:chOff x="60480" y="198360"/>
            <a:chExt cx="1654920" cy="563760"/>
          </a:xfrm>
        </p:grpSpPr>
        <p:sp>
          <p:nvSpPr>
            <p:cNvPr id="105" name="Rectangle 19"/>
            <p:cNvSpPr/>
            <p:nvPr/>
          </p:nvSpPr>
          <p:spPr>
            <a:xfrm>
              <a:off x="60480" y="24300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1431360" y="198360"/>
              <a:ext cx="284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22"/>
          <p:cNvSpPr/>
          <p:nvPr/>
        </p:nvSpPr>
        <p:spPr>
          <a:xfrm>
            <a:off x="468360" y="260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авма позвоноч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179280" y="148428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Не перемещать пострадавшего до приезда скорой медицинской помощи 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Зафиксировать шейный отдел позвоночника шейной ш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При необходимости  перекладывать пострадавшего с 4-5 помощни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Использовать жесткие носил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 Cyr"/>
              </a:rPr>
              <a:t>Цель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Иммобилизация, предотвращение дальнейших поврежде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5"/>
          <p:cNvSpPr/>
          <p:nvPr/>
        </p:nvSpPr>
        <p:spPr>
          <a:xfrm rot="20286600">
            <a:off x="6804000" y="5445000"/>
            <a:ext cx="357120" cy="857520"/>
          </a:xfrm>
          <a:custGeom>
            <a:avLst/>
            <a:gdLst>
              <a:gd name="textAreaLeft" fmla="*/ 74160 w 357120"/>
              <a:gd name="textAreaRight" fmla="*/ 282960 w 357120"/>
              <a:gd name="textAreaTop" fmla="*/ 178560 h 857520"/>
              <a:gd name="textAreaBottom" fmla="*/ 67896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9"/>
          <p:cNvGrpSpPr/>
          <p:nvPr/>
        </p:nvGrpSpPr>
        <p:grpSpPr>
          <a:xfrm>
            <a:off x="1763640" y="4724280"/>
            <a:ext cx="6264360" cy="1863720"/>
            <a:chOff x="1763640" y="4724280"/>
            <a:chExt cx="6264360" cy="1863720"/>
          </a:xfrm>
        </p:grpSpPr>
        <p:graphicFrame>
          <p:nvGraphicFramePr>
            <p:cNvPr id="111" name="Object 27"/>
            <p:cNvGraphicFramePr/>
            <p:nvPr/>
          </p:nvGraphicFramePr>
          <p:xfrm>
            <a:off x="1763640" y="4724280"/>
            <a:ext cx="6264360" cy="186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63640" y="4724280"/>
                      <a:ext cx="6264360" cy="186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AutoShape 28"/>
            <p:cNvSpPr/>
            <p:nvPr/>
          </p:nvSpPr>
          <p:spPr>
            <a:xfrm rot="20286600">
              <a:off x="6733800" y="5457960"/>
              <a:ext cx="428760" cy="857160"/>
            </a:xfrm>
            <a:custGeom>
              <a:avLst/>
              <a:gdLst>
                <a:gd name="textAreaLeft" fmla="*/ 88920 w 428760"/>
                <a:gd name="textAreaRight" fmla="*/ 339840 w 428760"/>
                <a:gd name="textAreaTop" fmla="*/ 179280 h 857160"/>
                <a:gd name="textAreaBottom" fmla="*/ 6793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ерекладывание пострадавшего с травмой позвоночн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Lage24"/>
          <p:cNvPicPr/>
          <p:nvPr/>
        </p:nvPicPr>
        <p:blipFill>
          <a:blip r:embed="rId1"/>
          <a:stretch/>
        </p:blipFill>
        <p:spPr>
          <a:xfrm>
            <a:off x="755640" y="2565360"/>
            <a:ext cx="7772400" cy="2990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1311120" y="5824440"/>
            <a:ext cx="60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Скандинавский мост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65960" y="2200320"/>
            <a:ext cx="8320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острадавший без созна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24000" y="1127160"/>
            <a:ext cx="8351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абильное боковое положение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ддержание свободной проходимости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ыхательных пу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едупреждение аспир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0" y="189000"/>
            <a:ext cx="8231040" cy="884880"/>
            <a:chOff x="0" y="189000"/>
            <a:chExt cx="8231040" cy="884880"/>
          </a:xfrm>
        </p:grpSpPr>
        <p:sp>
          <p:nvSpPr>
            <p:cNvPr id="120" name="Rectangle 8"/>
            <p:cNvSpPr/>
            <p:nvPr/>
          </p:nvSpPr>
          <p:spPr>
            <a:xfrm>
              <a:off x="0" y="249840"/>
              <a:ext cx="183960" cy="5198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1371600" y="189000"/>
              <a:ext cx="6859440" cy="8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Arial"/>
                </a:rPr>
                <a:t>Положение пострадавшего  при отсутствии сознани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Стабильное боковое положение</a:t>
              </a: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4"/>
          <p:cNvGrpSpPr/>
          <p:nvPr/>
        </p:nvGrpSpPr>
        <p:grpSpPr>
          <a:xfrm>
            <a:off x="1187280" y="2924280"/>
            <a:ext cx="7740720" cy="3708360"/>
            <a:chOff x="1187280" y="2924280"/>
            <a:chExt cx="7740720" cy="3708360"/>
          </a:xfrm>
        </p:grpSpPr>
        <p:pic>
          <p:nvPicPr>
            <p:cNvPr id="123" name="Picture 11" descr="DPP_1487"/>
            <p:cNvPicPr/>
            <p:nvPr/>
          </p:nvPicPr>
          <p:blipFill>
            <a:blip r:embed="rId1"/>
            <a:stretch/>
          </p:blipFill>
          <p:spPr>
            <a:xfrm>
              <a:off x="4716360" y="2924280"/>
              <a:ext cx="4211640" cy="280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4" name="Object 13"/>
            <p:cNvGraphicFramePr/>
            <p:nvPr/>
          </p:nvGraphicFramePr>
          <p:xfrm>
            <a:off x="1187280" y="4941720"/>
            <a:ext cx="6269040" cy="1690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5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87280" y="4941720"/>
                      <a:ext cx="626904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746280" y="1052640"/>
            <a:ext cx="84484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ерепно-мозговая трав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олову не запрокидывать, сохраняя ее промежуточн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о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абильное боковое поло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ожение на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неповрежденной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сторо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лучшение венозного оттока кров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едупреждение отека головного моз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-396720" y="260280"/>
            <a:ext cx="7889040" cy="563760"/>
            <a:chOff x="-396720" y="260280"/>
            <a:chExt cx="7889040" cy="563760"/>
          </a:xfrm>
        </p:grpSpPr>
        <p:sp>
          <p:nvSpPr>
            <p:cNvPr id="128" name="Rectangle 10"/>
            <p:cNvSpPr/>
            <p:nvPr/>
          </p:nvSpPr>
          <p:spPr>
            <a:xfrm>
              <a:off x="-396720" y="30492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>
              <a:off x="964440" y="260280"/>
              <a:ext cx="6527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99"/>
                  </a:solidFill>
                  <a:latin typeface="Arial"/>
                </a:rPr>
                <a:t>Положение пострадавшего при отсутствии сознани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2"/>
          <p:cNvSpPr/>
          <p:nvPr/>
        </p:nvSpPr>
        <p:spPr>
          <a:xfrm>
            <a:off x="7391520" y="6553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9" descr=""/>
          <p:cNvPicPr/>
          <p:nvPr/>
        </p:nvPicPr>
        <p:blipFill>
          <a:blip r:embed="rId1"/>
          <a:stretch/>
        </p:blipFill>
        <p:spPr>
          <a:xfrm>
            <a:off x="1835280" y="4653000"/>
            <a:ext cx="4752720" cy="13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1" descr=""/>
          <p:cNvPicPr/>
          <p:nvPr/>
        </p:nvPicPr>
        <p:blipFill>
          <a:blip r:embed="rId2"/>
          <a:stretch/>
        </p:blipFill>
        <p:spPr>
          <a:xfrm>
            <a:off x="2050920" y="4869000"/>
            <a:ext cx="4753080" cy="138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34"/>
          <p:cNvGraphicFramePr/>
          <p:nvPr/>
        </p:nvGraphicFramePr>
        <p:xfrm>
          <a:off x="1908000" y="4724280"/>
          <a:ext cx="6269040" cy="16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724280"/>
                    <a:ext cx="62690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2"/>
          <p:cNvGrpSpPr/>
          <p:nvPr/>
        </p:nvGrpSpPr>
        <p:grpSpPr>
          <a:xfrm>
            <a:off x="762120" y="3500280"/>
            <a:ext cx="7848360" cy="3357720"/>
            <a:chOff x="762120" y="3500280"/>
            <a:chExt cx="7848360" cy="3357720"/>
          </a:xfrm>
        </p:grpSpPr>
        <p:pic>
          <p:nvPicPr>
            <p:cNvPr id="136" name="Picture 13" descr="Lage17"/>
            <p:cNvPicPr/>
            <p:nvPr/>
          </p:nvPicPr>
          <p:blipFill>
            <a:blip r:embed="rId1"/>
            <a:stretch/>
          </p:blipFill>
          <p:spPr>
            <a:xfrm>
              <a:off x="762120" y="4026600"/>
              <a:ext cx="7848360" cy="25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Line 14"/>
            <p:cNvSpPr/>
            <p:nvPr/>
          </p:nvSpPr>
          <p:spPr>
            <a:xfrm>
              <a:off x="8610480" y="3500280"/>
              <a:ext cx="0" cy="3357720"/>
            </a:xfrm>
            <a:prstGeom prst="line">
              <a:avLst/>
            </a:prstGeom>
            <a:ln w="7632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0" y="260280"/>
            <a:ext cx="8964360" cy="563760"/>
            <a:chOff x="0" y="260280"/>
            <a:chExt cx="8964360" cy="563760"/>
          </a:xfrm>
        </p:grpSpPr>
        <p:sp>
          <p:nvSpPr>
            <p:cNvPr id="139" name="Rectangle 18"/>
            <p:cNvSpPr/>
            <p:nvPr/>
          </p:nvSpPr>
          <p:spPr>
            <a:xfrm>
              <a:off x="0" y="304920"/>
              <a:ext cx="1587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1184760" y="260280"/>
              <a:ext cx="7779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99"/>
                  </a:solidFill>
                  <a:latin typeface="Arial"/>
                </a:rPr>
                <a:t>Положение пострадавшего  при отсутствии сознани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21"/>
          <p:cNvSpPr/>
          <p:nvPr/>
        </p:nvSpPr>
        <p:spPr>
          <a:xfrm>
            <a:off x="468360" y="1197000"/>
            <a:ext cx="849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ложение при шок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абильное боковое положение на носил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ожной конец носилок под углом 15 граду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ддержание проходимости верхних дыхательных пу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лучшение притока крови к сердц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18"/>
          <p:cNvGrpSpPr/>
          <p:nvPr/>
        </p:nvGrpSpPr>
        <p:grpSpPr>
          <a:xfrm>
            <a:off x="611280" y="260280"/>
            <a:ext cx="7094880" cy="563760"/>
            <a:chOff x="611280" y="260280"/>
            <a:chExt cx="7094880" cy="563760"/>
          </a:xfrm>
        </p:grpSpPr>
        <p:sp>
          <p:nvSpPr>
            <p:cNvPr id="143" name="Rectangle 19"/>
            <p:cNvSpPr/>
            <p:nvPr/>
          </p:nvSpPr>
          <p:spPr>
            <a:xfrm>
              <a:off x="611280" y="30492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0"/>
            <p:cNvSpPr/>
            <p:nvPr/>
          </p:nvSpPr>
          <p:spPr>
            <a:xfrm>
              <a:off x="1277280" y="260280"/>
              <a:ext cx="642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Arial"/>
                </a:rPr>
                <a:t>Положение пострадавшего при отсутствии сознани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22"/>
          <p:cNvSpPr/>
          <p:nvPr/>
        </p:nvSpPr>
        <p:spPr>
          <a:xfrm>
            <a:off x="395280" y="1197000"/>
            <a:ext cx="8353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 Cyr"/>
              </a:rPr>
              <a:t>Травма груд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звышенное положение с полуповоротом на 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оврежденную сторон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ддержание свободной проходимости дыхательных пу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ммобилизация ребер, уменьшение бо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лучшение вентиляции легкого на неповрежденной сторо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3"/>
          <p:cNvGraphicFramePr/>
          <p:nvPr/>
        </p:nvGraphicFramePr>
        <p:xfrm>
          <a:off x="1619280" y="4869000"/>
          <a:ext cx="628632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869000"/>
                    <a:ext cx="62863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Прием  «спасательный захват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DPP_1642"/>
          <p:cNvPicPr/>
          <p:nvPr/>
        </p:nvPicPr>
        <p:blipFill>
          <a:blip r:embed="rId1"/>
          <a:stretch/>
        </p:blipFill>
        <p:spPr>
          <a:xfrm>
            <a:off x="611280" y="1413000"/>
            <a:ext cx="3025800" cy="453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DPP_1600"/>
          <p:cNvPicPr/>
          <p:nvPr/>
        </p:nvPicPr>
        <p:blipFill>
          <a:blip r:embed="rId2"/>
          <a:stretch/>
        </p:blipFill>
        <p:spPr>
          <a:xfrm>
            <a:off x="5364000" y="1413000"/>
            <a:ext cx="2978280" cy="446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4"/>
          <p:cNvSpPr/>
          <p:nvPr/>
        </p:nvSpPr>
        <p:spPr>
          <a:xfrm>
            <a:off x="324000" y="5950080"/>
            <a:ext cx="87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ем для быстрого извлечения пострадавшего из автомоби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авильная укладка пострадавшего   (транспортное положение )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 транспортировке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ли в период  ожидания скорой медицинской помощи предотвращает осложнения травмы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то важный момент оказания первой помощи.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260820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476360" y="333360"/>
            <a:ext cx="691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ранспортировка пострадавши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анспортное положение пострадавшего зависит 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81342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окализации трав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голова, грудь, живот, таз, позвоночник, конечнос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тяжести состояния пострадавшег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нарушения сознания, дыхания, кровообращ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0" y="0"/>
            <a:ext cx="7993080" cy="6858000"/>
            <a:chOff x="0" y="0"/>
            <a:chExt cx="7993080" cy="6858000"/>
          </a:xfrm>
        </p:grpSpPr>
        <p:pic>
          <p:nvPicPr>
            <p:cNvPr id="52" name="Picture 4" descr="тазалгоритмы"/>
            <p:cNvPicPr/>
            <p:nvPr/>
          </p:nvPicPr>
          <p:blipFill>
            <a:blip r:embed="rId1"/>
            <a:srcRect l="0" t="0" r="7730" b="3452"/>
            <a:stretch/>
          </p:blipFill>
          <p:spPr>
            <a:xfrm>
              <a:off x="0" y="65160"/>
              <a:ext cx="7993080" cy="67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Oval 7"/>
            <p:cNvSpPr/>
            <p:nvPr/>
          </p:nvSpPr>
          <p:spPr>
            <a:xfrm>
              <a:off x="144360" y="0"/>
              <a:ext cx="824040" cy="824040"/>
            </a:xfrm>
            <a:prstGeom prst="ellipse">
              <a:avLst/>
            </a:prstGeom>
            <a:solidFill>
              <a:srgbClr val="dc002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6"/>
          <p:cNvGraphicFramePr/>
          <p:nvPr/>
        </p:nvGraphicFramePr>
        <p:xfrm>
          <a:off x="1476360" y="4724280"/>
          <a:ext cx="633744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24280"/>
                    <a:ext cx="633744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br>
              <a:rPr sz="2000"/>
            </a:b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ерепно-мозговая трав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47280" y="1628280"/>
            <a:ext cx="720108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звышенное положени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Голову не запрокидывать (среднее положе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ммобилизация шейного отдела позвоноч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величить отток венозной крови от голо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меньшить отек моз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1527120" y="265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1743120" y="244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 rot="20720400">
            <a:off x="6362640" y="5227560"/>
            <a:ext cx="287280" cy="660600"/>
          </a:xfrm>
          <a:custGeom>
            <a:avLst/>
            <a:gdLst>
              <a:gd name="textAreaLeft" fmla="*/ 59760 w 287280"/>
              <a:gd name="textAreaRight" fmla="*/ 227520 w 287280"/>
              <a:gd name="textAreaTop" fmla="*/ 137520 h 660600"/>
              <a:gd name="textAreaBottom" fmla="*/ 52308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8"/>
          <p:cNvGraphicFramePr/>
          <p:nvPr/>
        </p:nvGraphicFramePr>
        <p:xfrm>
          <a:off x="1692360" y="4724280"/>
          <a:ext cx="6048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724280"/>
                    <a:ext cx="6048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Group 3"/>
          <p:cNvGrpSpPr/>
          <p:nvPr/>
        </p:nvGrpSpPr>
        <p:grpSpPr>
          <a:xfrm>
            <a:off x="466560" y="1341360"/>
            <a:ext cx="3405240" cy="1783440"/>
            <a:chOff x="466560" y="1341360"/>
            <a:chExt cx="3405240" cy="1783440"/>
          </a:xfrm>
        </p:grpSpPr>
        <p:sp>
          <p:nvSpPr>
            <p:cNvPr id="64" name="Rectangle 4"/>
            <p:cNvSpPr/>
            <p:nvPr/>
          </p:nvSpPr>
          <p:spPr>
            <a:xfrm>
              <a:off x="468360" y="13413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849240" y="13413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468000" y="1621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849240" y="1636560"/>
              <a:ext cx="3022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468000" y="19170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849240" y="19321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468360" y="2227680"/>
              <a:ext cx="144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466560" y="2524320"/>
              <a:ext cx="77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466560" y="2819520"/>
              <a:ext cx="77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59760" y="198360"/>
            <a:ext cx="1556280" cy="563760"/>
            <a:chOff x="59760" y="198360"/>
            <a:chExt cx="1556280" cy="563760"/>
          </a:xfrm>
        </p:grpSpPr>
        <p:sp>
          <p:nvSpPr>
            <p:cNvPr id="74" name="Rectangle 19"/>
            <p:cNvSpPr/>
            <p:nvPr/>
          </p:nvSpPr>
          <p:spPr>
            <a:xfrm>
              <a:off x="59760" y="243000"/>
              <a:ext cx="2840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0"/>
            <p:cNvSpPr/>
            <p:nvPr/>
          </p:nvSpPr>
          <p:spPr>
            <a:xfrm>
              <a:off x="1432080" y="198360"/>
              <a:ext cx="183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2"/>
          <p:cNvSpPr/>
          <p:nvPr/>
        </p:nvSpPr>
        <p:spPr>
          <a:xfrm>
            <a:off x="179280" y="260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Times New Roman Cyr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50920" y="172080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звышенное положение верхнего конца туловищ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зможно с полуповоротом на больную сторон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меньшить б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легчить дыхание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меньшить подвижность поврежденной половины грудной клет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12640" y="260280"/>
            <a:ext cx="812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авма груд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7"/>
          <p:cNvGrpSpPr/>
          <p:nvPr/>
        </p:nvGrpSpPr>
        <p:grpSpPr>
          <a:xfrm>
            <a:off x="60480" y="198360"/>
            <a:ext cx="1555560" cy="563760"/>
            <a:chOff x="60480" y="198360"/>
            <a:chExt cx="1555560" cy="563760"/>
          </a:xfrm>
        </p:grpSpPr>
        <p:sp>
          <p:nvSpPr>
            <p:cNvPr id="80" name="Rectangle 18"/>
            <p:cNvSpPr/>
            <p:nvPr/>
          </p:nvSpPr>
          <p:spPr>
            <a:xfrm>
              <a:off x="60480" y="24300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1432080" y="198360"/>
              <a:ext cx="183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1"/>
          <p:cNvSpPr/>
          <p:nvPr/>
        </p:nvSpPr>
        <p:spPr>
          <a:xfrm>
            <a:off x="468360" y="260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авма живот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ильные боли в живот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250920" y="206064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ложение на спи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алик под полусогнутыми коленя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алик под голову и плеч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меньшение напряжения передней брюшной стен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меньшение бо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6"/>
          <p:cNvGraphicFramePr/>
          <p:nvPr/>
        </p:nvGraphicFramePr>
        <p:xfrm>
          <a:off x="1692360" y="5229360"/>
          <a:ext cx="626904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5229360"/>
                    <a:ext cx="62690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59760" y="198360"/>
            <a:ext cx="1655640" cy="563760"/>
            <a:chOff x="59760" y="198360"/>
            <a:chExt cx="1655640" cy="563760"/>
          </a:xfrm>
        </p:grpSpPr>
        <p:sp>
          <p:nvSpPr>
            <p:cNvPr id="87" name="Rectangle 18"/>
            <p:cNvSpPr/>
            <p:nvPr/>
          </p:nvSpPr>
          <p:spPr>
            <a:xfrm>
              <a:off x="59760" y="243000"/>
              <a:ext cx="2840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9"/>
            <p:cNvSpPr/>
            <p:nvPr/>
          </p:nvSpPr>
          <p:spPr>
            <a:xfrm>
              <a:off x="1431360" y="198360"/>
              <a:ext cx="284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2"/>
          <p:cNvSpPr/>
          <p:nvPr/>
        </p:nvSpPr>
        <p:spPr>
          <a:xfrm>
            <a:off x="684360" y="189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релом костей таз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24000" y="126828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Положение на спи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Колени слегка разведе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Валик под коленя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 Cyr"/>
              </a:rPr>
              <a:t>Цель:</a:t>
            </a: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иммобилиз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уменьшение бо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предупреждение вторичных поврежд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1835280" y="5006880"/>
            <a:ext cx="6269040" cy="1851120"/>
            <a:chOff x="1835280" y="5006880"/>
            <a:chExt cx="6269040" cy="1851120"/>
          </a:xfrm>
        </p:grpSpPr>
        <p:graphicFrame>
          <p:nvGraphicFramePr>
            <p:cNvPr id="92" name="Object 27"/>
            <p:cNvGraphicFramePr/>
            <p:nvPr/>
          </p:nvGraphicFramePr>
          <p:xfrm>
            <a:off x="1835280" y="5006880"/>
            <a:ext cx="6269040" cy="185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2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5006880"/>
                      <a:ext cx="6269040" cy="18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Rectangle 28"/>
            <p:cNvSpPr/>
            <p:nvPr/>
          </p:nvSpPr>
          <p:spPr>
            <a:xfrm>
              <a:off x="6372360" y="5445000"/>
              <a:ext cx="215640" cy="7923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60480" y="198360"/>
            <a:ext cx="2431080" cy="872280"/>
            <a:chOff x="60480" y="198360"/>
            <a:chExt cx="2431080" cy="872280"/>
          </a:xfrm>
        </p:grpSpPr>
        <p:sp>
          <p:nvSpPr>
            <p:cNvPr id="96" name="Rectangle 14"/>
            <p:cNvSpPr/>
            <p:nvPr/>
          </p:nvSpPr>
          <p:spPr>
            <a:xfrm>
              <a:off x="60480" y="24300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5"/>
            <p:cNvSpPr/>
            <p:nvPr/>
          </p:nvSpPr>
          <p:spPr>
            <a:xfrm>
              <a:off x="1431720" y="198360"/>
              <a:ext cx="1059840" cy="8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7"/>
          <p:cNvSpPr/>
          <p:nvPr/>
        </p:nvSpPr>
        <p:spPr>
          <a:xfrm>
            <a:off x="324000" y="476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тивошоковое полож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68360" y="1628640"/>
            <a:ext cx="849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Поднять ноги на высоту 30 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 Cyr"/>
              </a:rPr>
              <a:t>Цель:</a:t>
            </a: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улучшение венозного возврата крови к сердц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улучшение кровоснабжения жизненно-важных орган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0"/>
          <p:cNvGraphicFramePr/>
          <p:nvPr/>
        </p:nvGraphicFramePr>
        <p:xfrm>
          <a:off x="1763640" y="4724280"/>
          <a:ext cx="628668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724280"/>
                    <a:ext cx="6286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21:24:45Z</dcterms:created>
  <dc:creator>Lev &amp; Eugene</dc:creator>
  <dc:description/>
  <dc:language>en-US</dc:language>
  <cp:lastModifiedBy>k221</cp:lastModifiedBy>
  <dcterms:modified xsi:type="dcterms:W3CDTF">2018-06-06T08:21:31Z</dcterms:modified>
  <cp:revision>43</cp:revision>
  <dc:subject/>
  <dc:title>Заголовок слайда отсутствует</dc:title>
</cp:coreProperties>
</file>