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598B-2626-429C-9FC3-0BC305BF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FCC0-2508-4860-850D-B00963ED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663A1-FDFB-447B-9BD9-799C4B00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3CB92-DC7C-4BCF-8C1D-4B442641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3A990-5D60-419D-9162-3D1AE528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2E981B-F936-452F-8A97-4F86D30C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24ACF-F564-4EA5-AE87-924A87B8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340904-6BDA-41EA-92CF-94364713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7D683A-E199-4C4F-8F52-C274DE10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95BD9A-8C45-45FC-801D-FF3B40DA5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F1B1F-EBDE-4AD9-B002-C47DC6A6D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872C-04AF-4692-9F4E-100BF7197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A630-9A04-40AB-A043-0AD2CFBF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B1B1-B985-4CCF-B7CC-8D1EC3634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EC61-3FA3-4257-B90E-1C2CFCB5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2C50-3EFC-4F67-A12D-441A3808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8333-4425-4818-B202-D1EDC3AB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6955-EDAE-4799-9C4B-32D69A17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6DA0-4A12-4543-B212-68414146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A6B8-75B5-4950-AB44-F210AC4E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160D-E2F0-4373-A292-2081C1A7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71D5-FC82-47AD-AEED-556EB13F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FF9D-1808-40FC-9AA5-4CB4C74F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8767-C21A-411C-84AC-3CC49921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EF6E-38BF-4213-B170-285B8A291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4457-B183-4932-8B21-AD95CE805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7903E-8930-4A78-9CCA-A2ED603BB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91905-8C92-48F4-9A59-1D7A37CD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0B356-32D4-494B-8195-980F2118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BD7CD-BA8D-4D7D-A3A5-3E2FF1F4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9A51C-9278-4B76-B963-DCB15B5B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C47E-CE2F-4B58-AA04-EE61AC58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EBE2F-F9E6-44D2-9AAC-FC6DF29D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D22DF-AD8B-46F2-8F81-CBD1D462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7D7CF-F33B-4FA8-9FC4-B9F5B2AE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D6D74-5298-4F7C-A93E-FD5F4EBB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5FF61-50B6-486F-A880-75F48909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1E3D3-7E0E-499C-A469-DDDFFF76C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0F3F5-2F42-4E9B-99C4-03694FF33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89C60-EA20-43F4-A0CB-78F3AA604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91A4C-0D6C-4993-80EF-AB633638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DD9BC-AB1D-4BF5-982E-4CB40849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C283-0812-4460-8240-BF3F544A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FA812-13C6-42A1-963E-F31BBD9B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9C553-58AE-485C-ACA2-42B1504E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7CF40-8A82-49B5-A382-21587E95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C77D8-A11A-4F2F-84FA-4099CAA1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B43EF-32D0-419D-A3CF-61390F37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DBBA4-7547-4ABC-8537-D2AE0920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BA69B-0C75-4B4B-9A31-7DE364F9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D686E-148C-4807-BC1A-52619B1B4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38C6C-3807-45AD-AF07-EAAD2C37E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B3CCF-BF87-42CB-9C00-282C9BCF3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1BB8-5198-4461-AD7F-0AC7B63C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62CC0-2D9B-4E43-8085-F25E00DF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5AA69-BF5B-42CD-BEDC-E344F7C9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86573-78E1-4879-8572-47CB6B90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76A77-9110-4A8E-9B16-3793E0F8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3F3AB-62C7-43EE-909F-5F42AC83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84B86-514A-43A9-976C-AF084156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35836-1536-4BE5-A7BE-5898CE41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35499-186F-4F13-AE35-1FB4F87C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A7ECD-73E2-4BAB-965E-E1AF1927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7C572-62DE-44FB-B50A-39D47C6B9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CC4C-64D9-42C9-9C93-F9B02271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87402-9F24-4192-8AD9-BD8C9CD9E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C5803-3327-4C78-9C63-D516A7704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6150C-FF08-4243-825D-9F11622A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8E1D5-F347-469A-AE28-E4CB930E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15592-4C5D-411D-A497-AFEA7E7E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82426-0EFE-4F5E-81A7-3F271041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A985A-C45C-4A00-A05C-482AE192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09790-BCE4-4FC0-BFDA-ACB90FC6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D2A62-D941-421A-A41A-A1D6212D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25658-82B5-42DC-A1D3-C7805DE5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D22F-110C-42DC-9389-5911C014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619C2-8D15-4E38-A401-C69068D2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C3D13-6DB5-45DD-8353-19A0157CF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13646-5874-451D-BFCD-B1CFD1CF3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35742-1A1C-4892-8584-69498D55D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E1A50-569A-46DB-B24A-BB3FC482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78E54-834F-497B-AD04-388457D8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6DB2D-B2DF-43E4-A91B-46A49E8B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7D96F-FC83-4777-BFDD-4EF302DC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1C796-8F05-45A7-A74F-0DECDEFC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4D41C-C1D4-4249-8D71-06C3941E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CD96-888D-4E1F-A516-2155F9CA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EE801-612C-4445-BD33-D95D89C8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1690F-7804-4D58-B91D-5CE4DE35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5B43E-973B-4180-A330-8DCF3D41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7F73F-57E5-4013-BAA4-672693542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82A01-DC65-43A1-B4F5-7A5CAEC85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69E5E-A915-4598-968B-FE317A4F5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EBA6E-EFCC-4A8B-9E2C-2D7C90EA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BFA74-E9D6-4270-A92B-9D8FD288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42CFC-2B98-43AB-9BBA-24F985E5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CCDC1-6A02-425F-A695-C0554A45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BD26-95C9-4DE9-B7F1-CFDA8F65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3BD46-CBD7-4FA0-B371-B8BC0DEE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5EB68-752B-424C-B6FB-760B899C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2D781-A001-4DAF-B789-2DC405F5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EBD57-A43D-4705-8E62-1591D3DB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98B7D-1D9D-4933-9E63-02B8700A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712EA-6FED-4F30-8ED6-77CFA2442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CE16F-4B42-477B-B6D7-A1A7E75A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1493AF-E591-4BF2-B38B-DA1E31BE5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603EB-A6B9-4375-B15B-07E8B4EB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A3EC0-5796-4047-BD43-71B6AF7D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B0AC-00A4-4D63-BB9A-A18C9E2B90D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4284-E559-4812-926B-823B2AB33B1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15DC-D0BC-427A-AD3E-BE15F4D563C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B325-8F87-49B0-83C1-DAFFD427CE2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90A5-062B-453A-910D-F0C44E9F166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CE42-4066-452E-97C3-60749CF4DE0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1E0D-670A-46EE-BE85-9DB528BB4F1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9B34-D570-4585-8E52-4EBFC59F116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3E2A-B13C-4A90-A087-5733A086CC8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250560" y="259920"/>
            <a:ext cx="8713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 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р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«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 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:</a:t>
            </a:r>
            <a:endParaRPr b="0" lang="en-US" sz="66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hat do you know about Great Britain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6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250560" y="26028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When can you see the flag over the Queen's Palace?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When she is out   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When she is abroad   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hen she has a party 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When she is at home 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50560" y="26028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England is in …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1001"/>
              </a:spcBef>
              <a:buClr>
                <a:srgbClr val="f0a22e"/>
              </a:buClr>
              <a:buSzPct val="70000"/>
              <a:buFont typeface="Franklin Gothic 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a) Europe     b) Africa    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1001"/>
              </a:spcBef>
              <a:buClr>
                <a:srgbClr val="f0a22e"/>
              </a:buClr>
              <a:buSzPct val="70000"/>
              <a:buFont typeface="Franklin Gothic 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c) America     d) Asia 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250560" y="26028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The name of the river in London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…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The Severn   b) The Thames   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The Avon   d) The Clyde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250560" y="260280"/>
            <a:ext cx="8713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Westminster Abbey is …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   the chapel  b) the monastery    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the inn    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the famous Royal Church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250560" y="260280"/>
            <a:ext cx="8713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Who is the head of England?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  the Queen  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the Tzar   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 the Prime Minister  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the President 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250560" y="259920"/>
            <a:ext cx="8713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In what country do men wear skirts?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France    b) England   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Scotland   d) Norway 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250560" y="260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England is in the … of the world map.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north        b) south      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est         d) east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250560" y="25992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What is the official language in   Great Britain?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English     b) French   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Russian     d) Chinese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250560" y="260280"/>
            <a:ext cx="8713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Great Britain is divided into …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ive parts    b) three parts   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four parts   d) two parts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250560" y="260280"/>
            <a:ext cx="87138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What is the Tower of London now?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ison     b) a museum   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a house   d) a fortress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250560" y="260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The name of the Palace where the Queen lives is …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ower of London   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the White House  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the Windsor palace 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the Buckingham Palace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250560" y="259920"/>
            <a:ext cx="8713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What is a Piccadilly Circus?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ircus    b) a square   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a street   d) a house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250560" y="259920"/>
            <a:ext cx="8713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The capital of Great Britain is …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chester    b) Liverpool   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London   d) Cardiff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250560" y="26028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What can you see in Trafalgar square?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Nelson statue     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King memorial   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Queen memorial   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Michael Gorbachev memorial 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250560" y="26028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Big Ben is …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a clock    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a horse   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an animal in the zoo   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0a22e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a famous name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06T16:47:47Z</dcterms:created>
  <dc:creator>user</dc:creator>
  <dc:description/>
  <dc:language>en-US</dc:language>
  <cp:lastModifiedBy>user</cp:lastModifiedBy>
  <dcterms:modified xsi:type="dcterms:W3CDTF">2019-11-06T17:02:54Z</dcterms:modified>
  <cp:revision>2</cp:revision>
  <dc:subject/>
  <dc:title>Слайд 1</dc:title>
</cp:coreProperties>
</file>