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B012-E3FF-4020-8750-EEBCA6964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8770-15E7-48FD-8FD9-6F8851AF5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411B07-AB25-4AD4-84B2-331165622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79B232-BA80-4CDB-A797-ABD9144BA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FCC0BA-F027-4059-A19A-3A3E2D389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02F538-CF4A-4F08-A642-9CADA61D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C87829-A9EB-4C24-9E18-AA841FC0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28D409-ED35-4866-8162-6E30EF12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890B44-0AF9-4E37-A0C3-36AF49D22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1E1F05-A622-42B4-A661-3D699A93F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11943F-E239-4F97-ABF2-F6B6C69F0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E3D4-B2F7-4862-B671-C31173E76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0075-E323-45D9-994A-DA50A6694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CF3B7-9BFF-4868-B710-C831B0EF9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61E0F-6544-4F68-8662-409485545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001A3-6669-49D6-B182-04605D6C7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0ADBF-B940-4D0C-AB0D-F07015D54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D53F9-A2AE-4ECB-9F35-65BECA69E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F85D3-FF8A-4BC9-BAD4-8FA856A43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98E83-6141-47F6-960E-CB87A7C13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ADAA-A445-4D43-9732-4605A3F2D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BBB3E-1070-4751-BAEF-4CEB142D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4DEE2-DDAA-46FB-8660-D7F6E29F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3118D-04E5-4A82-A5C3-E40867C05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345FC-1D8A-4094-AD14-E264831E5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7488F-AC82-4E3E-A2C1-209B9F70D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5CDFD-5661-45A9-B773-52B05C996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4131D-FE85-4480-A91E-BE0D11E9C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62B12-34E9-4E02-ABE9-0E7BA7980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A5B32-3C55-4C90-92E6-2FF955D5D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03F4C-8FD9-4EA2-BD5A-DC00E90A9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DCF6-AB8C-4E2B-AD73-AD5544B98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3B661-F640-4484-A335-A72F20D7C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41985-7A36-4629-82D6-26D87583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A476E-0593-4E33-A29A-E08DBDCC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0234D-2A55-4169-882D-7CA041EC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EBBC0-E77A-42CD-9C6C-5441EF945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CCC9D-B6D2-4B32-B2D1-D8497276C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75A01-9DD5-44AD-938D-0C29CD7DF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7C6C0-2768-4010-A604-CDC5DF55B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CEB3A-AE9A-4C02-BA1B-39448AAA4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0931E-CF34-46B6-A2ED-37336534C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64EB-BFA8-45FB-BAD5-1E398EDD7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ADBEB-288E-4AEC-8DEC-6C7887E90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9B897-914A-499A-BDBD-109DC81ED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3F206-6473-47EE-8F70-BE55BBE38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DB604-60A1-417A-8C65-42E29B22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006FB-B236-4F7E-95E2-19424B074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953C8-F799-4511-9EF3-42722302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8865E-BCA4-40C1-8B72-93B57A2B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D2310-681F-44FF-AB4B-6A5C7E769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74D1B-5A64-4737-891F-12ADB9045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8C136-E8D7-4BB2-911C-A3144F43A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C80E-5A92-44D0-91B3-0DDAB140A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E509F-6271-4CD6-8124-E394C8CAA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47796A-68BD-467B-ACBD-D5F99FA94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B6A5D-A365-4D72-9811-1ED408A3F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C2ACC-AFE3-4490-B64B-427815CFC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E64FD-62AE-4555-A354-19A841B93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8625C-CD5C-487B-BE73-FEBCC8EC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A28D9-457E-48E3-8C20-04803A3B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59C83-2A7A-45BF-BAFD-CE65A64E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B1678-9841-4071-AF4E-637C99A63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09A18-B384-4DD2-913A-67F9285A6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60D9-E0F3-438F-B18D-88BB1827C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F38E4-847D-4543-95F0-487D98DCB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D4DECF-ECE1-4FD2-8464-1AF36888B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EAC8F-9D7F-4031-8682-E3463109B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F73B9-4AF2-446E-BD77-55DAB268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A56CC-D0F8-4236-8EE6-4E0BE170C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CB079-6356-45C5-8952-24DE6ED0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ED575-198A-40C3-9AF3-06E34EDE9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6A2DFB-1CA0-414B-9275-A365D1B8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26161-861E-41DC-9CFB-FDC41C93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84809-C867-4134-B0B4-1A37163A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370F-7EC2-414A-9C43-7C334AFA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51A4A-EA26-4FFC-BCD6-C12A43C0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4F991-A068-4A4E-8197-210FBDBDD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C8960C-9E90-483E-B1EF-13AA7D8C1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8A9D0C-9A13-4A7C-B333-CCB7E29A6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548A1-4753-4B79-8F79-C9B585746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134BD4-F8E7-44EE-8335-B19625D83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71F09-7884-4A40-823A-246D57851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1051EB-95E1-440F-BF1F-51DC4EE25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4FAB4C-5480-426E-970E-571EA89B6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3B0DF6-643A-4AE3-B5B2-156703BF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53B4-071E-4EF3-A563-0969D005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E0259E-939D-468A-840E-17089141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B0EEB-108D-4F89-A2BD-EFA8033F1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814A4-F873-47EC-9517-6451CA1FB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DC0326-9660-48F2-A82F-AC3287562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FAE75-9D67-4646-982D-F3B4249D1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6DCB4A-3F5D-40A5-8263-17488C1B5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7057EA-632F-4D25-BA0A-02F053FB3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266D97-B18B-4207-AE2B-92FAD54E7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5F95A0-E33C-4C70-A1E2-2D8666AA9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F6EC80-9B40-447C-9284-BDED36F4E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622C-1FC3-44A8-8501-70674EF0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69302B-EC07-4DE8-A079-99C3403A8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80929-D4E5-4841-921F-99A2DACB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B66DC1-E2C6-486E-A45B-8EC7F964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EBD43A-DA57-4787-99D6-6C310AD4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420B53-8DE4-4ACD-843A-F0ACAF517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E198B2-1440-419A-9CE3-C53C239EF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27D7D0-FD77-4A86-ADFE-B81F054E8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6292E0-2B2B-4802-911F-0AC8F15FF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1D688F-D352-490A-B0AC-29C0E214E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B55F90-86B8-46DE-9A81-D7CF0F868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69162-3517-4EE4-8E35-57B2B774128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CFD8D-B685-4C67-8F1B-3EE10D7977F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9E806-65DF-415C-85CF-CD77AE1D7C6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4DDDD-E868-4234-A617-A1B595EE425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BF60A-94A9-4D4B-BAAD-65B89FA4AF6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42AD6-2853-4BFA-BAA3-2F2E23D009F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424E2-F56C-4563-A8F0-AF46E2E9B59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35930-32CC-4726-843A-475F11B0E88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08ECA-0DAE-473D-8E6A-E43573B1553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250560" y="259920"/>
            <a:ext cx="8713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 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р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«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- 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:</a:t>
            </a:r>
            <a:endParaRPr b="0" lang="en-US" sz="66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6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hat do you know about Great Britain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6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250560" y="26028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When can you see the flag over the Queen's Palace?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When she is out   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When she is abroad   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hen she has a party 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 When she is at home 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250560" y="26028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England is in …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1001"/>
              </a:spcBef>
              <a:buClr>
                <a:srgbClr val="f0a22e"/>
              </a:buClr>
              <a:buSzPct val="70000"/>
              <a:buFont typeface="Franklin Gothic 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</a:rPr>
              <a:t>a) Europe     b) Africa    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1001"/>
              </a:spcBef>
              <a:buClr>
                <a:srgbClr val="f0a22e"/>
              </a:buClr>
              <a:buSzPct val="70000"/>
              <a:buFont typeface="Franklin Gothic 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</a:rPr>
              <a:t>c) America     d) Asia 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250560" y="260280"/>
            <a:ext cx="8713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The name of the river in London 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…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The Severn   b) The Thames   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The Avon   d) The Clyde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250560" y="260280"/>
            <a:ext cx="8713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Westminster Abbey is …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   the chapel  b) the monastery    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the inn    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 the famous Royal Church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250560" y="260280"/>
            <a:ext cx="8713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Who is the head of England?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  the Queen  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the Tzar   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 the Prime Minister  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 the President 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250560" y="259920"/>
            <a:ext cx="8713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In what country do men wear skirts?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buClr>
                <a:srgbClr val="f0a22e"/>
              </a:buClr>
              <a:buSzPct val="7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France    b) England   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buClr>
                <a:srgbClr val="f0a22e"/>
              </a:buClr>
              <a:buSzPct val="7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Scotland   d) Norway 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250560" y="260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 England is in the … of the world map.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0a22e"/>
              </a:buClr>
              <a:buSzPct val="7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north        b) south      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0a22e"/>
              </a:buClr>
              <a:buSzPct val="7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est         d) east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250560" y="25992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What is the official language in   Great Britain?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English     b) French   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Russian     d) Chinese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250560" y="260280"/>
            <a:ext cx="8713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Great Britain is divided into …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ive parts    b) three parts   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four parts   d) two parts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250560" y="260280"/>
            <a:ext cx="87138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What is the Tower of London now?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rison     b) a museum   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a house   d) a fortress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250560" y="260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The name of the Palace where the Queen lives is …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ower of London   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the White House  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the Windsor palace 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 the Buckingham Palace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250560" y="259920"/>
            <a:ext cx="8713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What is a Piccadilly Circus?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ircus    b) a square   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a street   d) a house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250560" y="259920"/>
            <a:ext cx="8713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The capital of Great Britain is …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Clr>
                <a:srgbClr val="f0a22e"/>
              </a:buClr>
              <a:buSzPct val="7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chester    b) Liverpool   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Clr>
                <a:srgbClr val="f0a22e"/>
              </a:buClr>
              <a:buSzPct val="7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London   d) Cardiff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250560" y="26028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What can you see in Trafalgar square?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Nelson statue     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King memorial   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Queen memorial   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 Michael Gorbachev memorial 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250560" y="26028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Big Ben is …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0a22e"/>
              </a:buClr>
              <a:buSzPct val="7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a clock    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0a22e"/>
              </a:buClr>
              <a:buSzPct val="7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a horse   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0a22e"/>
              </a:buClr>
              <a:buSzPct val="7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an animal in the zoo   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0a22e"/>
              </a:buClr>
              <a:buSzPct val="7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 a famous name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1-06T16:47:47Z</dcterms:created>
  <dc:creator>user</dc:creator>
  <dc:description/>
  <dc:language>en-US</dc:language>
  <cp:lastModifiedBy>user</cp:lastModifiedBy>
  <dcterms:modified xsi:type="dcterms:W3CDTF">2019-11-06T17:02:54Z</dcterms:modified>
  <cp:revision>2</cp:revision>
  <dc:subject/>
  <dc:title>Слайд 1</dc:title>
</cp:coreProperties>
</file>