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744-7A94-42E2-A548-30BFC5F5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E54-C585-4548-AF42-48EE6774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AA5-BC87-4F71-AA4C-F06EC3E8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3C0-953F-4B55-8462-326A55BE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1D6A-55E0-4D15-980C-C8270C4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5FCE-46A0-45C2-82E8-E1CF118E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8E6-96B3-4634-9F04-74887D35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18F-27B3-4686-BDB5-33B8B78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9925-3C50-4026-9A32-4F40109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A96-C1C7-4ACA-8FBD-FCF6346A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C139-3E84-4D4E-8D06-4E9CC78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71C-963E-4450-95CC-137F153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C2F-C5AC-42B0-9D55-E050BE5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65FC-D5A0-4DD6-8DC8-F1EAF18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0FFE-E3B6-41AB-9FBD-F86A3D9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583F-448E-4E5E-8D9D-F9ECED1F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D977-C153-44E3-BDE1-EF3ADFB7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1D0-2DB4-4893-8BA9-E3787A44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586-CCA1-4A05-AE29-4B20C61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587-5316-4560-A1E3-1D7F66ED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BA-8FE7-4AC5-8E60-2AEDB76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087-88A5-4C3A-A8D6-9C1D2AC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C6F-DA6C-4746-A41E-CF07F5E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8EC-BAC0-4B03-B0ED-F90BFA9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789-5D87-45F4-B18E-182DD046B41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05E3-FB6C-4C8F-B784-96B0CA515D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имики – это те, кто на самом деле понимает мир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айнус Полинг, хим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жды Нобелевский лауре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Твердые 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3" descr="ch10_21_09"/>
          <p:cNvPicPr/>
          <p:nvPr/>
        </p:nvPicPr>
        <p:blipFill>
          <a:blip r:embed="rId1"/>
          <a:srcRect l="999" t="17839" r="2002" b="0"/>
          <a:stretch/>
        </p:blipFill>
        <p:spPr>
          <a:xfrm>
            <a:off x="762120" y="1523880"/>
            <a:ext cx="769608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h10_21_10"/>
          <p:cNvPicPr/>
          <p:nvPr/>
        </p:nvPicPr>
        <p:blipFill>
          <a:blip r:embed="rId1"/>
          <a:srcRect l="2002" t="8461" r="3001" b="4439"/>
          <a:stretch/>
        </p:blipFill>
        <p:spPr>
          <a:xfrm>
            <a:off x="990720" y="1447920"/>
            <a:ext cx="72388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Жидкие 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лассификация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Picture 3" descr="Безымянный"/>
          <p:cNvPicPr/>
          <p:nvPr/>
        </p:nvPicPr>
        <p:blipFill>
          <a:blip r:embed="rId1"/>
          <a:srcRect l="4265" t="19501" r="3897" b="0"/>
          <a:stretch/>
        </p:blipFill>
        <p:spPr>
          <a:xfrm>
            <a:off x="152280" y="1447920"/>
            <a:ext cx="8839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Химические свойства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елочной гидро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кции, характерные для остатков непредельных  кислот в составе жи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ис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идролиз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705720" y="5562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еариновая 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0" y="1600200"/>
            <a:ext cx="9144000" cy="4361400"/>
            <a:chOff x="0" y="1600200"/>
            <a:chExt cx="9144000" cy="4361400"/>
          </a:xfrm>
        </p:grpSpPr>
        <p:sp>
          <p:nvSpPr>
            <p:cNvPr id="162" name="Rectangle 5"/>
            <p:cNvSpPr/>
            <p:nvPr/>
          </p:nvSpPr>
          <p:spPr>
            <a:xfrm>
              <a:off x="6477120" y="1600200"/>
              <a:ext cx="121896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124080" y="1600200"/>
              <a:ext cx="601992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2057400" y="1600200"/>
              <a:ext cx="601992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8"/>
            <p:cNvGrpSpPr/>
            <p:nvPr/>
          </p:nvGrpSpPr>
          <p:grpSpPr>
            <a:xfrm>
              <a:off x="0" y="1600200"/>
              <a:ext cx="3200400" cy="3890880"/>
              <a:chOff x="0" y="1600200"/>
              <a:chExt cx="3200400" cy="3890880"/>
            </a:xfrm>
          </p:grpSpPr>
          <p:pic>
            <p:nvPicPr>
              <p:cNvPr id="166" name="Picture 9" descr="Безымянный1"/>
              <p:cNvPicPr/>
              <p:nvPr/>
            </p:nvPicPr>
            <p:blipFill>
              <a:blip r:embed="rId1"/>
              <a:srcRect l="36982" t="45398" r="44510" b="14251"/>
              <a:stretch/>
            </p:blipFill>
            <p:spPr>
              <a:xfrm>
                <a:off x="0" y="1600200"/>
                <a:ext cx="2057400" cy="38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Text Box 10"/>
              <p:cNvSpPr/>
              <p:nvPr/>
            </p:nvSpPr>
            <p:spPr>
              <a:xfrm>
                <a:off x="2057400" y="236232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1"/>
              <p:cNvSpPr/>
              <p:nvPr/>
            </p:nvSpPr>
            <p:spPr>
              <a:xfrm>
                <a:off x="2057400" y="358128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2057400" y="480060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Text Box 13"/>
              <p:cNvSpPr/>
              <p:nvPr/>
            </p:nvSpPr>
            <p:spPr>
              <a:xfrm>
                <a:off x="2057400" y="1752480"/>
                <a:ext cx="114300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14"/>
              <p:cNvSpPr/>
              <p:nvPr/>
            </p:nvSpPr>
            <p:spPr>
              <a:xfrm>
                <a:off x="2057400" y="2895480"/>
                <a:ext cx="106668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15"/>
              <p:cNvSpPr/>
              <p:nvPr/>
            </p:nvSpPr>
            <p:spPr>
              <a:xfrm>
                <a:off x="2057400" y="4114800"/>
                <a:ext cx="106668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3" name="Text Box 16"/>
            <p:cNvSpPr/>
            <p:nvPr/>
          </p:nvSpPr>
          <p:spPr>
            <a:xfrm>
              <a:off x="2819520" y="3124080"/>
              <a:ext cx="129528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4114800" y="289548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8"/>
            <p:cNvSpPr/>
            <p:nvPr/>
          </p:nvSpPr>
          <p:spPr>
            <a:xfrm>
              <a:off x="4038480" y="3276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403848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6705720" y="1676520"/>
              <a:ext cx="761760" cy="373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8" name="Picture 21" descr="Безымянный1"/>
            <p:cNvPicPr/>
            <p:nvPr/>
          </p:nvPicPr>
          <p:blipFill>
            <a:blip r:embed="rId2"/>
            <a:srcRect l="36982" t="45398" r="44510" b="14251"/>
            <a:stretch/>
          </p:blipFill>
          <p:spPr>
            <a:xfrm>
              <a:off x="5187960" y="1981080"/>
              <a:ext cx="188604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2"/>
            <p:cNvSpPr/>
            <p:nvPr/>
          </p:nvSpPr>
          <p:spPr>
            <a:xfrm>
              <a:off x="6172200" y="4495680"/>
              <a:ext cx="129528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23"/>
            <p:cNvSpPr/>
            <p:nvPr/>
          </p:nvSpPr>
          <p:spPr>
            <a:xfrm>
              <a:off x="6172200" y="3276720"/>
              <a:ext cx="12193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24"/>
            <p:cNvSpPr/>
            <p:nvPr/>
          </p:nvSpPr>
          <p:spPr>
            <a:xfrm>
              <a:off x="609480" y="548640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истеара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25"/>
            <p:cNvSpPr/>
            <p:nvPr/>
          </p:nvSpPr>
          <p:spPr>
            <a:xfrm>
              <a:off x="5181480" y="5562720"/>
              <a:ext cx="127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глицерин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26"/>
            <p:cNvSpPr/>
            <p:nvPr/>
          </p:nvSpPr>
          <p:spPr>
            <a:xfrm>
              <a:off x="6553080" y="3276720"/>
              <a:ext cx="243864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 rot="20885400">
              <a:off x="6553080" y="1676160"/>
              <a:ext cx="914400" cy="167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6629400" y="3657600"/>
              <a:ext cx="457200" cy="1752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Text Box 29"/>
            <p:cNvSpPr/>
            <p:nvPr/>
          </p:nvSpPr>
          <p:spPr>
            <a:xfrm>
              <a:off x="6172200" y="2057400"/>
              <a:ext cx="3049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Щелочной гидролиз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(омыление)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0" y="1523880"/>
            <a:ext cx="9144000" cy="4285080"/>
            <a:chOff x="0" y="1523880"/>
            <a:chExt cx="9144000" cy="4285080"/>
          </a:xfrm>
        </p:grpSpPr>
        <p:grpSp>
          <p:nvGrpSpPr>
            <p:cNvPr id="189" name="Group 4"/>
            <p:cNvGrpSpPr/>
            <p:nvPr/>
          </p:nvGrpSpPr>
          <p:grpSpPr>
            <a:xfrm>
              <a:off x="0" y="1523880"/>
              <a:ext cx="9144000" cy="4285080"/>
              <a:chOff x="0" y="1523880"/>
              <a:chExt cx="9144000" cy="428508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3124080" y="1523880"/>
                <a:ext cx="6019920" cy="3886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91" name="Group 6"/>
              <p:cNvGrpSpPr/>
              <p:nvPr/>
            </p:nvGrpSpPr>
            <p:grpSpPr>
              <a:xfrm>
                <a:off x="0" y="1523880"/>
                <a:ext cx="8296920" cy="4285080"/>
                <a:chOff x="0" y="1523880"/>
                <a:chExt cx="8296920" cy="4285080"/>
              </a:xfrm>
            </p:grpSpPr>
            <p:sp>
              <p:nvSpPr>
                <p:cNvPr id="192" name="Rectangle 7"/>
                <p:cNvSpPr/>
                <p:nvPr/>
              </p:nvSpPr>
              <p:spPr>
                <a:xfrm>
                  <a:off x="6934320" y="1523880"/>
                  <a:ext cx="121896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Rectangle 8"/>
                <p:cNvSpPr/>
                <p:nvPr/>
              </p:nvSpPr>
              <p:spPr>
                <a:xfrm>
                  <a:off x="2057400" y="1523880"/>
                  <a:ext cx="601992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4" name="Group 9"/>
                <p:cNvGrpSpPr/>
                <p:nvPr/>
              </p:nvGrpSpPr>
              <p:grpSpPr>
                <a:xfrm>
                  <a:off x="0" y="1523880"/>
                  <a:ext cx="3200400" cy="3890880"/>
                  <a:chOff x="0" y="1523880"/>
                  <a:chExt cx="3200400" cy="3890880"/>
                </a:xfrm>
              </p:grpSpPr>
              <p:pic>
                <p:nvPicPr>
                  <p:cNvPr id="195" name="Picture 10" descr="Безымянный1"/>
                  <p:cNvPicPr/>
                  <p:nvPr/>
                </p:nvPicPr>
                <p:blipFill>
                  <a:blip r:embed="rId1"/>
                  <a:srcRect l="36982" t="45398" r="44510" b="14251"/>
                  <a:stretch/>
                </p:blipFill>
                <p:spPr>
                  <a:xfrm>
                    <a:off x="0" y="1523880"/>
                    <a:ext cx="205740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Text Box 11"/>
                  <p:cNvSpPr/>
                  <p:nvPr/>
                </p:nvSpPr>
                <p:spPr>
                  <a:xfrm>
                    <a:off x="2057400" y="228600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Rectangle 12"/>
                  <p:cNvSpPr/>
                  <p:nvPr/>
                </p:nvSpPr>
                <p:spPr>
                  <a:xfrm>
                    <a:off x="2057400" y="350496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Rectangle 13"/>
                  <p:cNvSpPr/>
                  <p:nvPr/>
                </p:nvSpPr>
                <p:spPr>
                  <a:xfrm>
                    <a:off x="2057400" y="472428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Text Box 14"/>
                  <p:cNvSpPr/>
                  <p:nvPr/>
                </p:nvSpPr>
                <p:spPr>
                  <a:xfrm>
                    <a:off x="2057400" y="1676160"/>
                    <a:ext cx="114300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Rectangle 15"/>
                  <p:cNvSpPr/>
                  <p:nvPr/>
                </p:nvSpPr>
                <p:spPr>
                  <a:xfrm>
                    <a:off x="2057400" y="2819160"/>
                    <a:ext cx="106668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1" name="Rectangle 16"/>
                  <p:cNvSpPr/>
                  <p:nvPr/>
                </p:nvSpPr>
                <p:spPr>
                  <a:xfrm>
                    <a:off x="2057400" y="4038480"/>
                    <a:ext cx="106668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02" name="Text Box 17"/>
                <p:cNvSpPr/>
                <p:nvPr/>
              </p:nvSpPr>
              <p:spPr>
                <a:xfrm>
                  <a:off x="2743200" y="3047760"/>
                  <a:ext cx="152388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+ 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aO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Text Box 18"/>
                <p:cNvSpPr/>
                <p:nvPr/>
              </p:nvSpPr>
              <p:spPr>
                <a:xfrm>
                  <a:off x="4267080" y="2895480"/>
                  <a:ext cx="62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19"/>
                <p:cNvSpPr/>
                <p:nvPr/>
              </p:nvSpPr>
              <p:spPr>
                <a:xfrm>
                  <a:off x="4267080" y="32763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Rectangle 20"/>
                <p:cNvSpPr/>
                <p:nvPr/>
              </p:nvSpPr>
              <p:spPr>
                <a:xfrm>
                  <a:off x="6705720" y="1600200"/>
                  <a:ext cx="761760" cy="37335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206" name="Picture 21" descr="Безымянный1"/>
                <p:cNvPicPr/>
                <p:nvPr/>
              </p:nvPicPr>
              <p:blipFill>
                <a:blip r:embed="rId2"/>
                <a:srcRect l="36982" t="45398" r="44510" b="14251"/>
                <a:stretch/>
              </p:blipFill>
              <p:spPr>
                <a:xfrm>
                  <a:off x="49528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Rectangle 22"/>
                <p:cNvSpPr/>
                <p:nvPr/>
              </p:nvSpPr>
              <p:spPr>
                <a:xfrm>
                  <a:off x="6477120" y="1523880"/>
                  <a:ext cx="121896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Text Box 23"/>
                <p:cNvSpPr/>
                <p:nvPr/>
              </p:nvSpPr>
              <p:spPr>
                <a:xfrm>
                  <a:off x="6172200" y="4419360"/>
                  <a:ext cx="12952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Text Box 24"/>
                <p:cNvSpPr/>
                <p:nvPr/>
              </p:nvSpPr>
              <p:spPr>
                <a:xfrm>
                  <a:off x="6172200" y="3200400"/>
                  <a:ext cx="12952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Text Box 25"/>
                <p:cNvSpPr/>
                <p:nvPr/>
              </p:nvSpPr>
              <p:spPr>
                <a:xfrm>
                  <a:off x="6172200" y="1981080"/>
                  <a:ext cx="30492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Text Box 26"/>
                <p:cNvSpPr/>
                <p:nvPr/>
              </p:nvSpPr>
              <p:spPr>
                <a:xfrm>
                  <a:off x="289080" y="5294160"/>
                  <a:ext cx="183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Text Box 27"/>
                <p:cNvSpPr/>
                <p:nvPr/>
              </p:nvSpPr>
              <p:spPr>
                <a:xfrm>
                  <a:off x="610200" y="5410080"/>
                  <a:ext cx="63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жир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Text Box 28"/>
                <p:cNvSpPr/>
                <p:nvPr/>
              </p:nvSpPr>
              <p:spPr>
                <a:xfrm>
                  <a:off x="5181480" y="5410080"/>
                  <a:ext cx="127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глицерин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Text Box 29"/>
                <p:cNvSpPr/>
                <p:nvPr/>
              </p:nvSpPr>
              <p:spPr>
                <a:xfrm>
                  <a:off x="7468560" y="5410080"/>
                  <a:ext cx="82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мыло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15" name="Text Box 30"/>
            <p:cNvSpPr/>
            <p:nvPr/>
          </p:nvSpPr>
          <p:spPr>
            <a:xfrm>
              <a:off x="6629400" y="3200400"/>
              <a:ext cx="251460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3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N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Text Box 31"/>
          <p:cNvSpPr/>
          <p:nvPr/>
        </p:nvSpPr>
        <p:spPr>
          <a:xfrm>
            <a:off x="0" y="5867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ла – натриевые или калиевые соли высших карбоновых 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идрирование жидких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07320" y="1523880"/>
            <a:ext cx="8041680" cy="4437720"/>
            <a:chOff x="607320" y="1523880"/>
            <a:chExt cx="8041680" cy="4437720"/>
          </a:xfrm>
        </p:grpSpPr>
        <p:grpSp>
          <p:nvGrpSpPr>
            <p:cNvPr id="219" name="Group 4"/>
            <p:cNvGrpSpPr/>
            <p:nvPr/>
          </p:nvGrpSpPr>
          <p:grpSpPr>
            <a:xfrm>
              <a:off x="609480" y="1523880"/>
              <a:ext cx="8001000" cy="3890880"/>
              <a:chOff x="609480" y="1523880"/>
              <a:chExt cx="8001000" cy="389088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2590920" y="1523880"/>
                <a:ext cx="6019560" cy="3886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21" name="Group 6"/>
              <p:cNvGrpSpPr/>
              <p:nvPr/>
            </p:nvGrpSpPr>
            <p:grpSpPr>
              <a:xfrm>
                <a:off x="609480" y="1523880"/>
                <a:ext cx="3200400" cy="3890880"/>
                <a:chOff x="609480" y="1523880"/>
                <a:chExt cx="3200400" cy="3890880"/>
              </a:xfrm>
            </p:grpSpPr>
            <p:pic>
              <p:nvPicPr>
                <p:cNvPr id="222" name="Picture 7" descr="Безымянный1"/>
                <p:cNvPicPr/>
                <p:nvPr/>
              </p:nvPicPr>
              <p:blipFill>
                <a:blip r:embed="rId1"/>
                <a:srcRect l="36982" t="45398" r="44510" b="14251"/>
                <a:stretch/>
              </p:blipFill>
              <p:spPr>
                <a:xfrm>
                  <a:off x="6094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Text Box 8"/>
                <p:cNvSpPr/>
                <p:nvPr/>
              </p:nvSpPr>
              <p:spPr>
                <a:xfrm>
                  <a:off x="2666880" y="228600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9"/>
                <p:cNvSpPr/>
                <p:nvPr/>
              </p:nvSpPr>
              <p:spPr>
                <a:xfrm>
                  <a:off x="2666880" y="350496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Rectangle 10"/>
                <p:cNvSpPr/>
                <p:nvPr/>
              </p:nvSpPr>
              <p:spPr>
                <a:xfrm>
                  <a:off x="2666880" y="472428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Text Box 11"/>
                <p:cNvSpPr/>
                <p:nvPr/>
              </p:nvSpPr>
              <p:spPr>
                <a:xfrm>
                  <a:off x="2666880" y="1676160"/>
                  <a:ext cx="114300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666880" y="281916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666880" y="403848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9" name="Text Box 14"/>
              <p:cNvSpPr/>
              <p:nvPr/>
            </p:nvSpPr>
            <p:spPr>
              <a:xfrm>
                <a:off x="3733920" y="312408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Text Box 15"/>
              <p:cNvSpPr/>
              <p:nvPr/>
            </p:nvSpPr>
            <p:spPr>
              <a:xfrm>
                <a:off x="3505320" y="304812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+ 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4495680" y="32767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>
                <a:off x="4496760" y="28954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i, t, p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33" name="Group 18"/>
              <p:cNvGrpSpPr/>
              <p:nvPr/>
            </p:nvGrpSpPr>
            <p:grpSpPr>
              <a:xfrm>
                <a:off x="5410080" y="1523880"/>
                <a:ext cx="3200400" cy="3890880"/>
                <a:chOff x="5410080" y="1523880"/>
                <a:chExt cx="3200400" cy="3890880"/>
              </a:xfrm>
            </p:grpSpPr>
            <p:pic>
              <p:nvPicPr>
                <p:cNvPr id="234" name="Picture 19" descr="Безымянный1"/>
                <p:cNvPicPr/>
                <p:nvPr/>
              </p:nvPicPr>
              <p:blipFill>
                <a:blip r:embed="rId2"/>
                <a:srcRect l="36982" t="45398" r="44510" b="14251"/>
                <a:stretch/>
              </p:blipFill>
              <p:spPr>
                <a:xfrm>
                  <a:off x="54100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Text Box 20"/>
                <p:cNvSpPr/>
                <p:nvPr/>
              </p:nvSpPr>
              <p:spPr>
                <a:xfrm>
                  <a:off x="7467480" y="228600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21"/>
                <p:cNvSpPr/>
                <p:nvPr/>
              </p:nvSpPr>
              <p:spPr>
                <a:xfrm>
                  <a:off x="7467480" y="350496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7" name="Rectangle 22"/>
                <p:cNvSpPr/>
                <p:nvPr/>
              </p:nvSpPr>
              <p:spPr>
                <a:xfrm>
                  <a:off x="7467480" y="472428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Text Box 23"/>
                <p:cNvSpPr/>
                <p:nvPr/>
              </p:nvSpPr>
              <p:spPr>
                <a:xfrm>
                  <a:off x="7467480" y="1676160"/>
                  <a:ext cx="114300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7467480" y="281916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7467480" y="403848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" name="Text Box 26"/>
            <p:cNvSpPr/>
            <p:nvPr/>
          </p:nvSpPr>
          <p:spPr>
            <a:xfrm>
              <a:off x="607320" y="556272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Жидкий жир (триолеат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5330520" y="5486400"/>
              <a:ext cx="33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вердый жир (тристеарат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орение 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57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10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163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10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олучение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ение из животных и растительных организ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кция этерификации в пробирке или в клетках на мембранах комплекса Гольджи и  эндоплазматической с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8" descr="масла"/>
          <p:cNvPicPr/>
          <p:nvPr/>
        </p:nvPicPr>
        <p:blipFill>
          <a:blip r:embed="rId1"/>
          <a:stretch/>
        </p:blipFill>
        <p:spPr>
          <a:xfrm>
            <a:off x="5025960" y="2112840"/>
            <a:ext cx="3467160" cy="1722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248" name="Picture 13" descr="HJ7qv60vVA4"/>
          <p:cNvPicPr/>
          <p:nvPr/>
        </p:nvPicPr>
        <p:blipFill>
          <a:blip r:embed="rId2"/>
          <a:stretch/>
        </p:blipFill>
        <p:spPr>
          <a:xfrm>
            <a:off x="4978440" y="3922560"/>
            <a:ext cx="3562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0" y="1523880"/>
            <a:ext cx="9144000" cy="4419720"/>
            <a:chOff x="0" y="1523880"/>
            <a:chExt cx="9144000" cy="4419720"/>
          </a:xfrm>
        </p:grpSpPr>
        <p:sp>
          <p:nvSpPr>
            <p:cNvPr id="251" name="Rectangle 4"/>
            <p:cNvSpPr/>
            <p:nvPr/>
          </p:nvSpPr>
          <p:spPr>
            <a:xfrm>
              <a:off x="0" y="1523880"/>
              <a:ext cx="9144000" cy="441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2" name="Group 5"/>
            <p:cNvGrpSpPr/>
            <p:nvPr/>
          </p:nvGrpSpPr>
          <p:grpSpPr>
            <a:xfrm>
              <a:off x="152280" y="1752480"/>
              <a:ext cx="1752480" cy="2876760"/>
              <a:chOff x="152280" y="1752480"/>
              <a:chExt cx="1752480" cy="2876760"/>
            </a:xfrm>
          </p:grpSpPr>
          <p:pic>
            <p:nvPicPr>
              <p:cNvPr id="253" name="Picture 6" descr="Безымянный1"/>
              <p:cNvPicPr/>
              <p:nvPr/>
            </p:nvPicPr>
            <p:blipFill>
              <a:blip r:embed="rId1"/>
              <a:srcRect l="36982" t="45398" r="49291" b="14251"/>
              <a:stretch/>
            </p:blipFill>
            <p:spPr>
              <a:xfrm>
                <a:off x="152280" y="1752480"/>
                <a:ext cx="1752480" cy="28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7"/>
              <p:cNvSpPr/>
              <p:nvPr/>
            </p:nvSpPr>
            <p:spPr>
              <a:xfrm>
                <a:off x="1523880" y="2057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Text Box 8"/>
              <p:cNvSpPr/>
              <p:nvPr/>
            </p:nvSpPr>
            <p:spPr>
              <a:xfrm>
                <a:off x="1523880" y="2971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Text Box 9"/>
              <p:cNvSpPr/>
              <p:nvPr/>
            </p:nvSpPr>
            <p:spPr>
              <a:xfrm>
                <a:off x="1523880" y="380988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257" name="Picture 10" descr="Безымянный1"/>
            <p:cNvPicPr/>
            <p:nvPr/>
          </p:nvPicPr>
          <p:blipFill>
            <a:blip r:embed="rId2"/>
            <a:srcRect l="29440" t="45398" r="33029" b="14251"/>
            <a:stretch/>
          </p:blipFill>
          <p:spPr>
            <a:xfrm>
              <a:off x="4419720" y="1523880"/>
              <a:ext cx="3276360" cy="304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Group 11"/>
            <p:cNvGrpSpPr/>
            <p:nvPr/>
          </p:nvGrpSpPr>
          <p:grpSpPr>
            <a:xfrm>
              <a:off x="2362320" y="2971800"/>
              <a:ext cx="1119240" cy="1167840"/>
              <a:chOff x="2362320" y="2971800"/>
              <a:chExt cx="1119240" cy="1167840"/>
            </a:xfrm>
          </p:grpSpPr>
          <p:sp>
            <p:nvSpPr>
              <p:cNvPr id="259" name="Rectangle 12"/>
              <p:cNvSpPr/>
              <p:nvPr/>
            </p:nvSpPr>
            <p:spPr>
              <a:xfrm>
                <a:off x="2369880" y="2971800"/>
                <a:ext cx="110412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13"/>
              <p:cNvSpPr/>
              <p:nvPr/>
            </p:nvSpPr>
            <p:spPr>
              <a:xfrm>
                <a:off x="2369880" y="3352680"/>
                <a:ext cx="110412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4"/>
              <p:cNvSpPr/>
              <p:nvPr/>
            </p:nvSpPr>
            <p:spPr>
              <a:xfrm>
                <a:off x="2362320" y="3733920"/>
                <a:ext cx="111924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2" name="Text Box 15"/>
            <p:cNvSpPr/>
            <p:nvPr/>
          </p:nvSpPr>
          <p:spPr>
            <a:xfrm>
              <a:off x="1981080" y="3200400"/>
              <a:ext cx="3049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7620120" y="2971800"/>
              <a:ext cx="1371600" cy="405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3Н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4" name="Group 17"/>
            <p:cNvGrpSpPr/>
            <p:nvPr/>
          </p:nvGrpSpPr>
          <p:grpSpPr>
            <a:xfrm>
              <a:off x="3810600" y="2819520"/>
              <a:ext cx="671400" cy="685800"/>
              <a:chOff x="3810600" y="2819520"/>
              <a:chExt cx="671400" cy="685800"/>
            </a:xfrm>
          </p:grpSpPr>
          <p:sp>
            <p:nvSpPr>
              <p:cNvPr id="265" name="Line 18"/>
              <p:cNvSpPr/>
              <p:nvPr/>
            </p:nvSpPr>
            <p:spPr>
              <a:xfrm>
                <a:off x="3886200" y="3352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19"/>
              <p:cNvSpPr/>
              <p:nvPr/>
            </p:nvSpPr>
            <p:spPr>
              <a:xfrm>
                <a:off x="3810600" y="2819520"/>
                <a:ext cx="67140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+, 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20"/>
              <p:cNvSpPr/>
              <p:nvPr/>
            </p:nvSpPr>
            <p:spPr>
              <a:xfrm flipH="1">
                <a:off x="3886200" y="3505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8" name="Text Box 21"/>
            <p:cNvSpPr/>
            <p:nvPr/>
          </p:nvSpPr>
          <p:spPr>
            <a:xfrm>
              <a:off x="304920" y="4800600"/>
              <a:ext cx="190476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лицери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2666880" y="4800600"/>
              <a:ext cx="9907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К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Text Box 23"/>
            <p:cNvSpPr/>
            <p:nvPr/>
          </p:nvSpPr>
          <p:spPr>
            <a:xfrm>
              <a:off x="4572000" y="4876920"/>
              <a:ext cx="3124080" cy="785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Жи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триглицерид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1" name="Rectangle 24"/>
          <p:cNvSpPr/>
          <p:nvPr/>
        </p:nvSpPr>
        <p:spPr>
          <a:xfrm>
            <a:off x="6094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олучение жи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OCMirSePCcI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op-10-aphrodisiac-foods04"/>
          <p:cNvPicPr/>
          <p:nvPr/>
        </p:nvPicPr>
        <p:blipFill>
          <a:blip r:embed="rId2"/>
          <a:stretch/>
        </p:blipFill>
        <p:spPr>
          <a:xfrm>
            <a:off x="2286000" y="1143000"/>
            <a:ext cx="2819520" cy="22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292053983_pen4"/>
          <p:cNvPicPr/>
          <p:nvPr/>
        </p:nvPicPr>
        <p:blipFill>
          <a:blip r:embed="rId3"/>
          <a:stretch/>
        </p:blipFill>
        <p:spPr>
          <a:xfrm>
            <a:off x="4876920" y="2438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59427"/>
          <p:cNvPicPr/>
          <p:nvPr/>
        </p:nvPicPr>
        <p:blipFill>
          <a:blip r:embed="rId4"/>
          <a:stretch/>
        </p:blipFill>
        <p:spPr>
          <a:xfrm>
            <a:off x="7048440" y="0"/>
            <a:ext cx="2095560" cy="321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hrysanthemum"/>
          <p:cNvPicPr/>
          <p:nvPr/>
        </p:nvPicPr>
        <p:blipFill>
          <a:blip r:embed="rId5"/>
          <a:stretch/>
        </p:blipFill>
        <p:spPr>
          <a:xfrm>
            <a:off x="0" y="2971800"/>
            <a:ext cx="3352680" cy="300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im_424"/>
          <p:cNvPicPr/>
          <p:nvPr/>
        </p:nvPicPr>
        <p:blipFill>
          <a:blip r:embed="rId6"/>
          <a:stretch/>
        </p:blipFill>
        <p:spPr>
          <a:xfrm>
            <a:off x="6705720" y="47242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Moment"/>
          <p:cNvPicPr/>
          <p:nvPr/>
        </p:nvPicPr>
        <p:blipFill>
          <a:blip r:embed="rId7"/>
          <a:stretch/>
        </p:blipFill>
        <p:spPr>
          <a:xfrm>
            <a:off x="2819520" y="46483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136-2-687"/>
          <p:cNvPicPr/>
          <p:nvPr/>
        </p:nvPicPr>
        <p:blipFill>
          <a:blip r:embed="rId8"/>
          <a:stretch/>
        </p:blipFill>
        <p:spPr>
          <a:xfrm>
            <a:off x="4038480" y="0"/>
            <a:ext cx="28386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именение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3" name="Picture 3" descr="ch10_21_13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ункции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ергетическая (при полном расщеплении 1г жира до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освобождается 38,9 кДж энерги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ная (жиры – важный компонент каждой клетки, в частности, мембранных структу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13" descr="i?id=215886242-67-72&amp;n=21"/>
          <p:cNvPicPr/>
          <p:nvPr/>
        </p:nvPicPr>
        <p:blipFill>
          <a:blip r:embed="rId1"/>
          <a:stretch/>
        </p:blipFill>
        <p:spPr>
          <a:xfrm>
            <a:off x="4648320" y="3886200"/>
            <a:ext cx="3962160" cy="2209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i?id=394806184-11-72&amp;n=21"/>
          <p:cNvPicPr/>
          <p:nvPr/>
        </p:nvPicPr>
        <p:blipFill>
          <a:blip r:embed="rId2"/>
          <a:stretch/>
        </p:blipFill>
        <p:spPr>
          <a:xfrm>
            <a:off x="4724280" y="1676520"/>
            <a:ext cx="381024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ункции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ная (жиры накапливаются в подкожных тканях и тканях, окружающих внутренние органы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с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чник эндогенной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8" descr="верблюд"/>
          <p:cNvPicPr/>
          <p:nvPr/>
        </p:nvPicPr>
        <p:blipFill>
          <a:blip r:embed="rId1"/>
          <a:stretch/>
        </p:blipFill>
        <p:spPr>
          <a:xfrm>
            <a:off x="6705720" y="42670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тюлень"/>
          <p:cNvPicPr/>
          <p:nvPr/>
        </p:nvPicPr>
        <p:blipFill>
          <a:blip r:embed="rId2"/>
          <a:stretch/>
        </p:blipFill>
        <p:spPr>
          <a:xfrm>
            <a:off x="6629400" y="106668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94920" y="466848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16" descr="1813"/>
          <p:cNvPicPr/>
          <p:nvPr/>
        </p:nvPicPr>
        <p:blipFill>
          <a:blip r:embed="rId3"/>
          <a:stretch/>
        </p:blipFill>
        <p:spPr>
          <a:xfrm>
            <a:off x="4267080" y="20574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дукты, богатые  жира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66680" y="4106520"/>
            <a:ext cx="37022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66680" y="1981080"/>
            <a:ext cx="370224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11" descr="1170-2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holesterin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13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3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_mp2011"/>
          <p:cNvPicPr/>
          <p:nvPr/>
        </p:nvPicPr>
        <p:blipFill>
          <a:blip r:embed="rId4"/>
          <a:stretch/>
        </p:blipFill>
        <p:spPr>
          <a:xfrm>
            <a:off x="4648320" y="39625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колько жиров нам нужн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рачи советуют  60 - 80  граммов жиров в сутки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насыщенных жиров (растительное масло, жирная рыба) в три раза больше, чем насыщенных (колбаса, мясо, жирные сладости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зучайте информацию на этикетках продукт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8" descr="image_901335855747930098781763342772372506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anorexic-models-06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Являются ли жиры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сложными эфирами?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дачи урока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особенности строения молекул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физические свойства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цировать жиры на основании их свойств и особенностей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химические свойства и способы получения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ить биологические функции  и  области  применения жиров на основании их свой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ры представляют собой сложные эфи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атомных спиртов и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глицерина и 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этанола и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ицерина и высших 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Природный жир является жидким, если в его состав входят остат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ельных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предельных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х эфи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дкий жир становится твердым в процес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 окис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 гидро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 гидра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др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братимый гидролиз жиров протекает при нагревании и действии на них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 водных растворов 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одных растворов щелоч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 карбоновых кислот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 спиртов 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228960" y="761760"/>
            <a:ext cx="9372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цепочке превращений: олеиновая кислота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олеат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Х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еариновая кислота веществом Х явля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глице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теарат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ристеа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горении 11,125 г животного жира, состоящего на 80% из тристеарата, выделилось углекислого га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12,2 л                   3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2,8 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12,5 л                   4. 13,1 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узнал(а) много нов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 это пригодится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уроке было о чем подум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 вопросы, возникающие на уроке, я получил(а) от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уроке я поработал(а) добросовестно и цели урока достиг(л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уравнение реакции получения предложенного вещества, укажите условия ее протек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апишите 1-2 уравнения, характеризующих химические свойства предложенного сложного эфира, назовите продукты реак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BD1501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189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3209760"/>
                <a:gridCol w="3505320"/>
                <a:gridCol w="2428920"/>
              </a:tblGrid>
              <a:tr h="348120">
                <a:tc gridSpan="3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0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Формула сложного эф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1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т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уксус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шевый напит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ндио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терефтале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иц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пальмитино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челиный во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илов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эфир бензой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ок хризан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ам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изовалериано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иловый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ир уксус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дкость для снятия л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иловый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и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ой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и с цветочным арома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Group 44"/>
          <p:cNvGrpSpPr/>
          <p:nvPr/>
        </p:nvGrpSpPr>
        <p:grpSpPr>
          <a:xfrm>
            <a:off x="176760" y="6157800"/>
            <a:ext cx="327600" cy="483120"/>
            <a:chOff x="176760" y="6157800"/>
            <a:chExt cx="327600" cy="483120"/>
          </a:xfrm>
        </p:grpSpPr>
        <p:sp>
          <p:nvSpPr>
            <p:cNvPr id="126" name="Pyr1"/>
            <p:cNvSpPr/>
            <p:nvPr/>
          </p:nvSpPr>
          <p:spPr>
            <a:xfrm rot="16024200">
              <a:off x="160200" y="6376680"/>
              <a:ext cx="107280" cy="69120"/>
            </a:xfrm>
            <a:custGeom>
              <a:avLst/>
              <a:gdLst>
                <a:gd name="textAreaLeft" fmla="*/ 26640 w 107280"/>
                <a:gd name="textAreaRight" fmla="*/ 80640 w 107280"/>
                <a:gd name="textAreaTop" fmla="*/ 37800 h 69120"/>
                <a:gd name="textAreaBottom" fmla="*/ 66240 h 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Pyr2"/>
            <p:cNvSpPr/>
            <p:nvPr/>
          </p:nvSpPr>
          <p:spPr>
            <a:xfrm rot="16024200">
              <a:off x="173160" y="6366960"/>
              <a:ext cx="231480" cy="81360"/>
            </a:xfrm>
            <a:custGeom>
              <a:avLst/>
              <a:gdLst>
                <a:gd name="textAreaLeft" fmla="*/ 61920 w 231480"/>
                <a:gd name="textAreaRight" fmla="*/ 169560 w 231480"/>
                <a:gd name="textAreaTop" fmla="*/ 1800 h 81360"/>
                <a:gd name="textAreaBottom" fmla="*/ 7956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Pyr3">
              <a:hlinkClick r:id="rId3" action="ppaction://hlinksldjump"/>
            </p:cNvPr>
            <p:cNvSpPr/>
            <p:nvPr/>
          </p:nvSpPr>
          <p:spPr>
            <a:xfrm rot="16024200">
              <a:off x="192960" y="6362640"/>
              <a:ext cx="354600" cy="81000"/>
            </a:xfrm>
            <a:custGeom>
              <a:avLst/>
              <a:gdLst>
                <a:gd name="textAreaLeft" fmla="*/ 86760 w 354600"/>
                <a:gd name="textAreaRight" fmla="*/ 267840 w 354600"/>
                <a:gd name="textAreaTop" fmla="*/ 1800 h 81000"/>
                <a:gd name="textAreaBottom" fmla="*/ 792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Pyr4">
              <a:hlinkClick r:id="rId4" action="ppaction://hlinksldjump"/>
            </p:cNvPr>
            <p:cNvSpPr/>
            <p:nvPr/>
          </p:nvSpPr>
          <p:spPr>
            <a:xfrm rot="16024200">
              <a:off x="211320" y="6358680"/>
              <a:ext cx="479520" cy="81360"/>
            </a:xfrm>
            <a:custGeom>
              <a:avLst/>
              <a:gdLst>
                <a:gd name="textAreaLeft" fmla="*/ 72720 w 479520"/>
                <a:gd name="textAreaRight" fmla="*/ 384480 w 479520"/>
                <a:gd name="textAreaTop" fmla="*/ 1800 h 81360"/>
                <a:gd name="textAreaBottom" fmla="*/ 7956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ложные эфиры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продукты реакции этерификации-  взаимодействия спиртов с карбоновыми кислота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двергаются гидролизу, продуктами являются соответствующие спирт и кисло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подвергаются щелочному гидролизу, продуктами являются соль соответствующей кислоты и спир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сгорают в кислород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Безымянный3"/>
          <p:cNvPicPr/>
          <p:nvPr/>
        </p:nvPicPr>
        <p:blipFill>
          <a:blip r:embed="rId1"/>
          <a:srcRect l="23703" t="30303" r="22964" b="57581"/>
          <a:stretch/>
        </p:blipFill>
        <p:spPr>
          <a:xfrm>
            <a:off x="380880" y="1981080"/>
            <a:ext cx="822960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581280" y="2057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этерифик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98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идрол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ab9b7d14295d35042c63cad8e591aebe"/>
          <p:cNvPicPr/>
          <p:nvPr/>
        </p:nvPicPr>
        <p:blipFill>
          <a:blip r:embed="rId1"/>
          <a:stretch/>
        </p:blipFill>
        <p:spPr>
          <a:xfrm>
            <a:off x="0" y="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5390"/>
          <p:cNvPicPr/>
          <p:nvPr/>
        </p:nvPicPr>
        <p:blipFill>
          <a:blip r:embed="rId2"/>
          <a:stretch/>
        </p:blipFill>
        <p:spPr>
          <a:xfrm>
            <a:off x="2362320" y="1981080"/>
            <a:ext cx="4038480" cy="2686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lpc-300"/>
          <p:cNvPicPr/>
          <p:nvPr/>
        </p:nvPicPr>
        <p:blipFill>
          <a:blip r:embed="rId3"/>
          <a:stretch/>
        </p:blipFill>
        <p:spPr>
          <a:xfrm>
            <a:off x="6286680" y="152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q_42c5cad1"/>
          <p:cNvPicPr/>
          <p:nvPr/>
        </p:nvPicPr>
        <p:blipFill>
          <a:blip r:embed="rId4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388b8866cea"/>
          <p:cNvPicPr/>
          <p:nvPr/>
        </p:nvPicPr>
        <p:blipFill>
          <a:blip r:embed="rId5"/>
          <a:stretch/>
        </p:blipFill>
        <p:spPr>
          <a:xfrm>
            <a:off x="6172200" y="40384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Являются ли жиры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сложными эфирами?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дачи урока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особенности строения молекул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физические свойства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цировать жиры на основании их свойств и особенностей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химические свойства и способы получения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ить биологические функции  и  области  применения жиров на основании их свой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Жиры -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ые эфиры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хатомного спирта глицерина и высших карбоновых 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Безымянный1"/>
          <p:cNvPicPr/>
          <p:nvPr/>
        </p:nvPicPr>
        <p:blipFill>
          <a:blip r:embed="rId1"/>
          <a:srcRect l="29440" t="45398" r="33029" b="14251"/>
          <a:stretch/>
        </p:blipFill>
        <p:spPr>
          <a:xfrm>
            <a:off x="304920" y="1981080"/>
            <a:ext cx="3886200" cy="312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Безымянный4"/>
          <p:cNvPicPr/>
          <p:nvPr/>
        </p:nvPicPr>
        <p:blipFill>
          <a:blip r:embed="rId2">
            <a:lum contrast="20000"/>
          </a:blip>
          <a:srcRect l="4248" t="9580" r="4395" b="62859"/>
          <a:stretch/>
        </p:blipFill>
        <p:spPr>
          <a:xfrm>
            <a:off x="4572000" y="1981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2280" y="5181480"/>
            <a:ext cx="8991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,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дикалы, входящие в состав высших карбоновых кислот: пальмит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стеар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оле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линоле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изические свойства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жидкие, мазеобразные или твердые вещества, легкоплавк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растворимы в воде, хорошо растворимы в неполярных растворителях (ацетоне, бензине, тетрахлорметане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 имеют точки плавления, плавятся в интервале температур, т.к. представляют собой смеси разных молеку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и высоких температурах размягчаю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лотность жиров менее 1 г/м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3-03-03T17:31:27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