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himes.wav" ContentType="audio/x-wav"/>
  <Override PartName="/ppt/media/drumroll.wav" ContentType="audio/x-wav"/>
  <Override PartName="/ppt/media/applause.wav" ContentType="audio/x-wav"/>
  <Override PartName="/ppt/media/image3.wmf" ContentType="image/x-wmf"/>
  <Override PartName="/ppt/media/bomb.wav" ContentType="audio/x-wav"/>
  <Override PartName="/ppt/media/wind.wav" ContentType="audio/x-wav"/>
  <Override PartName="/ppt/media/lase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EB8-FA77-40D4-91A3-DFE4EAC5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6A8-0E18-443B-B522-AABC30C1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1BD4-DF7F-4977-88B5-E4D41BE1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B9E-9ADA-4FB5-ABAE-716EE579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1CCF-4546-495A-9971-93287E59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4528-5CC2-4267-AA3A-9551C915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326C-F39B-42BB-A947-4FE94E2C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9EDB-AAED-46FE-B3B1-CAB8D23E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B041-3CF6-404F-9B48-85E630C3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B50C-A434-47BA-BC48-8AD5BBDF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E1C7-B9C0-4722-8E35-9F15D967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DD1-85EA-4C3F-8A44-88650AC3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C1C0-D495-40CF-8CBF-4B7E5686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9389-47D1-47A1-8011-9B6DF952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CB6D-E431-4D94-914B-FE0378AB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2ABD-3EC1-4AA2-BCA7-21DA09E4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7B6C-00F2-4263-8D0E-4D89E208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0A3-8304-4F77-975B-661D7D08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1F60-3FDF-4E59-B539-07522927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FB9-445F-4640-A5C1-F8757E0A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C252-EC82-486C-99B1-4A4E6644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8615-7870-4A5D-BD21-424EFD4C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B1D2-9F03-486D-A0C5-5249272B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A8A-5002-4918-B964-B5AB926D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FBF9-FE87-470C-8C72-146BFF86C4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E323-5ABD-4C17-BAF3-1F9A524351D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audio" Target="../media/wind.wav"/><Relationship Id="rId16" Type="http://schemas.openxmlformats.org/officeDocument/2006/relationships/audio" Target="../media/wind.wav"/><Relationship Id="rId17" Type="http://schemas.openxmlformats.org/officeDocument/2006/relationships/audio" Target="../media/wind.wav"/><Relationship Id="rId18" Type="http://schemas.openxmlformats.org/officeDocument/2006/relationships/audio" Target="../media/wind.wav"/><Relationship Id="rId19" Type="http://schemas.openxmlformats.org/officeDocument/2006/relationships/audio" Target="../media/wind.wav"/><Relationship Id="rId20" Type="http://schemas.openxmlformats.org/officeDocument/2006/relationships/audio" Target="../media/wind.wav"/><Relationship Id="rId21" Type="http://schemas.openxmlformats.org/officeDocument/2006/relationships/audio" Target="../media/wind.wav"/><Relationship Id="rId22" Type="http://schemas.openxmlformats.org/officeDocument/2006/relationships/audio" Target="../media/wind.wav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5"/>
          <p:cNvSpPr txBox="1"/>
          <p:nvPr/>
        </p:nvSpPr>
        <p:spPr>
          <a:xfrm>
            <a:off x="969840" y="4103640"/>
            <a:ext cx="733896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водн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10360" y="4668840"/>
            <a:ext cx="3543120" cy="36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6119640" y="5732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ыполнил: Беглецов Артем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 Д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684360" y="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ладикавказское художественное училище имени Азанбека Джанаев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ифференцирование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Функцию, имеющую производную в точке х</a:t>
            </a:r>
            <a:r>
              <a:rPr b="0" lang="ru-RU" sz="2000" spc="-1" strike="noStrike" baseline="-25000">
                <a:solidFill>
                  <a:srgbClr val="eaeaea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называют дифференцируемой в этой точке. Пусть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ru-RU" sz="20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множество точек, в которых функция ƒ дифференцируема.Сопоставляя каждому х €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ru-RU" sz="20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число ƒ ΄ (х), получим новую функцию с областью определения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D</a:t>
            </a:r>
            <a:r>
              <a:rPr b="0" lang="ru-RU" sz="20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.Эта функция называется производной функции         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y = ƒ (х).Мы получаем формулы (х</a:t>
            </a:r>
            <a:r>
              <a:rPr b="0" lang="ru-RU" sz="20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)=3х</a:t>
            </a:r>
            <a:r>
              <a:rPr b="0" lang="ru-RU" sz="2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(х</a:t>
            </a:r>
            <a:r>
              <a:rPr b="0" lang="ru-RU" sz="2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)=2х,(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х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+b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) ΄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=k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.В формул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k=0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=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где С произвольная постоянная получаем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что С΄ =0,производная постоянная равна нулю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иращение функци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064360" cy="65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 сравнении значения функции ƒ в некоторой фиксированной точке х</a:t>
            </a:r>
            <a:r>
              <a:rPr b="0" lang="ru-RU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значениями этой функции в различных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очках х лежащих в окрестности х</a:t>
            </a:r>
            <a:r>
              <a:rPr b="0" lang="ru-RU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удобно выражать разность ƒ (х)-ƒ (х</a:t>
            </a:r>
            <a:r>
              <a:rPr b="0" lang="ru-RU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Через разность х-х</a:t>
            </a:r>
            <a:r>
              <a:rPr b="0" lang="ru-RU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пользуясь понятиями «приращение аргумента»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приращение функции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 х = х-х</a:t>
            </a:r>
            <a:r>
              <a:rPr b="0" lang="ru-RU" sz="2800" spc="-1" strike="noStrike" baseline="-25000">
                <a:solidFill>
                  <a:srgbClr val="eaeaea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→ х = х</a:t>
            </a:r>
            <a:r>
              <a:rPr b="0" lang="ru-RU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+ Δ х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следствие этого функции ƒ изменится на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еличину  ƒ (х)- ƒ (х</a:t>
            </a:r>
            <a:r>
              <a:rPr b="0" lang="ru-RU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)= ƒ (х</a:t>
            </a:r>
            <a:r>
              <a:rPr b="0" lang="ru-RU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+ Δ х)-ƒ (х</a:t>
            </a:r>
            <a:r>
              <a:rPr b="0" lang="ru-RU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7236000" y="630864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400"/>
                            </p:stCondLst>
                            <p:childTnLst>
                              <p:par>
                                <p:cTn id="90" nodeType="afterEffect" fill="hold" presetClass="emph" presetID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400"/>
                            </p:stCondLst>
                            <p:childTnLst>
                              <p:par>
                                <p:cTn id="93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900"/>
                            </p:stCondLst>
                            <p:childTnLst>
                              <p:par>
                                <p:cTn id="99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400"/>
                            </p:stCondLst>
                            <p:childTnLst>
                              <p:par>
                                <p:cTn id="105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900"/>
                            </p:stCondLst>
                            <p:childTnLst>
                              <p:par>
                                <p:cTn id="111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400"/>
                            </p:stCondLst>
                            <p:childTnLst>
                              <p:par>
                                <p:cTn id="117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900"/>
                            </p:stCondLst>
                            <p:childTnLst>
                              <p:par>
                                <p:cTn id="123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400"/>
                            </p:stCondLst>
                            <p:childTnLst>
                              <p:par>
                                <p:cTn id="129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900"/>
                            </p:stCondLst>
                            <p:childTnLst>
                              <p:par>
                                <p:cTn id="135" nodeType="afterEffect" fill="hold" presetClass="exit" presetID="20">
                                  <p:stCondLst>
                                    <p:cond delay="0"/>
                                  </p:stCondLst>
                                  <p:iterate type="wd">
                                    <p:tmAbs val="2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animEffect filter="wedge" transition="out">
                                      <p:cBhvr additive="repl">
                                        <p:cTn id="13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иращение функци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7678800" cy="44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Эта разность называется приращением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ункции ƒ в точке 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соответствующи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иращению Δ х, и обозначается Δ ƒ 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.е.по определению Δ ƒ = ƒ (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+ Δ х)- ƒ (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ткуд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ƒ(х)= ƒ (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+ Δ х)= ƒ (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)+ Δ ƒ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братите внимание :при фиксированном 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иращение Δ ƒ есть функция от Δ х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Δ ƒ называют также приращением зависимо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еременной и обозначают через  Δ у для функци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У= ƒ (х).   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6732720" y="5734080"/>
            <a:ext cx="914400" cy="9144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ДАЛЬШ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animClr clrSpc="rgb">
                                      <p:cBhvr>
                                        <p:cTn id="2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350"/>
                            </p:stCondLst>
                            <p:childTnLst>
                              <p:par>
                                <p:cTn id="2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50" autoRev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35" dur="250" autoRev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36" dur="250" autoRev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850"/>
                            </p:stCondLst>
                            <p:childTnLst>
                              <p:par>
                                <p:cTn id="2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50" autoRev="1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40" dur="250" autoRev="1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41" dur="250" autoRev="1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350"/>
                            </p:stCondLst>
                            <p:childTnLst>
                              <p:par>
                                <p:cTn id="2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45" dur="250" autoRev="1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46" dur="250" autoRev="1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850"/>
                            </p:stCondLst>
                            <p:childTnLst>
                              <p:par>
                                <p:cTn id="2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250" autoRev="1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50" dur="250" autoRev="1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51" dur="250" autoRev="1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350"/>
                            </p:stCondLst>
                            <p:childTnLst>
                              <p:par>
                                <p:cTn id="2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50" autoRev="1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56" dur="250" autoRev="1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850"/>
                            </p:stCondLst>
                            <p:childTnLst>
                              <p:par>
                                <p:cTn id="2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50" autoRev="1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60" dur="250" autoRev="1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61" dur="250" autoRev="1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350"/>
                            </p:stCondLst>
                            <p:childTnLst>
                              <p:par>
                                <p:cTn id="26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250" autoRev="1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65" dur="250" autoRev="1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66" dur="250" autoRev="1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850"/>
                            </p:stCondLst>
                            <p:childTnLst>
                              <p:par>
                                <p:cTn id="26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50" autoRev="1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70" dur="250" autoRev="1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71" dur="250" autoRev="1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350"/>
                            </p:stCondLst>
                            <p:childTnLst>
                              <p:par>
                                <p:cTn id="27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50" autoRev="1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75" dur="250" autoRev="1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76" dur="250" autoRev="1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850"/>
                            </p:stCondLst>
                            <p:childTnLst>
                              <p:par>
                                <p:cTn id="27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50" autoRev="1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80" dur="250" autoRev="1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81" dur="250" autoRev="1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350"/>
                            </p:stCondLst>
                            <p:childTnLst>
                              <p:par>
                                <p:cTn id="28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250" autoRev="1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285" dur="250" autoRev="1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286" dur="250" autoRev="1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850"/>
                            </p:stCondLst>
                            <p:childTnLst>
                              <p:par>
                                <p:cTn id="288" nodeType="after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9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850"/>
                            </p:stCondLst>
                            <p:childTnLst>
                              <p:par>
                                <p:cTn id="294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350"/>
                            </p:stCondLst>
                            <p:childTnLst>
                              <p:par>
                                <p:cTn id="29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850"/>
                            </p:stCondLst>
                            <p:childTnLst>
                              <p:par>
                                <p:cTn id="304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350"/>
                            </p:stCondLst>
                            <p:childTnLst>
                              <p:par>
                                <p:cTn id="30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1850"/>
                            </p:stCondLst>
                            <p:childTnLst>
                              <p:par>
                                <p:cTn id="314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350"/>
                            </p:stCondLst>
                            <p:childTnLst>
                              <p:par>
                                <p:cTn id="31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2850"/>
                            </p:stCondLst>
                            <p:childTnLst>
                              <p:par>
                                <p:cTn id="324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3350"/>
                            </p:stCondLst>
                            <p:childTnLst>
                              <p:par>
                                <p:cTn id="32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3850"/>
                            </p:stCondLst>
                            <p:childTnLst>
                              <p:par>
                                <p:cTn id="334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350"/>
                            </p:stCondLst>
                            <p:childTnLst>
                              <p:par>
                                <p:cTn id="33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4850"/>
                            </p:stCondLst>
                            <p:childTnLst>
                              <p:par>
                                <p:cTn id="344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роизводная сложной функци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66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Если функция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меет производную в точке 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а функция g имеет производную в точке у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(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),то сложна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функция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h(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х)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 (f(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х)) также имеет производную в точке 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приче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)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f(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)) ·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8077320" y="563868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Дале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9000"/>
                            </p:stCondLst>
                            <p:childTnLst>
                              <p:par>
                                <p:cTn id="3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0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4700"/>
                            </p:stCondLst>
                            <p:childTnLst>
                              <p:par>
                                <p:cTn id="3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25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200"/>
                            </p:stCondLst>
                            <p:childTnLst>
                              <p:par>
                                <p:cTn id="3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250" autoRev="1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700"/>
                            </p:stCondLst>
                            <p:childTnLst>
                              <p:par>
                                <p:cTn id="3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9" dur="250" autoRev="1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6200"/>
                            </p:stCondLst>
                            <p:childTnLst>
                              <p:par>
                                <p:cTn id="391" nodeType="afterEffect" fill="hold" presetClass="exit" presetID="8" presetSubtype="16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9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700"/>
                            </p:stCondLst>
                            <p:childTnLst>
                              <p:par>
                                <p:cTn id="395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6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2700"/>
                            </p:stCondLst>
                            <p:childTnLst>
                              <p:par>
                                <p:cTn id="399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00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4700"/>
                            </p:stCondLst>
                            <p:childTnLst>
                              <p:par>
                                <p:cTn id="403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04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иращение функци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имер 1.Найдем приращения Δ х  и Δ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в  точке 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если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(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х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 Х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,А)  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2 и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Х=1,9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Δ х = х-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1,9-2= - 0,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Δ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 =f(1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9)-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(2)=1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9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-2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 - 0,3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236000" y="5877000"/>
            <a:ext cx="13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оизводная сложной функци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имер 1.Найдем производную функ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 (x)=(2x+3)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Функцию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можно представить в виде сложной функ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 (x)=g (f (x))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 где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 (y)=y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10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=f (x)=2x+3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Так как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x)=2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y)=100y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99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 имее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x)=2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·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00y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99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=200(2x+3)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9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7086600" y="556272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азад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равила вычисления производных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авило 1.Если функции U и v дифференцируемое в точке 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,то их сумма дифференцируема в этой точке и производная суммы равна сумме производных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(U + v) ΄ =  U΄ + v΄ .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авило 2.Если функции  u  и v дифференцируемы в точке 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,то их произведение дифференцируемо в этой точке (u v ) ΄= u΄ v +u v΄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авило 3.Если функции u и v дифференцируемы в точке 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и функции v не равна нулю в этой точке т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астное u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v также дифференцируемо в х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(u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v ) ΄ =(u΄ v-  u v΄)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ru-RU" sz="24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6858000" y="548640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ле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400"/>
                            </p:stCondLst>
                            <p:childTnLst>
                              <p:par>
                                <p:cTn id="4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8900"/>
                            </p:stCondLst>
                            <p:childTnLst>
                              <p:par>
                                <p:cTn id="4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550"/>
                            </p:stCondLst>
                            <p:childTnLst>
                              <p:par>
                                <p:cTn id="4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9900"/>
                            </p:stCondLst>
                            <p:childTnLst>
                              <p:par>
                                <p:cTn id="4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2050"/>
                            </p:stCondLst>
                            <p:childTnLst>
                              <p:par>
                                <p:cTn id="4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3500"/>
                            </p:stCondLst>
                            <p:childTnLst>
                              <p:par>
                                <p:cTn id="4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3950"/>
                            </p:stCondLst>
                            <p:childTnLst>
                              <p:par>
                                <p:cTn id="45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60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461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462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4450"/>
                            </p:stCondLst>
                            <p:childTnLst>
                              <p:par>
                                <p:cTn id="46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7350"/>
                            </p:stCondLst>
                            <p:childTnLst>
                              <p:par>
                                <p:cTn id="46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8090"/>
                            </p:stCondLst>
                            <p:childTnLst>
                              <p:par>
                                <p:cTn id="47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7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610"/>
                            </p:stCondLst>
                            <p:childTnLst>
                              <p:par>
                                <p:cTn id="47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2650"/>
                            </p:stCondLst>
                            <p:childTnLst>
                              <p:par>
                                <p:cTn id="48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3810"/>
                            </p:stCondLst>
                            <p:childTnLst>
                              <p:par>
                                <p:cTn id="48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4690"/>
                            </p:stCondLst>
                            <p:childTnLst>
                              <p:par>
                                <p:cTn id="49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6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5170"/>
                            </p:stCondLst>
                            <p:childTnLst>
                              <p:par>
                                <p:cTn id="499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22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0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3330"/>
                            </p:stCondLst>
                            <p:childTnLst>
                              <p:par>
                                <p:cTn id="50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50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43830"/>
                            </p:stCondLst>
                            <p:childTnLst>
                              <p:par>
                                <p:cTn id="51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51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4330"/>
                            </p:stCondLst>
                            <p:childTnLst>
                              <p:par>
                                <p:cTn id="51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51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4830"/>
                            </p:stCondLst>
                            <p:childTnLst>
                              <p:par>
                                <p:cTn id="51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52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5330"/>
                            </p:stCondLst>
                            <p:childTnLst>
                              <p:par>
                                <p:cTn id="52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52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45830"/>
                            </p:stCondLst>
                            <p:childTnLst>
                              <p:par>
                                <p:cTn id="52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528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6330"/>
                            </p:stCondLst>
                            <p:childTnLst>
                              <p:par>
                                <p:cTn id="53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532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авила вычисления производных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имер 1. Найдем производные функций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f (x)=x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1/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1/x)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= - 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/x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= -1/x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 поэтому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x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1/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) ΄=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(х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) ΄-(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/x)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=2x-(-1/x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=2x+1/x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6400800" y="449568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онец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роизводные тригонометрических функций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Формула производной синуса. Докажем, что функция синуса имеет производную в любой точке и (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 x)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΄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= cos x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меняя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формулу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α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–sin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=2cos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α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/2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·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α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/2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ходи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 x/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Δ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=sin(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)-sin 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 =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=2cos(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)sin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/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Δ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=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= sin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/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cos(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)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6400800" y="548640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але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500"/>
                            </p:stCondLst>
                            <p:childTnLst>
                              <p:par>
                                <p:cTn id="54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8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50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2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8500"/>
                            </p:stCondLst>
                            <p:childTnLst>
                              <p:par>
                                <p:cTn id="554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6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8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0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4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4500"/>
                            </p:stCondLst>
                            <p:childTnLst>
                              <p:par>
                                <p:cTn id="56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8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6500"/>
                            </p:stCondLst>
                            <p:childTnLst>
                              <p:par>
                                <p:cTn id="5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3" nodeType="afterEffect" fill="hold" presetClass="emph" presetID="5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7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500"/>
                            </p:stCondLst>
                            <p:childTnLst>
                              <p:par>
                                <p:cTn id="578" nodeType="afterEffect" fill="hold" presetClass="emph" presetID="5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80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2500"/>
                            </p:stCondLst>
                            <p:childTnLst>
                              <p:par>
                                <p:cTn id="583" nodeType="afterEffect" fill="hold" presetClass="emph" presetID="5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85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6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4500"/>
                            </p:stCondLst>
                            <p:childTnLst>
                              <p:par>
                                <p:cTn id="588" nodeType="afterEffect" fill="hold" presetClass="emph" presetID="5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90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91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6500"/>
                            </p:stCondLst>
                            <p:childTnLst>
                              <p:par>
                                <p:cTn id="593" nodeType="afterEffect" fill="hold" presetClass="emph" presetID="5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9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96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8500"/>
                            </p:stCondLst>
                            <p:childTnLst>
                              <p:par>
                                <p:cTn id="598" nodeType="afterEffect" fill="hold" presetClass="emph" presetID="5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00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01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500"/>
                            </p:stCondLst>
                            <p:childTnLst>
                              <p:par>
                                <p:cTn id="603" nodeType="afterEffect" fill="hold" presetClass="emph" presetID="5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05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06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2500"/>
                            </p:stCondLst>
                            <p:childTnLst>
                              <p:par>
                                <p:cTn id="608" nodeType="afterEffect" fill="hold" presetClass="exit" presetID="11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9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5000"/>
                            </p:stCondLst>
                            <p:childTnLst>
                              <p:par>
                                <p:cTn id="612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1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7000"/>
                            </p:stCondLst>
                            <p:childTnLst>
                              <p:par>
                                <p:cTn id="616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ind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1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9000"/>
                            </p:stCondLst>
                            <p:childTnLst>
                              <p:par>
                                <p:cTn id="620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ind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21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1000"/>
                            </p:stCondLst>
                            <p:childTnLst>
                              <p:par>
                                <p:cTn id="624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ind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25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3000"/>
                            </p:stCondLst>
                            <p:childTnLst>
                              <p:par>
                                <p:cTn id="628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ind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29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45000"/>
                            </p:stCondLst>
                            <p:childTnLst>
                              <p:par>
                                <p:cTn id="632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ind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33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47000"/>
                            </p:stCondLst>
                            <p:childTnLst>
                              <p:par>
                                <p:cTn id="636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ind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37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роизводные тригонометрических функций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ля вывода формулы достаточно показать ,чт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а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in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/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→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→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0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б)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s(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)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→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s 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→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пираясь на эти утверждения, можно получить формулу. Действительно, при Δ х→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)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 Δ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 x/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=sin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/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/2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Δ·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os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→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→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·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os 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=cos 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6858000" y="541008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онец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0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000"/>
                            </p:stCondLst>
                            <p:childTnLst>
                              <p:par>
                                <p:cTn id="7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8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2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6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0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4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8" dur="2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2" dur="2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xit" presetID="2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73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0"/>
                            </p:stCondLst>
                            <p:childTnLst>
                              <p:par>
                                <p:cTn id="738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3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4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4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5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59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64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69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одержание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66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Приращение функ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Понятие о производно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Определение производной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Правила вычисления производно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3300"/>
                </a:solidFill>
                <a:uFillTx/>
                <a:latin typeface="Times New Roman"/>
                <a:hlinkClick r:id="rId5" action="ppaction://hlinksldjump"/>
              </a:rPr>
              <a:t>Производная сложной функ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3300"/>
                </a:solidFill>
                <a:uFillTx/>
                <a:latin typeface="Times New Roman"/>
                <a:hlinkClick r:id="rId6" action="ppaction://hlinksldjump"/>
              </a:rPr>
              <a:t>Производные тригонометрических функц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ула приближенного вычисления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У=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f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)+f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d6009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)(x-x</a:t>
            </a:r>
            <a:r>
              <a:rPr b="0" lang="en-US" sz="2800" spc="-1" strike="noStrike" baseline="-25000">
                <a:solidFill>
                  <a:srgbClr val="d6009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У 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≈</a:t>
            </a: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f(x</a:t>
            </a:r>
            <a:r>
              <a:rPr b="0" lang="en-US" sz="2800" spc="-1" strike="noStrike" baseline="-25000">
                <a:solidFill>
                  <a:srgbClr val="d6009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)+f</a:t>
            </a:r>
            <a:r>
              <a:rPr b="0" lang="en-US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'(x</a:t>
            </a:r>
            <a:r>
              <a:rPr b="0" lang="en-US" sz="2800" spc="-1" strike="noStrike" baseline="-25000">
                <a:solidFill>
                  <a:srgbClr val="d60093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) 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 flipH="1">
            <a:off x="4190400" y="3048120"/>
            <a:ext cx="199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1bb96"/>
                </a:solidFill>
                <a:latin typeface="Times New Roman"/>
              </a:rPr>
              <a:t>Производная в физике и технике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ср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t)=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x/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→v(t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x/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→x'(t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V (t)= x´(t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a=v' (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Метод интервалов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f  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&lt;=&gt;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→0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 при Δ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х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→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x)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→(a)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при х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→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'=&gt; 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2 f       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≠ 0 =&gt; (±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о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n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тод интервалов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У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 x + b    A(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;f(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=f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'(x) • x + b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(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fld id="{A311AB03-B2E0-4DB4-816C-B446A72DD4E9}" type="slidenum"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=f´(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• 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+ 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= f(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-f´(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• 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 ´(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x + f(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-f´(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• x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У=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f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)+f´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) (x-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Times New Roman"/>
              </a:rPr>
              <a:t>Касательная к графику функци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k=f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´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)=tg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f ´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)&gt;0; f ´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)=0; f ´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)&lt;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f ´(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)=1; f ´(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)=0; f ´(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)=-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сательная к графику функци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(c)= f (b ) – f ( a ) / b - 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5"/>
          <p:cNvSpPr/>
          <p:nvPr/>
        </p:nvSpPr>
        <p:spPr>
          <a:xfrm>
            <a:off x="7164360" y="5805360"/>
            <a:ext cx="1224000" cy="503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иращение функци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66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f=f(x</a:t>
            </a:r>
            <a:r>
              <a:rPr b="1" lang="en-US" sz="44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+ </a:t>
            </a:r>
            <a:r>
              <a:rPr b="1" lang="ru-RU" sz="44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x)-f(x</a:t>
            </a:r>
            <a:r>
              <a:rPr b="1" lang="en-US" sz="44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192800" y="5826240"/>
            <a:ext cx="11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конспект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2" name="Object 6"/>
          <p:cNvGraphicFramePr/>
          <p:nvPr/>
        </p:nvGraphicFramePr>
        <p:xfrm>
          <a:off x="2513160" y="4551480"/>
          <a:ext cx="3109680" cy="2063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3160" y="4551480"/>
                    <a:ext cx="3109680" cy="20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525636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ределение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92000" y="2204640"/>
            <a:ext cx="727236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изводной функции ƒ  в точке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х</a:t>
            </a:r>
            <a:r>
              <a:rPr b="0" lang="ru-RU" sz="3200" spc="-1" strike="noStrike" baseline="-25000">
                <a:solidFill>
                  <a:srgbClr val="eaeaea"/>
                </a:solidFill>
                <a:latin typeface="Times New Roman"/>
              </a:rPr>
              <a:t>0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зывается число, к которому стремится разностное отношение, при Δ х, стремящемся к нулю.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Oval 8">
            <a:hlinkClick r:id="rId1" action="ppaction://hlinksldjump"/>
          </p:cNvPr>
          <p:cNvSpPr/>
          <p:nvPr/>
        </p:nvSpPr>
        <p:spPr>
          <a:xfrm>
            <a:off x="6629400" y="495288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Конец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онятие о производной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x</a:t>
            </a:r>
            <a:r>
              <a:rPr b="0" lang="en-US" sz="36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у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/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=(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+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)</a:t>
            </a:r>
            <a:r>
              <a:rPr b="0" lang="en-US" sz="32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-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/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=x</a:t>
            </a:r>
            <a:r>
              <a:rPr b="0" lang="en-US" sz="32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+2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+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-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/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=2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</a:rPr>
              <a:t>0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+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/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=2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→2x</a:t>
            </a:r>
            <a:r>
              <a:rPr b="0" lang="en-US" sz="3200" spc="-1" strike="noStrike" baseline="-25000">
                <a:solidFill>
                  <a:srgbClr val="3333ff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                                                            ↓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0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6732720" y="450864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пределение производной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)=lim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 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f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+ 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)-f(x</a:t>
            </a:r>
            <a:r>
              <a:rPr b="0" lang="en-US" sz="3200" spc="-1" strike="noStrike" baseline="-25000">
                <a:solidFill>
                  <a:srgbClr val="d6009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)/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Δ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f (x)-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дифференцируем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с΄=0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;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=1; (c x)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=c (x)</a:t>
            </a: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= 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172200" y="5334120"/>
            <a:ext cx="91440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Дале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авило вычисления производных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52120" y="1916280"/>
            <a:ext cx="684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u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±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v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) 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=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u 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±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v 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(u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v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)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΄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=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u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΄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v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+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u v 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΄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(u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/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v)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΄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=u 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΄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v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–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u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 v 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/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v</a:t>
            </a:r>
            <a:r>
              <a:rPr b="1" lang="en-US" sz="4400" spc="-1" strike="noStrike" baseline="30000">
                <a:solidFill>
                  <a:srgbClr val="d60093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(x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d60093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) 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΄</a:t>
            </a: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=n x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4400" spc="-1" strike="noStrike" baseline="30000">
                <a:solidFill>
                  <a:srgbClr val="d60093"/>
                </a:solidFill>
                <a:latin typeface="Times New Roman"/>
              </a:rPr>
              <a:t>n-1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Oval 4">
            <a:hlinkClick r:id="rId1" action="ppaction://hlinksldjump"/>
          </p:cNvPr>
          <p:cNvSpPr/>
          <p:nvPr/>
        </p:nvSpPr>
        <p:spPr>
          <a:xfrm>
            <a:off x="7772400" y="541008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Вперед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изводная сложной функци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h ( x ) = g ( f ( x ) 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h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΄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)=g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΄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f(x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))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·f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΄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Oval 4"/>
          <p:cNvSpPr/>
          <p:nvPr/>
        </p:nvSpPr>
        <p:spPr>
          <a:xfrm>
            <a:off x="5257800" y="403848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Далее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оизводные тригонометрических функций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66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sin x)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΄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=cos x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(cos x)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΄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= - sin x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(tg x)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΄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= 1/cos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(ctg x)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΄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= -1/sin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x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h( x)=g ( f ( x ) 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h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΄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(x</a:t>
            </a:r>
            <a:r>
              <a:rPr b="1" lang="en-US" sz="40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)=g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΄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(f(x</a:t>
            </a:r>
            <a:r>
              <a:rPr b="1" lang="en-US" sz="40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))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·f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΄</a:t>
            </a: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(x</a:t>
            </a:r>
            <a:r>
              <a:rPr b="0" lang="en-US" sz="4000" spc="-1" strike="noStrike" baseline="-25000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Oval 5">
            <a:hlinkClick r:id="rId1" action="ppaction://hlinksldjump"/>
          </p:cNvPr>
          <p:cNvSpPr/>
          <p:nvPr/>
        </p:nvSpPr>
        <p:spPr>
          <a:xfrm>
            <a:off x="8077320" y="5638680"/>
            <a:ext cx="9144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Дале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2:09:56Z</dcterms:created>
  <dc:creator>Mr. X</dc:creator>
  <dc:description/>
  <dc:language>en-US</dc:language>
  <cp:lastModifiedBy>Кабинет Информатики</cp:lastModifiedBy>
  <dcterms:modified xsi:type="dcterms:W3CDTF">2019-09-11T18:18:11Z</dcterms:modified>
  <cp:revision>4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