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drumroll.wav" ContentType="audio/x-wav"/>
  <Override PartName="/ppt/media/applause.wav" ContentType="audio/x-wav"/>
  <Override PartName="/ppt/media/image3.wmf" ContentType="image/x-wmf"/>
  <Override PartName="/ppt/media/bomb.wav" ContentType="audio/x-wav"/>
  <Override PartName="/ppt/media/wind.wav" ContentType="audio/x-wav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5D5-898D-4AFC-BC21-59897E7E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1A2-6102-41CC-8639-BD73302C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800-683C-426C-AAF4-771CF403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5A6-A3AA-4CCE-9D15-F656815B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2E4E-6718-42AC-88BD-4760E4B9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6A9A-5F6C-4464-B720-C7C30E23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9681-6A13-4FBF-954D-F1AE3017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EB6A-1500-4E36-B8E6-5CF705C0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1A74-3629-4BB1-9927-FB212A84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17A0-FB1B-4B39-8762-F4EAC3C7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3591-8A67-4357-BD44-E77F765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634-4317-4A79-96B9-9A2A0FC2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CEFD-D7D5-4694-89F5-372BC569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E009-7F4C-4755-8C79-6DF3807A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9F55-D5AD-4C82-B8B2-C5F3EBC7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FEBF-DD3C-44F1-8CC2-249875C5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45DC-D8DE-4169-9B24-37C966F0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6D5-7E0B-4F66-814F-316DCF7B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3AA-4E08-4746-AB63-E7771520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989-9AD9-42D1-8A28-1FE8C2EC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C43-00BA-4A13-A8ED-748FF43F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8E7-7705-4500-AA0F-8FEC32FE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6EC-032F-44E2-98E5-DD970254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F69-CBE6-4282-8F54-8A1FE5E3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2741-A671-48D1-8FB4-99C3712E09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DF9F-BF60-4DBC-A929-E09EB24D212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audio" Target="../media/wind.wav"/><Relationship Id="rId16" Type="http://schemas.openxmlformats.org/officeDocument/2006/relationships/audio" Target="../media/wind.wav"/><Relationship Id="rId17" Type="http://schemas.openxmlformats.org/officeDocument/2006/relationships/audio" Target="../media/wind.wav"/><Relationship Id="rId18" Type="http://schemas.openxmlformats.org/officeDocument/2006/relationships/audio" Target="../media/wind.wav"/><Relationship Id="rId19" Type="http://schemas.openxmlformats.org/officeDocument/2006/relationships/audio" Target="../media/wind.wav"/><Relationship Id="rId20" Type="http://schemas.openxmlformats.org/officeDocument/2006/relationships/audio" Target="../media/wind.wav"/><Relationship Id="rId21" Type="http://schemas.openxmlformats.org/officeDocument/2006/relationships/audio" Target="../media/wind.wav"/><Relationship Id="rId22" Type="http://schemas.openxmlformats.org/officeDocument/2006/relationships/audio" Target="../media/wind.wav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5"/>
          <p:cNvSpPr txBox="1"/>
          <p:nvPr/>
        </p:nvSpPr>
        <p:spPr>
          <a:xfrm>
            <a:off x="969840" y="4103640"/>
            <a:ext cx="73389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10360" y="4668840"/>
            <a:ext cx="3543120" cy="3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119640" y="5732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ыполнил: Беглецов Арте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 Д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684360" y="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ладикавказское художественное училище имени Азанбека Джанаев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ифференцирова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Функцию, имеющую производную в точке х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называют дифференцируемой в этой точке. Пусть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множество точек, в которых функция ƒ дифференцируема.Сопоставляя каждому х €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число ƒ ΄ (х), получим новую функцию с областью определения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D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.Эта функция называется производной функции     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y = ƒ (х).Мы получаем формулы (х</a:t>
            </a:r>
            <a:r>
              <a:rPr b="0" lang="ru-RU" sz="20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)=3х</a:t>
            </a:r>
            <a:r>
              <a:rPr b="0" lang="ru-RU" sz="2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(х</a:t>
            </a:r>
            <a:r>
              <a:rPr b="0" lang="ru-RU" sz="2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)=2х,(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+b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) ΄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=k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.В формул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k=0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=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где С произвольная постоянная получаем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что С΄ =0,производная постоянная равна нулю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иращение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064360" cy="65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 сравнении значения функции ƒ в некоторой фиксированной точке 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значениями этой функции в различных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очках х лежащих в окрестности 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удобно выражать разность ƒ (х)-ƒ (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Через разность х-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пользуясь понятиями «приращение аргумента»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приращение функции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х = х-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 х = 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+ Δ 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ледствие этого функции ƒ изменится на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еличину  ƒ (х)- ƒ (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= ƒ (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+ Δ х)-ƒ (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7236000" y="6308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400"/>
                            </p:stCondLst>
                            <p:childTnLst>
                              <p:par>
                                <p:cTn id="90" nodeType="afterEffect" fill="hold" presetClass="emph" presetID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400"/>
                            </p:stCondLst>
                            <p:childTnLst>
                              <p:par>
                                <p:cTn id="93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900"/>
                            </p:stCondLst>
                            <p:childTnLst>
                              <p:par>
                                <p:cTn id="99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400"/>
                            </p:stCondLst>
                            <p:childTnLst>
                              <p:par>
                                <p:cTn id="105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900"/>
                            </p:stCondLst>
                            <p:childTnLst>
                              <p:par>
                                <p:cTn id="111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400"/>
                            </p:stCondLst>
                            <p:childTnLst>
                              <p:par>
                                <p:cTn id="117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900"/>
                            </p:stCondLst>
                            <p:childTnLst>
                              <p:par>
                                <p:cTn id="123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400"/>
                            </p:stCondLst>
                            <p:childTnLst>
                              <p:par>
                                <p:cTn id="129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900"/>
                            </p:stCondLst>
                            <p:childTnLst>
                              <p:par>
                                <p:cTn id="135" nodeType="afterEffect" fill="hold" presetClass="exit" presetID="20">
                                  <p:stCondLst>
                                    <p:cond delay="0"/>
                                  </p:stCondLst>
                                  <p:iterate type="wd">
                                    <p:tmAbs val="2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animEffect filter="wedge" transition="out">
                                      <p:cBhvr additive="repl">
                                        <p:cTn id="13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иращение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678800" cy="44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Эта разность называется приращением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ункции ƒ в точке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оответствующи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ращению Δ х, и обозначается Δ ƒ 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.е.по определению Δ ƒ = ƒ (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+ Δ х)- ƒ (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ткуд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ƒ(х)= ƒ (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+ Δ х)= ƒ (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)+ Δ ƒ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братите внимание :при фиксированном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ращение Δ ƒ есть функция от Δ х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Δ ƒ называют также приращением зависимо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еременной и обозначают через  Δ у для функц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= ƒ (х).   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6732720" y="5734080"/>
            <a:ext cx="914400" cy="9144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ДАЛЬШ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350"/>
                            </p:stCondLst>
                            <p:childTnLst>
                              <p:par>
                                <p:cTn id="2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36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850"/>
                            </p:stCondLst>
                            <p:childTnLst>
                              <p:par>
                                <p:cTn id="2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50" autoRev="1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41" dur="250" autoRev="1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350"/>
                            </p:stCondLst>
                            <p:childTnLst>
                              <p:par>
                                <p:cTn id="2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46" dur="250" autoRev="1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850"/>
                            </p:stCondLst>
                            <p:childTnLst>
                              <p:par>
                                <p:cTn id="2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250" autoRev="1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51" dur="250" autoRev="1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350"/>
                            </p:stCondLst>
                            <p:childTnLst>
                              <p:par>
                                <p:cTn id="2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850"/>
                            </p:stCondLst>
                            <p:childTnLst>
                              <p:par>
                                <p:cTn id="2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61" dur="250" autoRev="1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350"/>
                            </p:stCondLst>
                            <p:childTnLst>
                              <p:par>
                                <p:cTn id="2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66" dur="250" autoRev="1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850"/>
                            </p:stCondLst>
                            <p:childTnLst>
                              <p:par>
                                <p:cTn id="2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50" autoRev="1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71" dur="250" autoRev="1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350"/>
                            </p:stCondLst>
                            <p:childTnLst>
                              <p:par>
                                <p:cTn id="27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75" dur="250" autoRev="1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76" dur="250" autoRev="1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850"/>
                            </p:stCondLst>
                            <p:childTnLst>
                              <p:par>
                                <p:cTn id="27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81" dur="250" autoRev="1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350"/>
                            </p:stCondLst>
                            <p:childTnLst>
                              <p:par>
                                <p:cTn id="28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50" autoRev="1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85" dur="250" autoRev="1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86" dur="250" autoRev="1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850"/>
                            </p:stCondLst>
                            <p:childTnLst>
                              <p:par>
                                <p:cTn id="288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9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850"/>
                            </p:stCondLst>
                            <p:childTnLst>
                              <p:par>
                                <p:cTn id="29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350"/>
                            </p:stCondLst>
                            <p:childTnLst>
                              <p:par>
                                <p:cTn id="29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850"/>
                            </p:stCondLst>
                            <p:childTnLst>
                              <p:par>
                                <p:cTn id="30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350"/>
                            </p:stCondLst>
                            <p:childTnLst>
                              <p:par>
                                <p:cTn id="30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850"/>
                            </p:stCondLst>
                            <p:childTnLst>
                              <p:par>
                                <p:cTn id="31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350"/>
                            </p:stCondLst>
                            <p:childTnLst>
                              <p:par>
                                <p:cTn id="31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2850"/>
                            </p:stCondLst>
                            <p:childTnLst>
                              <p:par>
                                <p:cTn id="32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3350"/>
                            </p:stCondLst>
                            <p:childTnLst>
                              <p:par>
                                <p:cTn id="32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3850"/>
                            </p:stCondLst>
                            <p:childTnLst>
                              <p:par>
                                <p:cTn id="33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350"/>
                            </p:stCondLst>
                            <p:childTnLst>
                              <p:par>
                                <p:cTn id="33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4850"/>
                            </p:stCondLst>
                            <p:childTnLst>
                              <p:par>
                                <p:cTn id="34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оизводная сложной функци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6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Если функция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меет производную в точке 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а функция g имеет производную в точке у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,то слож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функция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h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)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 (f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)) также имеет производную в точке 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приче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f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) ·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8077320" y="56386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Дале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000"/>
                            </p:stCondLst>
                            <p:childTnLst>
                              <p:par>
                                <p:cTn id="3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4700"/>
                            </p:stCondLst>
                            <p:childTnLst>
                              <p:par>
                                <p:cTn id="3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25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200"/>
                            </p:stCondLst>
                            <p:childTnLst>
                              <p:par>
                                <p:cTn id="3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250" autoRev="1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700"/>
                            </p:stCondLst>
                            <p:childTnLst>
                              <p:par>
                                <p:cTn id="3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250" autoRev="1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200"/>
                            </p:stCondLst>
                            <p:childTnLst>
                              <p:par>
                                <p:cTn id="391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9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700"/>
                            </p:stCondLst>
                            <p:childTnLst>
                              <p:par>
                                <p:cTn id="39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6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2700"/>
                            </p:stCondLst>
                            <p:childTnLst>
                              <p:par>
                                <p:cTn id="399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0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4700"/>
                            </p:stCondLst>
                            <p:childTnLst>
                              <p:par>
                                <p:cTn id="403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4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иращение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имер 1.Найдем приращения Δ х  и Δ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в  точке 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если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 Х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,А)  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2 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=1,9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Δ х = х-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1,9-2= - 0,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Δ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 =f(1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9)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(2)=1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9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-2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 - 0,3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236000" y="5877000"/>
            <a:ext cx="13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изводная сложной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имер 1.Найдем производную функ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 (x)=(2x+3)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Функцию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можно представить в виде сложной функ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 (x)=g (f (x))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где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 (y)=y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1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=f (x)=2x+3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ак как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x)=2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y)=100y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99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имее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x)=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00y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99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200(2x+3)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9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7086600" y="556272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за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авила вычисления производных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авило 1.Если функции U и v дифференцируемое в точке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,то их сумма дифференцируема в этой точке и производная суммы равна сумме производных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(U + v) ΄ =  U΄ + v΄ .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авило 2.Если функции  u  и v дифференцируемы в точке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,то их произведение дифференцируемо в этой точке (u v ) ΄= u΄ v +u v΄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авило 3.Если функции u и v дифференцируемы в точке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и функции v не равна нулю в этой точке т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астное u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v также дифференцируемо в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(u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v ) ΄ =(u΄ v-  u v΄)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ru-RU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6858000" y="548640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400"/>
                            </p:stCondLst>
                            <p:childTnLst>
                              <p:par>
                                <p:cTn id="4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900"/>
                            </p:stCondLst>
                            <p:childTnLst>
                              <p:par>
                                <p:cTn id="4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550"/>
                            </p:stCondLst>
                            <p:childTnLst>
                              <p:par>
                                <p:cTn id="4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9900"/>
                            </p:stCondLst>
                            <p:childTnLst>
                              <p:par>
                                <p:cTn id="4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2050"/>
                            </p:stCondLst>
                            <p:childTnLst>
                              <p:par>
                                <p:cTn id="4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3500"/>
                            </p:stCondLst>
                            <p:childTnLst>
                              <p:par>
                                <p:cTn id="4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3950"/>
                            </p:stCondLst>
                            <p:childTnLst>
                              <p:par>
                                <p:cTn id="45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0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461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62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4450"/>
                            </p:stCondLst>
                            <p:childTnLst>
                              <p:par>
                                <p:cTn id="46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7350"/>
                            </p:stCondLst>
                            <p:childTnLst>
                              <p:par>
                                <p:cTn id="46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8090"/>
                            </p:stCondLst>
                            <p:childTnLst>
                              <p:par>
                                <p:cTn id="47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610"/>
                            </p:stCondLst>
                            <p:childTnLst>
                              <p:par>
                                <p:cTn id="47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2650"/>
                            </p:stCondLst>
                            <p:childTnLst>
                              <p:par>
                                <p:cTn id="48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3810"/>
                            </p:stCondLst>
                            <p:childTnLst>
                              <p:par>
                                <p:cTn id="48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4690"/>
                            </p:stCondLst>
                            <p:childTnLst>
                              <p:par>
                                <p:cTn id="49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5170"/>
                            </p:stCondLst>
                            <p:childTnLst>
                              <p:par>
                                <p:cTn id="499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22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0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3330"/>
                            </p:stCondLst>
                            <p:childTnLst>
                              <p:par>
                                <p:cTn id="50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0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3830"/>
                            </p:stCondLst>
                            <p:childTnLst>
                              <p:par>
                                <p:cTn id="51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4330"/>
                            </p:stCondLst>
                            <p:childTnLst>
                              <p:par>
                                <p:cTn id="51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4830"/>
                            </p:stCondLst>
                            <p:childTnLst>
                              <p:par>
                                <p:cTn id="51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2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5330"/>
                            </p:stCondLst>
                            <p:childTnLst>
                              <p:par>
                                <p:cTn id="52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2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5830"/>
                            </p:stCondLst>
                            <p:childTnLst>
                              <p:par>
                                <p:cTn id="52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2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330"/>
                            </p:stCondLst>
                            <p:childTnLst>
                              <p:par>
                                <p:cTn id="5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32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авила вычисления производных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имер 1. Найдем производные функций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f (x)=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1/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1/x)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 - 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/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 -1/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поэтому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1/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 ΄=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(х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 ΄-(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/x)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2x-(-1/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=2x+1/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400800" y="44956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онец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оизводные тригонометрических функций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рмула производной синуса. Докажем, что функция синуса имеет производную в любой точке и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 x)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 cos x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меняя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рмулу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α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–sin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2cos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/2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·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/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ходи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 x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=sin(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)-sin 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 =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2cos(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)sin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 sin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cos(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6400800" y="548640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але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5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8500"/>
                            </p:stCondLst>
                            <p:childTnLst>
                              <p:par>
                                <p:cTn id="55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0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3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8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0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3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8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0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6500"/>
                            </p:stCondLst>
                            <p:childTnLst>
                              <p:par>
                                <p:cTn id="593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6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8500"/>
                            </p:stCondLst>
                            <p:childTnLst>
                              <p:par>
                                <p:cTn id="598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00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603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05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6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2500"/>
                            </p:stCondLst>
                            <p:childTnLst>
                              <p:par>
                                <p:cTn id="608" nodeType="afterEffect" fill="hold" presetClass="exit" presetID="11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0"/>
                            </p:stCondLst>
                            <p:childTnLst>
                              <p:par>
                                <p:cTn id="612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1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616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1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9000"/>
                            </p:stCondLst>
                            <p:childTnLst>
                              <p:par>
                                <p:cTn id="620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1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1000"/>
                            </p:stCondLst>
                            <p:childTnLst>
                              <p:par>
                                <p:cTn id="624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5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3000"/>
                            </p:stCondLst>
                            <p:childTnLst>
                              <p:par>
                                <p:cTn id="628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5000"/>
                            </p:stCondLst>
                            <p:childTnLst>
                              <p:par>
                                <p:cTn id="632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33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7000"/>
                            </p:stCondLst>
                            <p:childTnLst>
                              <p:par>
                                <p:cTn id="636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37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оизводные тригонометрических функций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ля вывода формулы достаточно показать ,чт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in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0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)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s(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)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s 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пираясь на эти утверждения, можно получить формулу. Действительно, при Δ х→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)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 x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=sin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·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os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→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os 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cos 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6858000" y="54100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онец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0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000"/>
                            </p:stCondLst>
                            <p:childTnLst>
                              <p:par>
                                <p:cTn id="7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2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6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0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4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8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2" dur="2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xit" presetID="2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7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0"/>
                            </p:stCondLst>
                            <p:childTnLst>
                              <p:par>
                                <p:cTn id="73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4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5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5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6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69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одержание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6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Приращение функ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Понятие о производно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Определение производной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Правила вычисления производно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Производная сложной функ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Производные тригонометрических функц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приближенного вычисления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У=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f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)+f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)(x-x</a:t>
            </a:r>
            <a:r>
              <a:rPr b="0" lang="en-US" sz="28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У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f(x</a:t>
            </a:r>
            <a:r>
              <a:rPr b="0" lang="en-US" sz="28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)+f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'(x</a:t>
            </a:r>
            <a:r>
              <a:rPr b="0" lang="en-US" sz="28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 flipH="1">
            <a:off x="4190400" y="3048120"/>
            <a:ext cx="19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1bb96"/>
                </a:solidFill>
                <a:latin typeface="Times New Roman"/>
              </a:rPr>
              <a:t>Производная в физике и техник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ср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)=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x/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v(t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x/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x'(t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V (t)= x´(t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a=v' (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Метод интервалов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  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&lt;=&gt;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0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при Δ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х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x)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(a)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при х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'=&gt; 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 f       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≠ 0 =&gt; (±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n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од интервалов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 x + b    A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;f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f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'(x) • x + b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fld id="{F975F42A-E299-44AE-BF57-AF477062E355}" type="slidenum"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=f´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• 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+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= f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-f´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• 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 ´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x + f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-f´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• 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У=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f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+f´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 (x-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</a:rPr>
              <a:t>Касательная к графику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k=f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´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=tg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f ´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&gt;0; f ´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=0; f ´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&lt;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f ´(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=1; f ´(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=0; f ´(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=-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сательная к графику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(c)= f (b ) – f ( a ) / b - 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5"/>
          <p:cNvSpPr/>
          <p:nvPr/>
        </p:nvSpPr>
        <p:spPr>
          <a:xfrm>
            <a:off x="7164360" y="5805360"/>
            <a:ext cx="1224000" cy="503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иращение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6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f=f(x</a:t>
            </a:r>
            <a:r>
              <a:rPr b="1" lang="en-US" sz="44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+ </a:t>
            </a:r>
            <a:r>
              <a:rPr b="1" lang="ru-RU" sz="44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x)-f(x</a:t>
            </a:r>
            <a:r>
              <a:rPr b="1" lang="en-US" sz="44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192800" y="5826240"/>
            <a:ext cx="11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конспек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2513160" y="4551480"/>
          <a:ext cx="3109680" cy="206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3160" y="4551480"/>
                    <a:ext cx="3109680" cy="20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525636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000" y="2204640"/>
            <a:ext cx="727236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изводной функции ƒ  в точк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зывается число, к которому стремится разностное отношение, при Δ х, стремящемся к нулю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Oval 8">
            <a:hlinkClick r:id="rId1" action="ppaction://hlinksldjump"/>
          </p:cNvPr>
          <p:cNvSpPr/>
          <p:nvPr/>
        </p:nvSpPr>
        <p:spPr>
          <a:xfrm>
            <a:off x="6629400" y="49528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Конец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онятие о производной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x</a:t>
            </a:r>
            <a:r>
              <a:rPr b="0" lang="en-US" sz="36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=(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+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)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=x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+2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+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=2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+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=2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2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                                                       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0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6732720" y="450864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пределение производной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)=lim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f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+ 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)-f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)/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f (x)-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дифференцируе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с΄=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;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=1; (c x)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=c (x)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= 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172200" y="5334120"/>
            <a:ext cx="91440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Дале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ило вычисления производных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52120" y="1916280"/>
            <a:ext cx="684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u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±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v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=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u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±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v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(u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v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)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=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u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v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+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u v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(u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/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v)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΄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=u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v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–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u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 v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/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v</a:t>
            </a:r>
            <a:r>
              <a:rPr b="1" lang="en-US" sz="44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(x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d60093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)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=n x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d60093"/>
                </a:solidFill>
                <a:latin typeface="Times New Roman"/>
              </a:rPr>
              <a:t>n-1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Oval 4">
            <a:hlinkClick r:id="rId1" action="ppaction://hlinksldjump"/>
          </p:cNvPr>
          <p:cNvSpPr/>
          <p:nvPr/>
        </p:nvSpPr>
        <p:spPr>
          <a:xfrm>
            <a:off x="7772400" y="54100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Впере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изводная сложной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h ( x ) = g ( f ( x )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΄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)=g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΄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f(x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))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·f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΄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5257800" y="40384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изводные тригонометрических функци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6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sin x)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=cos x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cos x)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= - sin x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tg x)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= 1/cos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ctg x)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= -1/sin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x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h( x)=g ( f ( x ) 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h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x</a:t>
            </a:r>
            <a:r>
              <a:rPr b="1" lang="en-US" sz="40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)=g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f(x</a:t>
            </a:r>
            <a:r>
              <a:rPr b="1" lang="en-US" sz="40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))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·f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</a:t>
            </a: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(x</a:t>
            </a:r>
            <a:r>
              <a:rPr b="0" lang="en-US" sz="40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Oval 5">
            <a:hlinkClick r:id="rId1" action="ppaction://hlinksldjump"/>
          </p:cNvPr>
          <p:cNvSpPr/>
          <p:nvPr/>
        </p:nvSpPr>
        <p:spPr>
          <a:xfrm>
            <a:off x="8077320" y="56386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Дале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2:09:56Z</dcterms:created>
  <dc:creator>Mr. X</dc:creator>
  <dc:description/>
  <dc:language>en-US</dc:language>
  <cp:lastModifiedBy>Кабинет Информатики</cp:lastModifiedBy>
  <dcterms:modified xsi:type="dcterms:W3CDTF">2019-09-11T18:18:11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