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3F5-3E20-4D45-B280-6E81B04F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FEF-EC33-46DD-9DDE-CE8AAE7B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486-D6B6-4C1E-B36F-94DAD5B3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339-4DF2-45C8-8716-BA5332C4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0654-E91A-4FB4-9C08-C1E36DE7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A9F-6F11-4188-87FE-B59BF8FE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8561-6443-4FE4-A788-149176B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3EA-ED85-4E74-9380-5F1DC51A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CD8-AE86-4C35-B3F5-3D0B10EB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E864-6321-4239-9A14-FF046831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0284-C7C7-4AC6-A9B8-AF99119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590-C5B2-4566-B7B7-2AAD679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F077-BB47-475E-A649-1EFF041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3D64-8CA0-4DDF-BC1F-660ED4E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4FF-F1B4-43C5-9499-9746CF71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22F8-C1EC-4000-B5A3-B2CEFD35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D10-92B5-46B1-BBDB-5DC85A9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52D-DE46-41B2-9910-3D9145EE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06D-1CE8-469C-BDD6-0A388F9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C71-1619-4E4D-926F-12FABC47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430-BDC3-4361-B7D4-888E6C8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A63-583F-4D2E-B400-9DA5A86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2F5-5108-4777-B7E0-DB1C762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0F6-5DCC-4B86-BD0D-CBCAC5EA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7701-4C41-437E-AF8F-525F5DA783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4F2-17B4-4E83-86A0-DC00599D67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image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olkm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mage (1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-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image 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7T07:29:55Z</dcterms:created>
  <dc:creator>DS</dc:creator>
  <dc:description/>
  <dc:language>en-US</dc:language>
  <cp:lastModifiedBy>79223085943</cp:lastModifiedBy>
  <dcterms:modified xsi:type="dcterms:W3CDTF">2020-11-23T20:09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