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D3F-AF13-442B-81CD-8A8DEB71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BE5-103C-4409-88F3-9724CC7F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BD4-C8C0-4F54-9632-914FCD02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F63-8A6D-4498-BAB8-DE78D285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AC33-2220-4EC6-A521-71989F1C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AABE-3CFB-4A5F-A25A-CED53D9E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445F-F379-43F9-815E-3F61AF67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0B9F-BD24-407E-8EAA-29255D64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E122-BE3F-4299-8A1E-14D05763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8EEC-0CC0-42CE-BECB-0BCD2C96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01D8-38D8-4069-AE8C-8AFFC557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7E8-EF8B-4987-A4EB-1BA4E1DC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133A-FD67-478C-AA17-6FD2D36B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5014-0BBE-4A6E-B888-51E5B685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BE4A-C37E-4A82-AF3F-AAF8B2C2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E113-F143-47CA-A390-091C228F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9BDF-378B-4A97-990A-FD0045FE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44A-239E-4CF4-A672-0746D88B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27C-C024-4D43-8327-9922967D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DF8-9947-4CB7-A7B8-D770EDE0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72B-7269-4185-AAA9-C786D2BD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86E-102A-47A7-8B6A-FB13A843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40D-E7FA-4BA7-8F19-7C2008B1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C24-3167-44D4-AEC6-58FB10C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CDB4-DA05-43F4-9272-21872491D2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F3F2-D609-4FE3-9999-37B34B0286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image (8)"/>
          <p:cNvPicPr/>
          <p:nvPr/>
        </p:nvPicPr>
        <p:blipFill>
          <a:blip r:embed="rId1"/>
          <a:stretch/>
        </p:blipFill>
        <p:spPr>
          <a:xfrm>
            <a:off x="-457200" y="60480"/>
            <a:ext cx="10515600" cy="82836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-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http://www.pgpalata.ru/pict/rabju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912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7T07:29:55Z</dcterms:created>
  <dc:creator>DS</dc:creator>
  <dc:description/>
  <dc:language>en-US</dc:language>
  <cp:lastModifiedBy>79223085943</cp:lastModifiedBy>
  <dcterms:modified xsi:type="dcterms:W3CDTF">2020-11-26T16:53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