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F8B2-0CCB-4D86-9B72-E58ED5E5D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6C3C-1C08-4898-BD55-09EA111B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0A1E-FF08-4B49-BB81-16BC535A2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91D9-A228-41D0-B29A-0FFDFA082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DF6E-05D3-40A1-8191-738FA90F7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B228-E37A-4A18-A9C3-A16E9D0E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B9E0-E18C-443E-BC21-28BD7B66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06D4-70B5-4937-8A95-FF2ACB66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5FB0-32D7-4471-8991-3B4F5E66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4F12-74A0-4F57-B90F-7125371A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5301-33C2-4FE7-A722-6A710D0E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B582-7E44-45D6-8D3F-84355A7B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5EBE-3B86-4B8F-BAE1-23C14947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357F-FCA8-461C-8E7D-595C5A70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5358-E7E7-4BDB-B6CB-52384621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87EA9-B28F-4B02-B17C-7F4A2FF2B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6884-4305-4C29-8E9F-18B5FB9EE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30ED9-F3FD-45D1-B969-5763B9E08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B62E1-594E-4D4C-82D2-5B7A638B0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83E1D-242B-4F1E-8EAC-AE901BDE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1C8A2-5761-4CE9-BF42-D938C2EA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F4C1D-52F3-43E4-B538-6BB4A67E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C385-3556-416C-A847-42F15599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F102C-A17A-4E47-B66C-EE5ABC5D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1D2A9-3CAE-4CC3-84D0-29D83C00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7A9B8-502B-40D1-94A5-3D21DBC7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8B7B3-9B62-43A7-96AD-3BEE3054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5F0BE-6648-4DEF-8C99-EE64FE8D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F0952-4890-410E-8F30-2FDA0ACA8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7CBE8-23F6-4133-90BD-51F9ACC02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37781-4237-46E5-849F-1A36B67E1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7BBA0-DAEB-4204-9C45-02A0461F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A9709-F352-459E-9C8E-FD592AF9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B241-C97B-4D3D-B6D2-30F5276C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40E21-C0B2-4B67-B487-DF4CB693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7711E-9B3E-4089-88BA-67587339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7FEDF-095E-4FC6-877A-8953FA9D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0B78C-9F49-433D-968E-51116BEF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93742-6E11-4218-8747-18CB6D28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C0388-DEA6-414E-8AFC-0CBE8D57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FDBE5-3BA4-4E36-A5DA-9596B75A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2B26B-FF7A-47F9-BDCC-C5DBF8FCA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4DBB8-C146-48E7-A04D-90F7E85C2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12DA0-B489-4F0A-8293-04BC84B70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834A-8E51-45C2-AFEC-292E9604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497E6-1541-4E0B-8C0D-67AFCA95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E9A75-F714-485F-9B9A-F2451B3B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76A06-2846-4A3D-BA9F-10D9ECFD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BA562-ABC4-4992-902A-8FF1ADA8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97C6A-41C7-4A72-92C5-DE84DB67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1EAA4-C3B0-4B8C-9833-43761B9F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F9FE0-9CA2-46EC-94E9-1059C836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304B5-AEE8-43B3-B809-3E6EBFEF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EDE10-BD6D-49EA-938C-30F2F72F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6738D-01EA-4C62-AED4-D1672A51B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3580-8F12-4C0E-9838-E584828C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F9125-149A-480A-9F99-601D09375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016BD-33B6-4E40-ABC8-4CC39094D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B3CD1-3123-4AB6-8645-4240F44D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D888D-8786-49CC-BD80-E689DD97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B06CF-6FBF-45B8-B08B-C0A61BAB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5E6DE-DAB7-4079-8DE4-AAA4B8E6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B778C-9D55-4195-94BC-C1795ED9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A498F-273B-47FE-B5C2-383A3994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0F4BE-750F-4D2A-B74C-3D45BC89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B4D5C-E18B-4FDA-8EBB-66DEADBD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4E7B-ACD7-4172-B410-2A1E0C89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99C22-05DB-4E96-AE0D-C2026591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5C4BB-305C-43BE-94B2-26317787D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31742-A458-4388-ACB5-99C7A1597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4B827-3EA6-410A-B92A-FFAE71E02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58563-DE28-494D-9E47-3DF8640BE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B0EDA-DA1B-4C7D-9739-556C9207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FB304-4417-4452-A960-EE962624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EA966-439A-4F1F-946E-BB6E7A72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5259D-FD7A-454C-9755-0F697BE4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99DAF-6DE9-45A6-8DFA-0FAF419B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0C73-0901-4CAB-9125-0B05D225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EA2C0-0930-455D-9859-B6C4EEA9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8605C-3830-4127-9E82-02E7D0D0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2B400-E16E-4A73-9D3F-81181E3D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CA951-556F-4E0F-B8B0-83DCBF5D9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57671-D047-4BB6-874C-B1B04D87F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14AD-C8A6-49E3-AF6B-013E3975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018A-B306-4822-ADE3-1AD5351C12DD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6861-70E3-4B37-A5A8-B807B028FAA0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1CD1-7795-4E3C-959B-7F6075C67143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E527-F982-41C9-AB97-E05875E60A29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FAD5-87E9-4493-864F-82E32B6850AA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96DB-FD4A-4876-8D0C-DB3063E3F848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6A84-3FCB-4064-80EF-EF97B5DC635C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6836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Бюджетное учреждение профессионального образования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Ханты- Мансийского автономного окурга – Югры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«Нижневартовский социально-гуманитарный колледж»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(БУ «НСГК»)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РОЕКТ УЧЕБНОГО ЗАНЯТИЯ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 РАМКАХ РЕАЛИЗАЦИИ ИНТЕГРИРОВАННОГО ОБРАЗОВАНИЯ ОБУЧАЮЩИХСЯ С ОГРАНИЧЕННЫМИ ВОЗМОЖНОСТЯМИ ЗДОРОВЬЯ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(с нарушением слуха)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о дисциплине    Физическая культура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для специальности 49.02.01. «Физическая культура»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algn="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Автор: Гильманова Ю.Е.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algn="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реподаватель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algn="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физической культуры  НСГК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algn="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ижневартовск, 2015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"/>
          <p:cNvGraphicFramePr/>
          <p:nvPr/>
        </p:nvGraphicFramePr>
        <p:xfrm>
          <a:off x="250920" y="333360"/>
          <a:ext cx="8713800" cy="1008000"/>
        </p:xfrm>
        <a:graphic>
          <a:graphicData uri="http://schemas.openxmlformats.org/drawingml/2006/table">
            <a:tbl>
              <a:tblPr/>
              <a:tblGrid>
                <a:gridCol w="792000"/>
                <a:gridCol w="3816360"/>
                <a:gridCol w="936720"/>
                <a:gridCol w="3168720"/>
              </a:tblGrid>
              <a:tr h="100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Содержание учебного материа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Дозиро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Методические указ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250920" y="1341360"/>
          <a:ext cx="8713800" cy="5400720"/>
        </p:xfrm>
        <a:graphic>
          <a:graphicData uri="http://schemas.openxmlformats.org/drawingml/2006/table">
            <a:tbl>
              <a:tblPr/>
              <a:tblGrid>
                <a:gridCol w="792000"/>
                <a:gridCol w="3816360"/>
                <a:gridCol w="936720"/>
                <a:gridCol w="3168720"/>
              </a:tblGrid>
              <a:tr h="5400720">
                <a:tc>
                  <a:txBody>
                    <a:bodyPr lIns="41040" rIns="41040" tIns="0" bIns="0" anchor="t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Подготовительная ча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    </a:t>
                      </a: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I.      Построение, объяснение задач уро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    </a:t>
                      </a: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II.      Разминочная ходьба, бе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o   приставным шаг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o   с высоким подниманием бед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o   с захлёстыванием голе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o   с изменением направления движ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o   спиной вперё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III.      Упражнения с  теннисным мячом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1.         подбрасывание мяча с последующей лов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2.         жонглирование мяч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3.         подбрасывание мяча с отскоком с последующей лов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4.         подбрасывание мяча из различных и. 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5.         подбрасывание мяча по сигнал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6.         броски на да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7.         броски на точ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1 – 2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10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10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Обратить внимание на форму, на технику безопаснос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правым и левым бок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выполнять чащ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не вставать на пят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выполнять по сигнал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Calibri"/>
                        </a:rPr>
                        <a:t>( для детей с нарушением слуха четкий показ упражнений перед выполнением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смотреть назад через плеч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обратить внимание на правильное положение рук при ловл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3" name=""/>
          <p:cNvGraphicFramePr/>
          <p:nvPr/>
        </p:nvGraphicFramePr>
        <p:xfrm>
          <a:off x="250920" y="333360"/>
          <a:ext cx="8713800" cy="6335640"/>
        </p:xfrm>
        <a:graphic>
          <a:graphicData uri="http://schemas.openxmlformats.org/drawingml/2006/table">
            <a:tbl>
              <a:tblPr/>
              <a:tblGrid>
                <a:gridCol w="792000"/>
                <a:gridCol w="2233800"/>
                <a:gridCol w="1079280"/>
                <a:gridCol w="4608720"/>
              </a:tblGrid>
              <a:tr h="1008000">
                <a:tc rowSpan="3">
                  <a:txBody>
                    <a:bodyPr lIns="26280" rIns="26280" tIns="0" bIns="0" anchor="t">
                      <a:noAutofit/>
                    </a:bodyPr>
                    <a:p>
                      <a:pPr marL="71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Основная ча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    </a:t>
                      </a:r>
                      <a:r>
                        <a:rPr b="0" lang="en-US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V.      Подвижные игры, подводящие к игре лапта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Во время игр использовать судейские жесты с целью закрепления теоретического матери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marL="457200" indent="-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1)      «Салки мячом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10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Игроки делятся на две команды. По сигналу учителя игроки водящей команды должны осалить игрока противоположной команды мячом. Игроки могут выполнять передачи, броски, но не мешать игрокам – соперникам убегать. Осаленный игрок подбирает мяч, выполняет передачу игроку своей команды, но сам выбывает из игры. Команда продолжает осаливать соперников. Итог: чья команда превосходит в количестве – та и победител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marL="457200" indent="-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2)      «Защищай ворот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10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Игроки делятся  на две команды и встают к линиям в шеренгу напротив друг друга.  Игрок одной команды идёт к команде-сопернику, ударяет по ладоням соперников три раза и убегает в свою команду. Игрок, которому достался третий удар, должен догнать и осалить соперника. Если догнал – забирает в свою команду, если нет, то сам идёт в другую команду. Победитель – тот, кто превосходит в численнос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4" name=""/>
          <p:cNvGraphicFramePr/>
          <p:nvPr/>
        </p:nvGraphicFramePr>
        <p:xfrm>
          <a:off x="179280" y="260280"/>
          <a:ext cx="8713800" cy="6408720"/>
        </p:xfrm>
        <a:graphic>
          <a:graphicData uri="http://schemas.openxmlformats.org/drawingml/2006/table">
            <a:tbl>
              <a:tblPr/>
              <a:tblGrid>
                <a:gridCol w="857520"/>
                <a:gridCol w="2214360"/>
                <a:gridCol w="1071720"/>
                <a:gridCol w="4570200"/>
              </a:tblGrid>
              <a:tr h="6408720">
                <a:tc>
                  <a:txBody>
                    <a:bodyPr lIns="26280" rIns="26280" tIns="0" bIns="0" anchor="t">
                      <a:noAutofit/>
                    </a:bodyPr>
                    <a:p>
                      <a:pPr marL="71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Основная ча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Повторение и закрепление теоретических сведений о правилах игры  «Русская   лапт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30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Calibri"/>
                        </a:rPr>
                        <a:t>     </a:t>
                      </a: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Calibri"/>
                        </a:rPr>
                        <a:t>Правила игры. Жесты судей. Для студентов с ОВЗ использование информационных досок с прорисовыванием на них игровых ситуаций  и карточек с обозначениями и действиями игроков. Четкий показ судейских жестов.</a:t>
                      </a: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Цель игры — ударом биты послать мяч, подбрасываемый игроком команды противника, как можно дальше и пробежать поочерёдно до противоположной стороны и обратно, не дав противнику «осалить» себя пойманным мячом… За удачные пробежки команде начисляются очки. Выигрывает команда, набравшая больше очков за установленное время</a:t>
                      </a:r>
                      <a:r>
                        <a:rPr b="0" lang="ru-RU" sz="14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6300720" y="3573360"/>
            <a:ext cx="2448000" cy="30099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" descr=""/>
          <p:cNvPicPr/>
          <p:nvPr/>
        </p:nvPicPr>
        <p:blipFill>
          <a:blip r:embed="rId2"/>
          <a:stretch/>
        </p:blipFill>
        <p:spPr>
          <a:xfrm>
            <a:off x="4427640" y="3573360"/>
            <a:ext cx="165708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250920" y="476280"/>
          <a:ext cx="8713800" cy="6192720"/>
        </p:xfrm>
        <a:graphic>
          <a:graphicData uri="http://schemas.openxmlformats.org/drawingml/2006/table">
            <a:tbl>
              <a:tblPr/>
              <a:tblGrid>
                <a:gridCol w="865080"/>
                <a:gridCol w="2016000"/>
                <a:gridCol w="1079640"/>
                <a:gridCol w="4753080"/>
              </a:tblGrid>
              <a:tr h="4735440">
                <a:tc rowSpan="2">
                  <a:txBody>
                    <a:bodyPr lIns="47160" rIns="47160" tIns="0" bIns="0" anchor="t">
                      <a:noAutofit/>
                    </a:bodyPr>
                    <a:p>
                      <a:pPr marL="71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Заключительная ча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marL="457200" indent="-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. Игра на внимание «Группа, смирно!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5 м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Игроки должны выполнять движения, повторяя за учителем (различные положения рук, повороты, наклоны и т. д.) только с предварительной командой «класс!». (например: «Класс! Руки на пояс!», «Класс! Напра-во!»). ( Для студентов с ОВЗ предварительным жестом на выполнение команды может служить поднятая вверх рука)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Если игрок выполняет движение без предварительной команды «класс!» «поднятой руки», то он должен сделать шаг вперёд. Таким образом, вперёд выйдут самые невнимательные игро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VI.      Построение, подведение итог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2 – 3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Определить команду-победителя каждой игры. Домашнее задание: повторить правила игры, жесты судь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250560" y="112536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1. Попов, С. Н. Лечебная физическая культура. Учеб. для высш. учеб. заведений / С. Н. Попов, Н. М. Валеев, Т.С. Гарасева и др. ; под ред. С. Н. Попова. - М.: Академия, 2004. - 416 с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2. Попов, С. Н. Физическая реабилитация. Учеб. для высш. учеб. заведений / С. Н. Попов ; под ред. С. Н. Попова. - Изд. 2-е, испр. и доп. – Ростов н/Д.: Феникс, 2004. – 608 с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3. Адаптивная физическая культура. /электронная версия журнала. URL: http://www.afkonline.ru/biblio.html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4. Физическая культура: учебник для студ. Учреждений сред.Ф505 проф. Образования/Решетников Н.В., Кислицын Ю.Л. Издательский центр «Академия», 2012г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ts val="1361"/>
              </a:lnSpc>
              <a:spcBef>
                <a:spcPts val="451"/>
              </a:spcBef>
              <a:spcAft>
                <a:spcPts val="1400"/>
              </a:spcAft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отапчук А.А., Матвеев С.В., Дидур М.Д. Лечебная физическая культура в детском возрасте. Учебно-методическое пособие. Издательство «Речь», Санкт-Петербург, 2007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ts val="1361"/>
              </a:lnSpc>
              <a:spcBef>
                <a:spcPts val="451"/>
              </a:spcBef>
              <a:spcAft>
                <a:spcPts val="1400"/>
              </a:spcAft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Татарникова Л.Г. Педагогика здоровья: здоровьесберегающие образовательные технологии, СПб, 2010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ts val="1361"/>
              </a:lnSpc>
              <a:spcBef>
                <a:spcPts val="451"/>
              </a:spcBef>
              <a:spcAft>
                <a:spcPts val="1400"/>
              </a:spcAft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Тренировочные занятия по лапте </a:t>
            </a:r>
            <a:r>
              <a:rPr b="0" lang="en-US" sz="1800" spc="-1" strike="noStrike">
                <a:solidFill>
                  <a:srgbClr val="2a6496"/>
                </a:solidFill>
                <a:latin typeface="Times New Roman"/>
                <a:ea typeface="Times New Roman"/>
              </a:rPr>
              <a:t>kopilkaurokov.ru</a:t>
            </a:r>
            <a:r>
              <a:rPr b="0" lang="ru-RU" sz="1800" spc="-1" strike="noStrike">
                <a:solidFill>
                  <a:srgbClr val="2a6496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428bca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428bca"/>
                </a:solidFill>
                <a:latin typeface="Times New Roman"/>
                <a:ea typeface="Times New Roman"/>
              </a:rPr>
              <a:t>сайт для учителей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ts val="1361"/>
              </a:lnSpc>
              <a:spcBef>
                <a:spcPts val="451"/>
              </a:spcBef>
              <a:spcAft>
                <a:spcPts val="1400"/>
              </a:spcAft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Физическая реабилитация. Учебник. Под ред.. проф. С.Н. Попова. Издание второе, Ростов-на-Дону, издательство «Феникс», 2004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Литература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871560" y="836280"/>
            <a:ext cx="74088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аздел программы :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портивные игры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Тема: </a:t>
            </a:r>
            <a:r>
              <a:rPr b="0" lang="ru-RU" sz="36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«Формирование физических качеств посредством народной игры «Русская лапта».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36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создание устойчивой мотивации для освоения игры «Русская лапта».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1052280"/>
            <a:ext cx="7408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73e87"/>
                </a:solidFill>
                <a:uFillTx/>
                <a:latin typeface="Times New Roman"/>
                <a:ea typeface="Times New Roman"/>
              </a:rPr>
              <a:t>Образовательные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асширять и закреплять у студентов теоретические сведения по правилам игры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родолжать формировать коммуникативные компетенции  по взаимодействию в команде, владению различными социальными ролями в коллективе, </a:t>
            </a: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ыполнению строевых упражнений и двигательных заданий по словесной инструкции преподавателя , совершенствовать навыки построения по сигналу (для студентов с нарушением слуха световой сигнал)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ts val="1199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Задачи: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95280" y="1341000"/>
            <a:ext cx="8353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571680">
              <a:lnSpc>
                <a:spcPts val="1199"/>
              </a:lnSpc>
              <a:spcBef>
                <a:spcPts val="799"/>
              </a:spcBef>
              <a:spcAft>
                <a:spcPts val="1001"/>
              </a:spcAft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457200" indent="571680">
              <a:lnSpc>
                <a:spcPct val="100000"/>
              </a:lnSpc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оспитывать наблюдательность и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457200" indent="5716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нимание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457200" indent="571680">
              <a:lnSpc>
                <a:spcPct val="100000"/>
              </a:lnSpc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азвивать волевые качества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457200" indent="5716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ыдержка, дисциплинированность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457200" indent="5716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и настойчивость в достижении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457200" indent="5716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езультата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457200" indent="571680">
              <a:lnSpc>
                <a:spcPct val="100000"/>
              </a:lnSpc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формировать положительные черты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457200" indent="5716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характера, сотрудничество и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457200" indent="5716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заимопомощь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457200" indent="571680">
              <a:lnSpc>
                <a:spcPts val="1199"/>
              </a:lnSpc>
              <a:spcBef>
                <a:spcPts val="799"/>
              </a:spcBef>
              <a:spcAft>
                <a:spcPts val="1001"/>
              </a:spcAft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457200" indent="571680">
              <a:lnSpc>
                <a:spcPts val="1199"/>
              </a:lnSpc>
              <a:spcBef>
                <a:spcPts val="799"/>
              </a:spcBef>
              <a:spcAft>
                <a:spcPts val="1001"/>
              </a:spcAft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73e87"/>
                </a:solidFill>
                <a:uFillTx/>
                <a:latin typeface="Times New Roman"/>
                <a:ea typeface="Times New Roman"/>
              </a:rPr>
              <a:t>Воспитательные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468000" y="148392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03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lvl="1" marL="3031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Укрепление здоровья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lvl="1" marL="3031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нятие эмоционального стресса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Улучшение деятельности сердечно-сосудистой и дыхательной систем организма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73e87"/>
                </a:solidFill>
                <a:uFillTx/>
                <a:latin typeface="Times New Roman"/>
                <a:ea typeface="Times New Roman"/>
              </a:rPr>
              <a:t>Оздоровительные:</a:t>
            </a:r>
            <a:r>
              <a:rPr b="0" i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468000" y="1413000"/>
            <a:ext cx="82803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овершенствование пространственной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риентировки и точности движений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риентирование в последовательности выполнения определенных действий с мячом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азвивать память, внимание, правильное дыхание,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овышать познавательную активность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ts val="1199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ru-RU" sz="3200" spc="-1" strike="noStrike" u="sng">
                <a:solidFill>
                  <a:srgbClr val="073e87"/>
                </a:solidFill>
                <a:uFillTx/>
                <a:latin typeface="Times New Roman"/>
                <a:ea typeface="Times New Roman"/>
              </a:rPr>
              <a:t>Коррекционные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250560" y="1341000"/>
            <a:ext cx="8497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>
              <a:lnSpc>
                <a:spcPts val="1199"/>
              </a:lnSpc>
              <a:spcBef>
                <a:spcPts val="64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45720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Занятия проводятся в спортивном зале, соответствующему санитарно-гигиеническим требованиям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45720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БОРУДОВАНИЕ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45720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абор мячей;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45720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Лапта (бита)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45720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ерёвки для разметки площадок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45720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Флажки для установки на площадке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45720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вистки судейские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45720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Доски….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165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УЧЕБНО-МЕТОДИЧЕСКОЕ 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И ТЕХНИЧЕСКОЕ ОСНАЩЕНИЕ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250920" y="2205000"/>
            <a:ext cx="864216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Использовать фронтальный метод подачи информации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ледить за речью (внятно медленно произносить задания)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Корректировать технику выполнения упражнений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15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рганизационно-методические указания с учетом особенности группы в которой имеются студенты с ОВЗ (нарушение слуха)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468000" y="1699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ходить в зал только с разрешения преподавателя 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Иметь надлежащую спортивную форму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 всех несчастных случаях немедленно сообщать преподавателю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Техника безопасности: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06:50:00Z</dcterms:created>
  <dc:creator>K-</dc:creator>
  <dc:description/>
  <dc:language>en-US</dc:language>
  <cp:lastModifiedBy>Пользователь Windows</cp:lastModifiedBy>
  <dcterms:modified xsi:type="dcterms:W3CDTF">2015-05-31T16:24:28Z</dcterms:modified>
  <cp:revision>62</cp:revision>
  <dc:subject/>
  <dc:title>Общая физическая подготовка юношей  10 класса  </dc:title>
</cp:coreProperties>
</file>