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0B8-8EFF-4D31-948A-4D2ED594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AF92-FD5C-40D1-BABC-B9FE5681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2E8-60CB-4EF9-B173-740B73B3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552-CC3C-4038-B9FA-7616DB94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00FE-3A4C-4944-BE73-1C8F5E92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2603-414F-428D-8DDE-C8E4B8F3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45E3-AAF7-4F7C-AA99-9D916817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044D-309A-4B21-8EF1-8C4F40C5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5B9F-FDF0-4AB8-8896-C6DFE98C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4002-74B2-4E3B-AB99-53F68A34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353F-E191-4D2C-B91A-E7D96ADA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3916-B715-493C-9578-AF4B786B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1DF4-2B49-4374-9A6C-A3B7289F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F44D-7CE7-4663-9F22-9CB52933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A2FD-43FD-4D93-A1B2-E741582F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92A0-2551-4F32-A9B0-98B190F5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F62C-D85D-4FFE-9C20-C962016A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ECE5E-CA0A-4D6B-A6F4-11B12313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D02FE-511D-46FF-9BD4-155F4012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385D5-5464-4267-BACD-A4707653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79B6A-C3D5-4675-9335-EE23422D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E6758-6DFB-45EC-A89E-803B5BE2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0BA-7FF5-4FA9-B088-C284CF18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257A4-E892-4084-80B4-1BBDF0E2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06A42-4DDB-453E-B5D0-2FC7DA9F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07D4D-1584-453E-8B96-4C71001A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3477-C6AF-4E69-AC1F-B84AD046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6B7BC-29BC-4FE1-9FB5-A8EBB06B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C1F62-3BEB-4B1E-8802-115BE0AB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0A6B-C1EF-48CE-8EBF-EF74E620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58236-37D9-4FB9-83B9-78E65A0D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5DF1D-8183-4B3F-9035-66EDF6C2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38E23-720C-4F9D-A2F4-229ADEAC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70E-87AB-4702-B4A8-099180C7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6B9B6-8F0D-4BB6-ACA3-2813D24E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9F435-2100-496D-9166-15624AA1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2FA4B-C9C4-408D-970D-8B7B7722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83712-25DE-4996-81ED-02548D2C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CF0E0-2F09-434B-8784-6E3CE1D3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193D3-4D07-426C-A8C9-99F55E85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FFA29-09A4-4339-A246-EE6AB826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63D91-7C3A-4CA0-A682-79CAA0F5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F346B-29C9-440D-B3D8-976280E5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79888-1F69-41A8-BC7B-A841A16C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D3B-4A43-4BA0-9A95-30A3D738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65E50-D4BC-449F-A1BF-E123E087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92FEC-420C-4CC4-9877-49335C3A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50C92-BC0D-4A3B-8D49-46AB553E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23AA3-8FA4-4F4B-AF58-83CB67FD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96730-10C1-484F-9FB8-28BBDEDC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2E3AB-679B-4829-A7F8-3E45D569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6B914-2338-47D3-BDEE-1198F7DE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3E163-EB75-49F2-815F-5D1980B6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BF59B-9DC0-4AB8-93CF-ED01DBCC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94EBB-0CB6-47EE-AB28-4947FAA2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D91-ECAE-44CE-970D-58EA457D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9FFA6-D6B7-44B2-AB69-F2F755B9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8DB41-DB85-489F-A787-475DEC61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58CFF-D06E-46AB-91F7-3CC1D531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75177-5A3A-4056-AD5D-389D603F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60B85-9046-4F53-B46C-505029DB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2244C-FC25-4A9D-B40C-D92F97D2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B5D57-3723-4FF6-A17B-B9189633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CF1DF-AE6F-45BB-AFEA-085B5B71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436DC-ADF5-4797-B782-0B0BB0E1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3433F-ADBB-42FC-A9E5-6F641470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C7E-CC0D-47DC-87EE-2C069870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A922D-A790-4D56-99EA-CD6BC2B9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E6D6F-B0DC-4024-AB9D-60080F27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D3F9E-80E6-4872-BFC7-FF089838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D8D9E-1313-4EB9-9669-66855E70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A6E66-4EDE-4DCA-8DA4-B985B547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03E09-E18D-4C7F-B2D3-8162F911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415FE-B7FD-457B-874B-E70E53E6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6911E-32A9-4B87-90AC-B813B897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C51A6-E14B-464E-BBE5-C71CA3AC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49199-9DD7-40B7-A7CB-2797C2F6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A4D-8D94-41CB-84A2-D02C8AA8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5AA00-F22E-4D67-9884-934AB7B5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D96A1-3093-48A2-86D4-F8AF1D06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9D1BE-8101-478C-B8BE-EF32022F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326B0-03C1-4653-86FC-3E245FAB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322BE-656C-4919-98C6-B5B531A6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F30-4F86-4DA1-AE94-0B56EF53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B59E-80FC-4660-A4B2-2B704C150A38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615D-98CD-455B-8FC1-A89C0D557362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00B1-0ED7-4883-AA4D-19BC330EF4A8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AE1A-C57A-40E1-ABCF-157E6F8B756C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F428-3A5B-4B21-8C01-856346AF065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5221-FCCC-4A6B-B727-B60D14FC989C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F1DC-B752-42F5-87EF-5843B15400EE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юджетное учреждение профессионального образования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анты- Мансийского автономного окурга – Югры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«Нижневартовский социально-гуманитарный колледж»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(БУ «НСГК»)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ОЕКТ УЧЕБНОГО ЗАНЯТИЯ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РАМКАХ РЕАЛИЗАЦИИ ИНТЕГРИРОВАННОГО ОБРАЗОВАНИЯ ОБУЧАЮЩИХСЯ С ОГРАНИЧЕННЫМИ ВОЗМОЖНОСТЯМИ ЗДОРОВЬЯ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(с нарушением слуха)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 дисциплине    Физическая культура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специальности 49.02.01. «Физическая культура»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Автор: Гильманова Ю.Е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подаватель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изической культуры  НСГК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ижневартовск, 2015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250920" y="333360"/>
          <a:ext cx="8713800" cy="1008000"/>
        </p:xfrm>
        <a:graphic>
          <a:graphicData uri="http://schemas.openxmlformats.org/drawingml/2006/table">
            <a:tbl>
              <a:tblPr/>
              <a:tblGrid>
                <a:gridCol w="792000"/>
                <a:gridCol w="3816360"/>
                <a:gridCol w="936720"/>
                <a:gridCol w="3168720"/>
              </a:tblGrid>
              <a:tr h="100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Содержание учебного матери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Методические указ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250920" y="1341360"/>
          <a:ext cx="8713800" cy="5400720"/>
        </p:xfrm>
        <a:graphic>
          <a:graphicData uri="http://schemas.openxmlformats.org/drawingml/2006/table">
            <a:tbl>
              <a:tblPr/>
              <a:tblGrid>
                <a:gridCol w="792000"/>
                <a:gridCol w="3816360"/>
                <a:gridCol w="936720"/>
                <a:gridCol w="3168720"/>
              </a:tblGrid>
              <a:tr h="5400720">
                <a:tc>
                  <a:txBody>
                    <a:bodyPr lIns="41040" rIns="4104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Подготовительная ч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I.      Построение, объяснение задач уро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II.      Разминочная ходьба, бе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o   приставным шаг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o   с высоким подниманием бе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o   с захлёстыванием гол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o   с изменением направления дви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o   спиной вперё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III.      Упражнения с  теннисным мячом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1.         подбрасывание мяча с последующей лов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2.         жонглирование мяч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3.         подбрасывание мяча с отскоком с последующей лов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4.         подбрасывание мяча из различных и.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5.         подбрасывание мяча по сигна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6.         броски на да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7.         броски на точ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1 – 2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10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Обратить внимание на форму, на технику безоп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правым и левым бо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выполнять чащ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не вставать на пят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выполнять по сигна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Calibri"/>
                        </a:rPr>
                        <a:t>( для детей с нарушением слуха четкий показ упражнений перед выполнение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смотреть назад через плеч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обратить внимание на правильное положение рук при лов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250920" y="333360"/>
          <a:ext cx="8713800" cy="6335640"/>
        </p:xfrm>
        <a:graphic>
          <a:graphicData uri="http://schemas.openxmlformats.org/drawingml/2006/table">
            <a:tbl>
              <a:tblPr/>
              <a:tblGrid>
                <a:gridCol w="792000"/>
                <a:gridCol w="2233800"/>
                <a:gridCol w="1079280"/>
                <a:gridCol w="4608720"/>
              </a:tblGrid>
              <a:tr h="1008000">
                <a:tc rowSpan="3">
                  <a:txBody>
                    <a:bodyPr lIns="26280" rIns="2628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Основная ч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r>
                        <a:rPr b="0" lang="en-US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V.      Подвижные игры, подводящие к игре лапт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Во время игр использовать судейские жесты с целью закрепления теоретического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1)      «Салки мячо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Игроки делятся на две команды. По сигналу учителя игроки водящей команды должны осалить игрока противоположной команды мячом. Игроки могут выполнять передачи, броски, но не мешать игрокам – соперникам убегать. Осаленный игрок подбирает мяч, выполняет передачу игроку своей команды, но сам выбывает из игры. Команда продолжает осаливать соперников. Итог: чья команда превосходит в количестве – та и победител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2)      «Защищай воро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Игроки делятся  на две команды и встают к линиям в шеренгу напротив друг друга.  Игрок одной команды идёт к команде-сопернику, ударяет по ладоням соперников три раза и убегает в свою команду. Игрок, которому достался третий удар, должен догнать и осалить соперника. Если догнал – забирает в свою команду, если нет, то сам идёт в другую команду. Победитель – тот, кто превосходит в числен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79280" y="260280"/>
          <a:ext cx="8713800" cy="6408720"/>
        </p:xfrm>
        <a:graphic>
          <a:graphicData uri="http://schemas.openxmlformats.org/drawingml/2006/table">
            <a:tbl>
              <a:tblPr/>
              <a:tblGrid>
                <a:gridCol w="857520"/>
                <a:gridCol w="2214360"/>
                <a:gridCol w="1071720"/>
                <a:gridCol w="4570200"/>
              </a:tblGrid>
              <a:tr h="6408720">
                <a:tc>
                  <a:txBody>
                    <a:bodyPr lIns="26280" rIns="2628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Основная ч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Повторение и закрепление теоретических сведений о правилах игры  «Русская   лап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3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Calibri"/>
                        </a:rPr>
                        <a:t>Правила игры. Жесты судей. Для студентов с ОВЗ использование информационных досок с прорисовыванием на них игровых ситуаций  и карточек с обозначениями и действиями игроков. Четкий показ судейских жестов.</a:t>
                      </a: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Цель игры — ударом биты послать мяч, подбрасываемый игроком команды противника, как можно дальше и пробежать поочерёдно до противоположной стороны и обратно, не дав противнику «осалить» себя пойманным мячом… За удачные пробежки команде начисляются очки. Выигрывает команда, набравшая больше очков за установленное время</a:t>
                      </a:r>
                      <a:r>
                        <a:rPr b="0" lang="ru-RU" sz="14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6300720" y="3573360"/>
            <a:ext cx="2448000" cy="30099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4427640" y="3573360"/>
            <a:ext cx="16570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250920" y="476280"/>
          <a:ext cx="8713800" cy="6192720"/>
        </p:xfrm>
        <a:graphic>
          <a:graphicData uri="http://schemas.openxmlformats.org/drawingml/2006/table">
            <a:tbl>
              <a:tblPr/>
              <a:tblGrid>
                <a:gridCol w="865080"/>
                <a:gridCol w="2016000"/>
                <a:gridCol w="1079640"/>
                <a:gridCol w="4753080"/>
              </a:tblGrid>
              <a:tr h="4735440">
                <a:tc rowSpan="2">
                  <a:txBody>
                    <a:bodyPr lIns="47160" rIns="4716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Заключительная ч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. Игра на внимание «Группа, смирно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5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Игроки должны выполнять движения, повторяя за учителем (различные положения рук, повороты, наклоны и т. д.) только с предварительной командой «класс!». (например: «Класс! Руки на пояс!», «Класс! Напра-во!»). ( Для студентов с ОВЗ предварительным жестом на выполнение команды может служить поднятая вверх рука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Если игрок выполняет движение без предварительной команды «класс!» «поднятой руки», то он должен сделать шаг вперёд. Таким образом, вперёд выйдут самые невнимательные игро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VI.      Построение, подведение итог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2 – 3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Определить команду-победителя каждой игры. Домашнее задание: повторить правила игры, жесты судь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50560" y="112536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 Попов, С. Н. Лечебная физическая культура. Учеб. для высш. учеб. заведений / С. Н. Попов, Н. М. Валеев, Т.С. Гарасева и др. ; под ред. С. Н. Попова. - М.: Академия, 2004. - 416 с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 Попов, С. Н. Физическая реабилитация. Учеб. для высш. учеб. заведений / С. Н. Попов ; под ред. С. Н. Попова. - Изд. 2-е, испр. и доп. – Ростов н/Д.: Феникс, 2004. – 608 с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 Адаптивная физическая культура. /электронная версия журнала. URL: http://www.afkonline.ru/biblio.html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. Физическая культура: учебник для студ. Учреждений сред.Ф505 проф. Образования/Решетников Н.В., Кислицын Ю.Л. Издательский центр «Академия», 2012г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ts val="1361"/>
              </a:lnSpc>
              <a:spcBef>
                <a:spcPts val="451"/>
              </a:spcBef>
              <a:spcAft>
                <a:spcPts val="1400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тапчук А.А., Матвеев С.В., Дидур М.Д. Лечебная физическая культура в детском возрасте. Учебно-методическое пособие. Издательство «Речь», Санкт-Петербург, 2007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ts val="1361"/>
              </a:lnSpc>
              <a:spcBef>
                <a:spcPts val="451"/>
              </a:spcBef>
              <a:spcAft>
                <a:spcPts val="1400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атарникова Л.Г. Педагогика здоровья: здоровьесберегающие образовательные технологии, СПб, 2010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ts val="1361"/>
              </a:lnSpc>
              <a:spcBef>
                <a:spcPts val="451"/>
              </a:spcBef>
              <a:spcAft>
                <a:spcPts val="1400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ренировочные занятия по лапте </a:t>
            </a:r>
            <a:r>
              <a:rPr b="0" lang="en-US" sz="1800" spc="-1" strike="noStrike">
                <a:solidFill>
                  <a:srgbClr val="2a6496"/>
                </a:solidFill>
                <a:latin typeface="Times New Roman"/>
                <a:ea typeface="Times New Roman"/>
              </a:rPr>
              <a:t>kopilkaurokov.ru</a:t>
            </a:r>
            <a:r>
              <a:rPr b="0" lang="ru-RU" sz="1800" spc="-1" strike="noStrike">
                <a:solidFill>
                  <a:srgbClr val="2a6496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28bca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428bca"/>
                </a:solidFill>
                <a:latin typeface="Times New Roman"/>
                <a:ea typeface="Times New Roman"/>
              </a:rPr>
              <a:t>сайт для учителей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ts val="1361"/>
              </a:lnSpc>
              <a:spcBef>
                <a:spcPts val="451"/>
              </a:spcBef>
              <a:spcAft>
                <a:spcPts val="1400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изическая реабилитация. Учебник. Под ред.. проф. С.Н. Попова. Издание второе, Ростов-на-Дону, издательство «Феникс», 2004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итерату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71560" y="836280"/>
            <a:ext cx="7408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дел программы :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портивные игры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«Формирование физических качеств посредством народной игры «Русская лапта»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создание устойчивой мотивации для освоения игры «Русская лапта»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1052280"/>
            <a:ext cx="7408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Образовательные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сширять и закреплять у студентов теоретические сведения по правилам игры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одолжать формировать коммуникативные компетенции  по взаимодействию в команде, владению различными социальными ролями в коллективе,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полнению строевых упражнений и двигательных заданий по словесной инструкции преподавателя , совершенствовать навыки построения по сигналу (для студентов с нарушением слуха световой сигнал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ts val="1199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дачи: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95280" y="134100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571680">
              <a:lnSpc>
                <a:spcPts val="1199"/>
              </a:lnSpc>
              <a:spcBef>
                <a:spcPts val="799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оспитывать наблюдательность и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нимание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вивать волевые качества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держка, дисциплинированност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 настойчивость в достижении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зультата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ировать положительные черты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арактера, сотрудничество и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заимопомощь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ts val="1199"/>
              </a:lnSpc>
              <a:spcBef>
                <a:spcPts val="799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ts val="1199"/>
              </a:lnSpc>
              <a:spcBef>
                <a:spcPts val="799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Воспитательны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03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lvl="1" marL="3031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крепление здоровья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lvl="1" marL="3031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нятие эмоционального стресса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лучшение деятельности сердечно-сосудистой и дыхательной систем организма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Оздоровительные:</a:t>
            </a:r>
            <a:r>
              <a:rPr b="0" i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68000" y="1413000"/>
            <a:ext cx="8280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вершенствование пространственной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риентировки и точности движений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риентирование в последовательности выполнения определенных действий с мячом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вивать память, внимание, правильное дыхание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вышать познавательную активность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ts val="1199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Коррекционные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250560" y="1341000"/>
            <a:ext cx="8497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ts val="1199"/>
              </a:lnSpc>
              <a:spcBef>
                <a:spcPts val="6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45720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нятия проводятся в спортивном зале, соответствующему санитарно-гигиеническим требованиям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ОРУДОВАНИЕ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бор мячей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апта (бита)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ерёвки для разметки площадок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лажки для установки на площадке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вистки судейские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оски….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16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ЧЕБНО-МЕТОДИЧЕСКОЕ 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 ТЕХНИЧЕСКОЕ ОСНАЩЕН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250920" y="2205000"/>
            <a:ext cx="8642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спользовать фронтальный метод подачи информации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ледить за речью (внятно медленно произносить задания)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рректировать технику выполнения упражнений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рганизационно-методические указания с учетом особенности группы в которой имеются студенты с ОВЗ (нарушение слуха)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68000" y="1699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ходить в зал только с разрешения преподавателя 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меть надлежащую спортивную форму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 всех несчастных случаях немедленно сообщать преподавателю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ехника безопасности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6:50:00Z</dcterms:created>
  <dc:creator>K-</dc:creator>
  <dc:description/>
  <dc:language>en-US</dc:language>
  <cp:lastModifiedBy>Пользователь Windows</cp:lastModifiedBy>
  <dcterms:modified xsi:type="dcterms:W3CDTF">2015-05-31T16:24:28Z</dcterms:modified>
  <cp:revision>62</cp:revision>
  <dc:subject/>
  <dc:title>Общая физическая подготовка юношей  10 класса  </dc:title>
</cp:coreProperties>
</file>